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284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07920" y="84600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The point made here is that the future is IP-RAN &amp; multiradio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All capacity will be needed in the future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4CC97E9-CB0B-4F5C-AD03-B5EBEF611F9E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NOKIA          EDGE in Brief_V5.PPT/ 07.05.2001 / H KUOSA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366040" y="6502320"/>
            <a:ext cx="1235160" cy="201600"/>
            <a:chOff x="8366040" y="6502320"/>
            <a:chExt cx="1235160" cy="201600"/>
          </a:xfrm>
        </p:grpSpPr>
        <p:sp>
          <p:nvSpPr>
            <p:cNvPr id="5" name=""/>
            <p:cNvSpPr/>
            <p:nvPr/>
          </p:nvSpPr>
          <p:spPr>
            <a:xfrm>
              <a:off x="8366040" y="6504120"/>
              <a:ext cx="279360" cy="198360"/>
            </a:xfrm>
            <a:custGeom>
              <a:avLst/>
              <a:gdLst/>
              <a:ahLst/>
              <a:rect l="l" t="t" r="r" b="b"/>
              <a:pathLst>
                <a:path w="352" h="248">
                  <a:moveTo>
                    <a:pt x="74" y="248"/>
                  </a:moveTo>
                  <a:lnTo>
                    <a:pt x="0" y="248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278" y="186"/>
                  </a:lnTo>
                  <a:lnTo>
                    <a:pt x="279" y="189"/>
                  </a:lnTo>
                  <a:lnTo>
                    <a:pt x="279" y="0"/>
                  </a:lnTo>
                  <a:lnTo>
                    <a:pt x="352" y="0"/>
                  </a:lnTo>
                  <a:lnTo>
                    <a:pt x="352" y="248"/>
                  </a:lnTo>
                  <a:lnTo>
                    <a:pt x="226" y="248"/>
                  </a:lnTo>
                  <a:lnTo>
                    <a:pt x="74" y="62"/>
                  </a:lnTo>
                  <a:lnTo>
                    <a:pt x="74" y="59"/>
                  </a:lnTo>
                  <a:lnTo>
                    <a:pt x="74" y="248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956800" y="6504120"/>
              <a:ext cx="601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016920" y="6504120"/>
              <a:ext cx="203400" cy="198360"/>
            </a:xfrm>
            <a:custGeom>
              <a:avLst/>
              <a:gdLst/>
              <a:ahLst/>
              <a:rect l="l" t="t" r="r" b="b"/>
              <a:pathLst>
                <a:path w="256" h="248">
                  <a:moveTo>
                    <a:pt x="134" y="0"/>
                  </a:moveTo>
                  <a:lnTo>
                    <a:pt x="238" y="0"/>
                  </a:lnTo>
                  <a:lnTo>
                    <a:pt x="95" y="122"/>
                  </a:lnTo>
                  <a:lnTo>
                    <a:pt x="256" y="248"/>
                  </a:lnTo>
                  <a:lnTo>
                    <a:pt x="143" y="248"/>
                  </a:lnTo>
                  <a:lnTo>
                    <a:pt x="0" y="12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231480" y="6504120"/>
              <a:ext cx="619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04200" y="6504120"/>
              <a:ext cx="297000" cy="198360"/>
            </a:xfrm>
            <a:custGeom>
              <a:avLst/>
              <a:gdLst/>
              <a:ahLst/>
              <a:rect l="l" t="t" r="r" b="b"/>
              <a:pathLst>
                <a:path w="373" h="248">
                  <a:moveTo>
                    <a:pt x="110" y="205"/>
                  </a:moveTo>
                  <a:lnTo>
                    <a:pt x="86" y="248"/>
                  </a:lnTo>
                  <a:lnTo>
                    <a:pt x="0" y="248"/>
                  </a:lnTo>
                  <a:lnTo>
                    <a:pt x="137" y="0"/>
                  </a:lnTo>
                  <a:lnTo>
                    <a:pt x="236" y="0"/>
                  </a:lnTo>
                  <a:lnTo>
                    <a:pt x="373" y="248"/>
                  </a:lnTo>
                  <a:lnTo>
                    <a:pt x="287" y="248"/>
                  </a:lnTo>
                  <a:lnTo>
                    <a:pt x="263" y="205"/>
                  </a:lnTo>
                  <a:lnTo>
                    <a:pt x="110" y="205"/>
                  </a:lnTo>
                  <a:close/>
                  <a:moveTo>
                    <a:pt x="138" y="151"/>
                  </a:moveTo>
                  <a:lnTo>
                    <a:pt x="235" y="151"/>
                  </a:lnTo>
                  <a:lnTo>
                    <a:pt x="187" y="62"/>
                  </a:lnTo>
                  <a:lnTo>
                    <a:pt x="138" y="151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70960" y="6502320"/>
              <a:ext cx="260280" cy="201600"/>
            </a:xfrm>
            <a:custGeom>
              <a:avLst/>
              <a:gdLst/>
              <a:ahLst/>
              <a:rect l="l" t="t" r="r" b="b"/>
              <a:pathLst>
                <a:path w="329" h="254">
                  <a:moveTo>
                    <a:pt x="0" y="65"/>
                  </a:moveTo>
                  <a:lnTo>
                    <a:pt x="0" y="53"/>
                  </a:lnTo>
                  <a:lnTo>
                    <a:pt x="2" y="48"/>
                  </a:lnTo>
                  <a:lnTo>
                    <a:pt x="3" y="42"/>
                  </a:lnTo>
                  <a:lnTo>
                    <a:pt x="5" y="37"/>
                  </a:lnTo>
                  <a:lnTo>
                    <a:pt x="9" y="31"/>
                  </a:lnTo>
                  <a:lnTo>
                    <a:pt x="12" y="27"/>
                  </a:lnTo>
                  <a:lnTo>
                    <a:pt x="17" y="22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6" y="6"/>
                  </a:lnTo>
                  <a:lnTo>
                    <a:pt x="61" y="3"/>
                  </a:lnTo>
                  <a:lnTo>
                    <a:pt x="79" y="1"/>
                  </a:lnTo>
                  <a:lnTo>
                    <a:pt x="103" y="0"/>
                  </a:lnTo>
                  <a:lnTo>
                    <a:pt x="165" y="0"/>
                  </a:lnTo>
                  <a:lnTo>
                    <a:pt x="226" y="0"/>
                  </a:lnTo>
                  <a:lnTo>
                    <a:pt x="250" y="1"/>
                  </a:lnTo>
                  <a:lnTo>
                    <a:pt x="268" y="3"/>
                  </a:lnTo>
                  <a:lnTo>
                    <a:pt x="283" y="6"/>
                  </a:lnTo>
                  <a:lnTo>
                    <a:pt x="293" y="9"/>
                  </a:lnTo>
                  <a:lnTo>
                    <a:pt x="304" y="15"/>
                  </a:lnTo>
                  <a:lnTo>
                    <a:pt x="313" y="22"/>
                  </a:lnTo>
                  <a:lnTo>
                    <a:pt x="317" y="27"/>
                  </a:lnTo>
                  <a:lnTo>
                    <a:pt x="320" y="31"/>
                  </a:lnTo>
                  <a:lnTo>
                    <a:pt x="323" y="37"/>
                  </a:lnTo>
                  <a:lnTo>
                    <a:pt x="324" y="42"/>
                  </a:lnTo>
                  <a:lnTo>
                    <a:pt x="327" y="48"/>
                  </a:lnTo>
                  <a:lnTo>
                    <a:pt x="327" y="53"/>
                  </a:lnTo>
                  <a:lnTo>
                    <a:pt x="329" y="65"/>
                  </a:lnTo>
                  <a:lnTo>
                    <a:pt x="329" y="102"/>
                  </a:lnTo>
                  <a:lnTo>
                    <a:pt x="329" y="187"/>
                  </a:lnTo>
                  <a:lnTo>
                    <a:pt x="327" y="201"/>
                  </a:lnTo>
                  <a:lnTo>
                    <a:pt x="327" y="206"/>
                  </a:lnTo>
                  <a:lnTo>
                    <a:pt x="324" y="212"/>
                  </a:lnTo>
                  <a:lnTo>
                    <a:pt x="323" y="217"/>
                  </a:lnTo>
                  <a:lnTo>
                    <a:pt x="320" y="223"/>
                  </a:lnTo>
                  <a:lnTo>
                    <a:pt x="317" y="227"/>
                  </a:lnTo>
                  <a:lnTo>
                    <a:pt x="313" y="232"/>
                  </a:lnTo>
                  <a:lnTo>
                    <a:pt x="304" y="239"/>
                  </a:lnTo>
                  <a:lnTo>
                    <a:pt x="293" y="244"/>
                  </a:lnTo>
                  <a:lnTo>
                    <a:pt x="281" y="248"/>
                  </a:lnTo>
                  <a:lnTo>
                    <a:pt x="266" y="251"/>
                  </a:lnTo>
                  <a:lnTo>
                    <a:pt x="249" y="253"/>
                  </a:lnTo>
                  <a:lnTo>
                    <a:pt x="226" y="254"/>
                  </a:lnTo>
                  <a:lnTo>
                    <a:pt x="164" y="254"/>
                  </a:lnTo>
                  <a:lnTo>
                    <a:pt x="101" y="254"/>
                  </a:lnTo>
                  <a:lnTo>
                    <a:pt x="79" y="253"/>
                  </a:lnTo>
                  <a:lnTo>
                    <a:pt x="61" y="251"/>
                  </a:lnTo>
                  <a:lnTo>
                    <a:pt x="46" y="248"/>
                  </a:lnTo>
                  <a:lnTo>
                    <a:pt x="35" y="244"/>
                  </a:lnTo>
                  <a:lnTo>
                    <a:pt x="26" y="239"/>
                  </a:lnTo>
                  <a:lnTo>
                    <a:pt x="17" y="232"/>
                  </a:lnTo>
                  <a:lnTo>
                    <a:pt x="12" y="227"/>
                  </a:lnTo>
                  <a:lnTo>
                    <a:pt x="9" y="223"/>
                  </a:lnTo>
                  <a:lnTo>
                    <a:pt x="5" y="217"/>
                  </a:lnTo>
                  <a:lnTo>
                    <a:pt x="3" y="212"/>
                  </a:lnTo>
                  <a:lnTo>
                    <a:pt x="2" y="206"/>
                  </a:lnTo>
                  <a:lnTo>
                    <a:pt x="0" y="201"/>
                  </a:lnTo>
                  <a:lnTo>
                    <a:pt x="0" y="187"/>
                  </a:lnTo>
                  <a:lnTo>
                    <a:pt x="0" y="65"/>
                  </a:lnTo>
                  <a:close/>
                  <a:moveTo>
                    <a:pt x="70" y="177"/>
                  </a:moveTo>
                  <a:lnTo>
                    <a:pt x="70" y="181"/>
                  </a:lnTo>
                  <a:lnTo>
                    <a:pt x="72" y="184"/>
                  </a:lnTo>
                  <a:lnTo>
                    <a:pt x="73" y="187"/>
                  </a:lnTo>
                  <a:lnTo>
                    <a:pt x="76" y="189"/>
                  </a:lnTo>
                  <a:lnTo>
                    <a:pt x="79" y="190"/>
                  </a:lnTo>
                  <a:lnTo>
                    <a:pt x="82" y="190"/>
                  </a:lnTo>
                  <a:lnTo>
                    <a:pt x="94" y="192"/>
                  </a:lnTo>
                  <a:lnTo>
                    <a:pt x="235" y="192"/>
                  </a:lnTo>
                  <a:lnTo>
                    <a:pt x="241" y="192"/>
                  </a:lnTo>
                  <a:lnTo>
                    <a:pt x="247" y="190"/>
                  </a:lnTo>
                  <a:lnTo>
                    <a:pt x="250" y="189"/>
                  </a:lnTo>
                  <a:lnTo>
                    <a:pt x="253" y="187"/>
                  </a:lnTo>
                  <a:lnTo>
                    <a:pt x="256" y="186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59" y="177"/>
                  </a:lnTo>
                  <a:lnTo>
                    <a:pt x="259" y="149"/>
                  </a:lnTo>
                  <a:lnTo>
                    <a:pt x="259" y="77"/>
                  </a:lnTo>
                  <a:lnTo>
                    <a:pt x="259" y="73"/>
                  </a:lnTo>
                  <a:lnTo>
                    <a:pt x="258" y="70"/>
                  </a:lnTo>
                  <a:lnTo>
                    <a:pt x="256" y="67"/>
                  </a:lnTo>
                  <a:lnTo>
                    <a:pt x="255" y="64"/>
                  </a:lnTo>
                  <a:lnTo>
                    <a:pt x="252" y="64"/>
                  </a:lnTo>
                  <a:lnTo>
                    <a:pt x="247" y="62"/>
                  </a:lnTo>
                  <a:lnTo>
                    <a:pt x="237" y="61"/>
                  </a:lnTo>
                  <a:lnTo>
                    <a:pt x="94" y="61"/>
                  </a:lnTo>
                  <a:lnTo>
                    <a:pt x="88" y="62"/>
                  </a:lnTo>
                  <a:lnTo>
                    <a:pt x="82" y="62"/>
                  </a:lnTo>
                  <a:lnTo>
                    <a:pt x="79" y="64"/>
                  </a:lnTo>
                  <a:lnTo>
                    <a:pt x="76" y="65"/>
                  </a:lnTo>
                  <a:lnTo>
                    <a:pt x="73" y="68"/>
                  </a:lnTo>
                  <a:lnTo>
                    <a:pt x="72" y="71"/>
                  </a:lnTo>
                  <a:lnTo>
                    <a:pt x="70" y="73"/>
                  </a:lnTo>
                  <a:lnTo>
                    <a:pt x="70" y="77"/>
                  </a:lnTo>
                  <a:lnTo>
                    <a:pt x="70" y="177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228600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Mobile Multimedi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1" name=""/>
          <p:cNvSpPr/>
          <p:nvPr/>
        </p:nvSpPr>
        <p:spPr>
          <a:xfrm>
            <a:off x="1202040" y="382428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EDGE in Brief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80880" y="228600"/>
            <a:ext cx="903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Transmission requirements for EGPRS in Abis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" name=""/>
          <p:cNvSpPr/>
          <p:nvPr/>
        </p:nvSpPr>
        <p:spPr>
          <a:xfrm>
            <a:off x="2386080" y="1216080"/>
            <a:ext cx="3809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Coding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1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.8 kbit/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2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1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3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4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7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5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2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6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9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7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8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4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9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9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7" name=""/>
          <p:cNvSpPr/>
          <p:nvPr/>
        </p:nvSpPr>
        <p:spPr>
          <a:xfrm>
            <a:off x="6019920" y="18288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" name=""/>
          <p:cNvSpPr/>
          <p:nvPr/>
        </p:nvSpPr>
        <p:spPr>
          <a:xfrm>
            <a:off x="61707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9" name=""/>
          <p:cNvSpPr/>
          <p:nvPr/>
        </p:nvSpPr>
        <p:spPr>
          <a:xfrm>
            <a:off x="632304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" name=""/>
          <p:cNvSpPr/>
          <p:nvPr/>
        </p:nvSpPr>
        <p:spPr>
          <a:xfrm>
            <a:off x="6475320" y="18288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1" name=""/>
          <p:cNvSpPr/>
          <p:nvPr/>
        </p:nvSpPr>
        <p:spPr>
          <a:xfrm>
            <a:off x="66279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2" name=""/>
          <p:cNvSpPr/>
          <p:nvPr/>
        </p:nvSpPr>
        <p:spPr>
          <a:xfrm>
            <a:off x="6019920" y="22860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3" name=""/>
          <p:cNvSpPr/>
          <p:nvPr/>
        </p:nvSpPr>
        <p:spPr>
          <a:xfrm>
            <a:off x="6170760" y="22860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4" name=""/>
          <p:cNvSpPr/>
          <p:nvPr/>
        </p:nvSpPr>
        <p:spPr>
          <a:xfrm>
            <a:off x="632304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5" name=""/>
          <p:cNvSpPr/>
          <p:nvPr/>
        </p:nvSpPr>
        <p:spPr>
          <a:xfrm>
            <a:off x="6475320" y="22860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" name=""/>
          <p:cNvSpPr/>
          <p:nvPr/>
        </p:nvSpPr>
        <p:spPr>
          <a:xfrm>
            <a:off x="6019920" y="27432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" name=""/>
          <p:cNvSpPr/>
          <p:nvPr/>
        </p:nvSpPr>
        <p:spPr>
          <a:xfrm>
            <a:off x="6170760" y="27432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" name=""/>
          <p:cNvSpPr/>
          <p:nvPr/>
        </p:nvSpPr>
        <p:spPr>
          <a:xfrm>
            <a:off x="632304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0" name=""/>
          <p:cNvSpPr/>
          <p:nvPr/>
        </p:nvSpPr>
        <p:spPr>
          <a:xfrm>
            <a:off x="6475320" y="27432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1" name=""/>
          <p:cNvSpPr/>
          <p:nvPr/>
        </p:nvSpPr>
        <p:spPr>
          <a:xfrm>
            <a:off x="662796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2" name=""/>
          <p:cNvSpPr/>
          <p:nvPr/>
        </p:nvSpPr>
        <p:spPr>
          <a:xfrm>
            <a:off x="6019920" y="327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3" name=""/>
          <p:cNvSpPr/>
          <p:nvPr/>
        </p:nvSpPr>
        <p:spPr>
          <a:xfrm>
            <a:off x="6170760" y="327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4" name=""/>
          <p:cNvSpPr/>
          <p:nvPr/>
        </p:nvSpPr>
        <p:spPr>
          <a:xfrm>
            <a:off x="632304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5" name=""/>
          <p:cNvSpPr/>
          <p:nvPr/>
        </p:nvSpPr>
        <p:spPr>
          <a:xfrm>
            <a:off x="6475320" y="32767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6" name=""/>
          <p:cNvSpPr/>
          <p:nvPr/>
        </p:nvSpPr>
        <p:spPr>
          <a:xfrm>
            <a:off x="662796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7" name=""/>
          <p:cNvSpPr/>
          <p:nvPr/>
        </p:nvSpPr>
        <p:spPr>
          <a:xfrm>
            <a:off x="6019920" y="37339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8" name=""/>
          <p:cNvSpPr/>
          <p:nvPr/>
        </p:nvSpPr>
        <p:spPr>
          <a:xfrm>
            <a:off x="6170760" y="37339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9" name=""/>
          <p:cNvSpPr/>
          <p:nvPr/>
        </p:nvSpPr>
        <p:spPr>
          <a:xfrm>
            <a:off x="632304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0" name=""/>
          <p:cNvSpPr/>
          <p:nvPr/>
        </p:nvSpPr>
        <p:spPr>
          <a:xfrm>
            <a:off x="6475320" y="37339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1" name=""/>
          <p:cNvSpPr/>
          <p:nvPr/>
        </p:nvSpPr>
        <p:spPr>
          <a:xfrm>
            <a:off x="662796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2" name=""/>
          <p:cNvSpPr/>
          <p:nvPr/>
        </p:nvSpPr>
        <p:spPr>
          <a:xfrm>
            <a:off x="6019920" y="41972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3" name=""/>
          <p:cNvSpPr/>
          <p:nvPr/>
        </p:nvSpPr>
        <p:spPr>
          <a:xfrm>
            <a:off x="617076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4" name=""/>
          <p:cNvSpPr/>
          <p:nvPr/>
        </p:nvSpPr>
        <p:spPr>
          <a:xfrm>
            <a:off x="632304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" name=""/>
          <p:cNvSpPr/>
          <p:nvPr/>
        </p:nvSpPr>
        <p:spPr>
          <a:xfrm>
            <a:off x="6475320" y="419724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" name=""/>
          <p:cNvSpPr/>
          <p:nvPr/>
        </p:nvSpPr>
        <p:spPr>
          <a:xfrm>
            <a:off x="6627960" y="41972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7" name=""/>
          <p:cNvSpPr/>
          <p:nvPr/>
        </p:nvSpPr>
        <p:spPr>
          <a:xfrm>
            <a:off x="6019920" y="46544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8" name=""/>
          <p:cNvSpPr/>
          <p:nvPr/>
        </p:nvSpPr>
        <p:spPr>
          <a:xfrm>
            <a:off x="617076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9" name=""/>
          <p:cNvSpPr/>
          <p:nvPr/>
        </p:nvSpPr>
        <p:spPr>
          <a:xfrm>
            <a:off x="632304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0" name=""/>
          <p:cNvSpPr/>
          <p:nvPr/>
        </p:nvSpPr>
        <p:spPr>
          <a:xfrm>
            <a:off x="6475320" y="465444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1" name=""/>
          <p:cNvSpPr/>
          <p:nvPr/>
        </p:nvSpPr>
        <p:spPr>
          <a:xfrm>
            <a:off x="6627960" y="46544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2" name=""/>
          <p:cNvSpPr/>
          <p:nvPr/>
        </p:nvSpPr>
        <p:spPr>
          <a:xfrm>
            <a:off x="6019920" y="51595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3" name=""/>
          <p:cNvSpPr/>
          <p:nvPr/>
        </p:nvSpPr>
        <p:spPr>
          <a:xfrm>
            <a:off x="61707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" name=""/>
          <p:cNvSpPr/>
          <p:nvPr/>
        </p:nvSpPr>
        <p:spPr>
          <a:xfrm>
            <a:off x="632304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" name=""/>
          <p:cNvSpPr/>
          <p:nvPr/>
        </p:nvSpPr>
        <p:spPr>
          <a:xfrm>
            <a:off x="6475320" y="51595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6" name=""/>
          <p:cNvSpPr/>
          <p:nvPr/>
        </p:nvSpPr>
        <p:spPr>
          <a:xfrm>
            <a:off x="66279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7" name=""/>
          <p:cNvSpPr/>
          <p:nvPr/>
        </p:nvSpPr>
        <p:spPr>
          <a:xfrm>
            <a:off x="6019920" y="561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8" name=""/>
          <p:cNvSpPr/>
          <p:nvPr/>
        </p:nvSpPr>
        <p:spPr>
          <a:xfrm>
            <a:off x="61707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9" name=""/>
          <p:cNvSpPr/>
          <p:nvPr/>
        </p:nvSpPr>
        <p:spPr>
          <a:xfrm>
            <a:off x="632304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0" name=""/>
          <p:cNvSpPr/>
          <p:nvPr/>
        </p:nvSpPr>
        <p:spPr>
          <a:xfrm>
            <a:off x="6475320" y="56167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1" name=""/>
          <p:cNvSpPr/>
          <p:nvPr/>
        </p:nvSpPr>
        <p:spPr>
          <a:xfrm>
            <a:off x="66279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2" name=""/>
          <p:cNvSpPr/>
          <p:nvPr/>
        </p:nvSpPr>
        <p:spPr>
          <a:xfrm>
            <a:off x="6002280" y="1218240"/>
            <a:ext cx="2183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Abis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22200" y="4114800"/>
            <a:ext cx="1354320" cy="19605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7043400" y="5567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5" name=""/>
          <p:cNvSpPr/>
          <p:nvPr/>
        </p:nvSpPr>
        <p:spPr>
          <a:xfrm>
            <a:off x="7043400" y="510552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6" name=""/>
          <p:cNvSpPr/>
          <p:nvPr/>
        </p:nvSpPr>
        <p:spPr>
          <a:xfrm>
            <a:off x="7029000" y="45720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7" name=""/>
          <p:cNvSpPr/>
          <p:nvPr/>
        </p:nvSpPr>
        <p:spPr>
          <a:xfrm>
            <a:off x="7044840" y="41148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8" name=""/>
          <p:cNvSpPr/>
          <p:nvPr/>
        </p:nvSpPr>
        <p:spPr>
          <a:xfrm>
            <a:off x="7013160" y="36576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9" name=""/>
          <p:cNvSpPr/>
          <p:nvPr/>
        </p:nvSpPr>
        <p:spPr>
          <a:xfrm>
            <a:off x="7013160" y="3200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0" name=""/>
          <p:cNvSpPr/>
          <p:nvPr/>
        </p:nvSpPr>
        <p:spPr>
          <a:xfrm>
            <a:off x="7013160" y="22096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1" name=""/>
          <p:cNvSpPr/>
          <p:nvPr/>
        </p:nvSpPr>
        <p:spPr>
          <a:xfrm>
            <a:off x="7012800" y="1752480"/>
            <a:ext cx="1352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e as toda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2" name=""/>
          <p:cNvSpPr/>
          <p:nvPr/>
        </p:nvSpPr>
        <p:spPr>
          <a:xfrm>
            <a:off x="7013160" y="26668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09480" y="3645000"/>
            <a:ext cx="4724640" cy="29080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876920" y="1614600"/>
            <a:ext cx="4572000" cy="29574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and SRC for EDGE performanc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Simulation result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7627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offers better coverage and capacity than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40 kbps per TSL with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pp. C/I=17dB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RC gives ave. 40 kbps per TSL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app. 3dB better coverage.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7" name=""/>
          <p:cNvSpPr/>
          <p:nvPr/>
        </p:nvSpPr>
        <p:spPr>
          <a:xfrm>
            <a:off x="6553080" y="2689200"/>
            <a:ext cx="0" cy="106668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8" name=""/>
          <p:cNvSpPr/>
          <p:nvPr/>
        </p:nvSpPr>
        <p:spPr>
          <a:xfrm>
            <a:off x="2514600" y="4711680"/>
            <a:ext cx="0" cy="104760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9" name=""/>
          <p:cNvSpPr/>
          <p:nvPr/>
        </p:nvSpPr>
        <p:spPr>
          <a:xfrm>
            <a:off x="5486400" y="4648320"/>
            <a:ext cx="4267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5000"/>
          </a:bodyPr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PRS ave. bit rate with CS-1…2 is  app. 12 kbp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3 kbps per TSL higher data rates are achieved with GPRS CS-1…4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0" name=""/>
          <p:cNvSpPr/>
          <p:nvPr/>
        </p:nvSpPr>
        <p:spPr>
          <a:xfrm>
            <a:off x="1295280" y="4730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1" name=""/>
          <p:cNvSpPr/>
          <p:nvPr/>
        </p:nvSpPr>
        <p:spPr>
          <a:xfrm>
            <a:off x="2133720" y="4711680"/>
            <a:ext cx="0" cy="104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2" name=""/>
          <p:cNvSpPr/>
          <p:nvPr/>
        </p:nvSpPr>
        <p:spPr>
          <a:xfrm>
            <a:off x="6248520" y="26892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3" name=""/>
          <p:cNvSpPr/>
          <p:nvPr/>
        </p:nvSpPr>
        <p:spPr>
          <a:xfrm>
            <a:off x="5562720" y="26892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"/>
          <p:cNvGrpSpPr/>
          <p:nvPr/>
        </p:nvGrpSpPr>
        <p:grpSpPr>
          <a:xfrm>
            <a:off x="228600" y="3048120"/>
            <a:ext cx="2622600" cy="2666880"/>
            <a:chOff x="228600" y="3048120"/>
            <a:chExt cx="2622600" cy="2666880"/>
          </a:xfrm>
        </p:grpSpPr>
        <p:sp>
          <p:nvSpPr>
            <p:cNvPr id="625" name=""/>
            <p:cNvSpPr/>
            <p:nvPr/>
          </p:nvSpPr>
          <p:spPr>
            <a:xfrm>
              <a:off x="611280" y="42670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57320" y="30481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8600" y="53341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overage and average user data r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Downlin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9" name=""/>
          <p:cNvSpPr/>
          <p:nvPr/>
        </p:nvSpPr>
        <p:spPr>
          <a:xfrm>
            <a:off x="1066680" y="123192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improves data coverage or capacity/data bit r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pecially at indoor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881440" y="2735280"/>
            <a:ext cx="3657600" cy="3589560"/>
            <a:chOff x="2881440" y="2735280"/>
            <a:chExt cx="3657600" cy="3589560"/>
          </a:xfrm>
        </p:grpSpPr>
        <p:sp>
          <p:nvSpPr>
            <p:cNvPr id="631" name=""/>
            <p:cNvSpPr/>
            <p:nvPr/>
          </p:nvSpPr>
          <p:spPr>
            <a:xfrm>
              <a:off x="2881440" y="2735280"/>
              <a:ext cx="3657600" cy="35812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33800" y="3005280"/>
              <a:ext cx="3124080" cy="2971800"/>
            </a:xfrm>
            <a:prstGeom prst="ellipse">
              <a:avLst/>
            </a:prstGeom>
            <a:solidFill>
              <a:srgbClr val="a2c1fe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25400" y="567216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2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438360" y="3309840"/>
              <a:ext cx="2514600" cy="2286000"/>
            </a:xfrm>
            <a:prstGeom prst="ellipse">
              <a:avLst/>
            </a:prstGeom>
            <a:solidFill>
              <a:srgbClr val="c0fef9"/>
            </a:solidFill>
            <a:ln w="28440">
              <a:solidFill>
                <a:srgbClr val="91919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514400" y="4343400"/>
              <a:ext cx="259200" cy="235080"/>
              <a:chOff x="4514400" y="4343400"/>
              <a:chExt cx="259200" cy="235080"/>
            </a:xfrm>
          </p:grpSpPr>
          <p:sp>
            <p:nvSpPr>
              <p:cNvPr id="636" name=""/>
              <p:cNvSpPr/>
              <p:nvPr/>
            </p:nvSpPr>
            <p:spPr>
              <a:xfrm>
                <a:off x="4644000" y="4343400"/>
                <a:ext cx="0" cy="134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4514400" y="4477680"/>
                <a:ext cx="12924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644000" y="4477680"/>
                <a:ext cx="12960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4316400" y="4003560"/>
              <a:ext cx="68580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Rotis Sans Serif for Nokia"/>
                </a:rPr>
                <a:t>Existing GSM sit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79240" y="529128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477680" y="601200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8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28600" y="2131920"/>
            <a:ext cx="9439200" cy="3733560"/>
            <a:chOff x="228600" y="2131920"/>
            <a:chExt cx="9439200" cy="3733560"/>
          </a:xfrm>
        </p:grpSpPr>
        <p:sp>
          <p:nvSpPr>
            <p:cNvPr id="643" name=""/>
            <p:cNvSpPr/>
            <p:nvPr/>
          </p:nvSpPr>
          <p:spPr>
            <a:xfrm>
              <a:off x="611280" y="42652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24120" y="2131920"/>
              <a:ext cx="3268440" cy="559800"/>
            </a:xfrm>
            <a:prstGeom prst="rect">
              <a:avLst/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Radio ntw dimensioning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SM/EDG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57320" y="30463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0 kbps/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43720" y="3274920"/>
              <a:ext cx="2494080" cy="533160"/>
            </a:xfrm>
            <a:prstGeom prst="wedgeRectCallout">
              <a:avLst>
                <a:gd name="adj1" fmla="val -82462"/>
                <a:gd name="adj2" fmla="val 61902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45 kbps with 4 TSL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60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72320" y="4493880"/>
              <a:ext cx="2401920" cy="354240"/>
            </a:xfrm>
            <a:prstGeom prst="wedgeRectCallout">
              <a:avLst>
                <a:gd name="adj1" fmla="val -73527"/>
                <a:gd name="adj2" fmla="val 2937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19320" y="2131920"/>
              <a:ext cx="3798720" cy="75132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ervice dimensioning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Terminal &amp; radio ntw performan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Mass market MS: 4 TSL DL = 45...160 kbp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620040" y="5511600"/>
              <a:ext cx="3047760" cy="353880"/>
            </a:xfrm>
            <a:prstGeom prst="wedgeRectCallout">
              <a:avLst>
                <a:gd name="adj1" fmla="val -66199"/>
                <a:gd name="adj2" fmla="val -1008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8600" y="53323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52280" y="320400"/>
            <a:ext cx="9677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with simple update to Nokia GSM networ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193480" y="146664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T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dualmode TRX/BB to be added to all UltraSite EDGE BTS and MetroSite EDGE BT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re efficient transmission usage with Dynamic Abis channel alloc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adio optimisation with Smart Radio Concept for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SC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GPRS and NSS co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MS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nd planning tool upd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65040" y="1957320"/>
            <a:ext cx="1644480" cy="3200040"/>
            <a:chOff x="365040" y="1957320"/>
            <a:chExt cx="1644480" cy="3200040"/>
          </a:xfrm>
        </p:grpSpPr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365040" y="1957320"/>
              <a:ext cx="1644480" cy="32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2"/>
            <a:stretch/>
          </p:blipFill>
          <p:spPr>
            <a:xfrm>
              <a:off x="612360" y="2180880"/>
              <a:ext cx="1137240" cy="28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6" name=""/>
          <p:cNvSpPr/>
          <p:nvPr/>
        </p:nvSpPr>
        <p:spPr>
          <a:xfrm>
            <a:off x="267120" y="1500840"/>
            <a:ext cx="178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UltraSite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EDGE B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7" name=""/>
          <p:cNvSpPr/>
          <p:nvPr/>
        </p:nvSpPr>
        <p:spPr>
          <a:xfrm>
            <a:off x="227520" y="5105520"/>
            <a:ext cx="1845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Triple mod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GSM/EDGE/WCDMA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222840" y="2975040"/>
            <a:ext cx="9606960" cy="2895480"/>
            <a:chOff x="222840" y="2975040"/>
            <a:chExt cx="9606960" cy="2895480"/>
          </a:xfrm>
        </p:grpSpPr>
        <p:sp>
          <p:nvSpPr>
            <p:cNvPr id="659" name=""/>
            <p:cNvSpPr/>
            <p:nvPr/>
          </p:nvSpPr>
          <p:spPr>
            <a:xfrm>
              <a:off x="1752480" y="4651560"/>
              <a:ext cx="7239240" cy="121896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752480" y="2975040"/>
              <a:ext cx="7239240" cy="1219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25800" y="3497400"/>
              <a:ext cx="2700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 rot="5400000">
              <a:off x="2323440" y="4203360"/>
              <a:ext cx="185400" cy="1295640"/>
            </a:xfrm>
            <a:custGeom>
              <a:avLst/>
              <a:gdLst>
                <a:gd name="textAreaLeft" fmla="*/ 0 w 185400"/>
                <a:gd name="textAreaRight" fmla="*/ 66960 w 1854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 rot="5400000">
              <a:off x="3787560" y="411048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428560" y="496872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3902040" y="4987800"/>
              <a:ext cx="38088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1958760" y="3774600"/>
              <a:ext cx="304920" cy="5335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68320" y="360540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57200" y="304920"/>
            <a:ext cx="895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Different bit rates for different services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8" name=""/>
          <p:cNvSpPr/>
          <p:nvPr/>
        </p:nvSpPr>
        <p:spPr>
          <a:xfrm>
            <a:off x="838080" y="1143000"/>
            <a:ext cx="90680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lifts current GSM network to 3G er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DGE is optimised for voice and up 128kbps data service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CDMA optimised for high bit rate appl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olution to Common RRM, RAN and cor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22840" y="2971800"/>
            <a:ext cx="9606960" cy="3184560"/>
            <a:chOff x="222840" y="2971800"/>
            <a:chExt cx="9606960" cy="3184560"/>
          </a:xfrm>
        </p:grpSpPr>
        <p:sp>
          <p:nvSpPr>
            <p:cNvPr id="680" name=""/>
            <p:cNvSpPr/>
            <p:nvPr/>
          </p:nvSpPr>
          <p:spPr>
            <a:xfrm>
              <a:off x="1768320" y="3089160"/>
              <a:ext cx="6309000" cy="1162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68320" y="2971800"/>
              <a:ext cx="7239240" cy="1241280"/>
            </a:xfrm>
            <a:custGeom>
              <a:avLst/>
              <a:gdLst/>
              <a:ahLst/>
              <a:rect l="l" t="t" r="r" b="b"/>
              <a:pathLst>
                <a:path w="4560" h="782">
                  <a:moveTo>
                    <a:pt x="9" y="173"/>
                  </a:moveTo>
                  <a:lnTo>
                    <a:pt x="3964" y="778"/>
                  </a:lnTo>
                  <a:lnTo>
                    <a:pt x="4558" y="782"/>
                  </a:lnTo>
                  <a:lnTo>
                    <a:pt x="4560" y="0"/>
                  </a:lnTo>
                  <a:lnTo>
                    <a:pt x="0" y="0"/>
                  </a:lnTo>
                  <a:lnTo>
                    <a:pt x="9" y="173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68320" y="4632480"/>
              <a:ext cx="6248520" cy="1161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25800" y="3497400"/>
              <a:ext cx="27000" cy="34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 rot="5400000">
              <a:off x="2323080" y="4204080"/>
              <a:ext cx="185760" cy="12956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 rot="5400000">
              <a:off x="3787560" y="4111560"/>
              <a:ext cx="152640" cy="14479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2428560" y="496872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84160" y="5108400"/>
              <a:ext cx="70200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EDGE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8680" y="302436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68320" y="4670280"/>
              <a:ext cx="7239240" cy="1486080"/>
            </a:xfrm>
            <a:custGeom>
              <a:avLst/>
              <a:gdLst/>
              <a:ahLst/>
              <a:rect l="l" t="t" r="r" b="b"/>
              <a:pathLst>
                <a:path w="4416" h="936">
                  <a:moveTo>
                    <a:pt x="0" y="696"/>
                  </a:moveTo>
                  <a:lnTo>
                    <a:pt x="3830" y="5"/>
                  </a:lnTo>
                  <a:lnTo>
                    <a:pt x="4414" y="0"/>
                  </a:lnTo>
                  <a:lnTo>
                    <a:pt x="4416" y="936"/>
                  </a:lnTo>
                  <a:lnTo>
                    <a:pt x="0" y="936"/>
                  </a:lnTo>
                  <a:lnTo>
                    <a:pt x="0" y="696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92880" y="579420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3902040" y="4987800"/>
              <a:ext cx="3808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31000" y="3576600"/>
              <a:ext cx="878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GERA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6200000">
              <a:off x="1959120" y="3774960"/>
              <a:ext cx="304560" cy="5335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68320" y="360504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adio Access Technologies for Data Traffic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Near term expected datarates 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5960" y="1295280"/>
            <a:ext cx="866628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168480" indent="-16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With EGPRS seamless interworking and handovers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399960" indent="-117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Average throughput is depends on network planning, capacity allocation, terminal capacity, and technology.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6" name=""/>
          <p:cNvSpPr/>
          <p:nvPr/>
        </p:nvSpPr>
        <p:spPr>
          <a:xfrm>
            <a:off x="533520" y="2514600"/>
            <a:ext cx="8839080" cy="369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7" name=""/>
          <p:cNvSpPr/>
          <p:nvPr/>
        </p:nvSpPr>
        <p:spPr>
          <a:xfrm>
            <a:off x="704880" y="4116240"/>
            <a:ext cx="11890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8" name=""/>
          <p:cNvSpPr/>
          <p:nvPr/>
        </p:nvSpPr>
        <p:spPr>
          <a:xfrm>
            <a:off x="300204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9" name=""/>
          <p:cNvSpPr/>
          <p:nvPr/>
        </p:nvSpPr>
        <p:spPr>
          <a:xfrm>
            <a:off x="3011760" y="37274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71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0" name=""/>
          <p:cNvSpPr/>
          <p:nvPr/>
        </p:nvSpPr>
        <p:spPr>
          <a:xfrm>
            <a:off x="3011760" y="45356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73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1" name=""/>
          <p:cNvSpPr/>
          <p:nvPr/>
        </p:nvSpPr>
        <p:spPr>
          <a:xfrm>
            <a:off x="3023280" y="540396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M 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2" name=""/>
          <p:cNvSpPr/>
          <p:nvPr/>
        </p:nvSpPr>
        <p:spPr>
          <a:xfrm>
            <a:off x="532620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3" name=""/>
          <p:cNvSpPr/>
          <p:nvPr/>
        </p:nvSpPr>
        <p:spPr>
          <a:xfrm>
            <a:off x="5193720" y="4489560"/>
            <a:ext cx="341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37/118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59 kbit/s/ts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4" name=""/>
          <p:cNvSpPr/>
          <p:nvPr/>
        </p:nvSpPr>
        <p:spPr>
          <a:xfrm>
            <a:off x="5235120" y="5297400"/>
            <a:ext cx="2506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28..384 kBit/s M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84/384 kBit/s RAN1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12/384 kBit/s RAN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5" name=""/>
          <p:cNvSpPr/>
          <p:nvPr/>
        </p:nvSpPr>
        <p:spPr>
          <a:xfrm>
            <a:off x="2819520" y="3060720"/>
            <a:ext cx="47037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6" name=""/>
          <p:cNvSpPr/>
          <p:nvPr/>
        </p:nvSpPr>
        <p:spPr>
          <a:xfrm>
            <a:off x="2584080" y="3154320"/>
            <a:ext cx="639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Theoretical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  Near term expectation (DL/U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76320" y="3400560"/>
            <a:ext cx="2971440" cy="842760"/>
            <a:chOff x="76320" y="3400560"/>
            <a:chExt cx="2971440" cy="842760"/>
          </a:xfrm>
        </p:grpSpPr>
        <p:pic>
          <p:nvPicPr>
            <p:cNvPr id="718" name="" descr=""/>
            <p:cNvPicPr/>
            <p:nvPr/>
          </p:nvPicPr>
          <p:blipFill>
            <a:blip r:embed="rId1"/>
            <a:stretch/>
          </p:blipFill>
          <p:spPr>
            <a:xfrm>
              <a:off x="76320" y="3400560"/>
              <a:ext cx="2971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304560" y="362880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76320" y="4238640"/>
            <a:ext cx="2971440" cy="843120"/>
            <a:chOff x="76320" y="4238640"/>
            <a:chExt cx="2971440" cy="843120"/>
          </a:xfrm>
        </p:grpSpPr>
        <p:pic>
          <p:nvPicPr>
            <p:cNvPr id="721" name="" descr=""/>
            <p:cNvPicPr/>
            <p:nvPr/>
          </p:nvPicPr>
          <p:blipFill>
            <a:blip r:embed="rId2"/>
            <a:stretch/>
          </p:blipFill>
          <p:spPr>
            <a:xfrm>
              <a:off x="76320" y="4238640"/>
              <a:ext cx="297144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304560" y="446724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E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52280" y="5072040"/>
            <a:ext cx="2895480" cy="843120"/>
            <a:chOff x="152280" y="5072040"/>
            <a:chExt cx="2895480" cy="843120"/>
          </a:xfrm>
        </p:grpSpPr>
        <p:pic>
          <p:nvPicPr>
            <p:cNvPr id="724" name="" descr=""/>
            <p:cNvPicPr/>
            <p:nvPr/>
          </p:nvPicPr>
          <p:blipFill>
            <a:blip r:embed="rId3"/>
            <a:stretch/>
          </p:blipFill>
          <p:spPr>
            <a:xfrm>
              <a:off x="152280" y="5072040"/>
              <a:ext cx="289548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374760" y="5300640"/>
              <a:ext cx="24501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WCDMA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5253840" y="3529080"/>
            <a:ext cx="260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74/39 kBit/s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(CS-1…4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5/24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CS-1...2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7" name=""/>
          <p:cNvSpPr/>
          <p:nvPr/>
        </p:nvSpPr>
        <p:spPr>
          <a:xfrm>
            <a:off x="3423600" y="254808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ximum user data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8" name=""/>
          <p:cNvSpPr/>
          <p:nvPr/>
        </p:nvSpPr>
        <p:spPr>
          <a:xfrm>
            <a:off x="4045680" y="6219720"/>
            <a:ext cx="5316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GPRS and EDGE figures calculated with 4 TSL downlink and 2 TSL uplink.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4489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69640" indent="-269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s to all subscribers everywhe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amless coverage extension for WCDMA with GSM/EDGE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apacity extension with load sharing between WCDMA and GSM/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6858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3" name=""/>
          <p:cNvSpPr/>
          <p:nvPr/>
        </p:nvSpPr>
        <p:spPr>
          <a:xfrm>
            <a:off x="1981080" y="3657600"/>
            <a:ext cx="175284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4" name=""/>
          <p:cNvSpPr/>
          <p:nvPr/>
        </p:nvSpPr>
        <p:spPr>
          <a:xfrm>
            <a:off x="34290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5" name=""/>
          <p:cNvSpPr/>
          <p:nvPr/>
        </p:nvSpPr>
        <p:spPr>
          <a:xfrm>
            <a:off x="304920" y="27432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6" name=""/>
          <p:cNvSpPr/>
          <p:nvPr/>
        </p:nvSpPr>
        <p:spPr>
          <a:xfrm>
            <a:off x="6172200" y="3429000"/>
            <a:ext cx="3429000" cy="762120"/>
          </a:xfrm>
          <a:prstGeom prst="wedgeRoundRectCallout">
            <a:avLst>
              <a:gd name="adj1" fmla="val -77731"/>
              <a:gd name="adj2" fmla="val -30000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7" name=""/>
          <p:cNvSpPr/>
          <p:nvPr/>
        </p:nvSpPr>
        <p:spPr>
          <a:xfrm rot="19442400">
            <a:off x="4876920" y="327636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0" y="4876920"/>
            <a:ext cx="2819520" cy="761760"/>
          </a:xfrm>
          <a:prstGeom prst="wedgeRoundRectCallout">
            <a:avLst>
              <a:gd name="adj1" fmla="val -87893"/>
              <a:gd name="adj2" fmla="val -193541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9" name=""/>
          <p:cNvSpPr/>
          <p:nvPr/>
        </p:nvSpPr>
        <p:spPr>
          <a:xfrm>
            <a:off x="3276720" y="3200400"/>
            <a:ext cx="380880" cy="53352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0" name=""/>
          <p:cNvSpPr/>
          <p:nvPr/>
        </p:nvSpPr>
        <p:spPr>
          <a:xfrm>
            <a:off x="2133720" y="281952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1" name=""/>
          <p:cNvSpPr/>
          <p:nvPr/>
        </p:nvSpPr>
        <p:spPr>
          <a:xfrm>
            <a:off x="3962520" y="266688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2" name=""/>
          <p:cNvSpPr/>
          <p:nvPr/>
        </p:nvSpPr>
        <p:spPr>
          <a:xfrm>
            <a:off x="5791320" y="25146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88520" y="30456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2720" indent="-2527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Spectral efficiency up by 60%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99760" indent="-1753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load based inter-system handove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5" name=""/>
          <p:cNvSpPr/>
          <p:nvPr/>
        </p:nvSpPr>
        <p:spPr>
          <a:xfrm>
            <a:off x="2819520" y="2157480"/>
            <a:ext cx="144756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CDMA or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 capacit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6" name=""/>
          <p:cNvSpPr/>
          <p:nvPr/>
        </p:nvSpPr>
        <p:spPr>
          <a:xfrm>
            <a:off x="42670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 WCDMA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operate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eparatel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7" name=""/>
          <p:cNvSpPr/>
          <p:nvPr/>
        </p:nvSpPr>
        <p:spPr>
          <a:xfrm>
            <a:off x="58672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WCDM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ith loa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haring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8" name=""/>
          <p:cNvSpPr/>
          <p:nvPr/>
        </p:nvSpPr>
        <p:spPr>
          <a:xfrm>
            <a:off x="7467480" y="2157480"/>
            <a:ext cx="144792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Trunking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9" name=""/>
          <p:cNvSpPr/>
          <p:nvPr/>
        </p:nvSpPr>
        <p:spPr>
          <a:xfrm>
            <a:off x="1219320" y="345276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0" name=""/>
          <p:cNvSpPr/>
          <p:nvPr/>
        </p:nvSpPr>
        <p:spPr>
          <a:xfrm>
            <a:off x="2819520" y="345276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49.7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1" name=""/>
          <p:cNvSpPr/>
          <p:nvPr/>
        </p:nvSpPr>
        <p:spPr>
          <a:xfrm>
            <a:off x="42670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99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2" name=""/>
          <p:cNvSpPr/>
          <p:nvPr/>
        </p:nvSpPr>
        <p:spPr>
          <a:xfrm>
            <a:off x="58672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7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3" name=""/>
          <p:cNvSpPr/>
          <p:nvPr/>
        </p:nvSpPr>
        <p:spPr>
          <a:xfrm>
            <a:off x="7467480" y="345276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4" name=""/>
          <p:cNvSpPr/>
          <p:nvPr/>
        </p:nvSpPr>
        <p:spPr>
          <a:xfrm>
            <a:off x="1219320" y="4062240"/>
            <a:ext cx="1600200" cy="6098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4062240"/>
            <a:ext cx="1447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6" name=""/>
          <p:cNvSpPr/>
          <p:nvPr/>
        </p:nvSpPr>
        <p:spPr>
          <a:xfrm>
            <a:off x="42670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7" name=""/>
          <p:cNvSpPr/>
          <p:nvPr/>
        </p:nvSpPr>
        <p:spPr>
          <a:xfrm>
            <a:off x="58672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3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8" name=""/>
          <p:cNvSpPr/>
          <p:nvPr/>
        </p:nvSpPr>
        <p:spPr>
          <a:xfrm>
            <a:off x="7467480" y="4062240"/>
            <a:ext cx="14479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2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9" name=""/>
          <p:cNvSpPr/>
          <p:nvPr/>
        </p:nvSpPr>
        <p:spPr>
          <a:xfrm>
            <a:off x="1219320" y="467208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4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0" name=""/>
          <p:cNvSpPr/>
          <p:nvPr/>
        </p:nvSpPr>
        <p:spPr>
          <a:xfrm>
            <a:off x="2819520" y="467208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.6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2" name=""/>
          <p:cNvSpPr/>
          <p:nvPr/>
        </p:nvSpPr>
        <p:spPr>
          <a:xfrm>
            <a:off x="58672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3" name=""/>
          <p:cNvSpPr/>
          <p:nvPr/>
        </p:nvSpPr>
        <p:spPr>
          <a:xfrm>
            <a:off x="7467480" y="467208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4" name=""/>
          <p:cNvSpPr/>
          <p:nvPr/>
        </p:nvSpPr>
        <p:spPr>
          <a:xfrm>
            <a:off x="5196600" y="1897200"/>
            <a:ext cx="4092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xample trunking gains with 2% block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5" name=""/>
          <p:cNvSpPr/>
          <p:nvPr/>
        </p:nvSpPr>
        <p:spPr>
          <a:xfrm>
            <a:off x="5029200" y="5510160"/>
            <a:ext cx="2895480" cy="838080"/>
          </a:xfrm>
          <a:prstGeom prst="wedgeRoundRectCallout">
            <a:avLst>
              <a:gd name="adj1" fmla="val 45120"/>
              <a:gd name="adj2" fmla="val -98675"/>
              <a:gd name="adj3" fmla="val 16667"/>
            </a:avLst>
          </a:prstGeom>
          <a:solidFill>
            <a:srgbClr val="cbed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Load sharing important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for high bit rate servic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6" name=""/>
          <p:cNvSpPr/>
          <p:nvPr/>
        </p:nvSpPr>
        <p:spPr>
          <a:xfrm>
            <a:off x="790200" y="5357880"/>
            <a:ext cx="3493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Assumptions for 5 MHz WCDMA: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Speech 6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64 kbps 1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144 kbps 5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capacity = WCDMA capacit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609480" y="1676520"/>
            <a:ext cx="464832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9111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apacity Ensures Quality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9" name=""/>
          <p:cNvSpPr/>
          <p:nvPr/>
        </p:nvSpPr>
        <p:spPr>
          <a:xfrm>
            <a:off x="304920" y="504000"/>
            <a:ext cx="7315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The traffic will grow with new 3G services and increased penetr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EDGE provides capacity for the existing GSM bands by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offering </a:t>
            </a: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capacity relief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congested GSM band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boosting data speed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faster response times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Overlapping WCDMA and EDGE layers ensure high service quality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during traffic peaks with service priorities and using intersystem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Service continuation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- drop in QoS with EGPRS much lower than with GPRS enabling services be continued when changing bearer (EDGE&lt;-&gt;WCDMA)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0" name=""/>
          <p:cNvSpPr/>
          <p:nvPr/>
        </p:nvSpPr>
        <p:spPr>
          <a:xfrm>
            <a:off x="609480" y="2666880"/>
            <a:ext cx="67057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066680" y="2514600"/>
            <a:ext cx="8945280" cy="3964680"/>
            <a:chOff x="1066680" y="2514600"/>
            <a:chExt cx="8945280" cy="3964680"/>
          </a:xfrm>
        </p:grpSpPr>
        <p:grpSp>
          <p:nvGrpSpPr>
            <p:cNvPr id="772" name=""/>
            <p:cNvGrpSpPr/>
            <p:nvPr/>
          </p:nvGrpSpPr>
          <p:grpSpPr>
            <a:xfrm>
              <a:off x="1066680" y="2895480"/>
              <a:ext cx="8945280" cy="3583800"/>
              <a:chOff x="1066680" y="2895480"/>
              <a:chExt cx="8945280" cy="3583800"/>
            </a:xfrm>
          </p:grpSpPr>
          <p:grpSp>
            <p:nvGrpSpPr>
              <p:cNvPr id="773" name=""/>
              <p:cNvGrpSpPr/>
              <p:nvPr/>
            </p:nvGrpSpPr>
            <p:grpSpPr>
              <a:xfrm>
                <a:off x="7431840" y="2895480"/>
                <a:ext cx="2580120" cy="3583800"/>
                <a:chOff x="7431840" y="2895480"/>
                <a:chExt cx="2580120" cy="358380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8740800" y="2895480"/>
                  <a:ext cx="1147680" cy="1470240"/>
                </a:xfrm>
                <a:prstGeom prst="rect">
                  <a:avLst/>
                </a:prstGeom>
                <a:solidFill>
                  <a:srgbClr val="cecec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V="1">
                  <a:off x="7921800" y="5540400"/>
                  <a:ext cx="714240" cy="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V="1">
                  <a:off x="8459640" y="5819760"/>
                  <a:ext cx="204840" cy="77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8410680" y="5202360"/>
                  <a:ext cx="23472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8540640" y="4846680"/>
                  <a:ext cx="20160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V="1">
                  <a:off x="8535960" y="6072120"/>
                  <a:ext cx="238320" cy="22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388360" y="4260960"/>
                  <a:ext cx="511200" cy="53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9151920" y="4279680"/>
                  <a:ext cx="184320" cy="45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631360" y="4734000"/>
                  <a:ext cx="963360" cy="1562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40560" y="5008680"/>
                  <a:ext cx="917640" cy="34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4" name=""/>
                <p:cNvSpPr/>
                <p:nvPr/>
              </p:nvSpPr>
              <p:spPr>
                <a:xfrm>
                  <a:off x="7431840" y="5119560"/>
                  <a:ext cx="92916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TDMA/EDGE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31280" y="46386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6" name=""/>
                <p:cNvSpPr/>
                <p:nvPr/>
              </p:nvSpPr>
              <p:spPr>
                <a:xfrm>
                  <a:off x="7535520" y="4718160"/>
                  <a:ext cx="111204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SM/EDGE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442280" y="53784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"/>
                <p:cNvSpPr/>
                <p:nvPr/>
              </p:nvSpPr>
              <p:spPr>
                <a:xfrm>
                  <a:off x="7491240" y="5457960"/>
                  <a:ext cx="89100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CDMA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42360" y="574848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7561440" y="5867280"/>
                  <a:ext cx="7048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1XEV-DV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9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32720" y="6118200"/>
                  <a:ext cx="915840" cy="34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7771680" y="6248520"/>
                  <a:ext cx="56340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L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8663760" y="2973240"/>
                  <a:ext cx="134820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mmon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Resource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anage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8715240" y="5302080"/>
                  <a:ext cx="81468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IPv6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based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obil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989920" y="3967200"/>
                  <a:ext cx="66852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RRM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796" name=""/>
                <p:cNvGraphicFramePr/>
                <p:nvPr/>
              </p:nvGraphicFramePr>
              <p:xfrm>
                <a:off x="9153360" y="3483000"/>
                <a:ext cx="366840" cy="51588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79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915336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798" name=""/>
                <p:cNvSpPr/>
                <p:nvPr/>
              </p:nvSpPr>
              <p:spPr>
                <a:xfrm>
                  <a:off x="7780320" y="3967200"/>
                  <a:ext cx="11926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Access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799" name=""/>
                <p:cNvGraphicFramePr/>
                <p:nvPr/>
              </p:nvGraphicFramePr>
              <p:xfrm>
                <a:off x="8191440" y="3483000"/>
                <a:ext cx="366840" cy="51588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800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819144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1" name=""/>
                <p:cNvSpPr/>
                <p:nvPr/>
              </p:nvSpPr>
              <p:spPr>
                <a:xfrm>
                  <a:off x="7913520" y="3057480"/>
                  <a:ext cx="89100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ignal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ntrol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9381960" y="5194440"/>
                  <a:ext cx="506520" cy="69840"/>
                </a:xfrm>
                <a:custGeom>
                  <a:avLst/>
                  <a:gdLst/>
                  <a:ahLst/>
                  <a:rect l="l" t="t" r="r" b="b"/>
                  <a:pathLst>
                    <a:path w="384" h="36">
                      <a:moveTo>
                        <a:pt x="0" y="35"/>
                      </a:moveTo>
                      <a:lnTo>
                        <a:pt x="39" y="0"/>
                      </a:lnTo>
                      <a:lnTo>
                        <a:pt x="383" y="0"/>
                      </a:lnTo>
                      <a:lnTo>
                        <a:pt x="348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8c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9840960" y="5191200"/>
                  <a:ext cx="47520" cy="507960"/>
                </a:xfrm>
                <a:custGeom>
                  <a:avLst/>
                  <a:gdLst/>
                  <a:ahLst/>
                  <a:rect l="l" t="t" r="r" b="b"/>
                  <a:pathLst>
                    <a:path w="36" h="268">
                      <a:moveTo>
                        <a:pt x="35" y="0"/>
                      </a:moveTo>
                      <a:lnTo>
                        <a:pt x="35" y="230"/>
                      </a:lnTo>
                      <a:lnTo>
                        <a:pt x="0" y="267"/>
                      </a:lnTo>
                      <a:lnTo>
                        <a:pt x="0" y="34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51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9483840" y="5345280"/>
                  <a:ext cx="239760" cy="237960"/>
                </a:xfrm>
                <a:custGeom>
                  <a:avLst/>
                  <a:gdLst/>
                  <a:ahLst/>
                  <a:rect l="l" t="t" r="r" b="b"/>
                  <a:pathLst>
                    <a:path w="182" h="126">
                      <a:moveTo>
                        <a:pt x="72" y="39"/>
                      </a:moveTo>
                      <a:lnTo>
                        <a:pt x="79" y="37"/>
                      </a:lnTo>
                      <a:lnTo>
                        <a:pt x="83" y="33"/>
                      </a:lnTo>
                      <a:lnTo>
                        <a:pt x="92" y="30"/>
                      </a:lnTo>
                      <a:lnTo>
                        <a:pt x="98" y="27"/>
                      </a:lnTo>
                      <a:lnTo>
                        <a:pt x="104" y="23"/>
                      </a:lnTo>
                      <a:lnTo>
                        <a:pt x="113" y="21"/>
                      </a:lnTo>
                      <a:lnTo>
                        <a:pt x="119" y="18"/>
                      </a:lnTo>
                      <a:lnTo>
                        <a:pt x="126" y="16"/>
                      </a:lnTo>
                      <a:lnTo>
                        <a:pt x="129" y="15"/>
                      </a:lnTo>
                      <a:lnTo>
                        <a:pt x="130" y="15"/>
                      </a:lnTo>
                      <a:lnTo>
                        <a:pt x="131" y="15"/>
                      </a:lnTo>
                      <a:lnTo>
                        <a:pt x="134" y="14"/>
                      </a:lnTo>
                      <a:lnTo>
                        <a:pt x="136" y="14"/>
                      </a:lnTo>
                      <a:lnTo>
                        <a:pt x="137" y="14"/>
                      </a:lnTo>
                      <a:lnTo>
                        <a:pt x="144" y="10"/>
                      </a:lnTo>
                      <a:lnTo>
                        <a:pt x="150" y="9"/>
                      </a:lnTo>
                      <a:lnTo>
                        <a:pt x="156" y="7"/>
                      </a:lnTo>
                      <a:lnTo>
                        <a:pt x="161" y="5"/>
                      </a:lnTo>
                      <a:lnTo>
                        <a:pt x="165" y="3"/>
                      </a:lnTo>
                      <a:lnTo>
                        <a:pt x="170" y="3"/>
                      </a:lnTo>
                      <a:lnTo>
                        <a:pt x="175" y="2"/>
                      </a:lnTo>
                      <a:lnTo>
                        <a:pt x="181" y="2"/>
                      </a:lnTo>
                      <a:lnTo>
                        <a:pt x="175" y="2"/>
                      </a:lnTo>
                      <a:lnTo>
                        <a:pt x="167" y="0"/>
                      </a:lnTo>
                      <a:lnTo>
                        <a:pt x="160" y="0"/>
                      </a:lnTo>
                      <a:lnTo>
                        <a:pt x="152" y="2"/>
                      </a:lnTo>
                      <a:lnTo>
                        <a:pt x="144" y="2"/>
                      </a:lnTo>
                      <a:lnTo>
                        <a:pt x="136" y="3"/>
                      </a:lnTo>
                      <a:lnTo>
                        <a:pt x="129" y="5"/>
                      </a:lnTo>
                      <a:lnTo>
                        <a:pt x="119" y="7"/>
                      </a:lnTo>
                      <a:lnTo>
                        <a:pt x="116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3" y="10"/>
                      </a:lnTo>
                      <a:lnTo>
                        <a:pt x="98" y="11"/>
                      </a:lnTo>
                      <a:lnTo>
                        <a:pt x="92" y="14"/>
                      </a:lnTo>
                      <a:lnTo>
                        <a:pt x="87" y="15"/>
                      </a:lnTo>
                      <a:lnTo>
                        <a:pt x="82" y="18"/>
                      </a:lnTo>
                      <a:lnTo>
                        <a:pt x="76" y="21"/>
                      </a:lnTo>
                      <a:lnTo>
                        <a:pt x="71" y="21"/>
                      </a:lnTo>
                      <a:lnTo>
                        <a:pt x="66" y="25"/>
                      </a:lnTo>
                      <a:lnTo>
                        <a:pt x="51" y="32"/>
                      </a:lnTo>
                      <a:lnTo>
                        <a:pt x="38" y="39"/>
                      </a:lnTo>
                      <a:lnTo>
                        <a:pt x="26" y="48"/>
                      </a:lnTo>
                      <a:lnTo>
                        <a:pt x="15" y="57"/>
                      </a:lnTo>
                      <a:lnTo>
                        <a:pt x="7" y="65"/>
                      </a:lnTo>
                      <a:lnTo>
                        <a:pt x="2" y="76"/>
                      </a:lnTo>
                      <a:lnTo>
                        <a:pt x="0" y="84"/>
                      </a:lnTo>
                      <a:lnTo>
                        <a:pt x="0" y="93"/>
                      </a:lnTo>
                      <a:lnTo>
                        <a:pt x="2" y="100"/>
                      </a:lnTo>
                      <a:lnTo>
                        <a:pt x="7" y="107"/>
                      </a:lnTo>
                      <a:lnTo>
                        <a:pt x="12" y="111"/>
                      </a:lnTo>
                      <a:lnTo>
                        <a:pt x="21" y="117"/>
                      </a:lnTo>
                      <a:lnTo>
                        <a:pt x="30" y="120"/>
                      </a:lnTo>
                      <a:lnTo>
                        <a:pt x="42" y="123"/>
                      </a:lnTo>
                      <a:lnTo>
                        <a:pt x="54" y="123"/>
                      </a:lnTo>
                      <a:lnTo>
                        <a:pt x="68" y="125"/>
                      </a:lnTo>
                      <a:lnTo>
                        <a:pt x="69" y="123"/>
                      </a:lnTo>
                      <a:lnTo>
                        <a:pt x="61" y="121"/>
                      </a:lnTo>
                      <a:lnTo>
                        <a:pt x="53" y="120"/>
                      </a:lnTo>
                      <a:lnTo>
                        <a:pt x="46" y="117"/>
                      </a:lnTo>
                      <a:lnTo>
                        <a:pt x="40" y="113"/>
                      </a:lnTo>
                      <a:lnTo>
                        <a:pt x="37" y="110"/>
                      </a:lnTo>
                      <a:lnTo>
                        <a:pt x="33" y="107"/>
                      </a:lnTo>
                      <a:lnTo>
                        <a:pt x="30" y="102"/>
                      </a:lnTo>
                      <a:lnTo>
                        <a:pt x="30" y="97"/>
                      </a:lnTo>
                      <a:lnTo>
                        <a:pt x="30" y="90"/>
                      </a:lnTo>
                      <a:lnTo>
                        <a:pt x="32" y="81"/>
                      </a:lnTo>
                      <a:lnTo>
                        <a:pt x="35" y="76"/>
                      </a:lnTo>
                      <a:lnTo>
                        <a:pt x="38" y="68"/>
                      </a:lnTo>
                      <a:lnTo>
                        <a:pt x="46" y="61"/>
                      </a:lnTo>
                      <a:lnTo>
                        <a:pt x="53" y="54"/>
                      </a:lnTo>
                      <a:lnTo>
                        <a:pt x="62" y="46"/>
                      </a:lnTo>
                      <a:lnTo>
                        <a:pt x="72" y="39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9548640" y="5424480"/>
                  <a:ext cx="243000" cy="233280"/>
                </a:xfrm>
                <a:custGeom>
                  <a:avLst/>
                  <a:gdLst/>
                  <a:ahLst/>
                  <a:rect l="l" t="t" r="r" b="b"/>
                  <a:pathLst>
                    <a:path w="185" h="123">
                      <a:moveTo>
                        <a:pt x="110" y="83"/>
                      </a:moveTo>
                      <a:lnTo>
                        <a:pt x="105" y="87"/>
                      </a:lnTo>
                      <a:lnTo>
                        <a:pt x="99" y="89"/>
                      </a:lnTo>
                      <a:lnTo>
                        <a:pt x="91" y="93"/>
                      </a:lnTo>
                      <a:lnTo>
                        <a:pt x="85" y="96"/>
                      </a:lnTo>
                      <a:lnTo>
                        <a:pt x="79" y="100"/>
                      </a:lnTo>
                      <a:lnTo>
                        <a:pt x="71" y="101"/>
                      </a:lnTo>
                      <a:lnTo>
                        <a:pt x="64" y="105"/>
                      </a:lnTo>
                      <a:lnTo>
                        <a:pt x="56" y="106"/>
                      </a:lnTo>
                      <a:lnTo>
                        <a:pt x="54" y="107"/>
                      </a:lnTo>
                      <a:lnTo>
                        <a:pt x="52" y="107"/>
                      </a:lnTo>
                      <a:lnTo>
                        <a:pt x="50" y="107"/>
                      </a:lnTo>
                      <a:lnTo>
                        <a:pt x="50" y="109"/>
                      </a:lnTo>
                      <a:lnTo>
                        <a:pt x="49" y="109"/>
                      </a:lnTo>
                      <a:lnTo>
                        <a:pt x="47" y="109"/>
                      </a:lnTo>
                      <a:lnTo>
                        <a:pt x="45" y="109"/>
                      </a:lnTo>
                      <a:lnTo>
                        <a:pt x="44" y="112"/>
                      </a:lnTo>
                      <a:lnTo>
                        <a:pt x="36" y="113"/>
                      </a:lnTo>
                      <a:lnTo>
                        <a:pt x="30" y="114"/>
                      </a:lnTo>
                      <a:lnTo>
                        <a:pt x="26" y="116"/>
                      </a:lnTo>
                      <a:lnTo>
                        <a:pt x="21" y="117"/>
                      </a:lnTo>
                      <a:lnTo>
                        <a:pt x="16" y="120"/>
                      </a:lnTo>
                      <a:lnTo>
                        <a:pt x="10" y="120"/>
                      </a:lnTo>
                      <a:lnTo>
                        <a:pt x="6" y="121"/>
                      </a:lnTo>
                      <a:lnTo>
                        <a:pt x="0" y="121"/>
                      </a:lnTo>
                      <a:lnTo>
                        <a:pt x="7" y="122"/>
                      </a:lnTo>
                      <a:lnTo>
                        <a:pt x="15" y="122"/>
                      </a:lnTo>
                      <a:lnTo>
                        <a:pt x="21" y="122"/>
                      </a:lnTo>
                      <a:lnTo>
                        <a:pt x="30" y="121"/>
                      </a:lnTo>
                      <a:lnTo>
                        <a:pt x="37" y="121"/>
                      </a:lnTo>
                      <a:lnTo>
                        <a:pt x="45" y="120"/>
                      </a:lnTo>
                      <a:lnTo>
                        <a:pt x="54" y="120"/>
                      </a:lnTo>
                      <a:lnTo>
                        <a:pt x="64" y="117"/>
                      </a:lnTo>
                      <a:lnTo>
                        <a:pt x="65" y="116"/>
                      </a:lnTo>
                      <a:lnTo>
                        <a:pt x="67" y="116"/>
                      </a:lnTo>
                      <a:lnTo>
                        <a:pt x="69" y="116"/>
                      </a:lnTo>
                      <a:lnTo>
                        <a:pt x="71" y="114"/>
                      </a:lnTo>
                      <a:lnTo>
                        <a:pt x="72" y="114"/>
                      </a:lnTo>
                      <a:lnTo>
                        <a:pt x="74" y="114"/>
                      </a:lnTo>
                      <a:lnTo>
                        <a:pt x="79" y="113"/>
                      </a:lnTo>
                      <a:lnTo>
                        <a:pt x="85" y="112"/>
                      </a:lnTo>
                      <a:lnTo>
                        <a:pt x="90" y="109"/>
                      </a:lnTo>
                      <a:lnTo>
                        <a:pt x="95" y="107"/>
                      </a:lnTo>
                      <a:lnTo>
                        <a:pt x="101" y="106"/>
                      </a:lnTo>
                      <a:lnTo>
                        <a:pt x="107" y="102"/>
                      </a:lnTo>
                      <a:lnTo>
                        <a:pt x="111" y="101"/>
                      </a:lnTo>
                      <a:lnTo>
                        <a:pt x="117" y="100"/>
                      </a:lnTo>
                      <a:lnTo>
                        <a:pt x="132" y="91"/>
                      </a:lnTo>
                      <a:lnTo>
                        <a:pt x="146" y="83"/>
                      </a:lnTo>
                      <a:lnTo>
                        <a:pt x="157" y="75"/>
                      </a:lnTo>
                      <a:lnTo>
                        <a:pt x="166" y="65"/>
                      </a:lnTo>
                      <a:lnTo>
                        <a:pt x="175" y="57"/>
                      </a:lnTo>
                      <a:lnTo>
                        <a:pt x="179" y="47"/>
                      </a:lnTo>
                      <a:lnTo>
                        <a:pt x="182" y="40"/>
                      </a:lnTo>
                      <a:lnTo>
                        <a:pt x="184" y="31"/>
                      </a:lnTo>
                      <a:lnTo>
                        <a:pt x="180" y="23"/>
                      </a:lnTo>
                      <a:lnTo>
                        <a:pt x="177" y="16"/>
                      </a:lnTo>
                      <a:lnTo>
                        <a:pt x="171" y="11"/>
                      </a:lnTo>
                      <a:lnTo>
                        <a:pt x="162" y="7"/>
                      </a:lnTo>
                      <a:lnTo>
                        <a:pt x="152" y="3"/>
                      </a:lnTo>
                      <a:lnTo>
                        <a:pt x="141" y="2"/>
                      </a:lnTo>
                      <a:lnTo>
                        <a:pt x="129" y="0"/>
                      </a:lnTo>
                      <a:lnTo>
                        <a:pt x="115" y="0"/>
                      </a:lnTo>
                      <a:lnTo>
                        <a:pt x="114" y="0"/>
                      </a:lnTo>
                      <a:lnTo>
                        <a:pt x="122" y="2"/>
                      </a:lnTo>
                      <a:lnTo>
                        <a:pt x="129" y="5"/>
                      </a:lnTo>
                      <a:lnTo>
                        <a:pt x="136" y="7"/>
                      </a:lnTo>
                      <a:lnTo>
                        <a:pt x="144" y="9"/>
                      </a:lnTo>
                      <a:lnTo>
                        <a:pt x="147" y="13"/>
                      </a:lnTo>
                      <a:lnTo>
                        <a:pt x="150" y="16"/>
                      </a:lnTo>
                      <a:lnTo>
                        <a:pt x="151" y="22"/>
                      </a:lnTo>
                      <a:lnTo>
                        <a:pt x="152" y="26"/>
                      </a:lnTo>
                      <a:lnTo>
                        <a:pt x="152" y="34"/>
                      </a:lnTo>
                      <a:lnTo>
                        <a:pt x="151" y="40"/>
                      </a:lnTo>
                      <a:lnTo>
                        <a:pt x="150" y="47"/>
                      </a:lnTo>
                      <a:lnTo>
                        <a:pt x="144" y="56"/>
                      </a:lnTo>
                      <a:lnTo>
                        <a:pt x="136" y="63"/>
                      </a:lnTo>
                      <a:lnTo>
                        <a:pt x="129" y="71"/>
                      </a:lnTo>
                      <a:lnTo>
                        <a:pt x="121" y="76"/>
                      </a:lnTo>
                      <a:lnTo>
                        <a:pt x="110" y="83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9488520" y="5351400"/>
                  <a:ext cx="243000" cy="239760"/>
                </a:xfrm>
                <a:custGeom>
                  <a:avLst/>
                  <a:gdLst/>
                  <a:ahLst/>
                  <a:rect l="l" t="t" r="r" b="b"/>
                  <a:pathLst>
                    <a:path w="184" h="126">
                      <a:moveTo>
                        <a:pt x="73" y="40"/>
                      </a:moveTo>
                      <a:lnTo>
                        <a:pt x="78" y="37"/>
                      </a:lnTo>
                      <a:lnTo>
                        <a:pt x="86" y="33"/>
                      </a:lnTo>
                      <a:lnTo>
                        <a:pt x="91" y="30"/>
                      </a:lnTo>
                      <a:lnTo>
                        <a:pt x="99" y="27"/>
                      </a:lnTo>
                      <a:lnTo>
                        <a:pt x="105" y="23"/>
                      </a:lnTo>
                      <a:lnTo>
                        <a:pt x="113" y="23"/>
                      </a:lnTo>
                      <a:lnTo>
                        <a:pt x="120" y="18"/>
                      </a:lnTo>
                      <a:lnTo>
                        <a:pt x="129" y="16"/>
                      </a:lnTo>
                      <a:lnTo>
                        <a:pt x="130" y="16"/>
                      </a:lnTo>
                      <a:lnTo>
                        <a:pt x="131" y="16"/>
                      </a:lnTo>
                      <a:lnTo>
                        <a:pt x="134" y="16"/>
                      </a:lnTo>
                      <a:lnTo>
                        <a:pt x="134" y="14"/>
                      </a:lnTo>
                      <a:lnTo>
                        <a:pt x="135" y="14"/>
                      </a:lnTo>
                      <a:lnTo>
                        <a:pt x="138" y="14"/>
                      </a:lnTo>
                      <a:lnTo>
                        <a:pt x="139" y="14"/>
                      </a:lnTo>
                      <a:lnTo>
                        <a:pt x="140" y="11"/>
                      </a:lnTo>
                      <a:lnTo>
                        <a:pt x="146" y="10"/>
                      </a:lnTo>
                      <a:lnTo>
                        <a:pt x="153" y="9"/>
                      </a:lnTo>
                      <a:lnTo>
                        <a:pt x="159" y="7"/>
                      </a:lnTo>
                      <a:lnTo>
                        <a:pt x="163" y="6"/>
                      </a:lnTo>
                      <a:lnTo>
                        <a:pt x="168" y="3"/>
                      </a:lnTo>
                      <a:lnTo>
                        <a:pt x="174" y="3"/>
                      </a:lnTo>
                      <a:lnTo>
                        <a:pt x="176" y="2"/>
                      </a:lnTo>
                      <a:lnTo>
                        <a:pt x="183" y="2"/>
                      </a:lnTo>
                      <a:lnTo>
                        <a:pt x="176" y="0"/>
                      </a:lnTo>
                      <a:lnTo>
                        <a:pt x="168" y="0"/>
                      </a:lnTo>
                      <a:lnTo>
                        <a:pt x="161" y="0"/>
                      </a:lnTo>
                      <a:lnTo>
                        <a:pt x="153" y="2"/>
                      </a:lnTo>
                      <a:lnTo>
                        <a:pt x="146" y="2"/>
                      </a:lnTo>
                      <a:lnTo>
                        <a:pt x="138" y="3"/>
                      </a:lnTo>
                      <a:lnTo>
                        <a:pt x="129" y="3"/>
                      </a:lnTo>
                      <a:lnTo>
                        <a:pt x="120" y="6"/>
                      </a:lnTo>
                      <a:lnTo>
                        <a:pt x="120" y="7"/>
                      </a:lnTo>
                      <a:lnTo>
                        <a:pt x="119" y="7"/>
                      </a:lnTo>
                      <a:lnTo>
                        <a:pt x="118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5" y="10"/>
                      </a:lnTo>
                      <a:lnTo>
                        <a:pt x="99" y="11"/>
                      </a:lnTo>
                      <a:lnTo>
                        <a:pt x="93" y="14"/>
                      </a:lnTo>
                      <a:lnTo>
                        <a:pt x="88" y="16"/>
                      </a:lnTo>
                      <a:lnTo>
                        <a:pt x="81" y="16"/>
                      </a:lnTo>
                      <a:lnTo>
                        <a:pt x="78" y="21"/>
                      </a:lnTo>
                      <a:lnTo>
                        <a:pt x="71" y="23"/>
                      </a:lnTo>
                      <a:lnTo>
                        <a:pt x="66" y="23"/>
                      </a:lnTo>
                      <a:lnTo>
                        <a:pt x="51" y="32"/>
                      </a:lnTo>
                      <a:lnTo>
                        <a:pt x="39" y="40"/>
                      </a:lnTo>
                      <a:lnTo>
                        <a:pt x="26" y="49"/>
                      </a:lnTo>
                      <a:lnTo>
                        <a:pt x="16" y="58"/>
                      </a:lnTo>
                      <a:lnTo>
                        <a:pt x="9" y="66"/>
                      </a:lnTo>
                      <a:lnTo>
                        <a:pt x="3" y="77"/>
                      </a:lnTo>
                      <a:lnTo>
                        <a:pt x="0" y="85"/>
                      </a:lnTo>
                      <a:lnTo>
                        <a:pt x="0" y="94"/>
                      </a:lnTo>
                      <a:lnTo>
                        <a:pt x="1" y="102"/>
                      </a:lnTo>
                      <a:lnTo>
                        <a:pt x="6" y="109"/>
                      </a:lnTo>
                      <a:lnTo>
                        <a:pt x="11" y="113"/>
                      </a:lnTo>
                      <a:lnTo>
                        <a:pt x="21" y="118"/>
                      </a:lnTo>
                      <a:lnTo>
                        <a:pt x="31" y="123"/>
                      </a:lnTo>
                      <a:lnTo>
                        <a:pt x="41" y="123"/>
                      </a:lnTo>
                      <a:lnTo>
                        <a:pt x="54" y="125"/>
                      </a:lnTo>
                      <a:lnTo>
                        <a:pt x="68" y="125"/>
                      </a:lnTo>
                      <a:lnTo>
                        <a:pt x="69" y="125"/>
                      </a:lnTo>
                      <a:lnTo>
                        <a:pt x="60" y="123"/>
                      </a:lnTo>
                      <a:lnTo>
                        <a:pt x="53" y="120"/>
                      </a:lnTo>
                      <a:lnTo>
                        <a:pt x="45" y="118"/>
                      </a:lnTo>
                      <a:lnTo>
                        <a:pt x="41" y="116"/>
                      </a:lnTo>
                      <a:lnTo>
                        <a:pt x="36" y="111"/>
                      </a:lnTo>
                      <a:lnTo>
                        <a:pt x="33" y="109"/>
                      </a:lnTo>
                      <a:lnTo>
                        <a:pt x="31" y="103"/>
                      </a:lnTo>
                      <a:lnTo>
                        <a:pt x="30" y="99"/>
                      </a:lnTo>
                      <a:lnTo>
                        <a:pt x="30" y="92"/>
                      </a:lnTo>
                      <a:lnTo>
                        <a:pt x="31" y="84"/>
                      </a:lnTo>
                      <a:lnTo>
                        <a:pt x="35" y="77"/>
                      </a:lnTo>
                      <a:lnTo>
                        <a:pt x="39" y="69"/>
                      </a:lnTo>
                      <a:lnTo>
                        <a:pt x="45" y="62"/>
                      </a:lnTo>
                      <a:lnTo>
                        <a:pt x="53" y="54"/>
                      </a:lnTo>
                      <a:lnTo>
                        <a:pt x="64" y="47"/>
                      </a:lnTo>
                      <a:lnTo>
                        <a:pt x="73" y="40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9555120" y="5427720"/>
                  <a:ext cx="241200" cy="241200"/>
                </a:xfrm>
                <a:custGeom>
                  <a:avLst/>
                  <a:gdLst/>
                  <a:ahLst/>
                  <a:rect l="l" t="t" r="r" b="b"/>
                  <a:pathLst>
                    <a:path w="183" h="127">
                      <a:moveTo>
                        <a:pt x="109" y="86"/>
                      </a:moveTo>
                      <a:lnTo>
                        <a:pt x="103" y="89"/>
                      </a:lnTo>
                      <a:lnTo>
                        <a:pt x="98" y="93"/>
                      </a:lnTo>
                      <a:lnTo>
                        <a:pt x="91" y="96"/>
                      </a:lnTo>
                      <a:lnTo>
                        <a:pt x="84" y="98"/>
                      </a:lnTo>
                      <a:lnTo>
                        <a:pt x="77" y="103"/>
                      </a:lnTo>
                      <a:lnTo>
                        <a:pt x="68" y="104"/>
                      </a:lnTo>
                      <a:lnTo>
                        <a:pt x="62" y="108"/>
                      </a:lnTo>
                      <a:lnTo>
                        <a:pt x="53" y="110"/>
                      </a:lnTo>
                      <a:lnTo>
                        <a:pt x="53" y="111"/>
                      </a:lnTo>
                      <a:lnTo>
                        <a:pt x="52" y="111"/>
                      </a:lnTo>
                      <a:lnTo>
                        <a:pt x="51" y="111"/>
                      </a:lnTo>
                      <a:lnTo>
                        <a:pt x="48" y="111"/>
                      </a:lnTo>
                      <a:lnTo>
                        <a:pt x="47" y="112"/>
                      </a:lnTo>
                      <a:lnTo>
                        <a:pt x="45" y="112"/>
                      </a:lnTo>
                      <a:lnTo>
                        <a:pt x="42" y="112"/>
                      </a:lnTo>
                      <a:lnTo>
                        <a:pt x="37" y="116"/>
                      </a:lnTo>
                      <a:lnTo>
                        <a:pt x="31" y="118"/>
                      </a:lnTo>
                      <a:lnTo>
                        <a:pt x="25" y="119"/>
                      </a:lnTo>
                      <a:lnTo>
                        <a:pt x="21" y="120"/>
                      </a:lnTo>
                      <a:lnTo>
                        <a:pt x="15" y="122"/>
                      </a:lnTo>
                      <a:lnTo>
                        <a:pt x="10" y="122"/>
                      </a:lnTo>
                      <a:lnTo>
                        <a:pt x="5" y="124"/>
                      </a:lnTo>
                      <a:lnTo>
                        <a:pt x="0" y="124"/>
                      </a:lnTo>
                      <a:lnTo>
                        <a:pt x="6" y="124"/>
                      </a:lnTo>
                      <a:lnTo>
                        <a:pt x="12" y="126"/>
                      </a:lnTo>
                      <a:lnTo>
                        <a:pt x="21" y="126"/>
                      </a:lnTo>
                      <a:lnTo>
                        <a:pt x="30" y="124"/>
                      </a:lnTo>
                      <a:lnTo>
                        <a:pt x="37" y="124"/>
                      </a:lnTo>
                      <a:lnTo>
                        <a:pt x="45" y="122"/>
                      </a:lnTo>
                      <a:lnTo>
                        <a:pt x="53" y="120"/>
                      </a:lnTo>
                      <a:lnTo>
                        <a:pt x="62" y="119"/>
                      </a:lnTo>
                      <a:lnTo>
                        <a:pt x="63" y="119"/>
                      </a:lnTo>
                      <a:lnTo>
                        <a:pt x="66" y="119"/>
                      </a:lnTo>
                      <a:lnTo>
                        <a:pt x="67" y="119"/>
                      </a:lnTo>
                      <a:lnTo>
                        <a:pt x="68" y="119"/>
                      </a:lnTo>
                      <a:lnTo>
                        <a:pt x="68" y="118"/>
                      </a:lnTo>
                      <a:lnTo>
                        <a:pt x="70" y="118"/>
                      </a:lnTo>
                      <a:lnTo>
                        <a:pt x="72" y="118"/>
                      </a:lnTo>
                      <a:lnTo>
                        <a:pt x="78" y="116"/>
                      </a:lnTo>
                      <a:lnTo>
                        <a:pt x="84" y="114"/>
                      </a:lnTo>
                      <a:lnTo>
                        <a:pt x="89" y="112"/>
                      </a:lnTo>
                      <a:lnTo>
                        <a:pt x="95" y="111"/>
                      </a:lnTo>
                      <a:lnTo>
                        <a:pt x="100" y="108"/>
                      </a:lnTo>
                      <a:lnTo>
                        <a:pt x="106" y="105"/>
                      </a:lnTo>
                      <a:lnTo>
                        <a:pt x="113" y="104"/>
                      </a:lnTo>
                      <a:lnTo>
                        <a:pt x="116" y="101"/>
                      </a:lnTo>
                      <a:lnTo>
                        <a:pt x="130" y="94"/>
                      </a:lnTo>
                      <a:lnTo>
                        <a:pt x="145" y="86"/>
                      </a:lnTo>
                      <a:lnTo>
                        <a:pt x="156" y="78"/>
                      </a:lnTo>
                      <a:lnTo>
                        <a:pt x="166" y="68"/>
                      </a:lnTo>
                      <a:lnTo>
                        <a:pt x="173" y="61"/>
                      </a:lnTo>
                      <a:lnTo>
                        <a:pt x="179" y="49"/>
                      </a:lnTo>
                      <a:lnTo>
                        <a:pt x="182" y="41"/>
                      </a:lnTo>
                      <a:lnTo>
                        <a:pt x="182" y="33"/>
                      </a:lnTo>
                      <a:lnTo>
                        <a:pt x="181" y="25"/>
                      </a:lnTo>
                      <a:lnTo>
                        <a:pt x="176" y="18"/>
                      </a:lnTo>
                      <a:lnTo>
                        <a:pt x="169" y="14"/>
                      </a:lnTo>
                      <a:lnTo>
                        <a:pt x="161" y="9"/>
                      </a:lnTo>
                      <a:lnTo>
                        <a:pt x="152" y="5"/>
                      </a:lnTo>
                      <a:lnTo>
                        <a:pt x="140" y="2"/>
                      </a:lnTo>
                      <a:lnTo>
                        <a:pt x="129" y="2"/>
                      </a:lnTo>
                      <a:lnTo>
                        <a:pt x="114" y="0"/>
                      </a:lnTo>
                      <a:lnTo>
                        <a:pt x="114" y="2"/>
                      </a:lnTo>
                      <a:lnTo>
                        <a:pt x="122" y="3"/>
                      </a:lnTo>
                      <a:lnTo>
                        <a:pt x="130" y="5"/>
                      </a:lnTo>
                      <a:lnTo>
                        <a:pt x="135" y="9"/>
                      </a:lnTo>
                      <a:lnTo>
                        <a:pt x="141" y="11"/>
                      </a:lnTo>
                      <a:lnTo>
                        <a:pt x="145" y="16"/>
                      </a:lnTo>
                      <a:lnTo>
                        <a:pt x="148" y="18"/>
                      </a:lnTo>
                      <a:lnTo>
                        <a:pt x="152" y="23"/>
                      </a:lnTo>
                      <a:lnTo>
                        <a:pt x="152" y="29"/>
                      </a:lnTo>
                      <a:lnTo>
                        <a:pt x="152" y="35"/>
                      </a:lnTo>
                      <a:lnTo>
                        <a:pt x="150" y="43"/>
                      </a:lnTo>
                      <a:lnTo>
                        <a:pt x="146" y="49"/>
                      </a:lnTo>
                      <a:lnTo>
                        <a:pt x="143" y="58"/>
                      </a:lnTo>
                      <a:lnTo>
                        <a:pt x="137" y="65"/>
                      </a:lnTo>
                      <a:lnTo>
                        <a:pt x="129" y="71"/>
                      </a:lnTo>
                      <a:lnTo>
                        <a:pt x="119" y="79"/>
                      </a:lnTo>
                      <a:lnTo>
                        <a:pt x="109" y="86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9385200" y="5697360"/>
                  <a:ext cx="459000" cy="119160"/>
                </a:xfrm>
                <a:custGeom>
                  <a:avLst/>
                  <a:gdLst/>
                  <a:ahLst/>
                  <a:rect l="l" t="t" r="r" b="b"/>
                  <a:pathLst>
                    <a:path w="347" h="63">
                      <a:moveTo>
                        <a:pt x="0" y="1"/>
                      </a:moveTo>
                      <a:lnTo>
                        <a:pt x="171" y="62"/>
                      </a:lnTo>
                      <a:lnTo>
                        <a:pt x="346" y="0"/>
                      </a:lnTo>
                    </a:path>
                  </a:pathLst>
                </a:cu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9390240" y="5264280"/>
                  <a:ext cx="447480" cy="447480"/>
                </a:xfrm>
                <a:prstGeom prst="rect">
                  <a:avLst/>
                </a:pr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pSp>
              <p:nvGrpSpPr>
                <p:cNvPr id="810" name=""/>
                <p:cNvGrpSpPr/>
                <p:nvPr/>
              </p:nvGrpSpPr>
              <p:grpSpPr>
                <a:xfrm>
                  <a:off x="9443880" y="5327640"/>
                  <a:ext cx="307800" cy="312480"/>
                  <a:chOff x="9443880" y="5327640"/>
                  <a:chExt cx="307800" cy="31248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9443880" y="5327640"/>
                    <a:ext cx="23940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26">
                        <a:moveTo>
                          <a:pt x="72" y="39"/>
                        </a:moveTo>
                        <a:lnTo>
                          <a:pt x="79" y="37"/>
                        </a:lnTo>
                        <a:lnTo>
                          <a:pt x="83" y="33"/>
                        </a:lnTo>
                        <a:lnTo>
                          <a:pt x="92" y="30"/>
                        </a:lnTo>
                        <a:lnTo>
                          <a:pt x="98" y="27"/>
                        </a:lnTo>
                        <a:lnTo>
                          <a:pt x="104" y="23"/>
                        </a:lnTo>
                        <a:lnTo>
                          <a:pt x="113" y="21"/>
                        </a:lnTo>
                        <a:lnTo>
                          <a:pt x="119" y="18"/>
                        </a:lnTo>
                        <a:lnTo>
                          <a:pt x="126" y="16"/>
                        </a:lnTo>
                        <a:lnTo>
                          <a:pt x="129" y="15"/>
                        </a:lnTo>
                        <a:lnTo>
                          <a:pt x="130" y="15"/>
                        </a:lnTo>
                        <a:lnTo>
                          <a:pt x="131" y="15"/>
                        </a:lnTo>
                        <a:lnTo>
                          <a:pt x="134" y="14"/>
                        </a:lnTo>
                        <a:lnTo>
                          <a:pt x="136" y="14"/>
                        </a:lnTo>
                        <a:lnTo>
                          <a:pt x="137" y="14"/>
                        </a:lnTo>
                        <a:lnTo>
                          <a:pt x="144" y="10"/>
                        </a:lnTo>
                        <a:lnTo>
                          <a:pt x="150" y="9"/>
                        </a:lnTo>
                        <a:lnTo>
                          <a:pt x="156" y="7"/>
                        </a:lnTo>
                        <a:lnTo>
                          <a:pt x="161" y="5"/>
                        </a:lnTo>
                        <a:lnTo>
                          <a:pt x="165" y="3"/>
                        </a:lnTo>
                        <a:lnTo>
                          <a:pt x="170" y="3"/>
                        </a:lnTo>
                        <a:lnTo>
                          <a:pt x="175" y="2"/>
                        </a:lnTo>
                        <a:lnTo>
                          <a:pt x="181" y="2"/>
                        </a:lnTo>
                        <a:lnTo>
                          <a:pt x="175" y="2"/>
                        </a:lnTo>
                        <a:lnTo>
                          <a:pt x="167" y="0"/>
                        </a:lnTo>
                        <a:lnTo>
                          <a:pt x="160" y="0"/>
                        </a:lnTo>
                        <a:lnTo>
                          <a:pt x="152" y="2"/>
                        </a:lnTo>
                        <a:lnTo>
                          <a:pt x="144" y="2"/>
                        </a:lnTo>
                        <a:lnTo>
                          <a:pt x="136" y="3"/>
                        </a:lnTo>
                        <a:lnTo>
                          <a:pt x="129" y="5"/>
                        </a:lnTo>
                        <a:lnTo>
                          <a:pt x="119" y="7"/>
                        </a:lnTo>
                        <a:lnTo>
                          <a:pt x="116" y="7"/>
                        </a:lnTo>
                        <a:lnTo>
                          <a:pt x="115" y="7"/>
                        </a:lnTo>
                        <a:lnTo>
                          <a:pt x="114" y="7"/>
                        </a:lnTo>
                        <a:lnTo>
                          <a:pt x="113" y="9"/>
                        </a:lnTo>
                        <a:lnTo>
                          <a:pt x="110" y="9"/>
                        </a:lnTo>
                        <a:lnTo>
                          <a:pt x="109" y="9"/>
                        </a:lnTo>
                        <a:lnTo>
                          <a:pt x="103" y="10"/>
                        </a:lnTo>
                        <a:lnTo>
                          <a:pt x="98" y="11"/>
                        </a:lnTo>
                        <a:lnTo>
                          <a:pt x="92" y="14"/>
                        </a:lnTo>
                        <a:lnTo>
                          <a:pt x="87" y="15"/>
                        </a:lnTo>
                        <a:lnTo>
                          <a:pt x="82" y="18"/>
                        </a:lnTo>
                        <a:lnTo>
                          <a:pt x="76" y="21"/>
                        </a:lnTo>
                        <a:lnTo>
                          <a:pt x="71" y="21"/>
                        </a:lnTo>
                        <a:lnTo>
                          <a:pt x="66" y="25"/>
                        </a:lnTo>
                        <a:lnTo>
                          <a:pt x="51" y="32"/>
                        </a:lnTo>
                        <a:lnTo>
                          <a:pt x="38" y="39"/>
                        </a:lnTo>
                        <a:lnTo>
                          <a:pt x="26" y="48"/>
                        </a:lnTo>
                        <a:lnTo>
                          <a:pt x="15" y="57"/>
                        </a:lnTo>
                        <a:lnTo>
                          <a:pt x="7" y="65"/>
                        </a:lnTo>
                        <a:lnTo>
                          <a:pt x="2" y="76"/>
                        </a:lnTo>
                        <a:lnTo>
                          <a:pt x="0" y="84"/>
                        </a:lnTo>
                        <a:lnTo>
                          <a:pt x="0" y="93"/>
                        </a:lnTo>
                        <a:lnTo>
                          <a:pt x="2" y="100"/>
                        </a:lnTo>
                        <a:lnTo>
                          <a:pt x="7" y="107"/>
                        </a:lnTo>
                        <a:lnTo>
                          <a:pt x="12" y="111"/>
                        </a:lnTo>
                        <a:lnTo>
                          <a:pt x="21" y="117"/>
                        </a:lnTo>
                        <a:lnTo>
                          <a:pt x="30" y="120"/>
                        </a:lnTo>
                        <a:lnTo>
                          <a:pt x="42" y="123"/>
                        </a:lnTo>
                        <a:lnTo>
                          <a:pt x="54" y="123"/>
                        </a:lnTo>
                        <a:lnTo>
                          <a:pt x="68" y="125"/>
                        </a:lnTo>
                        <a:lnTo>
                          <a:pt x="69" y="123"/>
                        </a:lnTo>
                        <a:lnTo>
                          <a:pt x="61" y="121"/>
                        </a:lnTo>
                        <a:lnTo>
                          <a:pt x="53" y="120"/>
                        </a:lnTo>
                        <a:lnTo>
                          <a:pt x="46" y="117"/>
                        </a:lnTo>
                        <a:lnTo>
                          <a:pt x="40" y="113"/>
                        </a:lnTo>
                        <a:lnTo>
                          <a:pt x="37" y="110"/>
                        </a:lnTo>
                        <a:lnTo>
                          <a:pt x="33" y="107"/>
                        </a:lnTo>
                        <a:lnTo>
                          <a:pt x="30" y="102"/>
                        </a:lnTo>
                        <a:lnTo>
                          <a:pt x="30" y="97"/>
                        </a:lnTo>
                        <a:lnTo>
                          <a:pt x="30" y="90"/>
                        </a:lnTo>
                        <a:lnTo>
                          <a:pt x="32" y="81"/>
                        </a:lnTo>
                        <a:lnTo>
                          <a:pt x="35" y="76"/>
                        </a:lnTo>
                        <a:lnTo>
                          <a:pt x="38" y="68"/>
                        </a:lnTo>
                        <a:lnTo>
                          <a:pt x="46" y="61"/>
                        </a:lnTo>
                        <a:lnTo>
                          <a:pt x="53" y="54"/>
                        </a:lnTo>
                        <a:lnTo>
                          <a:pt x="62" y="46"/>
                        </a:lnTo>
                        <a:lnTo>
                          <a:pt x="72" y="39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9508320" y="5405040"/>
                    <a:ext cx="24336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24">
                        <a:moveTo>
                          <a:pt x="110" y="84"/>
                        </a:moveTo>
                        <a:lnTo>
                          <a:pt x="105" y="87"/>
                        </a:lnTo>
                        <a:lnTo>
                          <a:pt x="99" y="90"/>
                        </a:lnTo>
                        <a:lnTo>
                          <a:pt x="91" y="94"/>
                        </a:lnTo>
                        <a:lnTo>
                          <a:pt x="85" y="96"/>
                        </a:lnTo>
                        <a:lnTo>
                          <a:pt x="79" y="101"/>
                        </a:lnTo>
                        <a:lnTo>
                          <a:pt x="71" y="102"/>
                        </a:lnTo>
                        <a:lnTo>
                          <a:pt x="64" y="106"/>
                        </a:lnTo>
                        <a:lnTo>
                          <a:pt x="56" y="107"/>
                        </a:lnTo>
                        <a:lnTo>
                          <a:pt x="54" y="108"/>
                        </a:lnTo>
                        <a:lnTo>
                          <a:pt x="52" y="108"/>
                        </a:lnTo>
                        <a:lnTo>
                          <a:pt x="50" y="108"/>
                        </a:lnTo>
                        <a:lnTo>
                          <a:pt x="50" y="110"/>
                        </a:lnTo>
                        <a:lnTo>
                          <a:pt x="49" y="110"/>
                        </a:lnTo>
                        <a:lnTo>
                          <a:pt x="47" y="110"/>
                        </a:lnTo>
                        <a:lnTo>
                          <a:pt x="45" y="110"/>
                        </a:lnTo>
                        <a:lnTo>
                          <a:pt x="44" y="113"/>
                        </a:lnTo>
                        <a:lnTo>
                          <a:pt x="36" y="114"/>
                        </a:lnTo>
                        <a:lnTo>
                          <a:pt x="30" y="115"/>
                        </a:lnTo>
                        <a:lnTo>
                          <a:pt x="26" y="117"/>
                        </a:lnTo>
                        <a:lnTo>
                          <a:pt x="21" y="118"/>
                        </a:lnTo>
                        <a:lnTo>
                          <a:pt x="16" y="121"/>
                        </a:lnTo>
                        <a:lnTo>
                          <a:pt x="10" y="121"/>
                        </a:lnTo>
                        <a:lnTo>
                          <a:pt x="6" y="122"/>
                        </a:lnTo>
                        <a:lnTo>
                          <a:pt x="0" y="122"/>
                        </a:lnTo>
                        <a:lnTo>
                          <a:pt x="7" y="123"/>
                        </a:lnTo>
                        <a:lnTo>
                          <a:pt x="15" y="123"/>
                        </a:lnTo>
                        <a:lnTo>
                          <a:pt x="21" y="123"/>
                        </a:lnTo>
                        <a:lnTo>
                          <a:pt x="30" y="122"/>
                        </a:lnTo>
                        <a:lnTo>
                          <a:pt x="37" y="122"/>
                        </a:lnTo>
                        <a:lnTo>
                          <a:pt x="45" y="121"/>
                        </a:lnTo>
                        <a:lnTo>
                          <a:pt x="54" y="121"/>
                        </a:lnTo>
                        <a:lnTo>
                          <a:pt x="64" y="118"/>
                        </a:lnTo>
                        <a:lnTo>
                          <a:pt x="65" y="117"/>
                        </a:lnTo>
                        <a:lnTo>
                          <a:pt x="67" y="117"/>
                        </a:lnTo>
                        <a:lnTo>
                          <a:pt x="69" y="117"/>
                        </a:lnTo>
                        <a:lnTo>
                          <a:pt x="71" y="115"/>
                        </a:lnTo>
                        <a:lnTo>
                          <a:pt x="72" y="115"/>
                        </a:lnTo>
                        <a:lnTo>
                          <a:pt x="74" y="115"/>
                        </a:lnTo>
                        <a:lnTo>
                          <a:pt x="79" y="114"/>
                        </a:lnTo>
                        <a:lnTo>
                          <a:pt x="85" y="113"/>
                        </a:lnTo>
                        <a:lnTo>
                          <a:pt x="90" y="110"/>
                        </a:lnTo>
                        <a:lnTo>
                          <a:pt x="95" y="108"/>
                        </a:lnTo>
                        <a:lnTo>
                          <a:pt x="101" y="107"/>
                        </a:lnTo>
                        <a:lnTo>
                          <a:pt x="107" y="103"/>
                        </a:lnTo>
                        <a:lnTo>
                          <a:pt x="111" y="102"/>
                        </a:lnTo>
                        <a:lnTo>
                          <a:pt x="117" y="101"/>
                        </a:lnTo>
                        <a:lnTo>
                          <a:pt x="132" y="92"/>
                        </a:lnTo>
                        <a:lnTo>
                          <a:pt x="146" y="84"/>
                        </a:lnTo>
                        <a:lnTo>
                          <a:pt x="157" y="76"/>
                        </a:lnTo>
                        <a:lnTo>
                          <a:pt x="166" y="65"/>
                        </a:lnTo>
                        <a:lnTo>
                          <a:pt x="175" y="57"/>
                        </a:lnTo>
                        <a:lnTo>
                          <a:pt x="179" y="47"/>
                        </a:lnTo>
                        <a:lnTo>
                          <a:pt x="182" y="40"/>
                        </a:lnTo>
                        <a:lnTo>
                          <a:pt x="184" y="31"/>
                        </a:lnTo>
                        <a:lnTo>
                          <a:pt x="180" y="23"/>
                        </a:lnTo>
                        <a:lnTo>
                          <a:pt x="177" y="16"/>
                        </a:lnTo>
                        <a:lnTo>
                          <a:pt x="171" y="11"/>
                        </a:lnTo>
                        <a:lnTo>
                          <a:pt x="162" y="7"/>
                        </a:lnTo>
                        <a:lnTo>
                          <a:pt x="152" y="3"/>
                        </a:lnTo>
                        <a:lnTo>
                          <a:pt x="141" y="2"/>
                        </a:lnTo>
                        <a:lnTo>
                          <a:pt x="129" y="0"/>
                        </a:lnTo>
                        <a:lnTo>
                          <a:pt x="115" y="0"/>
                        </a:lnTo>
                        <a:lnTo>
                          <a:pt x="114" y="0"/>
                        </a:lnTo>
                        <a:lnTo>
                          <a:pt x="122" y="2"/>
                        </a:lnTo>
                        <a:lnTo>
                          <a:pt x="129" y="5"/>
                        </a:lnTo>
                        <a:lnTo>
                          <a:pt x="136" y="7"/>
                        </a:lnTo>
                        <a:lnTo>
                          <a:pt x="144" y="9"/>
                        </a:lnTo>
                        <a:lnTo>
                          <a:pt x="147" y="13"/>
                        </a:lnTo>
                        <a:lnTo>
                          <a:pt x="150" y="16"/>
                        </a:lnTo>
                        <a:lnTo>
                          <a:pt x="151" y="22"/>
                        </a:lnTo>
                        <a:lnTo>
                          <a:pt x="152" y="26"/>
                        </a:lnTo>
                        <a:lnTo>
                          <a:pt x="152" y="34"/>
                        </a:lnTo>
                        <a:lnTo>
                          <a:pt x="151" y="40"/>
                        </a:lnTo>
                        <a:lnTo>
                          <a:pt x="150" y="47"/>
                        </a:lnTo>
                        <a:lnTo>
                          <a:pt x="144" y="56"/>
                        </a:lnTo>
                        <a:lnTo>
                          <a:pt x="136" y="63"/>
                        </a:lnTo>
                        <a:lnTo>
                          <a:pt x="129" y="71"/>
                        </a:lnTo>
                        <a:lnTo>
                          <a:pt x="121" y="77"/>
                        </a:lnTo>
                        <a:lnTo>
                          <a:pt x="110" y="84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sp>
              <p:nvSpPr>
                <p:cNvPr id="813" name=""/>
                <p:cNvSpPr/>
                <p:nvPr/>
              </p:nvSpPr>
              <p:spPr>
                <a:xfrm>
                  <a:off x="9416880" y="5305320"/>
                  <a:ext cx="37872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2560" rIns="52560" tIns="25560" bIns="25560" anchor="t">
                  <a:spAutoFit/>
                </a:bodyPr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R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W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sp>
            <p:nvSpPr>
              <p:cNvPr id="814" name=""/>
              <p:cNvSpPr/>
              <p:nvPr/>
            </p:nvSpPr>
            <p:spPr>
              <a:xfrm>
                <a:off x="1066680" y="4191120"/>
                <a:ext cx="5978520" cy="218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190440" indent="-190440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EDGE and WCDMA will merge into single multiradio system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spcBef>
                    <a:spcPts val="901"/>
                  </a:spcBef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More capacity with less cost by combining multiple radio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access technologies (trunking gain)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Improved peak traffic handling with load balancing and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congestion control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Optimised resource utilisation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 by unified radio bearer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QoS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Management and dynamic bearer selection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7923600" y="2514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kia IP-RA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y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794880" y="1142640"/>
            <a:ext cx="8729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60% of mobile subscribers in 2006 will be GSM/EDGE sub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nhanced service coverage to GSM foot prin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 delivery in GSM frequencies with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3G capacity with existing GSM frequency ban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wide area 3G radio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3G terminal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ll IP evolution for one common core and RAN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roll-out can be started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UltraSite and MetroSite EDGE BTS roll-out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TRX/BB roll-out 4Q2001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erything ready for service launch by 3Q2002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8" name=""/>
          <p:cNvSpPr/>
          <p:nvPr/>
        </p:nvSpPr>
        <p:spPr>
          <a:xfrm>
            <a:off x="10800" y="5715000"/>
            <a:ext cx="972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Rotis Sans Serif for Nokia"/>
              </a:rPr>
              <a:t>GSM/EDGE is the best way to continue GSM network expans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7840" y="10666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= Enhanced Data Rates for Global Evolu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tandardised by 3GPP, ETSI, ANSI, ITU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s part of GSM2+ specif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mplementation under existing GSM licen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brings 3G to GSM standar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0 kbps per TSL with Enhanced GPRS  (C/I=17dB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aximum 473 kbps user rates - later on above 2Mbps (rel 6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GPRS and voice call simultaneously (Dual Transfer Mode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 voice calls per TCH with E-AMR (rel 5.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Harmonised QoS and IP services (rel. 5)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mplemented to current GSM network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GSM resourc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Processes and compet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sites and frequency pla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at is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-360"/>
            <a:ext cx="8709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Standardis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172200"/>
            <a:ext cx="883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" name=""/>
          <p:cNvSpPr/>
          <p:nvPr/>
        </p:nvSpPr>
        <p:spPr>
          <a:xfrm>
            <a:off x="151200" y="61722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073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" name=""/>
          <p:cNvSpPr/>
          <p:nvPr/>
        </p:nvSpPr>
        <p:spPr>
          <a:xfrm>
            <a:off x="612720" y="565200"/>
            <a:ext cx="12600" cy="5630760"/>
          </a:xfrm>
          <a:prstGeom prst="line">
            <a:avLst/>
          </a:prstGeom>
          <a:ln w="1260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8359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1440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311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25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49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4256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8098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597800" y="6112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835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" name=""/>
          <p:cNvSpPr/>
          <p:nvPr/>
        </p:nvSpPr>
        <p:spPr>
          <a:xfrm>
            <a:off x="905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167400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" name=""/>
          <p:cNvSpPr/>
          <p:nvPr/>
        </p:nvSpPr>
        <p:spPr>
          <a:xfrm>
            <a:off x="74664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63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172200" y="4876920"/>
            <a:ext cx="4647600" cy="304200"/>
            <a:chOff x="6172200" y="4876920"/>
            <a:chExt cx="4647600" cy="304200"/>
          </a:xfrm>
        </p:grpSpPr>
        <p:sp>
          <p:nvSpPr>
            <p:cNvPr id="73" name=""/>
            <p:cNvSpPr/>
            <p:nvPr/>
          </p:nvSpPr>
          <p:spPr>
            <a:xfrm>
              <a:off x="6172200" y="4880160"/>
              <a:ext cx="3753360" cy="300960"/>
            </a:xfrm>
            <a:custGeom>
              <a:avLst/>
              <a:gdLst>
                <a:gd name="textAreaLeft" fmla="*/ 0 w 3753360"/>
                <a:gd name="textAreaRight" fmla="*/ 3753720 w 37533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72200" y="4876920"/>
              <a:ext cx="46476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Volume deliverie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874400" y="5738760"/>
            <a:ext cx="3735720" cy="280440"/>
            <a:chOff x="4874400" y="5738760"/>
            <a:chExt cx="3735720" cy="280440"/>
          </a:xfrm>
        </p:grpSpPr>
        <p:sp>
          <p:nvSpPr>
            <p:cNvPr id="76" name=""/>
            <p:cNvSpPr/>
            <p:nvPr/>
          </p:nvSpPr>
          <p:spPr>
            <a:xfrm rot="10740000">
              <a:off x="4876200" y="5746680"/>
              <a:ext cx="225000" cy="22536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81480" y="5738760"/>
              <a:ext cx="34286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R&amp;D Specs frozen for EDGE rel 99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84040" y="5052960"/>
            <a:ext cx="3351600" cy="280440"/>
            <a:chOff x="3884040" y="5052960"/>
            <a:chExt cx="3351600" cy="280440"/>
          </a:xfrm>
        </p:grpSpPr>
        <p:sp>
          <p:nvSpPr>
            <p:cNvPr id="79" name=""/>
            <p:cNvSpPr/>
            <p:nvPr/>
          </p:nvSpPr>
          <p:spPr>
            <a:xfrm rot="10740000">
              <a:off x="3885840" y="506016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11560" y="505296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Ultrasite 3-mode launc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035960" y="5257800"/>
            <a:ext cx="4099680" cy="381960"/>
            <a:chOff x="4035960" y="5257800"/>
            <a:chExt cx="4099680" cy="381960"/>
          </a:xfrm>
        </p:grpSpPr>
        <p:sp>
          <p:nvSpPr>
            <p:cNvPr id="82" name=""/>
            <p:cNvSpPr/>
            <p:nvPr/>
          </p:nvSpPr>
          <p:spPr>
            <a:xfrm>
              <a:off x="4343400" y="5257800"/>
              <a:ext cx="37922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740000">
              <a:off x="4038480" y="5355720"/>
              <a:ext cx="225360" cy="28188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992040" y="5326200"/>
            <a:ext cx="2619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System Program E1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470400"/>
            <a:ext cx="4724280" cy="86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Major EDGE rel '99 contributors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Nokia, Ericss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T&amp;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ll GSM infra and terminal vendors committed to EDGE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2353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7" name=""/>
          <p:cNvSpPr/>
          <p:nvPr/>
        </p:nvSpPr>
        <p:spPr>
          <a:xfrm>
            <a:off x="7763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26658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9" name=""/>
          <p:cNvSpPr/>
          <p:nvPr/>
        </p:nvSpPr>
        <p:spPr>
          <a:xfrm>
            <a:off x="3191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0" name=""/>
          <p:cNvSpPr/>
          <p:nvPr/>
        </p:nvSpPr>
        <p:spPr>
          <a:xfrm>
            <a:off x="42660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1" name=""/>
          <p:cNvSpPr/>
          <p:nvPr/>
        </p:nvSpPr>
        <p:spPr>
          <a:xfrm>
            <a:off x="38775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2" name=""/>
          <p:cNvSpPr/>
          <p:nvPr/>
        </p:nvSpPr>
        <p:spPr>
          <a:xfrm>
            <a:off x="471564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3" name=""/>
          <p:cNvSpPr/>
          <p:nvPr/>
        </p:nvSpPr>
        <p:spPr>
          <a:xfrm>
            <a:off x="571392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4" name=""/>
          <p:cNvSpPr/>
          <p:nvPr/>
        </p:nvSpPr>
        <p:spPr>
          <a:xfrm>
            <a:off x="5477760" y="61578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5" name=""/>
          <p:cNvSpPr/>
          <p:nvPr/>
        </p:nvSpPr>
        <p:spPr>
          <a:xfrm>
            <a:off x="6239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514600"/>
            <a:ext cx="990612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2c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CDMA ETSI '97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ITU-UTRAN '98   3GPP '99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85800"/>
            <a:ext cx="990612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DGE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TSI '97 Feas study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Change to 3GPP 1H'00 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ork Item '98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05560" y="986400"/>
            <a:ext cx="2972880" cy="641880"/>
            <a:chOff x="3805560" y="986400"/>
            <a:chExt cx="2972880" cy="641880"/>
          </a:xfrm>
        </p:grpSpPr>
        <p:sp>
          <p:nvSpPr>
            <p:cNvPr id="99" name=""/>
            <p:cNvSpPr/>
            <p:nvPr/>
          </p:nvSpPr>
          <p:spPr>
            <a:xfrm rot="10740000">
              <a:off x="3809520" y="99036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87880" y="990720"/>
              <a:ext cx="2590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TSI Rel 99 READY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GPRS, ECSD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925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2" name=""/>
          <p:cNvSpPr/>
          <p:nvPr/>
        </p:nvSpPr>
        <p:spPr>
          <a:xfrm>
            <a:off x="8525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523880"/>
            <a:ext cx="3657600" cy="6098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UWC-136HS to ITU '98 as 3G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805920" y="2661480"/>
            <a:ext cx="3813840" cy="464040"/>
            <a:chOff x="3805920" y="2661480"/>
            <a:chExt cx="3813840" cy="464040"/>
          </a:xfrm>
        </p:grpSpPr>
        <p:sp>
          <p:nvSpPr>
            <p:cNvPr id="105" name=""/>
            <p:cNvSpPr/>
            <p:nvPr/>
          </p:nvSpPr>
          <p:spPr>
            <a:xfrm rot="10740000">
              <a:off x="3809880" y="2666520"/>
              <a:ext cx="58248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94800" y="2666880"/>
              <a:ext cx="33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3GPP Rel 99 READY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160560" y="352440"/>
            <a:ext cx="298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SM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8" name=""/>
          <p:cNvSpPr/>
          <p:nvPr/>
        </p:nvSpPr>
        <p:spPr>
          <a:xfrm>
            <a:off x="-25200" y="1447920"/>
            <a:ext cx="31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lobal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658680" y="4748040"/>
            <a:ext cx="3351600" cy="280440"/>
            <a:chOff x="3658680" y="4748040"/>
            <a:chExt cx="3351600" cy="280440"/>
          </a:xfrm>
        </p:grpSpPr>
        <p:sp>
          <p:nvSpPr>
            <p:cNvPr id="110" name=""/>
            <p:cNvSpPr/>
            <p:nvPr/>
          </p:nvSpPr>
          <p:spPr>
            <a:xfrm rot="10740000">
              <a:off x="3660480" y="47552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6200" y="47480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solution launch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982160" y="4519440"/>
            <a:ext cx="3351600" cy="280440"/>
            <a:chOff x="1982160" y="4519440"/>
            <a:chExt cx="3351600" cy="280440"/>
          </a:xfrm>
        </p:grpSpPr>
        <p:sp>
          <p:nvSpPr>
            <p:cNvPr id="113" name=""/>
            <p:cNvSpPr/>
            <p:nvPr/>
          </p:nvSpPr>
          <p:spPr>
            <a:xfrm rot="10740000">
              <a:off x="1983960" y="45266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09680" y="45194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BP establis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V="1">
            <a:off x="5715000" y="152388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620120" y="228564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482080" y="3885120"/>
            <a:ext cx="2972880" cy="461880"/>
            <a:chOff x="5482080" y="3885120"/>
            <a:chExt cx="2972880" cy="461880"/>
          </a:xfrm>
        </p:grpSpPr>
        <p:sp>
          <p:nvSpPr>
            <p:cNvPr id="118" name=""/>
            <p:cNvSpPr/>
            <p:nvPr/>
          </p:nvSpPr>
          <p:spPr>
            <a:xfrm rot="10740000">
              <a:off x="5486040" y="38890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64400" y="38894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4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390080" y="4342320"/>
            <a:ext cx="2972880" cy="461880"/>
            <a:chOff x="7390080" y="4342320"/>
            <a:chExt cx="2972880" cy="461880"/>
          </a:xfrm>
        </p:grpSpPr>
        <p:sp>
          <p:nvSpPr>
            <p:cNvPr id="121" name=""/>
            <p:cNvSpPr/>
            <p:nvPr/>
          </p:nvSpPr>
          <p:spPr>
            <a:xfrm rot="10740000">
              <a:off x="7394040" y="43462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72400" y="43466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5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10740000">
            <a:off x="5562000" y="3355560"/>
            <a:ext cx="31572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279600"/>
            <a:ext cx="406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TRAN Rel. 4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465320" y="3549600"/>
            <a:ext cx="3278520" cy="335520"/>
            <a:chOff x="7465320" y="3549600"/>
            <a:chExt cx="3278520" cy="335520"/>
          </a:xfrm>
        </p:grpSpPr>
        <p:sp>
          <p:nvSpPr>
            <p:cNvPr id="126" name=""/>
            <p:cNvSpPr/>
            <p:nvPr/>
          </p:nvSpPr>
          <p:spPr>
            <a:xfrm rot="10740000">
              <a:off x="7467120" y="3624840"/>
              <a:ext cx="23040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9600" y="3549600"/>
              <a:ext cx="296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UTRAN Rel. 5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8" name=""/>
          <p:cNvSpPr/>
          <p:nvPr/>
        </p:nvSpPr>
        <p:spPr>
          <a:xfrm rot="10740000">
            <a:off x="7467120" y="2061720"/>
            <a:ext cx="23040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2092320"/>
            <a:ext cx="296388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ERAN Rel.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2/2001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, harmonisation of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alities with UTRAN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G traffic classes,  IP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media,  8-PSK speech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power control for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ch.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560560" y="1295280"/>
            <a:ext cx="4269240" cy="746280"/>
            <a:chOff x="5560560" y="1295280"/>
            <a:chExt cx="4269240" cy="746280"/>
          </a:xfrm>
        </p:grpSpPr>
        <p:sp>
          <p:nvSpPr>
            <p:cNvPr id="131" name=""/>
            <p:cNvSpPr/>
            <p:nvPr/>
          </p:nvSpPr>
          <p:spPr>
            <a:xfrm rot="10740000">
              <a:off x="5562360" y="1370520"/>
              <a:ext cx="31104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30920" y="1295280"/>
              <a:ext cx="399888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GERAN Rel. 4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4/2001, GSM 700 MHz, Gb/IP, NACC (network assisted cell change), delayed TBF assignment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H="1">
            <a:off x="5635800" y="205740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971800" y="1752120"/>
            <a:ext cx="137160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502080" y="2819520"/>
            <a:ext cx="692640" cy="912600"/>
            <a:chOff x="3502080" y="2819520"/>
            <a:chExt cx="692640" cy="912600"/>
          </a:xfrm>
        </p:grpSpPr>
        <p:grpSp>
          <p:nvGrpSpPr>
            <p:cNvPr id="136" name=""/>
            <p:cNvGrpSpPr/>
            <p:nvPr/>
          </p:nvGrpSpPr>
          <p:grpSpPr>
            <a:xfrm>
              <a:off x="3532320" y="2819520"/>
              <a:ext cx="658800" cy="912600"/>
              <a:chOff x="3532320" y="2819520"/>
              <a:chExt cx="658800" cy="912600"/>
            </a:xfrm>
          </p:grpSpPr>
          <p:sp>
            <p:nvSpPr>
              <p:cNvPr id="137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53200" y="2908080"/>
                <a:ext cx="11268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9108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564360" y="2921040"/>
                <a:ext cx="903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697560" y="2921040"/>
                <a:ext cx="936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64360" y="33382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697560" y="33382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48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983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61000" y="2921040"/>
                <a:ext cx="921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94560" y="2921040"/>
                <a:ext cx="918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861000" y="33382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94560" y="33382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3608640" y="3300120"/>
                <a:ext cx="37800" cy="2880"/>
                <a:chOff x="3608640" y="3300120"/>
                <a:chExt cx="37800" cy="28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608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619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708720" y="3300120"/>
                <a:ext cx="37800" cy="2880"/>
                <a:chOff x="3708720" y="3300120"/>
                <a:chExt cx="37800" cy="28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70872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71988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905640" y="3300120"/>
                <a:ext cx="37800" cy="2880"/>
                <a:chOff x="3905640" y="3300120"/>
                <a:chExt cx="37800" cy="28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905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916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007160" y="3300120"/>
                <a:ext cx="37800" cy="2880"/>
                <a:chOff x="4007160" y="3300120"/>
                <a:chExt cx="37800" cy="28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00716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1832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3502080" y="287640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RNC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8960" y="22824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All 3G solu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 and WCDMA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742840" y="3886200"/>
            <a:ext cx="16765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4503600"/>
            <a:ext cx="198108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191120" y="2743200"/>
            <a:ext cx="2599200" cy="2057400"/>
            <a:chOff x="4191120" y="2743200"/>
            <a:chExt cx="2599200" cy="2057400"/>
          </a:xfrm>
        </p:grpSpPr>
        <p:sp>
          <p:nvSpPr>
            <p:cNvPr id="180" name=""/>
            <p:cNvSpPr/>
            <p:nvPr/>
          </p:nvSpPr>
          <p:spPr>
            <a:xfrm rot="891600">
              <a:off x="4272120" y="3142440"/>
              <a:ext cx="782640" cy="7344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46200" y="3025080"/>
              <a:ext cx="671400" cy="8010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521000">
              <a:off x="5047200" y="3729240"/>
              <a:ext cx="961200" cy="108396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110000">
              <a:off x="6003360" y="3648240"/>
              <a:ext cx="741240" cy="8136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591800">
              <a:off x="4311720" y="3680640"/>
              <a:ext cx="768960" cy="84888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93000" y="2743200"/>
              <a:ext cx="2485080" cy="188352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63d6ff"/>
                </a:gs>
                <a:gs pos="50000">
                  <a:srgbClr val="d8f4fe"/>
                </a:gs>
                <a:gs pos="100000">
                  <a:srgbClr val="63d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07400" y="3429000"/>
            <a:ext cx="692640" cy="912960"/>
            <a:chOff x="3407400" y="3429000"/>
            <a:chExt cx="692640" cy="912960"/>
          </a:xfrm>
        </p:grpSpPr>
        <p:grpSp>
          <p:nvGrpSpPr>
            <p:cNvPr id="187" name=""/>
            <p:cNvGrpSpPr/>
            <p:nvPr/>
          </p:nvGrpSpPr>
          <p:grpSpPr>
            <a:xfrm>
              <a:off x="3429000" y="3429000"/>
              <a:ext cx="658800" cy="912960"/>
              <a:chOff x="3429000" y="3429000"/>
              <a:chExt cx="658800" cy="912960"/>
            </a:xfrm>
          </p:grpSpPr>
          <p:sp>
            <p:nvSpPr>
              <p:cNvPr id="188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49880" y="3517920"/>
                <a:ext cx="11268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58776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61040" y="35308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94240" y="35308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61040" y="3948120"/>
                <a:ext cx="903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94240" y="3948120"/>
                <a:ext cx="936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45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880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57680" y="35308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91240" y="35308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57680" y="3948120"/>
                <a:ext cx="921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91240" y="3948120"/>
                <a:ext cx="918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3505320" y="3909960"/>
                <a:ext cx="37800" cy="2880"/>
                <a:chOff x="3505320" y="3909960"/>
                <a:chExt cx="37800" cy="28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505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16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605400" y="3909960"/>
                <a:ext cx="37800" cy="2880"/>
                <a:chOff x="3605400" y="3909960"/>
                <a:chExt cx="37800" cy="28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60540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61656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802320" y="3909960"/>
                <a:ext cx="37800" cy="2880"/>
                <a:chOff x="3802320" y="3909960"/>
                <a:chExt cx="37800" cy="28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802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813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903840" y="3909960"/>
                <a:ext cx="37800" cy="2880"/>
                <a:chOff x="3903840" y="3909960"/>
                <a:chExt cx="37800" cy="28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90384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1500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226" name=""/>
            <p:cNvSpPr/>
            <p:nvPr/>
          </p:nvSpPr>
          <p:spPr>
            <a:xfrm>
              <a:off x="3407400" y="348624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SC-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401000" y="3562200"/>
            <a:ext cx="209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SS and GPRS Cor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438280" y="2666880"/>
            <a:ext cx="399960" cy="667800"/>
            <a:chOff x="2438280" y="2666880"/>
            <a:chExt cx="399960" cy="667800"/>
          </a:xfrm>
        </p:grpSpPr>
        <p:sp>
          <p:nvSpPr>
            <p:cNvPr id="229" name=""/>
            <p:cNvSpPr/>
            <p:nvPr/>
          </p:nvSpPr>
          <p:spPr>
            <a:xfrm>
              <a:off x="2441520" y="3308040"/>
              <a:ext cx="33876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38280" y="2704320"/>
              <a:ext cx="345960" cy="607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2666880"/>
              <a:ext cx="39996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80640" y="32572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80640" y="2666880"/>
              <a:ext cx="57600" cy="64908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51680" y="2759040"/>
              <a:ext cx="207360" cy="53568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69240" y="2759040"/>
              <a:ext cx="63000" cy="1324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69240" y="290844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027160" y="2220840"/>
            <a:ext cx="455400" cy="1141560"/>
            <a:chOff x="2027160" y="2220840"/>
            <a:chExt cx="455400" cy="1141560"/>
          </a:xfrm>
        </p:grpSpPr>
        <p:sp>
          <p:nvSpPr>
            <p:cNvPr id="238" name=""/>
            <p:cNvSpPr/>
            <p:nvPr/>
          </p:nvSpPr>
          <p:spPr>
            <a:xfrm>
              <a:off x="2067840" y="2999880"/>
              <a:ext cx="40320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72520" y="3009240"/>
              <a:ext cx="40428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75840" y="30092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72240" y="3323880"/>
              <a:ext cx="21204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27160" y="23108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80520" y="2310840"/>
              <a:ext cx="15228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29320" y="23464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67840" y="2346480"/>
              <a:ext cx="26352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8640" y="22442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21840" y="22208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81600" y="23515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07520" y="23515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886760" y="336240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362320" y="4419720"/>
            <a:ext cx="399600" cy="667440"/>
            <a:chOff x="2362320" y="4419720"/>
            <a:chExt cx="399600" cy="667440"/>
          </a:xfrm>
        </p:grpSpPr>
        <p:sp>
          <p:nvSpPr>
            <p:cNvPr id="252" name=""/>
            <p:cNvSpPr/>
            <p:nvPr/>
          </p:nvSpPr>
          <p:spPr>
            <a:xfrm>
              <a:off x="2365560" y="506052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62320" y="445716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62320" y="441972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04320" y="500976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04320" y="441972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75720" y="451188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93280" y="451188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93280" y="466128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951200" y="3973680"/>
            <a:ext cx="455400" cy="1140840"/>
            <a:chOff x="1951200" y="3973680"/>
            <a:chExt cx="455400" cy="1140840"/>
          </a:xfrm>
        </p:grpSpPr>
        <p:sp>
          <p:nvSpPr>
            <p:cNvPr id="261" name=""/>
            <p:cNvSpPr/>
            <p:nvPr/>
          </p:nvSpPr>
          <p:spPr>
            <a:xfrm>
              <a:off x="1991880" y="475236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6560" y="4761720"/>
              <a:ext cx="403920" cy="30924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99880" y="4761720"/>
              <a:ext cx="306720" cy="30924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6280" y="507636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51200" y="4063320"/>
              <a:ext cx="146160" cy="105120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04560" y="4063320"/>
              <a:ext cx="151920" cy="105120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53360" y="409932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91880" y="409932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92680" y="3997080"/>
              <a:ext cx="14040" cy="108972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45880" y="397368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05640" y="410436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31200" y="410436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8350920" y="5257800"/>
            <a:ext cx="1297800" cy="823680"/>
            <a:chOff x="8350920" y="5257800"/>
            <a:chExt cx="1297800" cy="823680"/>
          </a:xfrm>
        </p:grpSpPr>
        <p:grpSp>
          <p:nvGrpSpPr>
            <p:cNvPr id="274" name=""/>
            <p:cNvGrpSpPr/>
            <p:nvPr/>
          </p:nvGrpSpPr>
          <p:grpSpPr>
            <a:xfrm>
              <a:off x="8350920" y="5257800"/>
              <a:ext cx="1255680" cy="823680"/>
              <a:chOff x="8350920" y="5257800"/>
              <a:chExt cx="1255680" cy="823680"/>
            </a:xfrm>
          </p:grpSpPr>
          <p:sp>
            <p:nvSpPr>
              <p:cNvPr id="275" name=""/>
              <p:cNvSpPr/>
              <p:nvPr/>
            </p:nvSpPr>
            <p:spPr>
              <a:xfrm rot="891600">
                <a:off x="8381880" y="5417280"/>
                <a:ext cx="381240" cy="2923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9244440" y="5370480"/>
                <a:ext cx="327960" cy="31896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6521000">
                <a:off x="8801280" y="5602680"/>
                <a:ext cx="382320" cy="5274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6110000">
                <a:off x="9256320" y="5582160"/>
                <a:ext cx="296280" cy="3960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6591800">
                <a:off x="8443800" y="5583600"/>
                <a:ext cx="306360" cy="4129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391600" y="5257800"/>
                <a:ext cx="1209960" cy="749520"/>
              </a:xfrm>
              <a:custGeom>
                <a:avLst/>
                <a:gdLst/>
                <a:ahLst/>
                <a:rect l="l" t="t" r="r" b="b"/>
                <a:pathLst>
                  <a:path w="2339" h="2262">
                    <a:moveTo>
                      <a:pt x="1754" y="398"/>
                    </a:moveTo>
                    <a:lnTo>
                      <a:pt x="1746" y="359"/>
                    </a:lnTo>
                    <a:lnTo>
                      <a:pt x="1736" y="321"/>
                    </a:lnTo>
                    <a:lnTo>
                      <a:pt x="1725" y="283"/>
                    </a:lnTo>
                    <a:lnTo>
                      <a:pt x="1710" y="249"/>
                    </a:lnTo>
                    <a:lnTo>
                      <a:pt x="1694" y="215"/>
                    </a:lnTo>
                    <a:lnTo>
                      <a:pt x="1675" y="185"/>
                    </a:lnTo>
                    <a:lnTo>
                      <a:pt x="1655" y="156"/>
                    </a:lnTo>
                    <a:lnTo>
                      <a:pt x="1635" y="130"/>
                    </a:lnTo>
                    <a:lnTo>
                      <a:pt x="1623" y="116"/>
                    </a:lnTo>
                    <a:lnTo>
                      <a:pt x="1611" y="105"/>
                    </a:lnTo>
                    <a:lnTo>
                      <a:pt x="1598" y="95"/>
                    </a:lnTo>
                    <a:lnTo>
                      <a:pt x="1587" y="85"/>
                    </a:lnTo>
                    <a:lnTo>
                      <a:pt x="1574" y="74"/>
                    </a:lnTo>
                    <a:lnTo>
                      <a:pt x="1561" y="66"/>
                    </a:lnTo>
                    <a:lnTo>
                      <a:pt x="1547" y="57"/>
                    </a:lnTo>
                    <a:lnTo>
                      <a:pt x="1534" y="50"/>
                    </a:lnTo>
                    <a:lnTo>
                      <a:pt x="1520" y="44"/>
                    </a:lnTo>
                    <a:lnTo>
                      <a:pt x="1505" y="38"/>
                    </a:lnTo>
                    <a:lnTo>
                      <a:pt x="1491" y="32"/>
                    </a:lnTo>
                    <a:lnTo>
                      <a:pt x="1476" y="29"/>
                    </a:lnTo>
                    <a:lnTo>
                      <a:pt x="1462" y="25"/>
                    </a:lnTo>
                    <a:lnTo>
                      <a:pt x="1447" y="24"/>
                    </a:lnTo>
                    <a:lnTo>
                      <a:pt x="1431" y="22"/>
                    </a:lnTo>
                    <a:lnTo>
                      <a:pt x="1417" y="22"/>
                    </a:lnTo>
                    <a:lnTo>
                      <a:pt x="1395" y="22"/>
                    </a:lnTo>
                    <a:lnTo>
                      <a:pt x="1373" y="25"/>
                    </a:lnTo>
                    <a:lnTo>
                      <a:pt x="1351" y="29"/>
                    </a:lnTo>
                    <a:lnTo>
                      <a:pt x="1331" y="37"/>
                    </a:lnTo>
                    <a:lnTo>
                      <a:pt x="1311" y="45"/>
                    </a:lnTo>
                    <a:lnTo>
                      <a:pt x="1291" y="54"/>
                    </a:lnTo>
                    <a:lnTo>
                      <a:pt x="1272" y="66"/>
                    </a:lnTo>
                    <a:lnTo>
                      <a:pt x="1253" y="79"/>
                    </a:lnTo>
                    <a:lnTo>
                      <a:pt x="1235" y="93"/>
                    </a:lnTo>
                    <a:lnTo>
                      <a:pt x="1218" y="109"/>
                    </a:lnTo>
                    <a:lnTo>
                      <a:pt x="1200" y="127"/>
                    </a:lnTo>
                    <a:lnTo>
                      <a:pt x="1186" y="146"/>
                    </a:lnTo>
                    <a:lnTo>
                      <a:pt x="1170" y="166"/>
                    </a:lnTo>
                    <a:lnTo>
                      <a:pt x="1157" y="186"/>
                    </a:lnTo>
                    <a:lnTo>
                      <a:pt x="1144" y="209"/>
                    </a:lnTo>
                    <a:lnTo>
                      <a:pt x="1131" y="233"/>
                    </a:lnTo>
                    <a:lnTo>
                      <a:pt x="1119" y="207"/>
                    </a:lnTo>
                    <a:lnTo>
                      <a:pt x="1106" y="182"/>
                    </a:lnTo>
                    <a:lnTo>
                      <a:pt x="1092" y="159"/>
                    </a:lnTo>
                    <a:lnTo>
                      <a:pt x="1077" y="137"/>
                    </a:lnTo>
                    <a:lnTo>
                      <a:pt x="1061" y="116"/>
                    </a:lnTo>
                    <a:lnTo>
                      <a:pt x="1044" y="98"/>
                    </a:lnTo>
                    <a:lnTo>
                      <a:pt x="1026" y="80"/>
                    </a:lnTo>
                    <a:lnTo>
                      <a:pt x="1007" y="64"/>
                    </a:lnTo>
                    <a:lnTo>
                      <a:pt x="989" y="50"/>
                    </a:lnTo>
                    <a:lnTo>
                      <a:pt x="968" y="37"/>
                    </a:lnTo>
                    <a:lnTo>
                      <a:pt x="948" y="25"/>
                    </a:lnTo>
                    <a:lnTo>
                      <a:pt x="926" y="16"/>
                    </a:lnTo>
                    <a:lnTo>
                      <a:pt x="904" y="9"/>
                    </a:lnTo>
                    <a:lnTo>
                      <a:pt x="883" y="3"/>
                    </a:lnTo>
                    <a:lnTo>
                      <a:pt x="859" y="0"/>
                    </a:lnTo>
                    <a:lnTo>
                      <a:pt x="836" y="0"/>
                    </a:lnTo>
                    <a:lnTo>
                      <a:pt x="819" y="0"/>
                    </a:lnTo>
                    <a:lnTo>
                      <a:pt x="803" y="2"/>
                    </a:lnTo>
                    <a:lnTo>
                      <a:pt x="785" y="5"/>
                    </a:lnTo>
                    <a:lnTo>
                      <a:pt x="769" y="9"/>
                    </a:lnTo>
                    <a:lnTo>
                      <a:pt x="753" y="13"/>
                    </a:lnTo>
                    <a:lnTo>
                      <a:pt x="737" y="19"/>
                    </a:lnTo>
                    <a:lnTo>
                      <a:pt x="723" y="26"/>
                    </a:lnTo>
                    <a:lnTo>
                      <a:pt x="707" y="34"/>
                    </a:lnTo>
                    <a:lnTo>
                      <a:pt x="692" y="42"/>
                    </a:lnTo>
                    <a:lnTo>
                      <a:pt x="678" y="53"/>
                    </a:lnTo>
                    <a:lnTo>
                      <a:pt x="665" y="63"/>
                    </a:lnTo>
                    <a:lnTo>
                      <a:pt x="650" y="74"/>
                    </a:lnTo>
                    <a:lnTo>
                      <a:pt x="637" y="87"/>
                    </a:lnTo>
                    <a:lnTo>
                      <a:pt x="624" y="100"/>
                    </a:lnTo>
                    <a:lnTo>
                      <a:pt x="612" y="114"/>
                    </a:lnTo>
                    <a:lnTo>
                      <a:pt x="601" y="130"/>
                    </a:lnTo>
                    <a:lnTo>
                      <a:pt x="589" y="144"/>
                    </a:lnTo>
                    <a:lnTo>
                      <a:pt x="579" y="160"/>
                    </a:lnTo>
                    <a:lnTo>
                      <a:pt x="569" y="177"/>
                    </a:lnTo>
                    <a:lnTo>
                      <a:pt x="559" y="195"/>
                    </a:lnTo>
                    <a:lnTo>
                      <a:pt x="550" y="212"/>
                    </a:lnTo>
                    <a:lnTo>
                      <a:pt x="541" y="231"/>
                    </a:lnTo>
                    <a:lnTo>
                      <a:pt x="533" y="250"/>
                    </a:lnTo>
                    <a:lnTo>
                      <a:pt x="525" y="270"/>
                    </a:lnTo>
                    <a:lnTo>
                      <a:pt x="518" y="291"/>
                    </a:lnTo>
                    <a:lnTo>
                      <a:pt x="512" y="311"/>
                    </a:lnTo>
                    <a:lnTo>
                      <a:pt x="508" y="333"/>
                    </a:lnTo>
                    <a:lnTo>
                      <a:pt x="502" y="353"/>
                    </a:lnTo>
                    <a:lnTo>
                      <a:pt x="499" y="376"/>
                    </a:lnTo>
                    <a:lnTo>
                      <a:pt x="496" y="398"/>
                    </a:lnTo>
                    <a:lnTo>
                      <a:pt x="493" y="421"/>
                    </a:lnTo>
                    <a:lnTo>
                      <a:pt x="492" y="445"/>
                    </a:lnTo>
                    <a:lnTo>
                      <a:pt x="470" y="430"/>
                    </a:lnTo>
                    <a:lnTo>
                      <a:pt x="448" y="419"/>
                    </a:lnTo>
                    <a:lnTo>
                      <a:pt x="427" y="408"/>
                    </a:lnTo>
                    <a:lnTo>
                      <a:pt x="403" y="398"/>
                    </a:lnTo>
                    <a:lnTo>
                      <a:pt x="382" y="391"/>
                    </a:lnTo>
                    <a:lnTo>
                      <a:pt x="360" y="384"/>
                    </a:lnTo>
                    <a:lnTo>
                      <a:pt x="338" y="379"/>
                    </a:lnTo>
                    <a:lnTo>
                      <a:pt x="315" y="375"/>
                    </a:lnTo>
                    <a:lnTo>
                      <a:pt x="293" y="374"/>
                    </a:lnTo>
                    <a:lnTo>
                      <a:pt x="271" y="374"/>
                    </a:lnTo>
                    <a:lnTo>
                      <a:pt x="250" y="375"/>
                    </a:lnTo>
                    <a:lnTo>
                      <a:pt x="229" y="378"/>
                    </a:lnTo>
                    <a:lnTo>
                      <a:pt x="209" y="382"/>
                    </a:lnTo>
                    <a:lnTo>
                      <a:pt x="189" y="388"/>
                    </a:lnTo>
                    <a:lnTo>
                      <a:pt x="168" y="395"/>
                    </a:lnTo>
                    <a:lnTo>
                      <a:pt x="149" y="405"/>
                    </a:lnTo>
                    <a:lnTo>
                      <a:pt x="133" y="414"/>
                    </a:lnTo>
                    <a:lnTo>
                      <a:pt x="119" y="424"/>
                    </a:lnTo>
                    <a:lnTo>
                      <a:pt x="106" y="436"/>
                    </a:lnTo>
                    <a:lnTo>
                      <a:pt x="93" y="448"/>
                    </a:lnTo>
                    <a:lnTo>
                      <a:pt x="81" y="461"/>
                    </a:lnTo>
                    <a:lnTo>
                      <a:pt x="69" y="475"/>
                    </a:lnTo>
                    <a:lnTo>
                      <a:pt x="59" y="490"/>
                    </a:lnTo>
                    <a:lnTo>
                      <a:pt x="51" y="504"/>
                    </a:lnTo>
                    <a:lnTo>
                      <a:pt x="42" y="520"/>
                    </a:lnTo>
                    <a:lnTo>
                      <a:pt x="33" y="536"/>
                    </a:lnTo>
                    <a:lnTo>
                      <a:pt x="27" y="554"/>
                    </a:lnTo>
                    <a:lnTo>
                      <a:pt x="20" y="571"/>
                    </a:lnTo>
                    <a:lnTo>
                      <a:pt x="16" y="590"/>
                    </a:lnTo>
                    <a:lnTo>
                      <a:pt x="11" y="609"/>
                    </a:lnTo>
                    <a:lnTo>
                      <a:pt x="7" y="628"/>
                    </a:lnTo>
                    <a:lnTo>
                      <a:pt x="4" y="648"/>
                    </a:lnTo>
                    <a:lnTo>
                      <a:pt x="3" y="668"/>
                    </a:lnTo>
                    <a:lnTo>
                      <a:pt x="1" y="689"/>
                    </a:lnTo>
                    <a:lnTo>
                      <a:pt x="1" y="709"/>
                    </a:lnTo>
                    <a:lnTo>
                      <a:pt x="3" y="731"/>
                    </a:lnTo>
                    <a:lnTo>
                      <a:pt x="4" y="753"/>
                    </a:lnTo>
                    <a:lnTo>
                      <a:pt x="7" y="774"/>
                    </a:lnTo>
                    <a:lnTo>
                      <a:pt x="10" y="796"/>
                    </a:lnTo>
                    <a:lnTo>
                      <a:pt x="14" y="818"/>
                    </a:lnTo>
                    <a:lnTo>
                      <a:pt x="20" y="840"/>
                    </a:lnTo>
                    <a:lnTo>
                      <a:pt x="26" y="862"/>
                    </a:lnTo>
                    <a:lnTo>
                      <a:pt x="33" y="885"/>
                    </a:lnTo>
                    <a:lnTo>
                      <a:pt x="40" y="907"/>
                    </a:lnTo>
                    <a:lnTo>
                      <a:pt x="49" y="928"/>
                    </a:lnTo>
                    <a:lnTo>
                      <a:pt x="59" y="952"/>
                    </a:lnTo>
                    <a:lnTo>
                      <a:pt x="69" y="973"/>
                    </a:lnTo>
                    <a:lnTo>
                      <a:pt x="81" y="995"/>
                    </a:lnTo>
                    <a:lnTo>
                      <a:pt x="88" y="1005"/>
                    </a:lnTo>
                    <a:lnTo>
                      <a:pt x="94" y="1016"/>
                    </a:lnTo>
                    <a:lnTo>
                      <a:pt x="100" y="1027"/>
                    </a:lnTo>
                    <a:lnTo>
                      <a:pt x="107" y="1037"/>
                    </a:lnTo>
                    <a:lnTo>
                      <a:pt x="115" y="1047"/>
                    </a:lnTo>
                    <a:lnTo>
                      <a:pt x="120" y="1056"/>
                    </a:lnTo>
                    <a:lnTo>
                      <a:pt x="128" y="1066"/>
                    </a:lnTo>
                    <a:lnTo>
                      <a:pt x="135" y="1077"/>
                    </a:lnTo>
                    <a:lnTo>
                      <a:pt x="119" y="1097"/>
                    </a:lnTo>
                    <a:lnTo>
                      <a:pt x="103" y="1120"/>
                    </a:lnTo>
                    <a:lnTo>
                      <a:pt x="87" y="1143"/>
                    </a:lnTo>
                    <a:lnTo>
                      <a:pt x="74" y="1167"/>
                    </a:lnTo>
                    <a:lnTo>
                      <a:pt x="61" y="1193"/>
                    </a:lnTo>
                    <a:lnTo>
                      <a:pt x="49" y="1219"/>
                    </a:lnTo>
                    <a:lnTo>
                      <a:pt x="38" y="1245"/>
                    </a:lnTo>
                    <a:lnTo>
                      <a:pt x="29" y="1273"/>
                    </a:lnTo>
                    <a:lnTo>
                      <a:pt x="22" y="1299"/>
                    </a:lnTo>
                    <a:lnTo>
                      <a:pt x="14" y="1325"/>
                    </a:lnTo>
                    <a:lnTo>
                      <a:pt x="10" y="1350"/>
                    </a:lnTo>
                    <a:lnTo>
                      <a:pt x="6" y="1376"/>
                    </a:lnTo>
                    <a:lnTo>
                      <a:pt x="3" y="1402"/>
                    </a:lnTo>
                    <a:lnTo>
                      <a:pt x="1" y="1427"/>
                    </a:lnTo>
                    <a:lnTo>
                      <a:pt x="0" y="1453"/>
                    </a:lnTo>
                    <a:lnTo>
                      <a:pt x="1" y="1477"/>
                    </a:lnTo>
                    <a:lnTo>
                      <a:pt x="3" y="1502"/>
                    </a:lnTo>
                    <a:lnTo>
                      <a:pt x="4" y="1527"/>
                    </a:lnTo>
                    <a:lnTo>
                      <a:pt x="9" y="1551"/>
                    </a:lnTo>
                    <a:lnTo>
                      <a:pt x="13" y="1575"/>
                    </a:lnTo>
                    <a:lnTo>
                      <a:pt x="19" y="1598"/>
                    </a:lnTo>
                    <a:lnTo>
                      <a:pt x="26" y="1621"/>
                    </a:lnTo>
                    <a:lnTo>
                      <a:pt x="33" y="1644"/>
                    </a:lnTo>
                    <a:lnTo>
                      <a:pt x="42" y="1666"/>
                    </a:lnTo>
                    <a:lnTo>
                      <a:pt x="52" y="1688"/>
                    </a:lnTo>
                    <a:lnTo>
                      <a:pt x="62" y="1708"/>
                    </a:lnTo>
                    <a:lnTo>
                      <a:pt x="74" y="1729"/>
                    </a:lnTo>
                    <a:lnTo>
                      <a:pt x="87" y="1748"/>
                    </a:lnTo>
                    <a:lnTo>
                      <a:pt x="100" y="1766"/>
                    </a:lnTo>
                    <a:lnTo>
                      <a:pt x="115" y="1784"/>
                    </a:lnTo>
                    <a:lnTo>
                      <a:pt x="129" y="1801"/>
                    </a:lnTo>
                    <a:lnTo>
                      <a:pt x="145" y="1817"/>
                    </a:lnTo>
                    <a:lnTo>
                      <a:pt x="162" y="1832"/>
                    </a:lnTo>
                    <a:lnTo>
                      <a:pt x="180" y="1846"/>
                    </a:lnTo>
                    <a:lnTo>
                      <a:pt x="197" y="1859"/>
                    </a:lnTo>
                    <a:lnTo>
                      <a:pt x="216" y="1872"/>
                    </a:lnTo>
                    <a:lnTo>
                      <a:pt x="236" y="1883"/>
                    </a:lnTo>
                    <a:lnTo>
                      <a:pt x="257" y="1893"/>
                    </a:lnTo>
                    <a:lnTo>
                      <a:pt x="279" y="1902"/>
                    </a:lnTo>
                    <a:lnTo>
                      <a:pt x="300" y="1910"/>
                    </a:lnTo>
                    <a:lnTo>
                      <a:pt x="328" y="1918"/>
                    </a:lnTo>
                    <a:lnTo>
                      <a:pt x="354" y="1923"/>
                    </a:lnTo>
                    <a:lnTo>
                      <a:pt x="382" y="1926"/>
                    </a:lnTo>
                    <a:lnTo>
                      <a:pt x="409" y="1929"/>
                    </a:lnTo>
                    <a:lnTo>
                      <a:pt x="437" y="1928"/>
                    </a:lnTo>
                    <a:lnTo>
                      <a:pt x="463" y="1926"/>
                    </a:lnTo>
                    <a:lnTo>
                      <a:pt x="491" y="1922"/>
                    </a:lnTo>
                    <a:lnTo>
                      <a:pt x="517" y="1918"/>
                    </a:lnTo>
                    <a:lnTo>
                      <a:pt x="544" y="1910"/>
                    </a:lnTo>
                    <a:lnTo>
                      <a:pt x="570" y="1902"/>
                    </a:lnTo>
                    <a:lnTo>
                      <a:pt x="595" y="1890"/>
                    </a:lnTo>
                    <a:lnTo>
                      <a:pt x="621" y="1878"/>
                    </a:lnTo>
                    <a:lnTo>
                      <a:pt x="646" y="1865"/>
                    </a:lnTo>
                    <a:lnTo>
                      <a:pt x="669" y="1849"/>
                    </a:lnTo>
                    <a:lnTo>
                      <a:pt x="692" y="1833"/>
                    </a:lnTo>
                    <a:lnTo>
                      <a:pt x="716" y="1814"/>
                    </a:lnTo>
                    <a:lnTo>
                      <a:pt x="717" y="1838"/>
                    </a:lnTo>
                    <a:lnTo>
                      <a:pt x="721" y="1861"/>
                    </a:lnTo>
                    <a:lnTo>
                      <a:pt x="726" y="1884"/>
                    </a:lnTo>
                    <a:lnTo>
                      <a:pt x="730" y="1906"/>
                    </a:lnTo>
                    <a:lnTo>
                      <a:pt x="737" y="1928"/>
                    </a:lnTo>
                    <a:lnTo>
                      <a:pt x="745" y="1948"/>
                    </a:lnTo>
                    <a:lnTo>
                      <a:pt x="752" y="1970"/>
                    </a:lnTo>
                    <a:lnTo>
                      <a:pt x="762" y="1990"/>
                    </a:lnTo>
                    <a:lnTo>
                      <a:pt x="772" y="2010"/>
                    </a:lnTo>
                    <a:lnTo>
                      <a:pt x="782" y="2029"/>
                    </a:lnTo>
                    <a:lnTo>
                      <a:pt x="794" y="2048"/>
                    </a:lnTo>
                    <a:lnTo>
                      <a:pt x="807" y="2066"/>
                    </a:lnTo>
                    <a:lnTo>
                      <a:pt x="820" y="2083"/>
                    </a:lnTo>
                    <a:lnTo>
                      <a:pt x="835" y="2101"/>
                    </a:lnTo>
                    <a:lnTo>
                      <a:pt x="849" y="2116"/>
                    </a:lnTo>
                    <a:lnTo>
                      <a:pt x="865" y="2132"/>
                    </a:lnTo>
                    <a:lnTo>
                      <a:pt x="881" y="2147"/>
                    </a:lnTo>
                    <a:lnTo>
                      <a:pt x="899" y="2162"/>
                    </a:lnTo>
                    <a:lnTo>
                      <a:pt x="916" y="2175"/>
                    </a:lnTo>
                    <a:lnTo>
                      <a:pt x="935" y="2186"/>
                    </a:lnTo>
                    <a:lnTo>
                      <a:pt x="954" y="2198"/>
                    </a:lnTo>
                    <a:lnTo>
                      <a:pt x="973" y="2209"/>
                    </a:lnTo>
                    <a:lnTo>
                      <a:pt x="993" y="2218"/>
                    </a:lnTo>
                    <a:lnTo>
                      <a:pt x="1013" y="2227"/>
                    </a:lnTo>
                    <a:lnTo>
                      <a:pt x="1034" y="2236"/>
                    </a:lnTo>
                    <a:lnTo>
                      <a:pt x="1055" y="2243"/>
                    </a:lnTo>
                    <a:lnTo>
                      <a:pt x="1077" y="2249"/>
                    </a:lnTo>
                    <a:lnTo>
                      <a:pt x="1099" y="2253"/>
                    </a:lnTo>
                    <a:lnTo>
                      <a:pt x="1121" y="2257"/>
                    </a:lnTo>
                    <a:lnTo>
                      <a:pt x="1144" y="2260"/>
                    </a:lnTo>
                    <a:lnTo>
                      <a:pt x="1167" y="2262"/>
                    </a:lnTo>
                    <a:lnTo>
                      <a:pt x="1190" y="2262"/>
                    </a:lnTo>
                    <a:lnTo>
                      <a:pt x="1215" y="2262"/>
                    </a:lnTo>
                    <a:lnTo>
                      <a:pt x="1240" y="2260"/>
                    </a:lnTo>
                    <a:lnTo>
                      <a:pt x="1263" y="2257"/>
                    </a:lnTo>
                    <a:lnTo>
                      <a:pt x="1286" y="2253"/>
                    </a:lnTo>
                    <a:lnTo>
                      <a:pt x="1309" y="2247"/>
                    </a:lnTo>
                    <a:lnTo>
                      <a:pt x="1333" y="2241"/>
                    </a:lnTo>
                    <a:lnTo>
                      <a:pt x="1354" y="2233"/>
                    </a:lnTo>
                    <a:lnTo>
                      <a:pt x="1376" y="2224"/>
                    </a:lnTo>
                    <a:lnTo>
                      <a:pt x="1396" y="2215"/>
                    </a:lnTo>
                    <a:lnTo>
                      <a:pt x="1417" y="2204"/>
                    </a:lnTo>
                    <a:lnTo>
                      <a:pt x="1437" y="2192"/>
                    </a:lnTo>
                    <a:lnTo>
                      <a:pt x="1456" y="2180"/>
                    </a:lnTo>
                    <a:lnTo>
                      <a:pt x="1475" y="2167"/>
                    </a:lnTo>
                    <a:lnTo>
                      <a:pt x="1494" y="2153"/>
                    </a:lnTo>
                    <a:lnTo>
                      <a:pt x="1511" y="2137"/>
                    </a:lnTo>
                    <a:lnTo>
                      <a:pt x="1527" y="2121"/>
                    </a:lnTo>
                    <a:lnTo>
                      <a:pt x="1543" y="2105"/>
                    </a:lnTo>
                    <a:lnTo>
                      <a:pt x="1558" y="2087"/>
                    </a:lnTo>
                    <a:lnTo>
                      <a:pt x="1572" y="2069"/>
                    </a:lnTo>
                    <a:lnTo>
                      <a:pt x="1585" y="2050"/>
                    </a:lnTo>
                    <a:lnTo>
                      <a:pt x="1598" y="2031"/>
                    </a:lnTo>
                    <a:lnTo>
                      <a:pt x="1610" y="2010"/>
                    </a:lnTo>
                    <a:lnTo>
                      <a:pt x="1620" y="1990"/>
                    </a:lnTo>
                    <a:lnTo>
                      <a:pt x="1629" y="1968"/>
                    </a:lnTo>
                    <a:lnTo>
                      <a:pt x="1637" y="1947"/>
                    </a:lnTo>
                    <a:lnTo>
                      <a:pt x="1645" y="1925"/>
                    </a:lnTo>
                    <a:lnTo>
                      <a:pt x="1652" y="1902"/>
                    </a:lnTo>
                    <a:lnTo>
                      <a:pt x="1658" y="1878"/>
                    </a:lnTo>
                    <a:lnTo>
                      <a:pt x="1661" y="1855"/>
                    </a:lnTo>
                    <a:lnTo>
                      <a:pt x="1665" y="1830"/>
                    </a:lnTo>
                    <a:lnTo>
                      <a:pt x="1667" y="1806"/>
                    </a:lnTo>
                    <a:lnTo>
                      <a:pt x="1667" y="1781"/>
                    </a:lnTo>
                    <a:lnTo>
                      <a:pt x="1667" y="1781"/>
                    </a:lnTo>
                    <a:lnTo>
                      <a:pt x="1667" y="1780"/>
                    </a:lnTo>
                    <a:lnTo>
                      <a:pt x="1667" y="1778"/>
                    </a:lnTo>
                    <a:lnTo>
                      <a:pt x="1667" y="1777"/>
                    </a:lnTo>
                    <a:lnTo>
                      <a:pt x="1667" y="1777"/>
                    </a:lnTo>
                    <a:lnTo>
                      <a:pt x="1667" y="1775"/>
                    </a:lnTo>
                    <a:lnTo>
                      <a:pt x="1667" y="1774"/>
                    </a:lnTo>
                    <a:lnTo>
                      <a:pt x="1667" y="1772"/>
                    </a:lnTo>
                    <a:lnTo>
                      <a:pt x="1690" y="1788"/>
                    </a:lnTo>
                    <a:lnTo>
                      <a:pt x="1713" y="1803"/>
                    </a:lnTo>
                    <a:lnTo>
                      <a:pt x="1738" y="1814"/>
                    </a:lnTo>
                    <a:lnTo>
                      <a:pt x="1761" y="1827"/>
                    </a:lnTo>
                    <a:lnTo>
                      <a:pt x="1786" y="1838"/>
                    </a:lnTo>
                    <a:lnTo>
                      <a:pt x="1812" y="1846"/>
                    </a:lnTo>
                    <a:lnTo>
                      <a:pt x="1836" y="1855"/>
                    </a:lnTo>
                    <a:lnTo>
                      <a:pt x="1863" y="1861"/>
                    </a:lnTo>
                    <a:lnTo>
                      <a:pt x="1887" y="1867"/>
                    </a:lnTo>
                    <a:lnTo>
                      <a:pt x="1913" y="1870"/>
                    </a:lnTo>
                    <a:lnTo>
                      <a:pt x="1939" y="1872"/>
                    </a:lnTo>
                    <a:lnTo>
                      <a:pt x="1966" y="1872"/>
                    </a:lnTo>
                    <a:lnTo>
                      <a:pt x="1990" y="1872"/>
                    </a:lnTo>
                    <a:lnTo>
                      <a:pt x="2016" y="1870"/>
                    </a:lnTo>
                    <a:lnTo>
                      <a:pt x="2041" y="1867"/>
                    </a:lnTo>
                    <a:lnTo>
                      <a:pt x="2066" y="1861"/>
                    </a:lnTo>
                    <a:lnTo>
                      <a:pt x="2088" y="1855"/>
                    </a:lnTo>
                    <a:lnTo>
                      <a:pt x="2108" y="1848"/>
                    </a:lnTo>
                    <a:lnTo>
                      <a:pt x="2128" y="1839"/>
                    </a:lnTo>
                    <a:lnTo>
                      <a:pt x="2147" y="1830"/>
                    </a:lnTo>
                    <a:lnTo>
                      <a:pt x="2166" y="1820"/>
                    </a:lnTo>
                    <a:lnTo>
                      <a:pt x="2183" y="1809"/>
                    </a:lnTo>
                    <a:lnTo>
                      <a:pt x="2199" y="1797"/>
                    </a:lnTo>
                    <a:lnTo>
                      <a:pt x="2215" y="1784"/>
                    </a:lnTo>
                    <a:lnTo>
                      <a:pt x="2230" y="1769"/>
                    </a:lnTo>
                    <a:lnTo>
                      <a:pt x="2244" y="1755"/>
                    </a:lnTo>
                    <a:lnTo>
                      <a:pt x="2257" y="1739"/>
                    </a:lnTo>
                    <a:lnTo>
                      <a:pt x="2271" y="1723"/>
                    </a:lnTo>
                    <a:lnTo>
                      <a:pt x="2281" y="1707"/>
                    </a:lnTo>
                    <a:lnTo>
                      <a:pt x="2291" y="1688"/>
                    </a:lnTo>
                    <a:lnTo>
                      <a:pt x="2301" y="1671"/>
                    </a:lnTo>
                    <a:lnTo>
                      <a:pt x="2310" y="1652"/>
                    </a:lnTo>
                    <a:lnTo>
                      <a:pt x="2317" y="1631"/>
                    </a:lnTo>
                    <a:lnTo>
                      <a:pt x="2323" y="1612"/>
                    </a:lnTo>
                    <a:lnTo>
                      <a:pt x="2329" y="1592"/>
                    </a:lnTo>
                    <a:lnTo>
                      <a:pt x="2333" y="1570"/>
                    </a:lnTo>
                    <a:lnTo>
                      <a:pt x="2336" y="1550"/>
                    </a:lnTo>
                    <a:lnTo>
                      <a:pt x="2339" y="1528"/>
                    </a:lnTo>
                    <a:lnTo>
                      <a:pt x="2339" y="1505"/>
                    </a:lnTo>
                    <a:lnTo>
                      <a:pt x="2339" y="1483"/>
                    </a:lnTo>
                    <a:lnTo>
                      <a:pt x="2339" y="1460"/>
                    </a:lnTo>
                    <a:lnTo>
                      <a:pt x="2336" y="1438"/>
                    </a:lnTo>
                    <a:lnTo>
                      <a:pt x="2333" y="1415"/>
                    </a:lnTo>
                    <a:lnTo>
                      <a:pt x="2329" y="1392"/>
                    </a:lnTo>
                    <a:lnTo>
                      <a:pt x="2323" y="1368"/>
                    </a:lnTo>
                    <a:lnTo>
                      <a:pt x="2316" y="1344"/>
                    </a:lnTo>
                    <a:lnTo>
                      <a:pt x="2308" y="1321"/>
                    </a:lnTo>
                    <a:lnTo>
                      <a:pt x="2300" y="1297"/>
                    </a:lnTo>
                    <a:lnTo>
                      <a:pt x="2285" y="1265"/>
                    </a:lnTo>
                    <a:lnTo>
                      <a:pt x="2268" y="1233"/>
                    </a:lnTo>
                    <a:lnTo>
                      <a:pt x="2250" y="1204"/>
                    </a:lnTo>
                    <a:lnTo>
                      <a:pt x="2230" y="1175"/>
                    </a:lnTo>
                    <a:lnTo>
                      <a:pt x="2210" y="1148"/>
                    </a:lnTo>
                    <a:lnTo>
                      <a:pt x="2186" y="1123"/>
                    </a:lnTo>
                    <a:lnTo>
                      <a:pt x="2163" y="1098"/>
                    </a:lnTo>
                    <a:lnTo>
                      <a:pt x="2138" y="1075"/>
                    </a:lnTo>
                    <a:lnTo>
                      <a:pt x="2165" y="1036"/>
                    </a:lnTo>
                    <a:lnTo>
                      <a:pt x="2189" y="995"/>
                    </a:lnTo>
                    <a:lnTo>
                      <a:pt x="2210" y="953"/>
                    </a:lnTo>
                    <a:lnTo>
                      <a:pt x="2228" y="911"/>
                    </a:lnTo>
                    <a:lnTo>
                      <a:pt x="2243" y="867"/>
                    </a:lnTo>
                    <a:lnTo>
                      <a:pt x="2256" y="825"/>
                    </a:lnTo>
                    <a:lnTo>
                      <a:pt x="2266" y="783"/>
                    </a:lnTo>
                    <a:lnTo>
                      <a:pt x="2272" y="740"/>
                    </a:lnTo>
                    <a:lnTo>
                      <a:pt x="2275" y="719"/>
                    </a:lnTo>
                    <a:lnTo>
                      <a:pt x="2276" y="699"/>
                    </a:lnTo>
                    <a:lnTo>
                      <a:pt x="2276" y="677"/>
                    </a:lnTo>
                    <a:lnTo>
                      <a:pt x="2276" y="657"/>
                    </a:lnTo>
                    <a:lnTo>
                      <a:pt x="2276" y="636"/>
                    </a:lnTo>
                    <a:lnTo>
                      <a:pt x="2275" y="618"/>
                    </a:lnTo>
                    <a:lnTo>
                      <a:pt x="2272" y="597"/>
                    </a:lnTo>
                    <a:lnTo>
                      <a:pt x="2269" y="578"/>
                    </a:lnTo>
                    <a:lnTo>
                      <a:pt x="2265" y="559"/>
                    </a:lnTo>
                    <a:lnTo>
                      <a:pt x="2260" y="542"/>
                    </a:lnTo>
                    <a:lnTo>
                      <a:pt x="2255" y="525"/>
                    </a:lnTo>
                    <a:lnTo>
                      <a:pt x="2247" y="507"/>
                    </a:lnTo>
                    <a:lnTo>
                      <a:pt x="2240" y="490"/>
                    </a:lnTo>
                    <a:lnTo>
                      <a:pt x="2233" y="474"/>
                    </a:lnTo>
                    <a:lnTo>
                      <a:pt x="2224" y="458"/>
                    </a:lnTo>
                    <a:lnTo>
                      <a:pt x="2214" y="443"/>
                    </a:lnTo>
                    <a:lnTo>
                      <a:pt x="2204" y="430"/>
                    </a:lnTo>
                    <a:lnTo>
                      <a:pt x="2194" y="417"/>
                    </a:lnTo>
                    <a:lnTo>
                      <a:pt x="2183" y="407"/>
                    </a:lnTo>
                    <a:lnTo>
                      <a:pt x="2173" y="395"/>
                    </a:lnTo>
                    <a:lnTo>
                      <a:pt x="2162" y="385"/>
                    </a:lnTo>
                    <a:lnTo>
                      <a:pt x="2150" y="376"/>
                    </a:lnTo>
                    <a:lnTo>
                      <a:pt x="2137" y="368"/>
                    </a:lnTo>
                    <a:lnTo>
                      <a:pt x="2124" y="360"/>
                    </a:lnTo>
                    <a:lnTo>
                      <a:pt x="2112" y="355"/>
                    </a:lnTo>
                    <a:lnTo>
                      <a:pt x="2098" y="347"/>
                    </a:lnTo>
                    <a:lnTo>
                      <a:pt x="2085" y="343"/>
                    </a:lnTo>
                    <a:lnTo>
                      <a:pt x="2070" y="337"/>
                    </a:lnTo>
                    <a:lnTo>
                      <a:pt x="2056" y="334"/>
                    </a:lnTo>
                    <a:lnTo>
                      <a:pt x="2041" y="331"/>
                    </a:lnTo>
                    <a:lnTo>
                      <a:pt x="2027" y="329"/>
                    </a:lnTo>
                    <a:lnTo>
                      <a:pt x="2012" y="327"/>
                    </a:lnTo>
                    <a:lnTo>
                      <a:pt x="1996" y="326"/>
                    </a:lnTo>
                    <a:lnTo>
                      <a:pt x="1982" y="326"/>
                    </a:lnTo>
                    <a:lnTo>
                      <a:pt x="1966" y="326"/>
                    </a:lnTo>
                    <a:lnTo>
                      <a:pt x="1950" y="327"/>
                    </a:lnTo>
                    <a:lnTo>
                      <a:pt x="1918" y="333"/>
                    </a:lnTo>
                    <a:lnTo>
                      <a:pt x="1884" y="340"/>
                    </a:lnTo>
                    <a:lnTo>
                      <a:pt x="1852" y="350"/>
                    </a:lnTo>
                    <a:lnTo>
                      <a:pt x="1819" y="363"/>
                    </a:lnTo>
                    <a:lnTo>
                      <a:pt x="1787" y="379"/>
                    </a:lnTo>
                    <a:lnTo>
                      <a:pt x="1754" y="3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9cf7"/>
                  </a:gs>
                  <a:gs pos="50000">
                    <a:srgbClr val="d4ecfc"/>
                  </a:gs>
                  <a:gs pos="100000">
                    <a:srgbClr val="179cf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8370720" y="5388120"/>
              <a:ext cx="1278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IP Network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82" name=""/>
          <p:cNvSpPr/>
          <p:nvPr/>
        </p:nvSpPr>
        <p:spPr>
          <a:xfrm flipH="1" flipV="1">
            <a:off x="8804160" y="480060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065360" y="3276720"/>
            <a:ext cx="2848320" cy="1729800"/>
            <a:chOff x="7065360" y="3276720"/>
            <a:chExt cx="2848320" cy="1729800"/>
          </a:xfrm>
        </p:grpSpPr>
        <p:sp>
          <p:nvSpPr>
            <p:cNvPr id="284" name=""/>
            <p:cNvSpPr/>
            <p:nvPr/>
          </p:nvSpPr>
          <p:spPr>
            <a:xfrm rot="891600">
              <a:off x="7128000" y="3605400"/>
              <a:ext cx="866880" cy="60264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090720" y="3509280"/>
              <a:ext cx="745920" cy="6580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521000">
              <a:off x="8113680" y="3958560"/>
              <a:ext cx="787320" cy="1199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110000">
              <a:off x="9148320" y="3929400"/>
              <a:ext cx="612360" cy="902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591800">
              <a:off x="7302600" y="3931200"/>
              <a:ext cx="631800" cy="9406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51400" y="3276720"/>
              <a:ext cx="2752920" cy="154440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179cf7"/>
                </a:gs>
                <a:gs pos="50000">
                  <a:srgbClr val="d4ecfc"/>
                </a:gs>
                <a:gs pos="100000">
                  <a:srgbClr val="179cf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7128000" y="4038480"/>
            <a:ext cx="660240" cy="34632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59" h="21600">
                <a:moveTo>
                  <a:pt x="0" y="0"/>
                </a:moveTo>
                <a:lnTo>
                  <a:pt x="41159" y="0"/>
                </a:lnTo>
                <a:lnTo>
                  <a:pt x="41159" y="21600"/>
                </a:lnTo>
                <a:lnTo>
                  <a:pt x="0" y="21600"/>
                </a:lnTo>
                <a:close/>
              </a:path>
              <a:path fill="lightenLess" w="41159" h="21600">
                <a:moveTo>
                  <a:pt x="0" y="0"/>
                </a:moveTo>
                <a:lnTo>
                  <a:pt x="41159" y="0"/>
                </a:lnTo>
                <a:lnTo>
                  <a:pt x="38770" y="2389"/>
                </a:lnTo>
                <a:lnTo>
                  <a:pt x="2389" y="2389"/>
                </a:lnTo>
                <a:close/>
              </a:path>
              <a:path fill="darken" w="41159" h="21600">
                <a:moveTo>
                  <a:pt x="41159" y="0"/>
                </a:moveTo>
                <a:lnTo>
                  <a:pt x="41159" y="21600"/>
                </a:lnTo>
                <a:lnTo>
                  <a:pt x="38770" y="19211"/>
                </a:lnTo>
                <a:lnTo>
                  <a:pt x="38770" y="2389"/>
                </a:lnTo>
                <a:close/>
              </a:path>
              <a:path fill="darkenLess" w="41159" h="21600">
                <a:moveTo>
                  <a:pt x="4115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70" y="19211"/>
                </a:lnTo>
                <a:close/>
              </a:path>
              <a:path fill="lighten" w="4115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1" name=""/>
          <p:cNvSpPr/>
          <p:nvPr/>
        </p:nvSpPr>
        <p:spPr>
          <a:xfrm>
            <a:off x="7813800" y="3657600"/>
            <a:ext cx="635040" cy="34596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39630" h="21600">
                <a:moveTo>
                  <a:pt x="0" y="0"/>
                </a:moveTo>
                <a:lnTo>
                  <a:pt x="39630" y="0"/>
                </a:lnTo>
                <a:lnTo>
                  <a:pt x="39630" y="21600"/>
                </a:lnTo>
                <a:lnTo>
                  <a:pt x="0" y="21600"/>
                </a:lnTo>
                <a:close/>
              </a:path>
              <a:path fill="lightenLess" w="39630" h="21600">
                <a:moveTo>
                  <a:pt x="0" y="0"/>
                </a:moveTo>
                <a:lnTo>
                  <a:pt x="39630" y="0"/>
                </a:lnTo>
                <a:lnTo>
                  <a:pt x="37241" y="2389"/>
                </a:lnTo>
                <a:lnTo>
                  <a:pt x="2389" y="2389"/>
                </a:lnTo>
                <a:close/>
              </a:path>
              <a:path fill="darken" w="39630" h="21600">
                <a:moveTo>
                  <a:pt x="39630" y="0"/>
                </a:moveTo>
                <a:lnTo>
                  <a:pt x="39630" y="21600"/>
                </a:lnTo>
                <a:lnTo>
                  <a:pt x="37241" y="19211"/>
                </a:lnTo>
                <a:lnTo>
                  <a:pt x="37241" y="2389"/>
                </a:lnTo>
                <a:close/>
              </a:path>
              <a:path fill="darkenLess" w="39630" h="21600">
                <a:moveTo>
                  <a:pt x="39630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41" y="19211"/>
                </a:lnTo>
                <a:close/>
              </a:path>
              <a:path fill="lighten" w="39630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Director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" name=""/>
          <p:cNvSpPr/>
          <p:nvPr/>
        </p:nvSpPr>
        <p:spPr>
          <a:xfrm>
            <a:off x="9109080" y="3657600"/>
            <a:ext cx="660240" cy="34596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41202" h="21600">
                <a:moveTo>
                  <a:pt x="0" y="0"/>
                </a:moveTo>
                <a:lnTo>
                  <a:pt x="41202" y="0"/>
                </a:lnTo>
                <a:lnTo>
                  <a:pt x="41202" y="21600"/>
                </a:lnTo>
                <a:lnTo>
                  <a:pt x="0" y="21600"/>
                </a:lnTo>
                <a:close/>
              </a:path>
              <a:path fill="lightenLess" w="41202" h="21600">
                <a:moveTo>
                  <a:pt x="0" y="0"/>
                </a:moveTo>
                <a:lnTo>
                  <a:pt x="41202" y="0"/>
                </a:lnTo>
                <a:lnTo>
                  <a:pt x="38813" y="2389"/>
                </a:lnTo>
                <a:lnTo>
                  <a:pt x="2389" y="2389"/>
                </a:lnTo>
                <a:close/>
              </a:path>
              <a:path fill="darken" w="41202" h="21600">
                <a:moveTo>
                  <a:pt x="41202" y="0"/>
                </a:moveTo>
                <a:lnTo>
                  <a:pt x="41202" y="21600"/>
                </a:lnTo>
                <a:lnTo>
                  <a:pt x="38813" y="19211"/>
                </a:lnTo>
                <a:lnTo>
                  <a:pt x="38813" y="2389"/>
                </a:lnTo>
                <a:close/>
              </a:path>
              <a:path fill="darkenLess" w="41202" h="21600">
                <a:moveTo>
                  <a:pt x="41202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813" y="19211"/>
                </a:lnTo>
                <a:close/>
              </a:path>
              <a:path fill="lighten" w="41202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M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" name=""/>
          <p:cNvSpPr/>
          <p:nvPr/>
        </p:nvSpPr>
        <p:spPr>
          <a:xfrm>
            <a:off x="7889760" y="4267080"/>
            <a:ext cx="660600" cy="346320"/>
          </a:xfrm>
          <a:custGeom>
            <a:avLst/>
            <a:gdLst>
              <a:gd name="textAreaLeft" fmla="*/ 38160 w 660600"/>
              <a:gd name="textAreaRight" fmla="*/ 622440 w 66060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81" h="21600">
                <a:moveTo>
                  <a:pt x="0" y="0"/>
                </a:moveTo>
                <a:lnTo>
                  <a:pt x="41181" y="0"/>
                </a:lnTo>
                <a:lnTo>
                  <a:pt x="41181" y="21600"/>
                </a:lnTo>
                <a:lnTo>
                  <a:pt x="0" y="21600"/>
                </a:lnTo>
                <a:close/>
              </a:path>
              <a:path fill="lightenLess" w="41181" h="21600">
                <a:moveTo>
                  <a:pt x="0" y="0"/>
                </a:moveTo>
                <a:lnTo>
                  <a:pt x="41181" y="0"/>
                </a:lnTo>
                <a:lnTo>
                  <a:pt x="38792" y="2389"/>
                </a:lnTo>
                <a:lnTo>
                  <a:pt x="2389" y="2389"/>
                </a:lnTo>
                <a:close/>
              </a:path>
              <a:path fill="darken" w="41181" h="21600">
                <a:moveTo>
                  <a:pt x="41181" y="0"/>
                </a:moveTo>
                <a:lnTo>
                  <a:pt x="41181" y="21600"/>
                </a:lnTo>
                <a:lnTo>
                  <a:pt x="38792" y="19211"/>
                </a:lnTo>
                <a:lnTo>
                  <a:pt x="38792" y="2389"/>
                </a:lnTo>
                <a:close/>
              </a:path>
              <a:path fill="darkenLess" w="41181" h="21600">
                <a:moveTo>
                  <a:pt x="41181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92" y="19211"/>
                </a:lnTo>
                <a:close/>
              </a:path>
              <a:path fill="lighten" w="41181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AWG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" name=""/>
          <p:cNvSpPr/>
          <p:nvPr/>
        </p:nvSpPr>
        <p:spPr>
          <a:xfrm>
            <a:off x="8728200" y="4267080"/>
            <a:ext cx="635040" cy="34632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39589" h="21600">
                <a:moveTo>
                  <a:pt x="0" y="0"/>
                </a:moveTo>
                <a:lnTo>
                  <a:pt x="39589" y="0"/>
                </a:lnTo>
                <a:lnTo>
                  <a:pt x="39589" y="21600"/>
                </a:lnTo>
                <a:lnTo>
                  <a:pt x="0" y="21600"/>
                </a:lnTo>
                <a:close/>
              </a:path>
              <a:path fill="lightenLess" w="39589" h="21600">
                <a:moveTo>
                  <a:pt x="0" y="0"/>
                </a:moveTo>
                <a:lnTo>
                  <a:pt x="39589" y="0"/>
                </a:lnTo>
                <a:lnTo>
                  <a:pt x="37200" y="2389"/>
                </a:lnTo>
                <a:lnTo>
                  <a:pt x="2389" y="2389"/>
                </a:lnTo>
                <a:close/>
              </a:path>
              <a:path fill="darken" w="39589" h="21600">
                <a:moveTo>
                  <a:pt x="39589" y="0"/>
                </a:moveTo>
                <a:lnTo>
                  <a:pt x="39589" y="21600"/>
                </a:lnTo>
                <a:lnTo>
                  <a:pt x="37200" y="19211"/>
                </a:lnTo>
                <a:lnTo>
                  <a:pt x="37200" y="2389"/>
                </a:lnTo>
                <a:close/>
              </a:path>
              <a:path fill="darkenLess" w="39589" h="21600">
                <a:moveTo>
                  <a:pt x="3958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00" y="19211"/>
                </a:lnTo>
                <a:close/>
              </a:path>
              <a:path fill="lighten" w="3958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" name=""/>
          <p:cNvSpPr/>
          <p:nvPr/>
        </p:nvSpPr>
        <p:spPr>
          <a:xfrm>
            <a:off x="8423280" y="39625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" name=""/>
          <p:cNvSpPr/>
          <p:nvPr/>
        </p:nvSpPr>
        <p:spPr>
          <a:xfrm>
            <a:off x="842328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" name=""/>
          <p:cNvSpPr/>
          <p:nvPr/>
        </p:nvSpPr>
        <p:spPr>
          <a:xfrm>
            <a:off x="7737480" y="41911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8194680" y="3962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" name=""/>
          <p:cNvSpPr/>
          <p:nvPr/>
        </p:nvSpPr>
        <p:spPr>
          <a:xfrm>
            <a:off x="849960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1058760" cy="766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flipV="1" rot="4350000">
            <a:off x="-79560" y="3432240"/>
            <a:ext cx="990360" cy="22104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8894880" y="2249640"/>
            <a:ext cx="554040" cy="636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876880" y="2859120"/>
            <a:ext cx="531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M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889600" y="1600200"/>
            <a:ext cx="1314360" cy="628200"/>
            <a:chOff x="5889600" y="1600200"/>
            <a:chExt cx="1314360" cy="628200"/>
          </a:xfrm>
        </p:grpSpPr>
        <p:grpSp>
          <p:nvGrpSpPr>
            <p:cNvPr id="305" name=""/>
            <p:cNvGrpSpPr/>
            <p:nvPr/>
          </p:nvGrpSpPr>
          <p:grpSpPr>
            <a:xfrm>
              <a:off x="5889600" y="1600200"/>
              <a:ext cx="1314360" cy="628200"/>
              <a:chOff x="5889600" y="1600200"/>
              <a:chExt cx="1314360" cy="628200"/>
            </a:xfrm>
          </p:grpSpPr>
          <p:sp>
            <p:nvSpPr>
              <p:cNvPr id="306" name=""/>
              <p:cNvSpPr/>
              <p:nvPr/>
            </p:nvSpPr>
            <p:spPr>
              <a:xfrm>
                <a:off x="7137000" y="1877040"/>
                <a:ext cx="66600" cy="7416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93920" y="1887120"/>
                <a:ext cx="66960" cy="7380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89600" y="166428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9c73"/>
                  </a:gs>
                  <a:gs pos="50000">
                    <a:srgbClr val="c0e6dc"/>
                  </a:gs>
                  <a:gs pos="100000">
                    <a:srgbClr val="009c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89600" y="160020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50000">
                    <a:srgbClr val="a1ebd8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909760" y="1730160"/>
              <a:ext cx="1290240" cy="312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PSTN/ISD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4152240" y="571032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Core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N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2" name=""/>
          <p:cNvSpPr/>
          <p:nvPr/>
        </p:nvSpPr>
        <p:spPr>
          <a:xfrm>
            <a:off x="6712920" y="2360520"/>
            <a:ext cx="24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voice and data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service cre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" name=""/>
          <p:cNvSpPr/>
          <p:nvPr/>
        </p:nvSpPr>
        <p:spPr>
          <a:xfrm>
            <a:off x="2042280" y="508644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652840" y="1133640"/>
            <a:ext cx="399600" cy="667440"/>
            <a:chOff x="2652840" y="1133640"/>
            <a:chExt cx="399600" cy="667440"/>
          </a:xfrm>
        </p:grpSpPr>
        <p:sp>
          <p:nvSpPr>
            <p:cNvPr id="315" name=""/>
            <p:cNvSpPr/>
            <p:nvPr/>
          </p:nvSpPr>
          <p:spPr>
            <a:xfrm>
              <a:off x="2656080" y="177444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52840" y="117108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52840" y="113364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94840" y="17236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94840" y="113364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66240" y="122580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83800" y="122580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83800" y="137520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241720" y="687240"/>
            <a:ext cx="455400" cy="1141560"/>
            <a:chOff x="2241720" y="687240"/>
            <a:chExt cx="455400" cy="1141560"/>
          </a:xfrm>
        </p:grpSpPr>
        <p:sp>
          <p:nvSpPr>
            <p:cNvPr id="324" name=""/>
            <p:cNvSpPr/>
            <p:nvPr/>
          </p:nvSpPr>
          <p:spPr>
            <a:xfrm>
              <a:off x="2282400" y="146628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7080" y="1475640"/>
              <a:ext cx="40392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390400" y="14756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86800" y="179028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41720" y="7772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95080" y="777240"/>
              <a:ext cx="15192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43880" y="8128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82400" y="81288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83200" y="7106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36400" y="6872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96160" y="8179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21720" y="8179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091240" y="1752480"/>
            <a:ext cx="98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WCDM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Rotis Sans Serif for Nokia"/>
              </a:rPr>
              <a:t>2Ghz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2742840" y="31237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" name=""/>
          <p:cNvSpPr/>
          <p:nvPr/>
        </p:nvSpPr>
        <p:spPr>
          <a:xfrm>
            <a:off x="-70560" y="5635800"/>
            <a:ext cx="37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verage for all radio layer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optimised site co-usa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roll out pla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" name=""/>
          <p:cNvSpPr/>
          <p:nvPr/>
        </p:nvSpPr>
        <p:spPr>
          <a:xfrm flipV="1" rot="4350000">
            <a:off x="-3960" y="1526760"/>
            <a:ext cx="990720" cy="22068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39625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21337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609480"/>
            <a:ext cx="182880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" name=""/>
          <p:cNvSpPr/>
          <p:nvPr/>
        </p:nvSpPr>
        <p:spPr>
          <a:xfrm>
            <a:off x="335880" y="3984480"/>
            <a:ext cx="1660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800 and 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" name=""/>
          <p:cNvSpPr/>
          <p:nvPr/>
        </p:nvSpPr>
        <p:spPr>
          <a:xfrm>
            <a:off x="309960" y="2155680"/>
            <a:ext cx="1864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1800 and 1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" name=""/>
          <p:cNvSpPr/>
          <p:nvPr/>
        </p:nvSpPr>
        <p:spPr>
          <a:xfrm>
            <a:off x="511920" y="609480"/>
            <a:ext cx="15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2 GHz licen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" name=""/>
          <p:cNvSpPr/>
          <p:nvPr/>
        </p:nvSpPr>
        <p:spPr>
          <a:xfrm>
            <a:off x="3036960" y="149220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RAN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B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" name=""/>
          <p:cNvSpPr/>
          <p:nvPr/>
        </p:nvSpPr>
        <p:spPr>
          <a:xfrm>
            <a:off x="2768040" y="4479840"/>
            <a:ext cx="3031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Nokia All 3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working and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mmon RR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volution to All 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" name=""/>
          <p:cNvSpPr/>
          <p:nvPr/>
        </p:nvSpPr>
        <p:spPr>
          <a:xfrm>
            <a:off x="6967800" y="1233360"/>
            <a:ext cx="317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All 3G solution benefi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Unique revenue generatio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west cost of ownersh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EDGE Featur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72840" y="885600"/>
            <a:ext cx="8070840" cy="53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104472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To existing GSM/ TDMA/ AMPS/ CDMA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00, 900, 1800 and 1900 MHz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dulation &amp; Coding Schemes MCS-1…9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ink Adaptation (LA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cremental Redundancy (IR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LC window size incr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AMR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Quarter Rate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Dynamic Abi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Smart Radio Concept (SRC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telligent Downlink Divers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" name=""/>
          <p:cNvSpPr/>
          <p:nvPr/>
        </p:nvSpPr>
        <p:spPr>
          <a:xfrm>
            <a:off x="8317080" y="476100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" name=""/>
          <p:cNvSpPr/>
          <p:nvPr/>
        </p:nvSpPr>
        <p:spPr>
          <a:xfrm>
            <a:off x="8317080" y="5030640"/>
            <a:ext cx="1584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" name=""/>
          <p:cNvSpPr/>
          <p:nvPr/>
        </p:nvSpPr>
        <p:spPr>
          <a:xfrm>
            <a:off x="8317080" y="504684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531648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" name=""/>
          <p:cNvSpPr/>
          <p:nvPr/>
        </p:nvSpPr>
        <p:spPr>
          <a:xfrm>
            <a:off x="8317080" y="533232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5602320"/>
            <a:ext cx="158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" name=""/>
          <p:cNvSpPr/>
          <p:nvPr/>
        </p:nvSpPr>
        <p:spPr>
          <a:xfrm>
            <a:off x="8317080" y="561960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" name=""/>
          <p:cNvSpPr/>
          <p:nvPr/>
        </p:nvSpPr>
        <p:spPr>
          <a:xfrm>
            <a:off x="8317080" y="588960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" name=""/>
          <p:cNvSpPr/>
          <p:nvPr/>
        </p:nvSpPr>
        <p:spPr>
          <a:xfrm>
            <a:off x="8317080" y="590544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25080" y="4751280"/>
            <a:ext cx="9178560" cy="1508040"/>
            <a:chOff x="325080" y="4751280"/>
            <a:chExt cx="9178560" cy="1508040"/>
          </a:xfrm>
        </p:grpSpPr>
        <p:sp>
          <p:nvSpPr>
            <p:cNvPr id="367" name=""/>
            <p:cNvSpPr/>
            <p:nvPr/>
          </p:nvSpPr>
          <p:spPr>
            <a:xfrm>
              <a:off x="376200" y="4751280"/>
              <a:ext cx="9091800" cy="148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68080" y="4804560"/>
              <a:ext cx="6606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Rotis Sans Serif for Nokia"/>
                </a:rPr>
                <a:t>EDG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53720" y="4804560"/>
              <a:ext cx="5644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SM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6520" y="47768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6520" y="477684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4280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4280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4280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64040" y="47768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64040" y="477684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1152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1152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1152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32760" y="47768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32760" y="477684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480" y="479304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348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4280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4280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1152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1152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48276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3800" y="5097600"/>
              <a:ext cx="14698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Modulatio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51800" y="5097600"/>
              <a:ext cx="24210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8-PSK, 3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98920" y="5097600"/>
              <a:ext cx="24559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MSK, 1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3480" y="506988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3480" y="506988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348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6520" y="506988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6520" y="506988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280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4280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4280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64040" y="506988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64040" y="506988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1152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1152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1152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32760" y="506988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32760" y="506988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48276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48276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3480" y="508608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348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4280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4280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1152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1152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48276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7320" y="5390640"/>
              <a:ext cx="15278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ymbol rat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2848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972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3480" y="53629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3480" y="536292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348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6520" y="53629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6520" y="536292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4280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4280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280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64040" y="53629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64040" y="536292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1152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1152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1152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32760" y="53629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32760" y="536292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48276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48276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3480" y="537912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348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4280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14280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1152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1152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48276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76200" y="5685120"/>
              <a:ext cx="17960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Payload/burs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6124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346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3320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114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3480" y="5655600"/>
              <a:ext cx="230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3480" y="565560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48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6520" y="5655600"/>
              <a:ext cx="272592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6520" y="565560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4280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4280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4280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64040" y="5655600"/>
              <a:ext cx="31474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64040" y="565560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1152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1152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1152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32760" y="5655600"/>
              <a:ext cx="31496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32760" y="565560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48276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48276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3480" y="567360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348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4280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4280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31152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1152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48276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5080" y="5974920"/>
              <a:ext cx="253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ross rate/time slo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34600" y="597492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69.2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05840" y="597816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2.8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3480" y="59504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3480" y="595044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348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6520" y="59504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6520" y="595044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4280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4280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4280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64040" y="59504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64040" y="595044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1152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1152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152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32760" y="59504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32760" y="595044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48276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48276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3480" y="596664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348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6520" y="62431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6520" y="6243120"/>
              <a:ext cx="2725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4280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4280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280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4280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4280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64040" y="62431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64040" y="6243120"/>
              <a:ext cx="3147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1152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1152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1152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1152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1152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32760" y="62431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32760" y="6243120"/>
              <a:ext cx="3149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48276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248520" y="2133720"/>
            <a:ext cx="2133360" cy="1904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0" name=""/>
          <p:cNvSpPr/>
          <p:nvPr/>
        </p:nvSpPr>
        <p:spPr>
          <a:xfrm>
            <a:off x="5867280" y="31240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315200" y="175212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2" name=""/>
          <p:cNvSpPr/>
          <p:nvPr/>
        </p:nvSpPr>
        <p:spPr>
          <a:xfrm>
            <a:off x="7396200" y="17971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3" name=""/>
          <p:cNvSpPr/>
          <p:nvPr/>
        </p:nvSpPr>
        <p:spPr>
          <a:xfrm>
            <a:off x="838224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4" name=""/>
          <p:cNvSpPr/>
          <p:nvPr/>
        </p:nvSpPr>
        <p:spPr>
          <a:xfrm>
            <a:off x="7412040" y="40435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5" name=""/>
          <p:cNvSpPr/>
          <p:nvPr/>
        </p:nvSpPr>
        <p:spPr>
          <a:xfrm>
            <a:off x="565956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6" name=""/>
          <p:cNvSpPr/>
          <p:nvPr/>
        </p:nvSpPr>
        <p:spPr>
          <a:xfrm>
            <a:off x="617220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7" name=""/>
          <p:cNvSpPr/>
          <p:nvPr/>
        </p:nvSpPr>
        <p:spPr>
          <a:xfrm>
            <a:off x="830592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8" name=""/>
          <p:cNvSpPr/>
          <p:nvPr/>
        </p:nvSpPr>
        <p:spPr>
          <a:xfrm>
            <a:off x="7238880" y="396252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205740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0" name=""/>
          <p:cNvSpPr/>
          <p:nvPr/>
        </p:nvSpPr>
        <p:spPr>
          <a:xfrm>
            <a:off x="2952000" y="1081080"/>
            <a:ext cx="1014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Rotis Sans Serif for Nokia"/>
              </a:rPr>
              <a:t>8-PS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1" name=""/>
          <p:cNvSpPr/>
          <p:nvPr/>
        </p:nvSpPr>
        <p:spPr>
          <a:xfrm>
            <a:off x="6894360" y="11430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GMSK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28600" y="1576440"/>
          <a:ext cx="5334120" cy="32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76440"/>
                    <a:ext cx="533412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8276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Modulation &amp; Coding Schem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71240" y="9144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Nine MCS's with both GMSK and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Higher data rates per time slot with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MSK used for lower data 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Max. 59,2 kbps per TSL - EGPRS max. with 8 TSL is 473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447920" y="2514600"/>
          <a:ext cx="688788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514600"/>
                    <a:ext cx="688788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Link Adaptation and MCS'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92199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CS scheme is dynamically selected to maximise throughput, depending on the radio link conditions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Different LA algorithms can be envisaged based on different link quality indicators (e.g. BLER, C/I, BEP)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0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- Bit Error Probability (BEP) is a new MS quality measurement introduced in EDGE for more accurate DL quality report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04920" y="2884320"/>
          <a:ext cx="6248160" cy="389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884320"/>
                    <a:ext cx="6248160" cy="38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6629400" y="4191120"/>
            <a:ext cx="295272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Throughput experienced by end user per TSL for the different MCS. TU3, ideal FH and LA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No IR included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AMR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9913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1360" indent="-2613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Enhanced Adaptive MultiRate (EAMR)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includes set of full rate (AFR), half rate (AHR)  and quarter rate (AQR)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Developed to increase voice quality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but it is also coverage and capacity enhancement by improving the connection’s robustness against interferenc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de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speech qual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Narrow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coverage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hannel mo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ncreas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4 times more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90000"/>
              </a:lnSpc>
              <a:spcAft>
                <a:spcPts val="601"/>
              </a:spcAft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Increases the number of users per carrier from 8 up to 32 with Quarter Rate (E-AQR) channel mod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Better than AMR speech quality with high BW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09:31:41Z</dcterms:created>
  <dc:creator>Valaenzuela</dc:creator>
  <dc:description>Nokia Standard Presentation Template - A4
v. 4 2000/01/05 Eric Beasley
Fixed RGB values for Nokia logo
NO Security Label</dc:description>
  <cp:keywords/>
  <dc:language>en-US</dc:language>
  <cp:lastModifiedBy>Valenzuela Patricio</cp:lastModifiedBy>
  <cp:lastPrinted>2001-05-07T09:38:55Z</cp:lastPrinted>
  <dcterms:modified xsi:type="dcterms:W3CDTF">2005-11-07T01:19:44Z</dcterms:modified>
  <cp:revision>207</cp:revision>
  <dc:subject/>
  <dc:title>No Slide Title</dc:title>
</cp:coreProperties>
</file>