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0D3DC24-A630-41D0-A3E8-C552F9682A0B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5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1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3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7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59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8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0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4" name="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7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8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4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5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9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2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6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98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9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1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8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3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6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79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2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99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5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8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0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3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8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1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6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1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6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7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0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7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8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29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8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2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1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4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5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4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5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6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5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4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7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Valaenzuela</dc:creator>
  <dc:description>Nokia Standard Presentation Template - A4
v. 4 2000/01/05 Eric Beasley
Fixed RGB values for Nokia logo
NO Security Label</dc:description>
  <cp:keywords/>
  <dc:language>en-US</dc:language>
  <cp:lastModifiedBy>Valenzuela Patricio</cp:lastModifiedBy>
  <cp:lastPrinted>2001-05-07T09:38:55Z</cp:lastPrinted>
  <dcterms:modified xsi:type="dcterms:W3CDTF">2005-11-07T01:19:44Z</dcterms:modified>
  <cp:revision>207</cp:revision>
  <dc:subject/>
  <dc:title>No Slide Title</dc:title>
</cp:coreProperties>
</file>