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F4105-832E-4920-BBD1-062A98B1EE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E5FAB-55DF-4622-8689-2F83F41A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FA1E-774E-4211-8768-EF1A6AB6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A4BF-4AEA-4977-9FF4-C97262AA5C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FD55E-A7C1-4D8C-8565-E10A269C3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26285-642A-40A8-9350-CFC7DB1A8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79259-6C74-42E8-BF3C-3693433A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7AC4-E889-4096-8E9C-C3E96B60D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C9EEE-01B4-4CEC-BB93-8EE2E1B45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8FB8A-A207-4DA2-AE05-E4A407C7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65E21-5323-48A6-BD8F-7D1DD61F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15CC2-32AD-467F-BDE9-42D5FEB0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1DF6-E9FB-4B91-9EF7-9F699F42C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a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a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af"/>
                </a:solidFill>
                <a:latin typeface="Arial"/>
              </a:rPr>
              <a:t>GPRS: A new Dimension to Wireless Communication</a:t>
            </a:r>
            <a:endParaRPr b="0" lang="en-US" sz="48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 continued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GSN – Gateway GPRS support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between GPRS backbone &amp; External packet data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s GPRS packets into appropriate Packet Data Protocol &amp; vice-ve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may also perform 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-2-Many relationship may exist between SGSN &amp; GG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Interfac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b – Connects BSC with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 – SGSN – SGSN/GGSN (in the same net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 – SGSN – SGSN/GGSN (in different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f – For equipment querying at registering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 – Connects PLMN with external Packet Data Networks (PD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 – To exchange User profile between HLR &amp; SG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 – To exchange Database between SGSN &amp; M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d – Interface between SMS &amp; G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bout the Backbones…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SNs connected through IP based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ackets are encapsulated &amp; tunneled using GPRS Tunneling Protocol (G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TP may used TCP or IP based on application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 GPRS network phase consist of one IP 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Backb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 PLMN connect within the same network &amp; are private IP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 PLMN connects across different networks. Roaming agreement is necess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MN – Inter PLMN interconnect are called Border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af"/>
                </a:solidFill>
                <a:latin typeface="Arial"/>
              </a:rPr>
              <a:t>GPRS Logical Architecture </a:t>
            </a: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– put together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70120" y="534960"/>
            <a:ext cx="669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188040" y="5478480"/>
            <a:ext cx="1731600" cy="1371240"/>
            <a:chOff x="6188040" y="5478480"/>
            <a:chExt cx="1731600" cy="1371240"/>
          </a:xfrm>
        </p:grpSpPr>
        <p:sp>
          <p:nvSpPr>
            <p:cNvPr id="113" name=""/>
            <p:cNvSpPr/>
            <p:nvPr/>
          </p:nvSpPr>
          <p:spPr>
            <a:xfrm>
              <a:off x="6730200" y="5519880"/>
              <a:ext cx="41544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80480" y="5478480"/>
              <a:ext cx="3362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9720" y="5858280"/>
              <a:ext cx="52992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377040" y="6107760"/>
              <a:ext cx="60912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3120" y="6190920"/>
              <a:ext cx="45432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224400" y="6234480"/>
              <a:ext cx="3391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88040" y="5941080"/>
              <a:ext cx="3362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340680" y="5604840"/>
              <a:ext cx="53172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806160" y="6275880"/>
              <a:ext cx="53172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65320" y="5648040"/>
              <a:ext cx="41652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50120" y="5478480"/>
              <a:ext cx="37728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322680" y="5585760"/>
              <a:ext cx="1504800" cy="1090800"/>
            </a:xfrm>
            <a:custGeom>
              <a:avLst/>
              <a:gdLst/>
              <a:ahLst/>
              <a:rect l="l" t="t" r="r" b="b"/>
              <a:pathLst>
                <a:path w="993" h="629">
                  <a:moveTo>
                    <a:pt x="306" y="63"/>
                  </a:moveTo>
                  <a:lnTo>
                    <a:pt x="348" y="18"/>
                  </a:lnTo>
                  <a:lnTo>
                    <a:pt x="533" y="21"/>
                  </a:lnTo>
                  <a:lnTo>
                    <a:pt x="664" y="0"/>
                  </a:lnTo>
                  <a:lnTo>
                    <a:pt x="829" y="75"/>
                  </a:lnTo>
                  <a:lnTo>
                    <a:pt x="912" y="54"/>
                  </a:lnTo>
                  <a:lnTo>
                    <a:pt x="957" y="63"/>
                  </a:lnTo>
                  <a:lnTo>
                    <a:pt x="966" y="249"/>
                  </a:lnTo>
                  <a:lnTo>
                    <a:pt x="992" y="279"/>
                  </a:lnTo>
                  <a:lnTo>
                    <a:pt x="915" y="424"/>
                  </a:lnTo>
                  <a:lnTo>
                    <a:pt x="832" y="325"/>
                  </a:lnTo>
                  <a:lnTo>
                    <a:pt x="810" y="375"/>
                  </a:lnTo>
                  <a:lnTo>
                    <a:pt x="692" y="574"/>
                  </a:lnTo>
                  <a:lnTo>
                    <a:pt x="300" y="628"/>
                  </a:lnTo>
                  <a:lnTo>
                    <a:pt x="96" y="589"/>
                  </a:lnTo>
                  <a:lnTo>
                    <a:pt x="32" y="466"/>
                  </a:lnTo>
                  <a:lnTo>
                    <a:pt x="32" y="339"/>
                  </a:lnTo>
                  <a:lnTo>
                    <a:pt x="0" y="234"/>
                  </a:lnTo>
                  <a:lnTo>
                    <a:pt x="306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843600" y="2855880"/>
            <a:ext cx="1585800" cy="1371240"/>
            <a:chOff x="6843600" y="2855880"/>
            <a:chExt cx="1585800" cy="1371240"/>
          </a:xfrm>
        </p:grpSpPr>
        <p:sp>
          <p:nvSpPr>
            <p:cNvPr id="126" name=""/>
            <p:cNvSpPr/>
            <p:nvPr/>
          </p:nvSpPr>
          <p:spPr>
            <a:xfrm>
              <a:off x="7340040" y="28972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60080" y="28558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943040" y="32356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017480" y="34851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802280" y="35683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6720" y="36115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43600" y="33184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82560" y="29822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09880" y="36532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14320" y="30254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8480" y="28558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966000" y="29631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5678640" y="1641600"/>
            <a:ext cx="787320" cy="55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87920" y="5872320"/>
            <a:ext cx="1079280" cy="556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24573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132680" y="2041560"/>
            <a:ext cx="789120" cy="55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41760" y="1752480"/>
            <a:ext cx="1225440" cy="736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59200" y="3181320"/>
            <a:ext cx="933480" cy="557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33520" y="26161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59400" y="4405320"/>
            <a:ext cx="933480" cy="555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31080" y="2739960"/>
            <a:ext cx="689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66880" y="1836720"/>
            <a:ext cx="1265760" cy="6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 algn="ct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MSC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SC/V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6120" y="3308400"/>
            <a:ext cx="863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19520" y="5999040"/>
            <a:ext cx="11055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TM-S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53240" y="1685880"/>
            <a:ext cx="582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I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47840" y="2584440"/>
            <a:ext cx="67752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L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156440" y="2168640"/>
            <a:ext cx="7034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AU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474520" y="4530600"/>
            <a:ext cx="8910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351240" y="4070520"/>
            <a:ext cx="1804680" cy="1459800"/>
            <a:chOff x="3351240" y="4070520"/>
            <a:chExt cx="1804680" cy="1459800"/>
          </a:xfrm>
        </p:grpSpPr>
        <p:sp>
          <p:nvSpPr>
            <p:cNvPr id="155" name=""/>
            <p:cNvSpPr/>
            <p:nvPr/>
          </p:nvSpPr>
          <p:spPr>
            <a:xfrm>
              <a:off x="3917520" y="4113720"/>
              <a:ext cx="429840" cy="47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79320" y="4070520"/>
              <a:ext cx="352800" cy="388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601880" y="4474080"/>
              <a:ext cx="554040" cy="610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52480" y="4739760"/>
              <a:ext cx="633960" cy="70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441320" y="4827960"/>
              <a:ext cx="470880" cy="52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390480" y="4874760"/>
              <a:ext cx="35100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51240" y="4562640"/>
              <a:ext cx="349560" cy="386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13240" y="4203720"/>
              <a:ext cx="55260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96360" y="4918320"/>
              <a:ext cx="554040" cy="6120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83600" y="4250520"/>
              <a:ext cx="432720" cy="474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562280" y="4070520"/>
              <a:ext cx="390600" cy="4316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93440" y="4182840"/>
              <a:ext cx="1565280" cy="1163520"/>
            </a:xfrm>
            <a:custGeom>
              <a:avLst/>
              <a:gdLst/>
              <a:ahLst/>
              <a:rect l="l" t="t" r="r" b="b"/>
              <a:pathLst>
                <a:path w="1034" h="671">
                  <a:moveTo>
                    <a:pt x="319" y="67"/>
                  </a:moveTo>
                  <a:lnTo>
                    <a:pt x="362" y="19"/>
                  </a:lnTo>
                  <a:lnTo>
                    <a:pt x="555" y="22"/>
                  </a:lnTo>
                  <a:lnTo>
                    <a:pt x="691" y="0"/>
                  </a:lnTo>
                  <a:lnTo>
                    <a:pt x="864" y="80"/>
                  </a:lnTo>
                  <a:lnTo>
                    <a:pt x="950" y="58"/>
                  </a:lnTo>
                  <a:lnTo>
                    <a:pt x="996" y="67"/>
                  </a:lnTo>
                  <a:lnTo>
                    <a:pt x="1006" y="266"/>
                  </a:lnTo>
                  <a:lnTo>
                    <a:pt x="1033" y="298"/>
                  </a:lnTo>
                  <a:lnTo>
                    <a:pt x="953" y="452"/>
                  </a:lnTo>
                  <a:lnTo>
                    <a:pt x="867" y="346"/>
                  </a:lnTo>
                  <a:lnTo>
                    <a:pt x="843" y="401"/>
                  </a:lnTo>
                  <a:lnTo>
                    <a:pt x="721" y="612"/>
                  </a:lnTo>
                  <a:lnTo>
                    <a:pt x="312" y="670"/>
                  </a:lnTo>
                  <a:lnTo>
                    <a:pt x="100" y="628"/>
                  </a:lnTo>
                  <a:lnTo>
                    <a:pt x="33" y="497"/>
                  </a:lnTo>
                  <a:lnTo>
                    <a:pt x="33" y="362"/>
                  </a:lnTo>
                  <a:lnTo>
                    <a:pt x="0" y="250"/>
                  </a:lnTo>
                  <a:lnTo>
                    <a:pt x="319" y="67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580920" y="4495680"/>
            <a:ext cx="163008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-Backbo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977160" y="31590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11160" y="5781600"/>
            <a:ext cx="161640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.25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1995480"/>
            <a:ext cx="657360" cy="449280"/>
          </a:xfrm>
          <a:custGeom>
            <a:avLst/>
            <a:gdLst/>
            <a:ahLst/>
            <a:rect l="l" t="t" r="r" b="b"/>
            <a:pathLst>
              <a:path w="434" h="258">
                <a:moveTo>
                  <a:pt x="0" y="257"/>
                </a:moveTo>
                <a:lnTo>
                  <a:pt x="273" y="117"/>
                </a:lnTo>
                <a:lnTo>
                  <a:pt x="233" y="115"/>
                </a:lnTo>
                <a:lnTo>
                  <a:pt x="433" y="0"/>
                </a:lnTo>
                <a:lnTo>
                  <a:pt x="173" y="134"/>
                </a:lnTo>
                <a:lnTo>
                  <a:pt x="206" y="134"/>
                </a:lnTo>
                <a:lnTo>
                  <a:pt x="0" y="257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581120" y="2490840"/>
          <a:ext cx="3621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1120" y="2490840"/>
                    <a:ext cx="3621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770040" y="2295360"/>
          <a:ext cx="66348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0040" y="2295360"/>
                    <a:ext cx="66348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97040" y="2930400"/>
            <a:ext cx="1022040" cy="16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362480" y="2523960"/>
            <a:ext cx="0" cy="6508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62480" y="374652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90840" y="55389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62400" y="4745160"/>
            <a:ext cx="2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399360" y="3828600"/>
            <a:ext cx="507960" cy="833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08640" y="1912680"/>
            <a:ext cx="1163520" cy="1261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581360" y="2746440"/>
            <a:ext cx="1162080" cy="4284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543720" y="2360520"/>
            <a:ext cx="582480" cy="3859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21760" y="2612880"/>
            <a:ext cx="4413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61600" y="1890720"/>
            <a:ext cx="395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132520" y="2527200"/>
            <a:ext cx="406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27200" y="4532400"/>
            <a:ext cx="1875600" cy="526320"/>
            <a:chOff x="727200" y="4532400"/>
            <a:chExt cx="1875600" cy="526320"/>
          </a:xfrm>
        </p:grpSpPr>
        <p:sp>
          <p:nvSpPr>
            <p:cNvPr id="188" name=""/>
            <p:cNvSpPr/>
            <p:nvPr/>
          </p:nvSpPr>
          <p:spPr>
            <a:xfrm>
              <a:off x="727200" y="463788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27200" y="4881960"/>
              <a:ext cx="436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5760" rIns="95760" tIns="-49680" bIns="-49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69280" y="4532400"/>
              <a:ext cx="143352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ffic &amp; 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92680" y="4776480"/>
              <a:ext cx="82224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120" rIns="96120" tIns="49680" bIns="49680" anchor="t">
              <a:spAutoFit/>
            </a:bodyPr>
            <a:p>
              <a:pPr>
                <a:tabLst>
                  <a:tab algn="l" pos="0"/>
                  <a:tab algn="l" pos="907920"/>
                  <a:tab algn="l" pos="1816200"/>
                  <a:tab algn="l" pos="2724120"/>
                  <a:tab algn="l" pos="3632040"/>
                  <a:tab algn="l" pos="4540320"/>
                  <a:tab algn="l" pos="5448240"/>
                  <a:tab algn="l" pos="6356520"/>
                  <a:tab algn="l" pos="7264440"/>
                  <a:tab algn="l" pos="8172360"/>
                  <a:tab algn="l" pos="9080640"/>
                  <a:tab algn="l" pos="9988560"/>
                  <a:tab algn="l" pos="108964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ignal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515880" y="5019840"/>
            <a:ext cx="3186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TS - Base Transceiver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SC - Base Station Contro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C - Mobile Switch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LR - Home Location Regi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GSN - Serving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GSN - Gateway GPRS Support N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M-SC - Point-to-Multipoint Service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2000" y="3232080"/>
            <a:ext cx="1950120" cy="2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book &amp; GPRS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33520" y="1782720"/>
            <a:ext cx="933480" cy="55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5405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71680" y="2913120"/>
            <a:ext cx="58284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63720" y="2328840"/>
            <a:ext cx="0" cy="25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31080" y="1889280"/>
            <a:ext cx="6638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99360" y="4662360"/>
            <a:ext cx="436320" cy="91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360" y="318276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7424640" y="4187880"/>
            <a:ext cx="1585800" cy="1372320"/>
            <a:chOff x="7424640" y="4187880"/>
            <a:chExt cx="1585800" cy="1372320"/>
          </a:xfrm>
        </p:grpSpPr>
        <p:sp>
          <p:nvSpPr>
            <p:cNvPr id="201" name=""/>
            <p:cNvSpPr/>
            <p:nvPr/>
          </p:nvSpPr>
          <p:spPr>
            <a:xfrm>
              <a:off x="7921080" y="4229280"/>
              <a:ext cx="378720" cy="4492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41120" y="4187880"/>
              <a:ext cx="307440" cy="3661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24440" y="4567680"/>
              <a:ext cx="486000" cy="572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98520" y="4817880"/>
              <a:ext cx="557280" cy="6595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83320" y="49010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7760" y="4944600"/>
              <a:ext cx="30888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24640" y="4651200"/>
              <a:ext cx="306000" cy="364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563960" y="4314240"/>
              <a:ext cx="48600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90920" y="4986000"/>
              <a:ext cx="486360" cy="5742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595720" y="4358160"/>
              <a:ext cx="380160" cy="445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89520" y="4187880"/>
              <a:ext cx="343800" cy="4060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47040" y="4295520"/>
              <a:ext cx="1378440" cy="109152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558920" y="4492800"/>
            <a:ext cx="1363320" cy="6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99360" y="4662360"/>
            <a:ext cx="101916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54040" y="1746360"/>
            <a:ext cx="58104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Um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7134120" y="606600"/>
            <a:ext cx="1585800" cy="1372680"/>
            <a:chOff x="7134120" y="606600"/>
            <a:chExt cx="1585800" cy="1372680"/>
          </a:xfrm>
        </p:grpSpPr>
        <p:sp>
          <p:nvSpPr>
            <p:cNvPr id="217" name=""/>
            <p:cNvSpPr/>
            <p:nvPr/>
          </p:nvSpPr>
          <p:spPr>
            <a:xfrm>
              <a:off x="7630920" y="648000"/>
              <a:ext cx="378360" cy="449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50600" y="606600"/>
              <a:ext cx="307440" cy="365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233920" y="986760"/>
              <a:ext cx="486000" cy="572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308360" y="1236600"/>
              <a:ext cx="556920" cy="659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93160" y="1319760"/>
              <a:ext cx="413280" cy="489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67240" y="1362960"/>
              <a:ext cx="30888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34120" y="1069560"/>
              <a:ext cx="306000" cy="364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73440" y="733320"/>
              <a:ext cx="486360" cy="574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00760" y="1404720"/>
              <a:ext cx="486000" cy="574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305200" y="776520"/>
              <a:ext cx="380160" cy="445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199000" y="606600"/>
              <a:ext cx="343800" cy="406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56880" y="713880"/>
              <a:ext cx="1378080" cy="109188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7489800" y="996840"/>
            <a:ext cx="87300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SDN/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ST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290840" y="996840"/>
            <a:ext cx="2980080" cy="749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30080" y="3767040"/>
            <a:ext cx="4518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588000" y="4683240"/>
            <a:ext cx="3848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7160" bIns="47160" anchor="t">
            <a:spAutoFit/>
          </a:bodyPr>
          <a:p>
            <a:pPr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Channe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H – Packet Random Access Channel, uplink, used to initiate uplink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CH – Packet Paging Channel, downlink, BSC uses this to page the MS before downlink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CH – Packet Access Grant Channel, downlink, resource assignments are sent on thi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TCH – Packet Data Traffic Channel, up &amp; downlink, used to send data pa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CH – Packet Associated Control Channel, up &amp; downlink, used to convey signalling along with PD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ypical Scenario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1828800"/>
            <a:ext cx="68580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133720"/>
            <a:ext cx="4343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2209680"/>
            <a:ext cx="99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2209680"/>
            <a:ext cx="76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24480" y="2209680"/>
            <a:ext cx="762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320040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419720" y="4038480"/>
            <a:ext cx="1218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G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248520" y="3124080"/>
            <a:ext cx="1447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PRS Regi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5334120"/>
            <a:ext cx="13716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934320" y="3886200"/>
            <a:ext cx="1585440" cy="1371240"/>
            <a:chOff x="6934320" y="3886200"/>
            <a:chExt cx="1585440" cy="1371240"/>
          </a:xfrm>
        </p:grpSpPr>
        <p:sp>
          <p:nvSpPr>
            <p:cNvPr id="247" name=""/>
            <p:cNvSpPr/>
            <p:nvPr/>
          </p:nvSpPr>
          <p:spPr>
            <a:xfrm>
              <a:off x="7430760" y="392760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750440" y="3886200"/>
              <a:ext cx="30708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033760" y="4266000"/>
              <a:ext cx="48600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08200" y="451548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892640" y="459864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967440" y="464184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934320" y="434880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73280" y="4012560"/>
              <a:ext cx="48600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00600" y="468360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104680" y="405576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998840" y="388620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56720" y="3993480"/>
              <a:ext cx="137808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4038480" y="4724280"/>
            <a:ext cx="1585800" cy="1371240"/>
            <a:chOff x="4038480" y="4724280"/>
            <a:chExt cx="1585800" cy="1371240"/>
          </a:xfrm>
        </p:grpSpPr>
        <p:sp>
          <p:nvSpPr>
            <p:cNvPr id="260" name=""/>
            <p:cNvSpPr/>
            <p:nvPr/>
          </p:nvSpPr>
          <p:spPr>
            <a:xfrm>
              <a:off x="4534920" y="4765680"/>
              <a:ext cx="378720" cy="4489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854960" y="4724280"/>
              <a:ext cx="307440" cy="36540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37920" y="5104080"/>
              <a:ext cx="486360" cy="5720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212360" y="5353560"/>
              <a:ext cx="557280" cy="6584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97160" y="5436720"/>
              <a:ext cx="413280" cy="4888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71600" y="5479920"/>
              <a:ext cx="30852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38480" y="5186880"/>
              <a:ext cx="305640" cy="3639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77440" y="4850640"/>
              <a:ext cx="486360" cy="5734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04760" y="5521680"/>
              <a:ext cx="486000" cy="5738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09200" y="4893840"/>
              <a:ext cx="380160" cy="445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3360" y="4724280"/>
              <a:ext cx="343800" cy="4057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60880" y="4831560"/>
              <a:ext cx="1378440" cy="1090800"/>
            </a:xfrm>
            <a:custGeom>
              <a:avLst/>
              <a:gdLst/>
              <a:ahLst/>
              <a:rect l="l" t="t" r="r" b="b"/>
              <a:pathLst>
                <a:path w="910" h="629">
                  <a:moveTo>
                    <a:pt x="280" y="63"/>
                  </a:moveTo>
                  <a:lnTo>
                    <a:pt x="319" y="18"/>
                  </a:lnTo>
                  <a:lnTo>
                    <a:pt x="488" y="21"/>
                  </a:lnTo>
                  <a:lnTo>
                    <a:pt x="608" y="0"/>
                  </a:lnTo>
                  <a:lnTo>
                    <a:pt x="760" y="75"/>
                  </a:lnTo>
                  <a:lnTo>
                    <a:pt x="836" y="54"/>
                  </a:lnTo>
                  <a:lnTo>
                    <a:pt x="877" y="63"/>
                  </a:lnTo>
                  <a:lnTo>
                    <a:pt x="885" y="249"/>
                  </a:lnTo>
                  <a:lnTo>
                    <a:pt x="909" y="279"/>
                  </a:lnTo>
                  <a:lnTo>
                    <a:pt x="839" y="424"/>
                  </a:lnTo>
                  <a:lnTo>
                    <a:pt x="763" y="325"/>
                  </a:lnTo>
                  <a:lnTo>
                    <a:pt x="742" y="375"/>
                  </a:lnTo>
                  <a:lnTo>
                    <a:pt x="634" y="574"/>
                  </a:lnTo>
                  <a:lnTo>
                    <a:pt x="275" y="628"/>
                  </a:lnTo>
                  <a:lnTo>
                    <a:pt x="88" y="589"/>
                  </a:lnTo>
                  <a:lnTo>
                    <a:pt x="29" y="466"/>
                  </a:lnTo>
                  <a:lnTo>
                    <a:pt x="29" y="339"/>
                  </a:lnTo>
                  <a:lnTo>
                    <a:pt x="0" y="234"/>
                  </a:lnTo>
                  <a:lnTo>
                    <a:pt x="280" y="63"/>
                  </a:lnTo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286000" y="5181480"/>
            <a:ext cx="1143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419720" y="5181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238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P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981080" y="1981080"/>
          <a:ext cx="51768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981080"/>
                    <a:ext cx="5176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3429000" y="5334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73915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5638320" y="4191120"/>
            <a:ext cx="12956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502920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02920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5638680" y="3504960"/>
            <a:ext cx="609840" cy="60948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5486040" y="32767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"/>
          <p:cNvCxnSpPr>
            <a:stCxn id="272" idx="3"/>
            <a:endCxn id="280" idx="0"/>
          </p:cNvCxnSpPr>
          <p:nvPr/>
        </p:nvCxnSpPr>
        <p:spPr>
          <a:xfrm flipV="1">
            <a:off x="3429000" y="4190760"/>
            <a:ext cx="2210400" cy="1180080"/>
          </a:xfrm>
          <a:prstGeom prst="curvedConnector5">
            <a:avLst>
              <a:gd name="adj1" fmla="val 217527"/>
              <a:gd name="adj2" fmla="val 51724"/>
              <a:gd name="adj3" fmla="val 21752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6" name=""/>
          <p:cNvSpPr/>
          <p:nvPr/>
        </p:nvSpPr>
        <p:spPr>
          <a:xfrm flipV="1">
            <a:off x="4648320" y="3581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"/>
          <p:cNvCxnSpPr>
            <a:stCxn id="242" idx="3"/>
            <a:endCxn id="239" idx="3"/>
          </p:cNvCxnSpPr>
          <p:nvPr/>
        </p:nvCxnSpPr>
        <p:spPr>
          <a:xfrm flipH="1" flipV="1">
            <a:off x="3809520" y="2398320"/>
            <a:ext cx="1829520" cy="991440"/>
          </a:xfrm>
          <a:prstGeom prst="curvedConnector5">
            <a:avLst>
              <a:gd name="adj1" fmla="val -17437"/>
              <a:gd name="adj2" fmla="val 49981"/>
              <a:gd name="adj3" fmla="val -17437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 flipH="1">
            <a:off x="2361960" y="2362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Terminal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&amp; traffic) support for GPRS &amp; GS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ultaneous (attach but not traffic) support for GPRS &amp; G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imultaneous abil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Some result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well suited for TCP/IP as bear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acceptable web brows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a large no. of parallel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or can easily scale up a GPRS system by increasing PDC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ractical than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an ideal bearer for W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Limitation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Terminal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ual Speeds may vary – may come down to about 38.4 kb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ld have an impact on cell capa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-30% (48+ bytes) protocol overhead in the headers – unacceptable for application sending small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part in the transition from 2G to 3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of its salient features &amp; implementations over different cellular bearers, over 100 million subscribers of 2G TDMA based technologies will bene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little cost &amp; major benefits, GPRS provides easy solution to IS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 pave the way for UMTS &amp; 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….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PRS is a new set of GSM-bearer services that provide packet mode transmission within the GSM network &amp; interconnects with external packet data netwo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GPRS &amp; other propo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mmercial persp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-Connect Scen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a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What is GPRS – A Commerci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5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RS is an overlay network over the G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Little change to GSM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Data Packet delivery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ed by ET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upport for Data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ter Billing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eed to reorganize spect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Application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brow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king Trans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Market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ather &amp; Traffic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af"/>
                </a:solidFill>
                <a:latin typeface="Arial"/>
              </a:rPr>
              <a:t>Salient Features – A technical Perspective</a:t>
            </a:r>
            <a:endParaRPr b="0" lang="en-US" sz="40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Data Rates of about 100 kpbs – an order of magnitude higher than G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etup time is negligible – less than a sec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utilization as per requirements – air interface is assigned temporarily on per-packet ba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ts can remain “always 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SM Architecture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3520" y="1219320"/>
            <a:ext cx="8305560" cy="47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GPRS Additions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861048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af"/>
                </a:solidFill>
                <a:latin typeface="Arial"/>
              </a:rPr>
              <a:t>The newcomers….</a:t>
            </a:r>
            <a:endParaRPr b="0" lang="en-US" sz="4400" spc="-1" strike="noStrike">
              <a:solidFill>
                <a:srgbClr val="ffffa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a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GSN – Serving GPRS support N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packet routing &amp;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bility management – attach/detach &amp; location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Link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s user Profiles of all MS within its pu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17:13:47Z</dcterms:created>
  <dc:creator>Patricio Valenzuela</dc:creator>
  <dc:description/>
  <dc:language>en-US</dc:language>
  <cp:lastModifiedBy>Valenzuela Patricio</cp:lastModifiedBy>
  <dcterms:modified xsi:type="dcterms:W3CDTF">2005-10-07T03:07:35Z</dcterms:modified>
  <cp:revision>16</cp:revision>
  <dc:subject/>
  <dc:title>GPRS: A new Dimension to Wireless Communication</dc:title>
</cp:coreProperties>
</file>