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D7F-9D94-4510-99E5-235BB5EA9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AF06-4D92-4775-8B37-5BB83F323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D1D-713B-4CF6-9272-3381DA20D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CCF3-60CF-4417-BE08-AEE58E95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C81-A4E6-40E9-BBDD-C91CB3F3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7968-BFCC-414F-B9AA-C20568F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F95-5382-4899-AD5B-583E0C0F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757-EE5A-4F29-92D0-5041DB1D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F6F-2CF0-4984-8AEC-07E5F63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EE3-A077-4065-B647-695B49DF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AC1-F23A-40A6-BACE-AB8BB44D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840-FDCA-4DD2-A423-ECAB67DA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8C2-93DA-49E6-90EF-884FC0E3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E6A-9984-45EB-8DB2-D5520C8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6F8-215B-4C73-9A85-E27396D8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F60-965F-4EDE-B831-3EE60FE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FB3-C944-47E6-8D83-B5522DA96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392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GSM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266720"/>
            <a:ext cx="69339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cont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ber Identity Module (S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 contains the International Mobile Subscriber Identity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er to send and receive calls and receive other subscrib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d network identific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Key Ki,Kc and A3,A5 and A8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ed by a password or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ved from phone to phone – contains key information to activate the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Subsystem is composed of two parts that communicate across the standardiz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 allowing operation between components made by differ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Transceiver Station (BT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s,encrypts,multiplexes,modulates and feeds the RF signals to the ante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s with Mobile station and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ransceivers (TRX)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 Station Subsystem (BS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adio resources for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s Frequency and time slots for all MS’s in it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s call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oding and rate adaptation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ver for each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Power contr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mmunicates with MSC and 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(N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witching Center (MS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of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communication between GSM and oth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tup function and basic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ing information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ion Upd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ter BSS and inter MSC call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C does gateway function while its customer roams to other network by using HLR/VL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Location Registers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ermanent database about mobile subscribers in a large service area(generally one per GSM network operat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MSISDN,prepaid/postpaid,roaming restrictions,supplementary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or Location Registers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database which updates whenever new MS enters its area, by HL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ose mobiles roaming in its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number of queries to HL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contains IMSI,TMSI,MSISDN,MSRN,Location Area,authentica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Switching Sub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846080"/>
            <a:ext cx="878508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against intruders in ai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uthentication keys and algorithms and provides security triplets ( RAND,SRES,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ssociated with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that is used to track handsets using the IMEI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three sub-classes: The White List, The Black List and the Gra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EIR per PL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s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 890-91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:935-96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25 Mhz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M 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to BTS (uplink):   1710-178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o Mobile(downlink) 1805-188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: 2* 75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pecification-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eparation   : 2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lex Distance      : 45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RF carriers   : 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Method        : TDMA/F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Method : GM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tion data rate   : 270.833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2120" y="747720"/>
            <a:ext cx="6933960" cy="5564160"/>
            <a:chOff x="762120" y="747720"/>
            <a:chExt cx="6933960" cy="5564160"/>
          </a:xfrm>
        </p:grpSpPr>
        <p:sp>
          <p:nvSpPr>
            <p:cNvPr id="180" name=""/>
            <p:cNvSpPr/>
            <p:nvPr/>
          </p:nvSpPr>
          <p:spPr>
            <a:xfrm>
              <a:off x="58672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672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72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 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De-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6728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Demod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5715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Mod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48006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iph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8080" y="38862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Bur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Format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9718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Interleav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20574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Channel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8080" y="1143000"/>
              <a:ext cx="1828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90920" y="5638680"/>
              <a:ext cx="3276360" cy="660600"/>
            </a:xfrm>
            <a:custGeom>
              <a:avLst/>
              <a:gdLst/>
              <a:ahLst/>
              <a:rect l="l" t="t" r="r" b="b"/>
              <a:pathLst>
                <a:path w="2064" h="416">
                  <a:moveTo>
                    <a:pt x="0" y="288"/>
                  </a:moveTo>
                  <a:cubicBezTo>
                    <a:pt x="176" y="212"/>
                    <a:pt x="352" y="136"/>
                    <a:pt x="576" y="96"/>
                  </a:cubicBezTo>
                  <a:cubicBezTo>
                    <a:pt x="800" y="56"/>
                    <a:pt x="1280" y="0"/>
                    <a:pt x="1344" y="48"/>
                  </a:cubicBezTo>
                  <a:cubicBezTo>
                    <a:pt x="1408" y="96"/>
                    <a:pt x="840" y="352"/>
                    <a:pt x="960" y="384"/>
                  </a:cubicBezTo>
                  <a:cubicBezTo>
                    <a:pt x="1080" y="416"/>
                    <a:pt x="1572" y="328"/>
                    <a:pt x="2064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1200" y="12574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Times New Roman"/>
                </a:rPr>
                <a:t>Speech co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1360" y="55278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adio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7816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5800" y="74772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3960" y="82404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81680" y="1676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0720" y="171468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6560" y="26049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14400" y="35053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2.8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3920" y="44197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8080" y="533412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3.6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0960" y="594360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0.83 Kb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76520" y="762120"/>
              <a:ext cx="75960" cy="4952880"/>
              <a:chOff x="1676520" y="762120"/>
              <a:chExt cx="75960" cy="495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1676520" y="762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76520" y="1676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2480" y="2590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52480" y="5334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52480" y="4419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52480" y="3505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678168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7816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81680" y="441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81680" y="5334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1828800"/>
            <a:ext cx="7239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240" indent="-165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SM-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chnical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rame Structur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aracteristics an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SM-Fram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gical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04920" y="-39672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19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4572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1447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1447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5867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990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1828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2514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124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3124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5029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562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434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43400" y="6477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58120" y="1295280"/>
            <a:ext cx="8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raff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7400" y="47242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4480" y="31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4480" y="42642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1240" y="5524560"/>
            <a:ext cx="11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240" y="2019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4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00240" y="23241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8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2400" y="26668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6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370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133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304488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H(Frequency corr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920" y="365760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(Synchroniz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7320" y="403848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H(Pag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2920" y="441972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CH(Random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83280" y="480060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CH(Access Gr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292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CCH(Stand Al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91120" y="590544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CH(Slow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62485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CH(Fast-associ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8352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rate 11.4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002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rate 22.8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5640" y="11048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90200" y="21718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iginating from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ermination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go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267080" cy="44193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5029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sends dialled number to B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 sends dialled number to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4     MSC checks VLR if MS is allowed the requested service.If so,MSC asks BSS to allocate resources for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routes the call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SC routes the call  to local exchange of called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, 8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,10    Answer back(ring back) tone is routed from called user to MS via GMSC,MSC,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omi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1640" y="2282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a GSM subscr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call to GS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Setup to H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Request MSRN from V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responsible MSC to G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all to current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Get current status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Paging of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. MS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 Security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-346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. Set up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32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nd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876560" cy="4419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2 – Inter BTS / Intra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3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BSC/ Intra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1 and 4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urity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ir interface, GSM uses encryption and TMSI instead of I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is provided 4-8 digit PIN to validate the ownership of 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lgorithms are specifi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3 algorithm for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5 algorithm for en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8 algorithm for key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hentication in G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generation and Encry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GSM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obal System for Mobile (GSM) is a second generation cellular standard developed to cater voice services and data delivery using digital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GSM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digital system using 900,1800 MHz frequency 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MA over radio carriers(200 KHz carrier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full rate or 16 half rate TDMA channels per c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/terminal authentication for fraud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speech and data transmission over the radio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peed data services (upto 9.6 Kb/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of Short Message Service (S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f GSM over Analo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RF transmission power and longer batter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roaming cap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curity against fraud (through terminal validation and user authent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capability for information security and priv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ISDN,leading to wider rang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telep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M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metr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ee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utomatic met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l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mote control and fault reporting of DG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d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rer or Data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e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23840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munication services that enable voic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a 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bile teleph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ergency cal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ar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various data services for information transfer  between GSM and other networks like PSTN, ISDN etc at rates from 300 to 9600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Message Service (S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123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60 character alphanumeric data transmission to/from the mobil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essaging Services(U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3 f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mai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plementary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495680" y="1463400"/>
            <a:ext cx="396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371600"/>
            <a:ext cx="861048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related servic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Waiting- Notification of an incoming call while on the hand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Hold- Put a caller on hold to take another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Barring- All calls, outgoing calls, or incoming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warding- Calls can be sent to various numbers defined by the 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 Party Call Conferencing - Link multiple calls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P – Caller line identification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R – Caller line identification 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G – Closed us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SM -9.6 Kbps (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 Generation ( Future of G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CSD (High Speed ckt Switched 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76.8 Kbps (9.6 x 8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14.4 - 115.2 K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(Enhanced data rate for GSM Evo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: 547.2 Kbps (ma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CDMA(Wide band CD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ate : 0.348 – 2.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143000"/>
            <a:ext cx="861048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Spéciale Mobile (founded 1982) which was an    initiative of CEPT ( Conference of European Post and Telecommun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 : to replace the incompatible analog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ly the responsibility of GSM standardization resides with special mobile group under ETSI ( European telecommunication Standards Institut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set of specifications phase-I became available in 199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TSI, GSM is named as “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stem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ile communication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 many providers all over the world use GSM (more than 1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ies in Asia, Africa, Europe, Australia, Amer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1300 million subscribers in world and  45 million subscriber in Ind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in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193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743200"/>
            <a:ext cx="53352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72400" y="19051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1523880"/>
            <a:ext cx="304560" cy="38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2952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657600"/>
            <a:ext cx="304920" cy="38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4800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34290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4572000"/>
            <a:ext cx="5331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53080" y="4343400"/>
            <a:ext cx="609840" cy="914400"/>
            <a:chOff x="6553080" y="4343400"/>
            <a:chExt cx="609840" cy="914400"/>
          </a:xfrm>
        </p:grpSpPr>
        <p:sp>
          <p:nvSpPr>
            <p:cNvPr id="71" name=""/>
            <p:cNvSpPr/>
            <p:nvPr/>
          </p:nvSpPr>
          <p:spPr>
            <a:xfrm>
              <a:off x="6553080" y="4343400"/>
              <a:ext cx="53352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8660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44956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53080" y="4876920"/>
              <a:ext cx="53352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62920" y="4724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7162920" y="5105520"/>
            <a:ext cx="53316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4800600"/>
            <a:ext cx="5335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334120"/>
            <a:ext cx="53352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3200400"/>
            <a:ext cx="3581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51814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447920"/>
            <a:ext cx="76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495680"/>
            <a:ext cx="76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096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114264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371600" y="685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33160" y="2819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9807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86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276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60195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60199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6320" y="5331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90476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335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1905120"/>
            <a:ext cx="137160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2514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21337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400" y="2971800"/>
            <a:ext cx="17524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19810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1599840" y="14475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857640" y="3886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46712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077320" y="43434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37920" y="46483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447920" y="49525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990720" y="3276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320" y="35809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437920" y="3733920"/>
            <a:ext cx="3812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5812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1219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5715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00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251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457200"/>
            <a:ext cx="99072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752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76720" y="4495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895480" y="457164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809880"/>
            <a:ext cx="3045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86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076640"/>
            <a:ext cx="30456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8840" y="3352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SM System Architecture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Station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tation Subsystem (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Transceiver Station (B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Station Controller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witching Subsystem(N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Switching Center (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Location Register (H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Location Register (VL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Center (AU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0">
              <a:spcBef>
                <a:spcPts val="601"/>
              </a:spcBef>
              <a:buNone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Identity Register (E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bile Station is made up of two e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quipment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ber Identity Module (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bile Station (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,vehicle mounted, hand held dev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ly identified by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national Mobile Equipment Id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and data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power and signal quality of surrounding cells for optimum hand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level : 0.8W – 20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0 character long  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14:35:30Z</dcterms:created>
  <dc:creator>PValenzuela</dc:creator>
  <dc:description/>
  <dc:language>en-US</dc:language>
  <cp:lastModifiedBy>Valenzuela Patricio</cp:lastModifiedBy>
  <dcterms:modified xsi:type="dcterms:W3CDTF">2005-10-05T02:43:03Z</dcterms:modified>
  <cp:revision>110</cp:revision>
  <dc:subject/>
  <dc:title>Presentation on GSM</dc:title>
</cp:coreProperties>
</file>