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FF1A-2FAE-4DC7-8C81-674AF6361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25C0-98E5-4ADB-B53B-354F6227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AB56-DAF3-4D76-ADD2-06FAEF33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BE8F-96A9-4B7B-9C0B-98ACCE0B3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6CA-FF93-48ED-B2BD-15435770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6D8-3227-4275-B7EB-B0AD3D4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FD4-3439-40CF-99FC-E083641F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0AF-77CF-42E1-8DE5-E371E1F9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B77-702D-402B-A5AD-0D07DC1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82D-5420-4D62-9A05-E52256E3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264-60AA-4982-BB46-56BA9B8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08E-A47D-4693-BB13-8DEB4D39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892-1343-4129-8768-855A70B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21E-60B4-427A-BE88-EA52854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30A-4420-47BA-BE98-2945D6EC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069-439A-4356-A574-A79360F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03B0-775A-41B2-9C96-BB67898D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2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S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2667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ber Identity Module (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ains the International Mobile Subscriber Ident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 to send and receive calls and receive other subscrib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network identific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y Ki,Kc and A3,A5 and A8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y a password 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from phone to phone – contains key information to activate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Subsystem is composed of two parts that communicate across the standardiz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allowing operation between components made by differ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Transceiver Station (B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s,encrypts,multiplexes,modulates and feeds the RF signals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s with Mobile station and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ransceivers (TRX)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adio resources for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s Frequency and time slots for all MS’s in i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al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oding and rate adaptatio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for each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wer contr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municates with MSC and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(N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witching Center (M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communication between GSM and oth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tup function and basic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 information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ion 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er BSS and inter MSC call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 does gateway function while its customer roams to other network by using HLR/V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Location Registers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database about mobile subscribers in a large service area(generally one per GSM network opera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MSISDN,prepaid/postpaid,roaming restrictions,supplementa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Location Registers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database which updates whenever new MS enters its area, by HL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ose mobiles roaming in its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number of queries to HL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TMSI,MSISDN,MSRN,Location Area,authentica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46080"/>
            <a:ext cx="87850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gainst intruders in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uthentication keys and algorithms and provides security triplets ( RAND,SRES,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ssociated with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that is used to track handsets using the IMEI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three sub-classes: The White List, The Black List and the Gr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EIR per P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s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 890-91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:935-96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25 Mhz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1710-178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 1805-188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7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-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paration   : 2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 Distance      : 4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RF carriers   :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        : TDMA/F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Method : G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data rate   : 270.833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2120" y="747720"/>
            <a:ext cx="6933960" cy="5564160"/>
            <a:chOff x="762120" y="747720"/>
            <a:chExt cx="6933960" cy="5564160"/>
          </a:xfrm>
        </p:grpSpPr>
        <p:sp>
          <p:nvSpPr>
            <p:cNvPr id="180" name=""/>
            <p:cNvSpPr/>
            <p:nvPr/>
          </p:nvSpPr>
          <p:spPr>
            <a:xfrm>
              <a:off x="58672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 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Demod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8680"/>
              <a:ext cx="3276360" cy="660600"/>
            </a:xfrm>
            <a:custGeom>
              <a:avLst/>
              <a:gdLst/>
              <a:ahLst/>
              <a:rect l="l" t="t" r="r" b="b"/>
              <a:pathLst>
                <a:path w="2064" h="416">
                  <a:moveTo>
                    <a:pt x="0" y="288"/>
                  </a:moveTo>
                  <a:cubicBezTo>
                    <a:pt x="176" y="212"/>
                    <a:pt x="352" y="136"/>
                    <a:pt x="576" y="96"/>
                  </a:cubicBezTo>
                  <a:cubicBezTo>
                    <a:pt x="800" y="56"/>
                    <a:pt x="1280" y="0"/>
                    <a:pt x="1344" y="48"/>
                  </a:cubicBezTo>
                  <a:cubicBezTo>
                    <a:pt x="1408" y="96"/>
                    <a:pt x="840" y="352"/>
                    <a:pt x="960" y="384"/>
                  </a:cubicBezTo>
                  <a:cubicBezTo>
                    <a:pt x="1080" y="416"/>
                    <a:pt x="1572" y="328"/>
                    <a:pt x="206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1200" y="12574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1360" y="55278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7816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5800" y="747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960" y="8240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8168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0720" y="17146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560" y="26049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4400" y="35053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3920" y="44197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8080" y="53341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0960" y="594360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0.8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76520" y="762120"/>
              <a:ext cx="75960" cy="4952880"/>
              <a:chOff x="1676520" y="762120"/>
              <a:chExt cx="75960" cy="495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76520" y="762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6520" y="1676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2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52480" y="4419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52480" y="3505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678168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781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82880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SM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ame Struct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cteristics an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SM-Fra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-396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1447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8120" y="1295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7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31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4480" y="4264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1240" y="5524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240" y="2019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2400" y="266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7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0448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H(Frequency corr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920" y="36576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(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7320" y="4038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H(Pa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2920" y="44197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H(Random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00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CH(Access Gr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292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CCH(Stan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1120" y="590544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CH(Slow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6248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H(Fast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835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rate 11.4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002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rate 22.8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5640" y="1104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0200" y="2171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iginating from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ermination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go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sends dialled number to B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sends dialled number to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4     MSC checks VLR if MS is allowed the requested service.If so,MSC asks BSS to allocate resources for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routes the call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SC routes the call  to local exchange of calle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0    Answer back(ring back) tone is routed from called user to MS via GMSC,MSC,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GSM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call to G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tup to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quest MSRN from V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responsible MSC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l to current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Get current statu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aging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S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Security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Set u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2 – Inter BTS / Intra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3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BSC/ Intra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ir interface, GSM uses encryption and TMSI instead of I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is provided 4-8 digit PIN to validate the ownership of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lgorithms are spec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3 algorithm fo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5 algorithm fo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8 algorithm for ke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generation and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GS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obal System for Mobile (GSM) is a second generation cellular standard developed to cater voice services and data delivery using digital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GSM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digital system using 900,1800 MHz frequency 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over radio carriers(200 KHz carrier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ull rate or 16 half rate TDMA channels per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terminal authentication for frau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speech and data transmission over the radio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peed data services (upto 9.6 Kb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Short Message Service (S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f GSM over Analo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F transmission power and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curity against fraud (through terminal validation and user authent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capability for information security and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,leading to wider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e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utomatic met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ote control and fault reporting of D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or Data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e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2384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services that enable voic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telep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ergency ca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ar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various data services for information transfer  between GSM and other networks like PSTN, ISDN etc at rates from 300 to 96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Message Service (S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23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0 character alphanumeric data transmission to/from the mobil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essaging Services(U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lementary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95680" y="14634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86104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related 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Waiting- Notification of an incoming call while on th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Hold- Put a caller on hold to take another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arring- All calls, outgoing calls, or incoming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- Calls can be sent to various numbers defined by the 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 Party Call Conferencing - Link multiple call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 – Caller line identification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R – Caller line identific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G – Closed us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-9.6 Kbps (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Generation ( Future of G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 Speed ckt Switched 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76.8 Kbps (9.6 x 8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14.4 - 115.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(Enhanced data rate for GSM 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547.2 Kbps (ma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DMA(Wide band 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0.348 – 2.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éciale Mobile (founded 1982) which was an    initiative of CEPT ( Conference of European Post and Telecommun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: to replace the incompatible analo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ly the responsibility of GSM standardization resides with special mobile group under ETSI ( European telecommunication Standards Institu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et of specifications phase-I became available in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TSI, GSM is named as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 communication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in Asia, Africa, Europe, Australia,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300 million subscribers in world and  45 million subscriber in In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in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193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743200"/>
            <a:ext cx="533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9051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3880"/>
            <a:ext cx="304560" cy="38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952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5760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800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572000"/>
            <a:ext cx="5331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53080" y="4343400"/>
            <a:ext cx="609840" cy="914400"/>
            <a:chOff x="6553080" y="4343400"/>
            <a:chExt cx="609840" cy="914400"/>
          </a:xfrm>
        </p:grpSpPr>
        <p:sp>
          <p:nvSpPr>
            <p:cNvPr id="71" name=""/>
            <p:cNvSpPr/>
            <p:nvPr/>
          </p:nvSpPr>
          <p:spPr>
            <a:xfrm>
              <a:off x="6553080" y="4343400"/>
              <a:ext cx="5335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876920"/>
              <a:ext cx="533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162920" y="510552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4800600"/>
            <a:ext cx="5335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3341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3200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51814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7920"/>
            <a:ext cx="76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4956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14264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16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807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60195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320" y="5331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33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905120"/>
            <a:ext cx="137160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1337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9718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99840" y="1447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764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6712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77320" y="4343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79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7920" y="4952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320" y="35809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37920" y="3733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581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457200"/>
            <a:ext cx="9907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752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6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895480" y="4571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076640"/>
            <a:ext cx="30456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884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Station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Subsystem (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B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witching Subsystem(N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witching Center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Station is made up of two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vehicle mounted, hand held de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ly identified by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ower and signal quality of surrounding cells for optimum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evel : 0.8W – 20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 character long  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35:30Z</dcterms:created>
  <dc:creator>PValenzuela</dc:creator>
  <dc:description/>
  <dc:language>en-US</dc:language>
  <cp:lastModifiedBy>Valenzuela Patricio</cp:lastModifiedBy>
  <dcterms:modified xsi:type="dcterms:W3CDTF">2005-10-05T02:43:03Z</dcterms:modified>
  <cp:revision>110</cp:revision>
  <dc:subject/>
  <dc:title>Presentation on GSM</dc:title>
</cp:coreProperties>
</file>