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2893-8900-42DD-AF7B-FED0BB964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01B9-9F77-4463-8A96-BD83188AA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FFE2-FA74-4762-8FC1-F1126B63C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7E00-8291-492B-BC3C-EED0883EA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B0F2-27D6-4AF9-83CB-396C73CEC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4A52-4298-41AD-BA88-A5470D18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303D-24BA-4D70-BFD9-92B12700D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0445-8B80-4A7D-BEA0-C68EF9E5E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88E9-CA6B-4878-BDA8-CC91D257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659B-31AB-46BC-84BE-7AA67DBE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6400-9D90-44F2-B939-6BE6E570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34AA-8C00-45FF-9CA2-DC680FA7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8EA7-9C34-470A-A42D-DE81FFE5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23BC-932F-4DE7-8AF5-5D35C35D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2EA3-4855-493F-9161-F2CB19C2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82E3-68D1-4E9B-9C26-30AD85EC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E117-AFC6-4630-B835-7001E19BE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392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GSM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8960" y="4266720"/>
            <a:ext cx="69339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bile Station (MS) cont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scriber Identity Module (SI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rt card contains the International Mobile Subscriber Identity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user to send and receive calls and receive other subscrib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ded network identification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Key Ki,Kc and A3,A5 and A8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ed by a password or P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moved from phone to phone – contains key information to activate the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se Station Subsystem (BS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Station Subsystem is composed of two parts that communicate across the standardiz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rface allowing operation between components made by different 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Transceiver Station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Station Controller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S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 Station Subsystem (BSS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2120" y="2514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 Transceiver Station (BT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des,encrypts,multiplexes,modulates and feeds the RF signals to the anten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 ho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es with Mobile station and B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s of Transceivers (TRX)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 Architectur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se Station Subsystem (BSS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462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 Station Controller (B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s Radio resources for B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s Frequency and time slots for all MS’s in its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les call set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oding and rate adaptation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over for each 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 Power control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ommunicates with MSC and B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twork Switching Subsystem(NS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bile Switching Center (MS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rt of th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s communication between GSM and othe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setup function and basic swi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lling information and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it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ocation Upd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Inter BSS and inter MSC call hand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C does gateway function while its customer roams to other network by using HLR/VL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etwork Switching Sub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 Location Registers (HL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ermanent database about mobile subscribers in a large service area(generally one per GSM network operato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 contains IMSI,MSISDN,prepaid/postpaid,roaming restrictions,supplementary ser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itor Location Registers (VL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ry database which updates whenever new MS enters its area, by HLR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s those mobiles roaming in its are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s number of queries to HL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 contains IMSI,TMSI,MSISDN,MSRN,Location Area,authentication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etwork Switching Subsyst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1846080"/>
            <a:ext cx="8785080" cy="50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entication Center (AU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s against intruders in air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s authentication keys and algorithms and provides security triplets ( RAND,SRES,K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associated with HL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quipment Identity Register (E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base that is used to track handsets using the IMEI (International Mobile Equipment Ident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up of three sub-classes: The White List, The Black List and the Gra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EIR per PL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SM Specifications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 Spect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SM 9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e to BTS (uplink):    890-915 M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TS to Mobile(downlink):935-960 M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ndwidth : 2* 25 Mhz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SM 1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e to BTS (uplink):   1710-1785 M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TS to Mobile(downlink) 1805-1880 M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ndwidth : 2* 75 M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SM Specification-II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ier Separation   : 200 K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plex Distance      : 45 M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of RF carriers   : 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Method        : TDMA/FD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tion Method : GM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tion data rate   : 270.833 Kb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SM Op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762120" y="747720"/>
            <a:ext cx="6933960" cy="5564160"/>
            <a:chOff x="762120" y="747720"/>
            <a:chExt cx="6933960" cy="5564160"/>
          </a:xfrm>
        </p:grpSpPr>
        <p:sp>
          <p:nvSpPr>
            <p:cNvPr id="180" name=""/>
            <p:cNvSpPr/>
            <p:nvPr/>
          </p:nvSpPr>
          <p:spPr>
            <a:xfrm>
              <a:off x="5867280" y="11430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Speech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decod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67280" y="20574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Channel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decod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867280" y="29718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De-interleav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67280" y="38862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Burst Format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867280" y="48006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De-ciphe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67280" y="57150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Demodu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62120" y="57150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Mod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62120" y="48006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Ciphe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38080" y="38862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Burs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Format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8080" y="29718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Interleav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38080" y="20574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Channel Cod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38080" y="11430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590920" y="5638680"/>
              <a:ext cx="3276360" cy="660600"/>
            </a:xfrm>
            <a:custGeom>
              <a:avLst/>
              <a:gdLst/>
              <a:ahLst/>
              <a:rect l="l" t="t" r="r" b="b"/>
              <a:pathLst>
                <a:path w="2064" h="416">
                  <a:moveTo>
                    <a:pt x="0" y="288"/>
                  </a:moveTo>
                  <a:cubicBezTo>
                    <a:pt x="176" y="212"/>
                    <a:pt x="352" y="136"/>
                    <a:pt x="576" y="96"/>
                  </a:cubicBezTo>
                  <a:cubicBezTo>
                    <a:pt x="800" y="56"/>
                    <a:pt x="1280" y="0"/>
                    <a:pt x="1344" y="48"/>
                  </a:cubicBezTo>
                  <a:cubicBezTo>
                    <a:pt x="1408" y="96"/>
                    <a:pt x="840" y="352"/>
                    <a:pt x="960" y="384"/>
                  </a:cubicBezTo>
                  <a:cubicBezTo>
                    <a:pt x="1080" y="416"/>
                    <a:pt x="1572" y="328"/>
                    <a:pt x="2064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051200" y="125748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Speech cod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11360" y="5527800"/>
              <a:ext cx="207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adio 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6781680" y="762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125800" y="747720"/>
              <a:ext cx="76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pee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43960" y="824040"/>
              <a:ext cx="76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pee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6781680" y="1676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890720" y="171468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3 Kb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06560" y="2604960"/>
              <a:ext cx="112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2.8 Kb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14400" y="3505320"/>
              <a:ext cx="112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2.8 Kb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753920" y="4419720"/>
              <a:ext cx="112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3.6 Kb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738080" y="5334120"/>
              <a:ext cx="112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3.6 Kb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20960" y="5943600"/>
              <a:ext cx="134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70.83 Kb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1676520" y="762120"/>
              <a:ext cx="75960" cy="4952880"/>
              <a:chOff x="1676520" y="762120"/>
              <a:chExt cx="75960" cy="4952880"/>
            </a:xfrm>
          </p:grpSpPr>
          <p:sp>
            <p:nvSpPr>
              <p:cNvPr id="206" name=""/>
              <p:cNvSpPr/>
              <p:nvPr/>
            </p:nvSpPr>
            <p:spPr>
              <a:xfrm>
                <a:off x="1676520" y="7621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676520" y="16765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752480" y="2590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752480" y="53341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752480" y="44197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752480" y="35053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 flipV="1">
              <a:off x="6781680" y="25909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6781680" y="3505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6781680" y="4419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6781680" y="5334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66680" y="1828800"/>
            <a:ext cx="7239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5240" indent="-1652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GSM-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echnical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rame Structure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hann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haracteristics and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ysical Cha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SM-Frame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391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ogical Chann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-304920" y="-39672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52480" y="19810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52480" y="1981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52480" y="4572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00400" y="14479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35053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1447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00400" y="2514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35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767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76720" y="5867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990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990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038480" y="1828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09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29200" y="2209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292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0292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343400" y="3124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43400" y="3124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43400" y="380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19720" y="41911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19720" y="4191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45720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5029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43400" y="5562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434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43400" y="6019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43400" y="6477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058120" y="1295280"/>
            <a:ext cx="8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raffi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057400" y="4724280"/>
            <a:ext cx="11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ontro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4480" y="31212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354480" y="42642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61240" y="5524560"/>
            <a:ext cx="11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dic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00240" y="201924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4 k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700240" y="232416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8 k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792400" y="266688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.6 k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37040" y="286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13360" y="2936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029200" y="3044880"/>
            <a:ext cx="28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CCH(Frequency corre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29920" y="3657600"/>
            <a:ext cx="22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H(Synchroniz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07320" y="403848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H(Pag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182920" y="441972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CH(Random Acc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83280" y="4800600"/>
            <a:ext cx="22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CH(Access Gra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82920" y="54100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DCCH(Stand Al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91120" y="590544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CCH(Slow-associat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54320" y="624852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CCH(Fast-associat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0" y="83520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lf rate 11.4k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0" y="160020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rate 22.8k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85640" y="110484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e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90200" y="217188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l Ro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Originating from 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termination to 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going C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4267080" cy="441936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343400" y="129492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sends dialled number to BS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S sends dialled number to M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,4     MSC checks VLR if MS is allowed the requested service.If so,MSC asks BSS to allocate resources for c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C routes the call to GM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MSC routes the call  to local exchange of called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, 8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,10    Answer back(ring back) tone is routed from called user to MS via GMSC,MSC,B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coming C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4724280" cy="411480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1640" y="228240"/>
            <a:ext cx="38862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ing a GSM subscri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ing call to GS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 Setup to HL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Request MSRN from VL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responsible MSC to GM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Call to current M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Get current status of 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 Paging of 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. MS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. Security ch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. Set up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ndo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4876560" cy="441936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1 and 2 – Inter BTS / Intra B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1 and 3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 BSC/ Intra M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1 and 4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 M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curity in G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ir interface, GSM uses encryption and TMSI instead of IM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 is provided 4-8 digit PIN to validate the ownership of S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algorithms are specified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3 algorithm for 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5 algorithm for encry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8 algorithm for key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uthentication in G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1581120"/>
            <a:ext cx="9144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ey generation and Encry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GSM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Global System for Mobile (GSM) is a second generation cellular standard developed to cater voice services and data delivery using digital mod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racteristics of GSM Stand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y digital system using 900,1800 MHz frequency b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DMA over radio carriers(200 KHz carrier spac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full rate or 16 half rate TDMA channels per carri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/terminal authentication for fraud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ryption of speech and data transmission over the radio pa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international roaming cap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speed data services (upto 9.6 Kb/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ISD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of Short Message Service (SM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vantages of GSM over Analo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y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d RF transmission power and longer battery 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roaming cap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security against fraud (through terminal validation and user authentic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ryption capability for information security and priva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ISDN,leading to wider range of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SM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e teleph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M-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metr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Flee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utomatic meter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oll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emote control and fault reporting of DG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Add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SM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14300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-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rer or Data Ser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ementary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le Servic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1238400"/>
            <a:ext cx="8686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communication services that enable voice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a mobile 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ere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obile teleph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Emergency cal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arer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various data services for information transfer  between GSM and other networks like PSTN, ISDN etc at rates from 300 to 9600 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Message Service (SM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123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160 character alphanumeric data transmission to/from the mobile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fied Messaging Services(U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3 f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ce mail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upplementary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4495680" y="1463400"/>
            <a:ext cx="3962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" y="1371600"/>
            <a:ext cx="8610480" cy="57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related servic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Waiting- Notification of an incoming call while on the hand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Hold- Put a caller on hold to take another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Barring- All calls, outgoing calls, or incoming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Forwarding- Calls can be sent to various numbers defined by the 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 Party Call Conferencing - Link multiple calls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P – Caller line identification 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R – Caller line identification restr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G – Closed user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SM Ev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nd Gene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SM -9.6 Kbps (data r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 Generation ( Future of GS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SCSD (High Speed ckt Switched 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rate : 76.8 Kbps (9.6 x 8 kb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RS (General Packet Radio serv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rate: 14.4 - 115.2 K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GE (Enhanced data rate for GSM Evol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rate: 547.2 Kbps (max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CDMA(Wide band CD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rate : 0.348 – 2.0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SM: Hi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143000"/>
            <a:ext cx="8610480" cy="55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ed 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Spéciale Mobile (founded 1982) which was an    initiative of CEPT ( Conference of European Post and Telecommunication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m : to replace the incompatible analog syst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ly the responsibility of GSM standardization resides with special mobile group under ETSI ( European telecommunication Standards Institute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set of specifications phase-I became available in 199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ETSI, GSM is named as “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ba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stem f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ile communication 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 many providers all over the world use GSM (more than 1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ries in Asia, Africa, Europe, Australia, Americ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than 1300 million subscribers in world and  45 million subscriber in Ind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SM in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193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1600200"/>
          <a:ext cx="914400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SM System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2743200"/>
            <a:ext cx="53352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772400" y="1905120"/>
            <a:ext cx="4572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19520" y="1523880"/>
            <a:ext cx="304560" cy="3812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1295280"/>
            <a:ext cx="3049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71800" y="3657600"/>
            <a:ext cx="304920" cy="3808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09680" y="4800600"/>
            <a:ext cx="304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3429000"/>
            <a:ext cx="30456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162920" y="4572000"/>
            <a:ext cx="53316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4724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6553080" y="4343400"/>
            <a:ext cx="609840" cy="914400"/>
            <a:chOff x="6553080" y="4343400"/>
            <a:chExt cx="609840" cy="914400"/>
          </a:xfrm>
        </p:grpSpPr>
        <p:sp>
          <p:nvSpPr>
            <p:cNvPr id="71" name=""/>
            <p:cNvSpPr/>
            <p:nvPr/>
          </p:nvSpPr>
          <p:spPr>
            <a:xfrm>
              <a:off x="6553080" y="4343400"/>
              <a:ext cx="53352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086600" y="44956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553080" y="44956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553080" y="4876920"/>
              <a:ext cx="53352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62920" y="4724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7162920" y="5105520"/>
            <a:ext cx="53316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772400" y="4800600"/>
            <a:ext cx="5335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05920" y="4952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77240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72400" y="5334120"/>
            <a:ext cx="53352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562720" y="3200400"/>
            <a:ext cx="358128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29000" y="5181480"/>
            <a:ext cx="763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447920"/>
            <a:ext cx="763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4495680"/>
            <a:ext cx="763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209680" y="41907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71600" y="685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1142640" y="6854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371600" y="6854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762120" y="2819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533160" y="2819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1980720" y="41907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320" y="3886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3886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327672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320" y="464832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9112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819520" y="601956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19520" y="464832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601992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320" y="1143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1143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6320" y="53316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447920" y="190476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53352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320" y="1905120"/>
            <a:ext cx="137160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19520" y="1143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911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276720" y="32767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19520" y="190512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486400" y="2133720"/>
            <a:ext cx="22860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200400" y="2971800"/>
            <a:ext cx="17524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71800" y="1752480"/>
            <a:ext cx="19810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1599840" y="1447560"/>
            <a:ext cx="10666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857640" y="38862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7467120" y="41148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8077320" y="434340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437920" y="464832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447920" y="495252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990720" y="32767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76320" y="358092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437920" y="3733920"/>
            <a:ext cx="38124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358128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1219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3809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1981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43200" y="5715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1600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3809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8108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43800" y="2514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M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153280" y="457200"/>
            <a:ext cx="99072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T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8229600" y="17521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5105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53080" y="5410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23888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L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276720" y="44956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44956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2895480" y="457164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76920" y="3809880"/>
            <a:ext cx="30456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38862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76920" y="38862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4076640"/>
            <a:ext cx="304560" cy="190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028840" y="335268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L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SM System Architecture-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bile Station (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e Equipment (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criber Identity Module (SI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 Station Subsystem (B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Transceiver Station (B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Station Controller (B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Switching Subsystem(N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e Switching Center (M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Location Register (HL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tor Location Register (VL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ation Center (AU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pment Identity Register (E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bile Station (M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bile Station is made up of two ent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e Equipment (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criber Identity Module (SI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bile Station (MS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bile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able,vehicle mounted, hand held devic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quely identified by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E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nternational Mobile Equipment Ident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ce and data transmi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power and signal quality of surrounding cells for optimum hand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level : 0.8W – 20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0 character long  S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0T14:35:30Z</dcterms:created>
  <dc:creator>PValenzuela</dc:creator>
  <dc:description/>
  <dc:language>en-US</dc:language>
  <cp:lastModifiedBy>Valenzuela Patricio</cp:lastModifiedBy>
  <dcterms:modified xsi:type="dcterms:W3CDTF">2005-10-05T02:43:03Z</dcterms:modified>
  <cp:revision>110</cp:revision>
  <dc:subject/>
  <dc:title>Presentation on GSM</dc:title>
</cp:coreProperties>
</file>