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311-5847-4317-85DA-68D3009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833-C7E3-4699-8148-D14D18D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253-4A41-4A8E-81AB-E8493B95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93A-92EE-47B4-9C45-A7DEBC2B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9C2-CD6F-4E71-B841-F3A78AE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8EE-EAF5-4478-B077-33BC7276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99D-B287-42CC-ADFF-86EF82A8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F06-A9E2-46EE-ABE3-6EAB491A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C4B-EA0B-4B74-901A-F73E849F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5C6-8043-4F4F-8024-0357776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29C-A7D4-4C6E-99D6-7C42C9D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51F-46AF-436D-A236-D20DD90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E79-734F-4904-9B53-7F9042EB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9363240" cy="6381720"/>
            <a:chOff x="0" y="476280"/>
            <a:chExt cx="9363240" cy="6381720"/>
          </a:xfrm>
        </p:grpSpPr>
        <p:sp>
          <p:nvSpPr>
            <p:cNvPr id="42" name=""/>
            <p:cNvSpPr/>
            <p:nvPr/>
          </p:nvSpPr>
          <p:spPr>
            <a:xfrm>
              <a:off x="0" y="1628640"/>
              <a:ext cx="9144000" cy="5229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0" y="3608280"/>
              <a:ext cx="8841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0000" y="3635280"/>
              <a:ext cx="312480" cy="1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07960" y="3196800"/>
              <a:ext cx="2835000" cy="1069920"/>
              <a:chOff x="507960" y="3196800"/>
              <a:chExt cx="2835000" cy="1069920"/>
            </a:xfrm>
          </p:grpSpPr>
          <p:sp>
            <p:nvSpPr>
              <p:cNvPr id="46" name=""/>
              <p:cNvSpPr/>
              <p:nvPr/>
            </p:nvSpPr>
            <p:spPr>
              <a:xfrm>
                <a:off x="507960" y="3197160"/>
                <a:ext cx="2835000" cy="1069560"/>
              </a:xfrm>
              <a:prstGeom prst="hexagon">
                <a:avLst>
                  <a:gd name="adj" fmla="val 66266"/>
                  <a:gd name="vf" fmla="val 115470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efef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3000" y="3732120"/>
                <a:ext cx="28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1211400" y="3196800"/>
                <a:ext cx="141732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1216080" y="3196800"/>
                <a:ext cx="142308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875960" y="2892600"/>
              <a:ext cx="89280" cy="823680"/>
              <a:chOff x="1875960" y="2892600"/>
              <a:chExt cx="89280" cy="82368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875960" y="2892600"/>
                <a:ext cx="88920" cy="82368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81080 h 823680"/>
                  <a:gd name="textAreaBottom" fmla="*/ 642600 h 82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187596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9920" y="3456720"/>
                <a:ext cx="77760" cy="114120"/>
              </a:xfrm>
              <a:custGeom>
                <a:avLst/>
                <a:gdLst/>
                <a:ahLst/>
                <a:rect l="l" t="t" r="r" b="b"/>
                <a:pathLst>
                  <a:path w="168" h="120">
                    <a:moveTo>
                      <a:pt x="0" y="120"/>
                    </a:move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83520" y="3319560"/>
                <a:ext cx="77760" cy="137160"/>
              </a:xfrm>
              <a:custGeom>
                <a:avLst/>
                <a:gdLst/>
                <a:ahLst/>
                <a:rect l="l" t="t" r="r" b="b"/>
                <a:pathLst>
                  <a:path w="168" h="144">
                    <a:moveTo>
                      <a:pt x="168" y="1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83520" y="3166920"/>
                <a:ext cx="66600" cy="15228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0" y="160"/>
                    </a:moveTo>
                    <a:lnTo>
                      <a:pt x="14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1898280" y="307548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1898280" y="298404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87632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83520" y="34567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6" y="12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83520" y="3319560"/>
                <a:ext cx="70560" cy="106560"/>
              </a:xfrm>
              <a:custGeom>
                <a:avLst/>
                <a:gdLst/>
                <a:ahLst/>
                <a:rect l="l" t="t" r="r" b="b"/>
                <a:pathLst>
                  <a:path w="152" h="112">
                    <a:moveTo>
                      <a:pt x="0" y="112"/>
                    </a:moveTo>
                    <a:lnTo>
                      <a:pt x="152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887120" y="3174120"/>
                <a:ext cx="6660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94680" y="3075480"/>
                <a:ext cx="55440" cy="11448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12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94680" y="2976480"/>
                <a:ext cx="48240" cy="9900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68360" y="2955960"/>
              <a:ext cx="272880" cy="303120"/>
              <a:chOff x="1368360" y="2955960"/>
              <a:chExt cx="272880" cy="30312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470600" y="2955960"/>
                <a:ext cx="170640" cy="16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68360" y="3097800"/>
                <a:ext cx="170640" cy="16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70600" y="3094200"/>
                <a:ext cx="684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81280" y="2765520"/>
              <a:ext cx="256680" cy="231840"/>
              <a:chOff x="1781280" y="2765520"/>
              <a:chExt cx="256680" cy="231840"/>
            </a:xfrm>
          </p:grpSpPr>
          <p:sp>
            <p:nvSpPr>
              <p:cNvPr id="71" name=""/>
              <p:cNvSpPr/>
              <p:nvPr/>
            </p:nvSpPr>
            <p:spPr>
              <a:xfrm>
                <a:off x="1800000" y="2880720"/>
                <a:ext cx="1123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81280" y="2765520"/>
                <a:ext cx="36360" cy="224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912320" y="2880720"/>
                <a:ext cx="1112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001240" y="2771640"/>
                <a:ext cx="36360" cy="225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108080" y="3124080"/>
              <a:ext cx="92160" cy="341280"/>
            </a:xfrm>
            <a:prstGeom prst="cube">
              <a:avLst>
                <a:gd name="adj" fmla="val 75000"/>
              </a:avLst>
            </a:prstGeom>
            <a:solidFill>
              <a:srgbClr val="dad5b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640" y="3375000"/>
              <a:ext cx="48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42840" y="3305160"/>
              <a:ext cx="162000" cy="544680"/>
            </a:xfrm>
            <a:custGeom>
              <a:avLst/>
              <a:gdLst/>
              <a:ahLst/>
              <a:rect l="l" t="t" r="r" b="b"/>
              <a:pathLst>
                <a:path w="182" h="536">
                  <a:moveTo>
                    <a:pt x="0" y="0"/>
                  </a:moveTo>
                  <a:lnTo>
                    <a:pt x="0" y="536"/>
                  </a:lnTo>
                  <a:lnTo>
                    <a:pt x="182" y="5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659000">
              <a:off x="1734480" y="3544560"/>
              <a:ext cx="330120" cy="130320"/>
            </a:xfrm>
            <a:custGeom>
              <a:avLst/>
              <a:gdLst>
                <a:gd name="textAreaLeft" fmla="*/ 72360 w 330120"/>
                <a:gd name="textAreaRight" fmla="*/ 257760 w 330120"/>
                <a:gd name="textAreaTop" fmla="*/ 28440 h 130320"/>
                <a:gd name="textAreaBottom" fmla="*/ 1018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54120" y="3630600"/>
              <a:ext cx="277920" cy="209520"/>
              <a:chOff x="654120" y="3630600"/>
              <a:chExt cx="277920" cy="209520"/>
            </a:xfrm>
          </p:grpSpPr>
          <p:sp>
            <p:nvSpPr>
              <p:cNvPr id="80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14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528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4600" y="3760560"/>
                <a:ext cx="100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952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60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404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33280" y="3705120"/>
              <a:ext cx="304920" cy="53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943360" y="3541680"/>
              <a:ext cx="371520" cy="239400"/>
              <a:chOff x="2943360" y="3541680"/>
              <a:chExt cx="371520" cy="239400"/>
            </a:xfrm>
          </p:grpSpPr>
          <p:sp>
            <p:nvSpPr>
              <p:cNvPr id="93" name=""/>
              <p:cNvSpPr/>
              <p:nvPr/>
            </p:nvSpPr>
            <p:spPr>
              <a:xfrm>
                <a:off x="2981160" y="3698640"/>
                <a:ext cx="151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3720" y="3643560"/>
                <a:ext cx="363240" cy="133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43360" y="3615120"/>
                <a:ext cx="371520" cy="101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43720" y="3541680"/>
                <a:ext cx="363240" cy="133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97200" y="3081240"/>
              <a:ext cx="1313640" cy="994680"/>
              <a:chOff x="3697200" y="3081240"/>
              <a:chExt cx="1313640" cy="9946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697200" y="3081240"/>
                <a:ext cx="1313640" cy="994680"/>
                <a:chOff x="3697200" y="3081240"/>
                <a:chExt cx="1313640" cy="994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920" y="3081240"/>
                  <a:ext cx="564480" cy="40824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6160" y="3182400"/>
                  <a:ext cx="426240" cy="4078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7200" y="3443400"/>
                  <a:ext cx="282960" cy="322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94760" y="3590640"/>
                  <a:ext cx="426240" cy="349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6160" y="3651840"/>
                  <a:ext cx="650520" cy="4240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28800" y="3196080"/>
                  <a:ext cx="409320" cy="3214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86040" y="3414960"/>
                  <a:ext cx="409320" cy="3106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57600" y="3477240"/>
                  <a:ext cx="396360" cy="52560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38040" y="3313440"/>
                  <a:ext cx="844920" cy="52596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49720" y="3081240"/>
                  <a:ext cx="563760" cy="4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52240" y="3083760"/>
                  <a:ext cx="55836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36160" y="3182400"/>
                  <a:ext cx="425160" cy="40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39040" y="3184920"/>
                  <a:ext cx="420120" cy="40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94760" y="3578760"/>
                  <a:ext cx="43956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97280" y="3581280"/>
                  <a:ext cx="43380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28080" y="3196080"/>
                  <a:ext cx="40968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32040" y="3198600"/>
                  <a:ext cx="40320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528800" y="3403800"/>
                  <a:ext cx="482040" cy="33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31680" y="3405600"/>
                  <a:ext cx="47628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44280" y="3489840"/>
                  <a:ext cx="422280" cy="52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7520" y="3493800"/>
                  <a:ext cx="41616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97200" y="3431160"/>
                  <a:ext cx="294120" cy="33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99360" y="3434040"/>
                  <a:ext cx="2887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107600" y="3692160"/>
                  <a:ext cx="635040" cy="3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10480" y="3694680"/>
                  <a:ext cx="629640" cy="37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792240" y="3317400"/>
                <a:ext cx="113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808080"/>
                    </a:solidFill>
                    <a:latin typeface="Arial"/>
                  </a:rPr>
                  <a:t>Red de Transmis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448160" y="4759200"/>
              <a:ext cx="1366560" cy="1221480"/>
              <a:chOff x="4448160" y="4759200"/>
              <a:chExt cx="1366560" cy="12214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4400" y="5091480"/>
                <a:ext cx="172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4448160" y="4759200"/>
                <a:ext cx="1366560" cy="1221480"/>
                <a:chOff x="4448160" y="4759200"/>
                <a:chExt cx="1366560" cy="1221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16880" y="4759200"/>
                  <a:ext cx="58716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92880" y="4883760"/>
                  <a:ext cx="443160" cy="501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48160" y="5204160"/>
                  <a:ext cx="294120" cy="3967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49320" y="5384880"/>
                  <a:ext cx="443160" cy="429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73680" y="5459760"/>
                  <a:ext cx="676800" cy="520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13240" y="4900320"/>
                  <a:ext cx="425880" cy="394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2640" y="5169240"/>
                  <a:ext cx="425880" cy="38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42760" y="5245560"/>
                  <a:ext cx="412200" cy="645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98720" y="5044680"/>
                  <a:ext cx="878760" cy="6462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18680" y="4759200"/>
                  <a:ext cx="586440" cy="50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1200" y="4762440"/>
                  <a:ext cx="580680" cy="49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2880" y="4883760"/>
                  <a:ext cx="442440" cy="50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5760" y="4886640"/>
                  <a:ext cx="437040" cy="4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49320" y="5370120"/>
                  <a:ext cx="456840" cy="46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52200" y="5373360"/>
                  <a:ext cx="451440" cy="45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12160" y="4900320"/>
                  <a:ext cx="426240" cy="37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16480" y="4903200"/>
                  <a:ext cx="41904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13600" y="5155200"/>
                  <a:ext cx="501120" cy="41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16120" y="5157720"/>
                  <a:ext cx="495720" cy="40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28720" y="5261400"/>
                  <a:ext cx="43956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2680" y="5265720"/>
                  <a:ext cx="432720" cy="63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448160" y="5189040"/>
                  <a:ext cx="305640" cy="41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50320" y="5192640"/>
                  <a:ext cx="300600" cy="40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5120" y="5510160"/>
                  <a:ext cx="660240" cy="47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8000" y="5513040"/>
                  <a:ext cx="654840" cy="46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552560" y="520632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Comic Sans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686720" y="3203640"/>
              <a:ext cx="1266480" cy="977400"/>
              <a:chOff x="7686720" y="3203640"/>
              <a:chExt cx="1266480" cy="977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686720" y="3203640"/>
                <a:ext cx="1266480" cy="977400"/>
                <a:chOff x="7686720" y="3203640"/>
                <a:chExt cx="1266480" cy="9774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121240" y="3203640"/>
                  <a:ext cx="544320" cy="4010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820640" y="3303000"/>
                  <a:ext cx="410760" cy="4006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6720" y="3559680"/>
                  <a:ext cx="272520" cy="31716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780680" y="3704040"/>
                  <a:ext cx="410760" cy="3438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80920" y="3764160"/>
                  <a:ext cx="627120" cy="4168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488440" y="3316320"/>
                  <a:ext cx="394560" cy="31572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43520" y="3531600"/>
                  <a:ext cx="394560" cy="3052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15800" y="3592800"/>
                  <a:ext cx="381960" cy="5162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18920" y="3431880"/>
                  <a:ext cx="814320" cy="5166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22680" y="3203640"/>
                  <a:ext cx="54360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125200" y="3206160"/>
                  <a:ext cx="53784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20640" y="3303000"/>
                  <a:ext cx="41004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823520" y="3305520"/>
                  <a:ext cx="40500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80680" y="3692160"/>
                  <a:ext cx="423720" cy="37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83200" y="3695040"/>
                  <a:ext cx="418320" cy="36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87360" y="3316320"/>
                  <a:ext cx="3949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91320" y="3318840"/>
                  <a:ext cx="388440" cy="29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88440" y="3520080"/>
                  <a:ext cx="464760" cy="32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491320" y="3522240"/>
                  <a:ext cx="45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03200" y="3605400"/>
                  <a:ext cx="407160" cy="51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506440" y="3608640"/>
                  <a:ext cx="401040" cy="51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86720" y="3547440"/>
                  <a:ext cx="2833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8880" y="3550320"/>
                  <a:ext cx="2782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082360" y="3804120"/>
                  <a:ext cx="612360" cy="37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84880" y="3806280"/>
                  <a:ext cx="606960" cy="37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826760" y="350028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ffffff"/>
                    </a:solidFill>
                    <a:latin typeface="Comic Sans MS"/>
                  </a:rPr>
                  <a:t>PST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5651640" y="1546200"/>
              <a:ext cx="20462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943600" y="1611360"/>
              <a:ext cx="154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Control y 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Nivel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214960" y="3489480"/>
              <a:ext cx="471600" cy="304560"/>
              <a:chOff x="5214960" y="3489480"/>
              <a:chExt cx="471600" cy="304560"/>
            </a:xfrm>
          </p:grpSpPr>
          <p:sp>
            <p:nvSpPr>
              <p:cNvPr id="201" name=""/>
              <p:cNvSpPr/>
              <p:nvPr/>
            </p:nvSpPr>
            <p:spPr>
              <a:xfrm>
                <a:off x="5263200" y="3688920"/>
                <a:ext cx="192240" cy="1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5680" y="3619080"/>
                <a:ext cx="461160" cy="169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4960" y="3582720"/>
                <a:ext cx="471600" cy="129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15680" y="3489480"/>
                <a:ext cx="461160" cy="169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6475320" y="3182760"/>
              <a:ext cx="46044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295200" y="4089240"/>
              <a:ext cx="389160" cy="6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295360" y="3457440"/>
              <a:ext cx="3906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70120" y="2478240"/>
              <a:ext cx="91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EEE 802.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7600" y="371304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6640" y="373392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3000" y="319104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9760" y="32083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316080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4200" y="311472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9760" y="3794040"/>
              <a:ext cx="129960" cy="23652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3786120"/>
              <a:ext cx="166680" cy="82728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5960" y="3635280"/>
              <a:ext cx="215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1040" y="3645000"/>
              <a:ext cx="26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14880" y="3645000"/>
              <a:ext cx="311040" cy="1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05640" y="3607920"/>
              <a:ext cx="784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0760" y="2181240"/>
              <a:ext cx="434880" cy="2746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21560" y="2189160"/>
              <a:ext cx="522360" cy="287280"/>
            </a:xfrm>
            <a:prstGeom prst="ellipse">
              <a:avLst/>
            </a:prstGeom>
            <a:solidFill>
              <a:srgbClr val="dad5ba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8720" y="2184480"/>
              <a:ext cx="67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W Si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6120" y="21747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24640" y="2528640"/>
              <a:ext cx="609480" cy="11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242120" y="2479320"/>
              <a:ext cx="89208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43800" y="2552400"/>
              <a:ext cx="1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2640" y="38941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808080"/>
                  </a:solidFill>
                  <a:latin typeface="Times New Roman"/>
                </a:rPr>
                <a:t>GW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148360" y="3742920"/>
              <a:ext cx="269640" cy="12495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365436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2000" y="26589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5080" y="26449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1240" y="2730600"/>
              <a:ext cx="57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Q931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P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61040" y="354960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G.7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92600" y="411336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3314880"/>
              <a:ext cx="565200" cy="601560"/>
            </a:xfrm>
            <a:custGeom>
              <a:avLst/>
              <a:gdLst/>
              <a:ahLst/>
              <a:rect l="l" t="t" r="r" b="b"/>
              <a:pathLst>
                <a:path w="366" h="324">
                  <a:moveTo>
                    <a:pt x="0" y="324"/>
                  </a:moveTo>
                  <a:lnTo>
                    <a:pt x="120" y="156"/>
                  </a:ln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162080" y="2590560"/>
              <a:ext cx="568440" cy="4395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97080" y="3204720"/>
              <a:ext cx="1476360" cy="111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79880" y="3401640"/>
              <a:ext cx="536760" cy="3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958080" y="3533760"/>
              <a:ext cx="7380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452680"/>
              <a:ext cx="768240" cy="90180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49920" y="3524400"/>
              <a:ext cx="6732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9040" y="2583000"/>
              <a:ext cx="1440" cy="86652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97640" y="2543040"/>
              <a:ext cx="488880" cy="97164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967440" y="3838680"/>
              <a:ext cx="73656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43600" y="3800520"/>
              <a:ext cx="260280" cy="11145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79800" y="3793680"/>
              <a:ext cx="1444320" cy="1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1440" y="3738600"/>
              <a:ext cx="37764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46040" y="3044880"/>
              <a:ext cx="405000" cy="3333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320" y="3557520"/>
              <a:ext cx="453960" cy="1204920"/>
            </a:xfrm>
            <a:custGeom>
              <a:avLst/>
              <a:gdLst/>
              <a:ahLst/>
              <a:rect l="l" t="t" r="r" b="b"/>
              <a:pathLst>
                <a:path w="294" h="648">
                  <a:moveTo>
                    <a:pt x="0" y="648"/>
                  </a:moveTo>
                  <a:lnTo>
                    <a:pt x="156" y="648"/>
                  </a:lnTo>
                  <a:lnTo>
                    <a:pt x="294" y="0"/>
                  </a:lnTo>
                </a:path>
              </a:pathLst>
            </a:custGeom>
            <a:noFill/>
            <a:ln w="1908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9720" y="2860560"/>
              <a:ext cx="482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04760" y="4371120"/>
              <a:ext cx="3069000" cy="173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S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Subscriber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Base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 de 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AP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de Area Pri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K 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Kee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sig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de señ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WAN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Wide área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RA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Remote Access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266840" y="2895120"/>
              <a:ext cx="379440" cy="282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246400" y="3479400"/>
              <a:ext cx="1473120" cy="11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0640" y="395280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paquete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9600" y="4024440"/>
              <a:ext cx="6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circuito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78000" y="476280"/>
              <a:ext cx="8085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r>
                <a:rPr b="1" i="1" lang="es-C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red WI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835280" y="1413000"/>
            <a:ext cx="6000120" cy="4770000"/>
            <a:chOff x="1835280" y="1413000"/>
            <a:chExt cx="6000120" cy="4770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6753600" y="178992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753600" y="265536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808680" y="346608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6808680" y="422280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flipH="1">
              <a:off x="4267800" y="2602080"/>
              <a:ext cx="10656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74720" y="2602080"/>
              <a:ext cx="21708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374720" y="2168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7800" y="4276800"/>
              <a:ext cx="32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800" y="2602080"/>
              <a:ext cx="215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483440" y="1898280"/>
              <a:ext cx="1243080" cy="43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19240" y="1898280"/>
              <a:ext cx="107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19240" y="1845360"/>
              <a:ext cx="972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83440" y="2439360"/>
              <a:ext cx="12430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19240" y="2493000"/>
              <a:ext cx="107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9240" y="2655360"/>
              <a:ext cx="864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440" y="2547360"/>
              <a:ext cx="129816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19240" y="3141360"/>
              <a:ext cx="162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240" y="3196080"/>
              <a:ext cx="9720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3440" y="2655360"/>
              <a:ext cx="1298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10880" y="3573360"/>
              <a:ext cx="2703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1240" y="3628440"/>
              <a:ext cx="91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8520" y="2276640"/>
              <a:ext cx="1135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3440" y="4384440"/>
              <a:ext cx="15667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7960" y="465408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131800" y="5843160"/>
              <a:ext cx="19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58880" y="557424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726520" y="5087160"/>
              <a:ext cx="81000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phone3"/>
            <p:cNvSpPr/>
            <p:nvPr/>
          </p:nvSpPr>
          <p:spPr>
            <a:xfrm>
              <a:off x="4969800" y="5141880"/>
              <a:ext cx="34308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32160" y="5465520"/>
              <a:ext cx="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72160" y="4816440"/>
              <a:ext cx="108072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6720" y="4816440"/>
              <a:ext cx="919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5440" y="4870440"/>
              <a:ext cx="1027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04200" y="3249720"/>
              <a:ext cx="1298160" cy="173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4200" y="3087360"/>
              <a:ext cx="3243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8920" y="3087360"/>
              <a:ext cx="70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31640" y="3087360"/>
              <a:ext cx="2707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35280" y="5088240"/>
              <a:ext cx="18381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62160" y="5978520"/>
              <a:ext cx="2973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02360" y="379080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360" y="3357360"/>
              <a:ext cx="86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61640" y="3628440"/>
              <a:ext cx="54072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1640" y="3843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1640" y="411444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1640" y="438516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1640" y="3736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61640" y="395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1640" y="422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1640" y="4438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120" y="3627360"/>
              <a:ext cx="381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3120" y="3952800"/>
              <a:ext cx="8125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6920" y="3736080"/>
              <a:ext cx="3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9280" y="4061160"/>
              <a:ext cx="1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1413000"/>
              <a:ext cx="2595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figuracion W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843640" y="40464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ÁTICO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1349280"/>
          <a:ext cx="8686800" cy="50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9280"/>
                    <a:ext cx="8686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87640" y="404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95280" y="2060640"/>
          <a:ext cx="842472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424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1337760" y="620640"/>
            <a:ext cx="68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SISTEM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907920"/>
            <a:ext cx="77774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de 60 Mbps o más por base de 6 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locidades máximas típicas para el usuario de hasta 1 Mbps o m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WA da la posibilidad de complementar los sistemas móviles con acceso a Internet de banda ancha, para dar paso a los sistemas móviles 3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mayor limitación es que aun no garantizan la potencialidad de trabajar un 100% con no línea vista. Requiere de una antena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 requiere de un esfuerzo considerable en la planificación del sistema, pero menor que los sistemas de 1º gene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Nivel de Standard baj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, lo cual hace que no se alcancen economías de escala que bajen los precios de los terminales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5600" y="2602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STIC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4:45:23Z</dcterms:created>
  <dc:creator>Jorge</dc:creator>
  <dc:description/>
  <dc:language>en-US</dc:language>
  <cp:lastModifiedBy>Jorge</cp:lastModifiedBy>
  <dcterms:modified xsi:type="dcterms:W3CDTF">2005-06-17T14:29:57Z</dcterms:modified>
  <cp:revision>6</cp:revision>
  <dc:subject/>
  <dc:title>Diapositiva 1</dc:title>
</cp:coreProperties>
</file>