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5A6-3C8A-4E69-AEAD-87248077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96D-F55E-442B-B932-D0259002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C56-1CD2-4B23-8E3F-4337557B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2510-106A-45FE-95AC-1CDD9772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B5C-A4DF-4F72-A607-63097EB1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412-7B25-4480-9DAC-067EE245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FDE-85C6-4C37-92EB-A7F8D318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304-8D4F-454F-A742-80FD2C2A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BF0A-3300-433F-8C2A-A22FE8FB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D680-0C64-44E6-AC6C-0D482F7F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876-C099-42BD-8FFC-24F9FCFB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15D-688A-479D-93EA-5659BF1B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04ED-EF05-4B4D-B4CE-824FBC915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76280"/>
            <a:ext cx="9363240" cy="6381720"/>
            <a:chOff x="0" y="476280"/>
            <a:chExt cx="9363240" cy="6381720"/>
          </a:xfrm>
        </p:grpSpPr>
        <p:sp>
          <p:nvSpPr>
            <p:cNvPr id="42" name=""/>
            <p:cNvSpPr/>
            <p:nvPr/>
          </p:nvSpPr>
          <p:spPr>
            <a:xfrm>
              <a:off x="0" y="1628640"/>
              <a:ext cx="9144000" cy="52293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64400" y="3608280"/>
              <a:ext cx="88416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50000" y="3635280"/>
              <a:ext cx="312480" cy="180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507960" y="3196800"/>
              <a:ext cx="2835000" cy="1069920"/>
              <a:chOff x="507960" y="3196800"/>
              <a:chExt cx="2835000" cy="1069920"/>
            </a:xfrm>
          </p:grpSpPr>
          <p:sp>
            <p:nvSpPr>
              <p:cNvPr id="46" name=""/>
              <p:cNvSpPr/>
              <p:nvPr/>
            </p:nvSpPr>
            <p:spPr>
              <a:xfrm>
                <a:off x="507960" y="3197160"/>
                <a:ext cx="2835000" cy="1069560"/>
              </a:xfrm>
              <a:prstGeom prst="hexagon">
                <a:avLst>
                  <a:gd name="adj" fmla="val 66266"/>
                  <a:gd name="vf" fmla="val 115470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efefe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13000" y="3732120"/>
                <a:ext cx="28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V="1">
                <a:off x="1211400" y="3196800"/>
                <a:ext cx="1417320" cy="106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flipV="1">
                <a:off x="1216080" y="3196800"/>
                <a:ext cx="1423080" cy="106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1875960" y="2892600"/>
              <a:ext cx="89280" cy="823680"/>
              <a:chOff x="1875960" y="2892600"/>
              <a:chExt cx="89280" cy="823680"/>
            </a:xfrm>
          </p:grpSpPr>
          <p:sp>
            <p:nvSpPr>
              <p:cNvPr id="51" name=""/>
              <p:cNvSpPr/>
              <p:nvPr/>
            </p:nvSpPr>
            <p:spPr>
              <a:xfrm rot="10800000">
                <a:off x="1875960" y="2892600"/>
                <a:ext cx="88920" cy="823680"/>
              </a:xfrm>
              <a:custGeom>
                <a:avLst/>
                <a:gdLst>
                  <a:gd name="textAreaLeft" fmla="*/ 19440 w 88920"/>
                  <a:gd name="textAreaRight" fmla="*/ 69480 w 88920"/>
                  <a:gd name="textAreaTop" fmla="*/ 181080 h 823680"/>
                  <a:gd name="textAreaBottom" fmla="*/ 642600 h 82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flipV="1">
                <a:off x="1875960" y="3578400"/>
                <a:ext cx="8892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9920" y="3456720"/>
                <a:ext cx="77760" cy="114120"/>
              </a:xfrm>
              <a:custGeom>
                <a:avLst/>
                <a:gdLst/>
                <a:ahLst/>
                <a:rect l="l" t="t" r="r" b="b"/>
                <a:pathLst>
                  <a:path w="168" h="120">
                    <a:moveTo>
                      <a:pt x="0" y="120"/>
                    </a:moveTo>
                    <a:lnTo>
                      <a:pt x="168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883520" y="3319560"/>
                <a:ext cx="77760" cy="137160"/>
              </a:xfrm>
              <a:custGeom>
                <a:avLst/>
                <a:gdLst/>
                <a:ahLst/>
                <a:rect l="l" t="t" r="r" b="b"/>
                <a:pathLst>
                  <a:path w="168" h="144">
                    <a:moveTo>
                      <a:pt x="168" y="14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83520" y="3166920"/>
                <a:ext cx="66600" cy="152280"/>
              </a:xfrm>
              <a:custGeom>
                <a:avLst/>
                <a:gdLst/>
                <a:ahLst/>
                <a:rect l="l" t="t" r="r" b="b"/>
                <a:pathLst>
                  <a:path w="144" h="160">
                    <a:moveTo>
                      <a:pt x="0" y="160"/>
                    </a:moveTo>
                    <a:lnTo>
                      <a:pt x="144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 flipV="1">
                <a:off x="1898280" y="3075480"/>
                <a:ext cx="4464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1898280" y="2984040"/>
                <a:ext cx="4464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1898280" y="2892600"/>
                <a:ext cx="4464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1876320" y="3578400"/>
                <a:ext cx="8892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83520" y="3456720"/>
                <a:ext cx="81720" cy="122040"/>
              </a:xfrm>
              <a:custGeom>
                <a:avLst/>
                <a:gdLst/>
                <a:ahLst/>
                <a:rect l="l" t="t" r="r" b="b"/>
                <a:pathLst>
                  <a:path w="176" h="128">
                    <a:moveTo>
                      <a:pt x="176" y="128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83520" y="3319560"/>
                <a:ext cx="70560" cy="106560"/>
              </a:xfrm>
              <a:custGeom>
                <a:avLst/>
                <a:gdLst/>
                <a:ahLst/>
                <a:rect l="l" t="t" r="r" b="b"/>
                <a:pathLst>
                  <a:path w="152" h="112">
                    <a:moveTo>
                      <a:pt x="0" y="112"/>
                    </a:moveTo>
                    <a:lnTo>
                      <a:pt x="152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1887120" y="3174120"/>
                <a:ext cx="6660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894680" y="3075480"/>
                <a:ext cx="55440" cy="11448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0" y="120"/>
                    </a:moveTo>
                    <a:lnTo>
                      <a:pt x="12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894680" y="2976480"/>
                <a:ext cx="48240" cy="9900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104" y="10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1898280" y="2892600"/>
                <a:ext cx="4464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368360" y="2955960"/>
              <a:ext cx="272880" cy="303120"/>
              <a:chOff x="1368360" y="2955960"/>
              <a:chExt cx="272880" cy="303120"/>
            </a:xfrm>
          </p:grpSpPr>
          <p:sp>
            <p:nvSpPr>
              <p:cNvPr id="67" name=""/>
              <p:cNvSpPr/>
              <p:nvPr/>
            </p:nvSpPr>
            <p:spPr>
              <a:xfrm flipH="1">
                <a:off x="1470600" y="2955960"/>
                <a:ext cx="170640" cy="16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1368360" y="3097800"/>
                <a:ext cx="170640" cy="16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1470600" y="3094200"/>
                <a:ext cx="68400" cy="2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781280" y="2765520"/>
              <a:ext cx="256680" cy="231840"/>
              <a:chOff x="1781280" y="2765520"/>
              <a:chExt cx="256680" cy="231840"/>
            </a:xfrm>
          </p:grpSpPr>
          <p:sp>
            <p:nvSpPr>
              <p:cNvPr id="71" name=""/>
              <p:cNvSpPr/>
              <p:nvPr/>
            </p:nvSpPr>
            <p:spPr>
              <a:xfrm>
                <a:off x="1800000" y="2880720"/>
                <a:ext cx="11232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81280" y="2765520"/>
                <a:ext cx="36360" cy="2246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1912320" y="2880720"/>
                <a:ext cx="1112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2001240" y="2771640"/>
                <a:ext cx="36360" cy="225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 flipH="1">
              <a:off x="1108080" y="3124080"/>
              <a:ext cx="92160" cy="341280"/>
            </a:xfrm>
            <a:prstGeom prst="cube">
              <a:avLst>
                <a:gd name="adj" fmla="val 75000"/>
              </a:avLst>
            </a:prstGeom>
            <a:solidFill>
              <a:srgbClr val="dad5b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0640" y="3375000"/>
              <a:ext cx="48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942840" y="3305160"/>
              <a:ext cx="162000" cy="544680"/>
            </a:xfrm>
            <a:custGeom>
              <a:avLst/>
              <a:gdLst/>
              <a:ahLst/>
              <a:rect l="l" t="t" r="r" b="b"/>
              <a:pathLst>
                <a:path w="182" h="536">
                  <a:moveTo>
                    <a:pt x="0" y="0"/>
                  </a:moveTo>
                  <a:lnTo>
                    <a:pt x="0" y="536"/>
                  </a:lnTo>
                  <a:lnTo>
                    <a:pt x="182" y="5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0659000">
              <a:off x="1734480" y="3544560"/>
              <a:ext cx="330120" cy="130320"/>
            </a:xfrm>
            <a:custGeom>
              <a:avLst/>
              <a:gdLst>
                <a:gd name="textAreaLeft" fmla="*/ 72360 w 330120"/>
                <a:gd name="textAreaRight" fmla="*/ 257760 w 330120"/>
                <a:gd name="textAreaTop" fmla="*/ 28440 h 130320"/>
                <a:gd name="textAreaBottom" fmla="*/ 10188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654120" y="3630600"/>
              <a:ext cx="277920" cy="209520"/>
              <a:chOff x="654120" y="3630600"/>
              <a:chExt cx="277920" cy="209520"/>
            </a:xfrm>
          </p:grpSpPr>
          <p:sp>
            <p:nvSpPr>
              <p:cNvPr id="80" name=""/>
              <p:cNvSpPr/>
              <p:nvPr/>
            </p:nvSpPr>
            <p:spPr>
              <a:xfrm>
                <a:off x="654120" y="3715560"/>
                <a:ext cx="211320" cy="124200"/>
              </a:xfrm>
              <a:prstGeom prst="rect">
                <a:avLst/>
              </a:pr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4120" y="3715560"/>
                <a:ext cx="211320" cy="124200"/>
              </a:xfrm>
              <a:prstGeom prst="rect">
                <a:avLst/>
              </a:prstGeom>
              <a:solidFill>
                <a:srgbClr val="b7b79d"/>
              </a:solidFill>
              <a:ln w="1440">
                <a:solidFill>
                  <a:srgbClr val="4949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65440" y="3630600"/>
                <a:ext cx="66240" cy="209520"/>
              </a:xfrm>
              <a:custGeom>
                <a:avLst/>
                <a:gdLst/>
                <a:ahLst/>
                <a:rect l="l" t="t" r="r" b="b"/>
                <a:pathLst>
                  <a:path w="59" h="140">
                    <a:moveTo>
                      <a:pt x="0" y="140"/>
                    </a:moveTo>
                    <a:lnTo>
                      <a:pt x="0" y="57"/>
                    </a:lnTo>
                    <a:lnTo>
                      <a:pt x="59" y="0"/>
                    </a:lnTo>
                    <a:lnTo>
                      <a:pt x="59" y="8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65440" y="3630600"/>
                <a:ext cx="66240" cy="209520"/>
              </a:xfrm>
              <a:custGeom>
                <a:avLst/>
                <a:gdLst/>
                <a:ahLst/>
                <a:rect l="l" t="t" r="r" b="b"/>
                <a:pathLst>
                  <a:path w="59" h="140">
                    <a:moveTo>
                      <a:pt x="0" y="140"/>
                    </a:moveTo>
                    <a:lnTo>
                      <a:pt x="0" y="57"/>
                    </a:lnTo>
                    <a:lnTo>
                      <a:pt x="59" y="0"/>
                    </a:lnTo>
                    <a:lnTo>
                      <a:pt x="59" y="8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7a7a5a"/>
              </a:solidFill>
              <a:ln w="144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54120" y="3630600"/>
                <a:ext cx="277920" cy="84960"/>
              </a:xfrm>
              <a:custGeom>
                <a:avLst/>
                <a:gdLst/>
                <a:ahLst/>
                <a:rect l="l" t="t" r="r" b="b"/>
                <a:pathLst>
                  <a:path w="247" h="57">
                    <a:moveTo>
                      <a:pt x="0" y="57"/>
                    </a:moveTo>
                    <a:lnTo>
                      <a:pt x="58" y="0"/>
                    </a:lnTo>
                    <a:lnTo>
                      <a:pt x="247" y="0"/>
                    </a:lnTo>
                    <a:lnTo>
                      <a:pt x="188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c9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54120" y="3630600"/>
                <a:ext cx="277920" cy="84960"/>
              </a:xfrm>
              <a:custGeom>
                <a:avLst/>
                <a:gdLst/>
                <a:ahLst/>
                <a:rect l="l" t="t" r="r" b="b"/>
                <a:pathLst>
                  <a:path w="247" h="57">
                    <a:moveTo>
                      <a:pt x="0" y="57"/>
                    </a:moveTo>
                    <a:lnTo>
                      <a:pt x="58" y="0"/>
                    </a:lnTo>
                    <a:lnTo>
                      <a:pt x="247" y="0"/>
                    </a:lnTo>
                    <a:lnTo>
                      <a:pt x="188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c9c9b6"/>
              </a:solidFill>
              <a:ln w="144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65280" y="3760560"/>
                <a:ext cx="24480" cy="16560"/>
              </a:xfrm>
              <a:prstGeom prst="ellipse">
                <a:avLst/>
              </a:prstGeom>
              <a:solidFill>
                <a:srgbClr val="ff000c"/>
              </a:solidFill>
              <a:ln w="1440">
                <a:solidFill>
                  <a:srgbClr val="5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14600" y="3760560"/>
                <a:ext cx="10080" cy="16560"/>
              </a:xfrm>
              <a:prstGeom prst="ellipse">
                <a:avLst/>
              </a:prstGeom>
              <a:solidFill>
                <a:srgbClr val="ff000c"/>
              </a:solidFill>
              <a:ln w="1440">
                <a:solidFill>
                  <a:srgbClr val="5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9520" y="3760560"/>
                <a:ext cx="12240" cy="16560"/>
              </a:xfrm>
              <a:prstGeom prst="ellipse">
                <a:avLst/>
              </a:prstGeom>
              <a:solidFill>
                <a:srgbClr val="ff000c"/>
              </a:solidFill>
              <a:ln w="1440">
                <a:solidFill>
                  <a:srgbClr val="5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86600" y="3760560"/>
                <a:ext cx="12240" cy="16560"/>
              </a:xfrm>
              <a:prstGeom prst="ellipse">
                <a:avLst/>
              </a:prstGeom>
              <a:solidFill>
                <a:srgbClr val="ff000c"/>
              </a:solidFill>
              <a:ln w="1440">
                <a:solidFill>
                  <a:srgbClr val="5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4040" y="3760560"/>
                <a:ext cx="24480" cy="16560"/>
              </a:xfrm>
              <a:prstGeom prst="ellipse">
                <a:avLst/>
              </a:prstGeom>
              <a:solidFill>
                <a:srgbClr val="ff000c"/>
              </a:solidFill>
              <a:ln w="1440">
                <a:solidFill>
                  <a:srgbClr val="5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233280" y="3705120"/>
              <a:ext cx="304920" cy="53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"/>
            <p:cNvGrpSpPr/>
            <p:nvPr/>
          </p:nvGrpSpPr>
          <p:grpSpPr>
            <a:xfrm>
              <a:off x="2943360" y="3541680"/>
              <a:ext cx="371520" cy="239400"/>
              <a:chOff x="2943360" y="3541680"/>
              <a:chExt cx="371520" cy="239400"/>
            </a:xfrm>
          </p:grpSpPr>
          <p:sp>
            <p:nvSpPr>
              <p:cNvPr id="93" name=""/>
              <p:cNvSpPr/>
              <p:nvPr/>
            </p:nvSpPr>
            <p:spPr>
              <a:xfrm>
                <a:off x="2981160" y="3698640"/>
                <a:ext cx="15120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43720" y="3643560"/>
                <a:ext cx="363240" cy="1335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943360" y="3615120"/>
                <a:ext cx="371520" cy="1018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943720" y="3541680"/>
                <a:ext cx="363240" cy="1335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133440" y="3560760"/>
                <a:ext cx="122040" cy="464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38"/>
                    </a:moveTo>
                    <a:lnTo>
                      <a:pt x="34" y="49"/>
                    </a:lnTo>
                    <a:lnTo>
                      <a:pt x="115" y="17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133440" y="3560760"/>
                <a:ext cx="122040" cy="464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38"/>
                    </a:moveTo>
                    <a:lnTo>
                      <a:pt x="34" y="49"/>
                    </a:lnTo>
                    <a:lnTo>
                      <a:pt x="115" y="17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999160" y="3615120"/>
                <a:ext cx="122760" cy="48600"/>
              </a:xfrm>
              <a:custGeom>
                <a:avLst/>
                <a:gdLst/>
                <a:ahLst/>
                <a:rect l="l" t="t" r="r" b="b"/>
                <a:pathLst>
                  <a:path w="153" h="51">
                    <a:moveTo>
                      <a:pt x="153" y="10"/>
                    </a:moveTo>
                    <a:lnTo>
                      <a:pt x="119" y="0"/>
                    </a:lnTo>
                    <a:lnTo>
                      <a:pt x="40" y="32"/>
                    </a:lnTo>
                    <a:lnTo>
                      <a:pt x="0" y="21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7" y="40"/>
                    </a:lnTo>
                    <a:lnTo>
                      <a:pt x="15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999160" y="3615120"/>
                <a:ext cx="122760" cy="48600"/>
              </a:xfrm>
              <a:custGeom>
                <a:avLst/>
                <a:gdLst/>
                <a:ahLst/>
                <a:rect l="l" t="t" r="r" b="b"/>
                <a:pathLst>
                  <a:path w="153" h="51">
                    <a:moveTo>
                      <a:pt x="153" y="10"/>
                    </a:moveTo>
                    <a:lnTo>
                      <a:pt x="119" y="0"/>
                    </a:lnTo>
                    <a:lnTo>
                      <a:pt x="40" y="32"/>
                    </a:lnTo>
                    <a:lnTo>
                      <a:pt x="0" y="21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7" y="40"/>
                    </a:lnTo>
                    <a:lnTo>
                      <a:pt x="15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06720" y="3558960"/>
                <a:ext cx="122040" cy="4572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10"/>
                    </a:moveTo>
                    <a:lnTo>
                      <a:pt x="34" y="0"/>
                    </a:lnTo>
                    <a:lnTo>
                      <a:pt x="115" y="29"/>
                    </a:lnTo>
                    <a:lnTo>
                      <a:pt x="152" y="21"/>
                    </a:lnTo>
                    <a:lnTo>
                      <a:pt x="132" y="48"/>
                    </a:lnTo>
                    <a:lnTo>
                      <a:pt x="37" y="48"/>
                    </a:lnTo>
                    <a:lnTo>
                      <a:pt x="76" y="4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06720" y="3558960"/>
                <a:ext cx="122040" cy="4572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10"/>
                    </a:moveTo>
                    <a:lnTo>
                      <a:pt x="34" y="0"/>
                    </a:lnTo>
                    <a:lnTo>
                      <a:pt x="115" y="29"/>
                    </a:lnTo>
                    <a:lnTo>
                      <a:pt x="152" y="21"/>
                    </a:lnTo>
                    <a:lnTo>
                      <a:pt x="132" y="48"/>
                    </a:lnTo>
                    <a:lnTo>
                      <a:pt x="37" y="48"/>
                    </a:lnTo>
                    <a:lnTo>
                      <a:pt x="76" y="4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129120" y="3620160"/>
                <a:ext cx="12204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8"/>
                    </a:moveTo>
                    <a:lnTo>
                      <a:pt x="118" y="48"/>
                    </a:lnTo>
                    <a:lnTo>
                      <a:pt x="40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129120" y="3620160"/>
                <a:ext cx="12204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8"/>
                    </a:moveTo>
                    <a:lnTo>
                      <a:pt x="118" y="48"/>
                    </a:lnTo>
                    <a:lnTo>
                      <a:pt x="40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36320" y="3563640"/>
                <a:ext cx="12168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38"/>
                    </a:moveTo>
                    <a:lnTo>
                      <a:pt x="33" y="48"/>
                    </a:lnTo>
                    <a:lnTo>
                      <a:pt x="115" y="16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136320" y="3563640"/>
                <a:ext cx="12168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38"/>
                    </a:moveTo>
                    <a:lnTo>
                      <a:pt x="33" y="48"/>
                    </a:lnTo>
                    <a:lnTo>
                      <a:pt x="115" y="16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02040" y="3616560"/>
                <a:ext cx="121680" cy="4896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152" y="11"/>
                    </a:moveTo>
                    <a:lnTo>
                      <a:pt x="119" y="0"/>
                    </a:lnTo>
                    <a:lnTo>
                      <a:pt x="40" y="33"/>
                    </a:lnTo>
                    <a:lnTo>
                      <a:pt x="0" y="22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6" y="41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02040" y="3616560"/>
                <a:ext cx="121680" cy="4896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152" y="11"/>
                    </a:moveTo>
                    <a:lnTo>
                      <a:pt x="119" y="0"/>
                    </a:lnTo>
                    <a:lnTo>
                      <a:pt x="40" y="33"/>
                    </a:lnTo>
                    <a:lnTo>
                      <a:pt x="0" y="22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6" y="41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008880" y="3560760"/>
                <a:ext cx="122040" cy="464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11"/>
                    </a:moveTo>
                    <a:lnTo>
                      <a:pt x="34" y="0"/>
                    </a:lnTo>
                    <a:lnTo>
                      <a:pt x="115" y="30"/>
                    </a:lnTo>
                    <a:lnTo>
                      <a:pt x="152" y="22"/>
                    </a:lnTo>
                    <a:lnTo>
                      <a:pt x="132" y="49"/>
                    </a:lnTo>
                    <a:lnTo>
                      <a:pt x="36" y="49"/>
                    </a:lnTo>
                    <a:lnTo>
                      <a:pt x="76" y="4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008880" y="3560760"/>
                <a:ext cx="122040" cy="464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11"/>
                    </a:moveTo>
                    <a:lnTo>
                      <a:pt x="34" y="0"/>
                    </a:lnTo>
                    <a:lnTo>
                      <a:pt x="115" y="30"/>
                    </a:lnTo>
                    <a:lnTo>
                      <a:pt x="152" y="22"/>
                    </a:lnTo>
                    <a:lnTo>
                      <a:pt x="132" y="49"/>
                    </a:lnTo>
                    <a:lnTo>
                      <a:pt x="36" y="49"/>
                    </a:lnTo>
                    <a:lnTo>
                      <a:pt x="76" y="4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131280" y="3622680"/>
                <a:ext cx="12204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7"/>
                    </a:moveTo>
                    <a:lnTo>
                      <a:pt x="118" y="48"/>
                    </a:lnTo>
                    <a:lnTo>
                      <a:pt x="39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31280" y="3622680"/>
                <a:ext cx="12204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7"/>
                    </a:moveTo>
                    <a:lnTo>
                      <a:pt x="118" y="48"/>
                    </a:lnTo>
                    <a:lnTo>
                      <a:pt x="39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697200" y="3081240"/>
              <a:ext cx="1313640" cy="994680"/>
              <a:chOff x="3697200" y="3081240"/>
              <a:chExt cx="1313640" cy="99468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3697200" y="3081240"/>
                <a:ext cx="1313640" cy="994680"/>
                <a:chOff x="3697200" y="3081240"/>
                <a:chExt cx="1313640" cy="9946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147920" y="3081240"/>
                  <a:ext cx="564480" cy="40824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36160" y="3182400"/>
                  <a:ext cx="426240" cy="40788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697200" y="3443400"/>
                  <a:ext cx="282960" cy="32292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794760" y="3590640"/>
                  <a:ext cx="426240" cy="34992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106160" y="3651840"/>
                  <a:ext cx="650520" cy="42408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528800" y="3196080"/>
                  <a:ext cx="409320" cy="32148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586040" y="3414960"/>
                  <a:ext cx="409320" cy="31068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57600" y="3477240"/>
                  <a:ext cx="396360" cy="52560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38040" y="3313440"/>
                  <a:ext cx="844920" cy="52596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149720" y="3081240"/>
                  <a:ext cx="563760" cy="40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2" y="7244"/>
                      </a:moveTo>
                      <a:arcTo wR="10800" hR="10800" stAng="-9646408" swAng="83649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2" y="7244"/>
                      </a:moveTo>
                      <a:arcTo wR="10800" hR="10800" stAng="-9646408" swAng="8364990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152240" y="3083760"/>
                  <a:ext cx="558360" cy="40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7" y="7231"/>
                      </a:moveTo>
                      <a:arcTo wR="10800" hR="10800" stAng="-9642069" swAng="8355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7" y="7231"/>
                      </a:moveTo>
                      <a:arcTo wR="10800" hR="10800" stAng="-9642069" swAng="8355919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836160" y="3182400"/>
                  <a:ext cx="425160" cy="408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39" y="13485"/>
                      </a:moveTo>
                      <a:arcTo wR="10800" hR="10800" stAng="9936202" swAng="82893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39" y="13485"/>
                      </a:moveTo>
                      <a:arcTo wR="10800" hR="10800" stAng="9936202" swAng="8289380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839040" y="3184920"/>
                  <a:ext cx="420120" cy="402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0" y="13488"/>
                      </a:moveTo>
                      <a:arcTo wR="10800" hR="10800" stAng="9935352" swAng="82886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0" y="13488"/>
                      </a:moveTo>
                      <a:arcTo wR="10800" hR="10800" stAng="9935352" swAng="8288601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794760" y="3578760"/>
                  <a:ext cx="439560" cy="37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36" y="20190"/>
                      </a:moveTo>
                      <a:arcTo wR="10800" hR="10800" stAng="3623602" swAng="72456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36" y="20190"/>
                      </a:moveTo>
                      <a:arcTo wR="10800" hR="10800" stAng="3623602" swAng="7245636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797280" y="3581280"/>
                  <a:ext cx="433800" cy="37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26" y="20196"/>
                      </a:moveTo>
                      <a:arcTo wR="10800" hR="10800" stAng="3627215" swAng="72421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26" y="20196"/>
                      </a:moveTo>
                      <a:arcTo wR="10800" hR="10800" stAng="3627215" swAng="7242193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528080" y="3196080"/>
                  <a:ext cx="409680" cy="30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73" y="156"/>
                      </a:moveTo>
                      <a:arcTo wR="10800" hR="10800" stAng="-5984226" swAng="78657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73" y="156"/>
                      </a:moveTo>
                      <a:arcTo wR="10800" hR="10800" stAng="-5984226" swAng="7865747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532040" y="3198600"/>
                  <a:ext cx="403200" cy="303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82" y="154"/>
                      </a:moveTo>
                      <a:arcTo wR="10800" hR="10800" stAng="-5981482" swAng="78703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82" y="154"/>
                      </a:moveTo>
                      <a:arcTo wR="10800" hR="10800" stAng="-5981482" swAng="7870344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528800" y="3403800"/>
                  <a:ext cx="482040" cy="33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612" y="2419"/>
                      </a:moveTo>
                      <a:arcTo wR="10800" hR="10800" stAng="-3053812" swAng="5363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612" y="2419"/>
                      </a:moveTo>
                      <a:arcTo wR="10800" hR="10800" stAng="-3053812" swAng="5363303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531680" y="3405600"/>
                  <a:ext cx="476280" cy="32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590" y="2401"/>
                      </a:moveTo>
                      <a:arcTo wR="10800" hR="10800" stAng="-3062878" swAng="53814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590" y="2401"/>
                      </a:moveTo>
                      <a:arcTo wR="10800" hR="10800" stAng="-3062878" swAng="5381402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544280" y="3489840"/>
                  <a:ext cx="422280" cy="526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1" y="7855"/>
                      </a:moveTo>
                      <a:arcTo wR="10800" hR="10800" stAng="-949579" swAng="7375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1" y="7855"/>
                      </a:moveTo>
                      <a:arcTo wR="10800" hR="10800" stAng="-949579" swAng="7375551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547520" y="3493800"/>
                  <a:ext cx="416160" cy="519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2" y="7860"/>
                      </a:moveTo>
                      <a:arcTo wR="10800" hR="10800" stAng="-947699" swAng="73756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2" y="7860"/>
                      </a:moveTo>
                      <a:arcTo wR="10800" hR="10800" stAng="-947699" swAng="7375690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697200" y="3431160"/>
                  <a:ext cx="294120" cy="33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5" y="20889"/>
                      </a:moveTo>
                      <a:arcTo wR="10800" hR="10800" stAng="6654626" swAng="95001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5" y="20889"/>
                      </a:moveTo>
                      <a:arcTo wR="10800" hR="10800" stAng="6654626" swAng="9500108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699360" y="3434040"/>
                  <a:ext cx="288720" cy="32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0" y="20887"/>
                      </a:moveTo>
                      <a:arcTo wR="10800" hR="10800" stAng="6656458" swAng="94982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0" y="20887"/>
                      </a:moveTo>
                      <a:arcTo wR="10800" hR="10800" stAng="6656458" swAng="9498203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107600" y="3692160"/>
                  <a:ext cx="635040" cy="38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54" y="17261"/>
                      </a:moveTo>
                      <a:arcTo wR="10800" hR="10800" stAng="2204768" swAng="77085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54" y="17261"/>
                      </a:moveTo>
                      <a:arcTo wR="10800" hR="10800" stAng="2204768" swAng="7708510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110480" y="3694680"/>
                  <a:ext cx="629640" cy="37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36" y="17286"/>
                      </a:moveTo>
                      <a:arcTo wR="10800" hR="10800" stAng="2214561" swAng="76936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36" y="17286"/>
                      </a:moveTo>
                      <a:arcTo wR="10800" hR="10800" stAng="2214561" swAng="7693670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3792240" y="3317400"/>
                <a:ext cx="1134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808080"/>
                    </a:solidFill>
                    <a:latin typeface="Arial"/>
                  </a:rPr>
                  <a:t>Red de Transmis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448160" y="4759200"/>
              <a:ext cx="1366560" cy="1221480"/>
              <a:chOff x="4448160" y="4759200"/>
              <a:chExt cx="1366560" cy="12214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14400" y="5091480"/>
                <a:ext cx="172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4448160" y="4759200"/>
                <a:ext cx="1366560" cy="1221480"/>
                <a:chOff x="4448160" y="4759200"/>
                <a:chExt cx="1366560" cy="12214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916880" y="4759200"/>
                  <a:ext cx="587160" cy="50148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592880" y="4883760"/>
                  <a:ext cx="443160" cy="5011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448160" y="5204160"/>
                  <a:ext cx="294120" cy="3967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549320" y="5384880"/>
                  <a:ext cx="443160" cy="4298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873680" y="5459760"/>
                  <a:ext cx="676800" cy="5209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13240" y="4900320"/>
                  <a:ext cx="425880" cy="3949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372640" y="5169240"/>
                  <a:ext cx="425880" cy="38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342760" y="5245560"/>
                  <a:ext cx="412200" cy="6458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698720" y="5044680"/>
                  <a:ext cx="878760" cy="6462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918680" y="4759200"/>
                  <a:ext cx="586440" cy="500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2" y="7244"/>
                      </a:moveTo>
                      <a:arcTo wR="10800" hR="10800" stAng="-9646408" swAng="83649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2" y="7244"/>
                      </a:moveTo>
                      <a:arcTo wR="10800" hR="10800" stAng="-9646408" swAng="8364990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921200" y="4762440"/>
                  <a:ext cx="580680" cy="49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7" y="7231"/>
                      </a:moveTo>
                      <a:arcTo wR="10800" hR="10800" stAng="-9642069" swAng="8355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7" y="7231"/>
                      </a:moveTo>
                      <a:arcTo wR="10800" hR="10800" stAng="-9642069" swAng="8355919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592880" y="4883760"/>
                  <a:ext cx="442440" cy="501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39" y="13485"/>
                      </a:moveTo>
                      <a:arcTo wR="10800" hR="10800" stAng="9936202" swAng="82893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39" y="13485"/>
                      </a:moveTo>
                      <a:arcTo wR="10800" hR="10800" stAng="9936202" swAng="8289380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595760" y="4886640"/>
                  <a:ext cx="437040" cy="49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0" y="13488"/>
                      </a:moveTo>
                      <a:arcTo wR="10800" hR="10800" stAng="9935352" swAng="82886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0" y="13488"/>
                      </a:moveTo>
                      <a:arcTo wR="10800" hR="10800" stAng="9935352" swAng="8288601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549320" y="5370120"/>
                  <a:ext cx="456840" cy="464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36" y="20190"/>
                      </a:moveTo>
                      <a:arcTo wR="10800" hR="10800" stAng="3623602" swAng="72456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36" y="20190"/>
                      </a:moveTo>
                      <a:arcTo wR="10800" hR="10800" stAng="3623602" swAng="7245636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552200" y="5373360"/>
                  <a:ext cx="451440" cy="457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26" y="20196"/>
                      </a:moveTo>
                      <a:arcTo wR="10800" hR="10800" stAng="3627215" swAng="72421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26" y="20196"/>
                      </a:moveTo>
                      <a:arcTo wR="10800" hR="10800" stAng="3627215" swAng="7242193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312160" y="4900320"/>
                  <a:ext cx="426240" cy="37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73" y="156"/>
                      </a:moveTo>
                      <a:arcTo wR="10800" hR="10800" stAng="-5984226" swAng="78657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73" y="156"/>
                      </a:moveTo>
                      <a:arcTo wR="10800" hR="10800" stAng="-5984226" swAng="7865747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316480" y="4903200"/>
                  <a:ext cx="419040" cy="37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82" y="154"/>
                      </a:moveTo>
                      <a:arcTo wR="10800" hR="10800" stAng="-5981482" swAng="78703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82" y="154"/>
                      </a:moveTo>
                      <a:arcTo wR="10800" hR="10800" stAng="-5981482" swAng="7870344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313600" y="5155200"/>
                  <a:ext cx="501120" cy="410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612" y="2419"/>
                      </a:moveTo>
                      <a:arcTo wR="10800" hR="10800" stAng="-3053812" swAng="5363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612" y="2419"/>
                      </a:moveTo>
                      <a:arcTo wR="10800" hR="10800" stAng="-3053812" swAng="5363303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316120" y="5157720"/>
                  <a:ext cx="495720" cy="40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590" y="2401"/>
                      </a:moveTo>
                      <a:arcTo wR="10800" hR="10800" stAng="-3062878" swAng="53814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590" y="2401"/>
                      </a:moveTo>
                      <a:arcTo wR="10800" hR="10800" stAng="-3062878" swAng="5381402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328720" y="5261400"/>
                  <a:ext cx="439560" cy="64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1" y="7855"/>
                      </a:moveTo>
                      <a:arcTo wR="10800" hR="10800" stAng="-949579" swAng="7375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1" y="7855"/>
                      </a:moveTo>
                      <a:arcTo wR="10800" hR="10800" stAng="-949579" swAng="7375551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32680" y="5265720"/>
                  <a:ext cx="432720" cy="63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2" y="7860"/>
                      </a:moveTo>
                      <a:arcTo wR="10800" hR="10800" stAng="-947699" swAng="73756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2" y="7860"/>
                      </a:moveTo>
                      <a:arcTo wR="10800" hR="10800" stAng="-947699" swAng="7375690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448160" y="5189040"/>
                  <a:ext cx="305640" cy="411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5" y="20889"/>
                      </a:moveTo>
                      <a:arcTo wR="10800" hR="10800" stAng="6654626" swAng="95001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5" y="20889"/>
                      </a:moveTo>
                      <a:arcTo wR="10800" hR="10800" stAng="6654626" swAng="9500108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450320" y="5192640"/>
                  <a:ext cx="300600" cy="40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0" y="20887"/>
                      </a:moveTo>
                      <a:arcTo wR="10800" hR="10800" stAng="6656458" swAng="94982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0" y="20887"/>
                      </a:moveTo>
                      <a:arcTo wR="10800" hR="10800" stAng="6656458" swAng="9498203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75120" y="5510160"/>
                  <a:ext cx="660240" cy="470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54" y="17261"/>
                      </a:moveTo>
                      <a:arcTo wR="10800" hR="10800" stAng="2204768" swAng="77085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54" y="17261"/>
                      </a:moveTo>
                      <a:arcTo wR="10800" hR="10800" stAng="2204768" swAng="7708510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78000" y="5513040"/>
                  <a:ext cx="654840" cy="464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36" y="17286"/>
                      </a:moveTo>
                      <a:arcTo wR="10800" hR="10800" stAng="2214561" swAng="76936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36" y="17286"/>
                      </a:moveTo>
                      <a:arcTo wR="10800" hR="10800" stAng="2214561" swAng="7693670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4552560" y="5206320"/>
                <a:ext cx="115596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ffffff"/>
                    </a:solidFill>
                    <a:latin typeface="Comic Sans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686720" y="3203640"/>
              <a:ext cx="1266480" cy="977400"/>
              <a:chOff x="7686720" y="3203640"/>
              <a:chExt cx="1266480" cy="97740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7686720" y="3203640"/>
                <a:ext cx="1266480" cy="977400"/>
                <a:chOff x="7686720" y="3203640"/>
                <a:chExt cx="1266480" cy="9774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8121240" y="3203640"/>
                  <a:ext cx="544320" cy="40104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820640" y="3303000"/>
                  <a:ext cx="410760" cy="40068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686720" y="3559680"/>
                  <a:ext cx="272520" cy="31716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780680" y="3704040"/>
                  <a:ext cx="410760" cy="34380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080920" y="3764160"/>
                  <a:ext cx="627120" cy="41688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488440" y="3316320"/>
                  <a:ext cx="394560" cy="31572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543520" y="3531600"/>
                  <a:ext cx="394560" cy="30528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515800" y="3592800"/>
                  <a:ext cx="381960" cy="51624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918920" y="3431880"/>
                  <a:ext cx="814320" cy="51660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122680" y="3203640"/>
                  <a:ext cx="543600" cy="40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2" y="7244"/>
                      </a:moveTo>
                      <a:arcTo wR="10800" hR="10800" stAng="-9646408" swAng="83649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2" y="7244"/>
                      </a:moveTo>
                      <a:arcTo wR="10800" hR="10800" stAng="-9646408" swAng="8364990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125200" y="3206160"/>
                  <a:ext cx="537840" cy="39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7" y="7231"/>
                      </a:moveTo>
                      <a:arcTo wR="10800" hR="10800" stAng="-9642069" swAng="8355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7" y="7231"/>
                      </a:moveTo>
                      <a:arcTo wR="10800" hR="10800" stAng="-9642069" swAng="8355919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820640" y="3303000"/>
                  <a:ext cx="410040" cy="40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39" y="13485"/>
                      </a:moveTo>
                      <a:arcTo wR="10800" hR="10800" stAng="9936202" swAng="82893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39" y="13485"/>
                      </a:moveTo>
                      <a:arcTo wR="10800" hR="10800" stAng="9936202" swAng="8289380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823520" y="3305520"/>
                  <a:ext cx="405000" cy="39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0" y="13488"/>
                      </a:moveTo>
                      <a:arcTo wR="10800" hR="10800" stAng="9935352" swAng="82886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0" y="13488"/>
                      </a:moveTo>
                      <a:arcTo wR="10800" hR="10800" stAng="9935352" swAng="8288601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780680" y="3692160"/>
                  <a:ext cx="423720" cy="371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36" y="20190"/>
                      </a:moveTo>
                      <a:arcTo wR="10800" hR="10800" stAng="3623602" swAng="72456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36" y="20190"/>
                      </a:moveTo>
                      <a:arcTo wR="10800" hR="10800" stAng="3623602" swAng="7245636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783200" y="3695040"/>
                  <a:ext cx="418320" cy="365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26" y="20196"/>
                      </a:moveTo>
                      <a:arcTo wR="10800" hR="10800" stAng="3627215" swAng="72421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26" y="20196"/>
                      </a:moveTo>
                      <a:arcTo wR="10800" hR="10800" stAng="3627215" swAng="7242193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487360" y="3316320"/>
                  <a:ext cx="394920" cy="303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73" y="156"/>
                      </a:moveTo>
                      <a:arcTo wR="10800" hR="10800" stAng="-5984226" swAng="78657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73" y="156"/>
                      </a:moveTo>
                      <a:arcTo wR="10800" hR="10800" stAng="-5984226" swAng="7865747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491320" y="3318840"/>
                  <a:ext cx="388440" cy="29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82" y="154"/>
                      </a:moveTo>
                      <a:arcTo wR="10800" hR="10800" stAng="-5981482" swAng="78703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82" y="154"/>
                      </a:moveTo>
                      <a:arcTo wR="10800" hR="10800" stAng="-5981482" swAng="7870344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8488440" y="3520080"/>
                  <a:ext cx="464760" cy="32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612" y="2419"/>
                      </a:moveTo>
                      <a:arcTo wR="10800" hR="10800" stAng="-3053812" swAng="5363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612" y="2419"/>
                      </a:moveTo>
                      <a:arcTo wR="10800" hR="10800" stAng="-3053812" swAng="5363303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491320" y="3522240"/>
                  <a:ext cx="459000" cy="32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590" y="2401"/>
                      </a:moveTo>
                      <a:arcTo wR="10800" hR="10800" stAng="-3062878" swAng="53814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590" y="2401"/>
                      </a:moveTo>
                      <a:arcTo wR="10800" hR="10800" stAng="-3062878" swAng="5381402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503200" y="3605400"/>
                  <a:ext cx="407160" cy="51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1" y="7855"/>
                      </a:moveTo>
                      <a:arcTo wR="10800" hR="10800" stAng="-949579" swAng="7375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1" y="7855"/>
                      </a:moveTo>
                      <a:arcTo wR="10800" hR="10800" stAng="-949579" swAng="7375551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506440" y="3608640"/>
                  <a:ext cx="401040" cy="510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2" y="7860"/>
                      </a:moveTo>
                      <a:arcTo wR="10800" hR="10800" stAng="-947699" swAng="73756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2" y="7860"/>
                      </a:moveTo>
                      <a:arcTo wR="10800" hR="10800" stAng="-947699" swAng="7375690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686720" y="3547440"/>
                  <a:ext cx="283320" cy="32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5" y="20889"/>
                      </a:moveTo>
                      <a:arcTo wR="10800" hR="10800" stAng="6654626" swAng="95001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5" y="20889"/>
                      </a:moveTo>
                      <a:arcTo wR="10800" hR="10800" stAng="6654626" swAng="9500108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688880" y="3550320"/>
                  <a:ext cx="278280" cy="323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0" y="20887"/>
                      </a:moveTo>
                      <a:arcTo wR="10800" hR="10800" stAng="6656458" swAng="94982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0" y="20887"/>
                      </a:moveTo>
                      <a:arcTo wR="10800" hR="10800" stAng="6656458" swAng="9498203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8082360" y="3804120"/>
                  <a:ext cx="612360" cy="37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54" y="17261"/>
                      </a:moveTo>
                      <a:arcTo wR="10800" hR="10800" stAng="2204768" swAng="77085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54" y="17261"/>
                      </a:moveTo>
                      <a:arcTo wR="10800" hR="10800" stAng="2204768" swAng="7708510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084880" y="3806280"/>
                  <a:ext cx="606960" cy="37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36" y="17286"/>
                      </a:moveTo>
                      <a:arcTo wR="10800" hR="10800" stAng="2214561" swAng="76936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36" y="17286"/>
                      </a:moveTo>
                      <a:arcTo wR="10800" hR="10800" stAng="2214561" swAng="7693670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7826760" y="3500280"/>
                <a:ext cx="9334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ffffff"/>
                    </a:solidFill>
                    <a:latin typeface="Comic Sans MS"/>
                  </a:rPr>
                  <a:t>PST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5651640" y="1546200"/>
              <a:ext cx="204624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943600" y="1611360"/>
              <a:ext cx="1541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808080"/>
                  </a:solidFill>
                  <a:latin typeface="Arial"/>
                </a:rPr>
                <a:t>Control y Gest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808080"/>
                  </a:solidFill>
                  <a:latin typeface="Arial"/>
                </a:rPr>
                <a:t>Nivel de 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214960" y="3489480"/>
              <a:ext cx="471600" cy="304560"/>
              <a:chOff x="5214960" y="3489480"/>
              <a:chExt cx="471600" cy="304560"/>
            </a:xfrm>
          </p:grpSpPr>
          <p:sp>
            <p:nvSpPr>
              <p:cNvPr id="201" name=""/>
              <p:cNvSpPr/>
              <p:nvPr/>
            </p:nvSpPr>
            <p:spPr>
              <a:xfrm>
                <a:off x="5263200" y="3688920"/>
                <a:ext cx="192240" cy="1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15680" y="3619080"/>
                <a:ext cx="461160" cy="1695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4960" y="3582720"/>
                <a:ext cx="471600" cy="1296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15680" y="3489480"/>
                <a:ext cx="461160" cy="1695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56160" y="3513960"/>
                <a:ext cx="155160" cy="590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38"/>
                    </a:moveTo>
                    <a:lnTo>
                      <a:pt x="34" y="49"/>
                    </a:lnTo>
                    <a:lnTo>
                      <a:pt x="115" y="17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56160" y="3513960"/>
                <a:ext cx="155160" cy="590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38"/>
                    </a:moveTo>
                    <a:lnTo>
                      <a:pt x="34" y="49"/>
                    </a:lnTo>
                    <a:lnTo>
                      <a:pt x="115" y="17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85880" y="3582720"/>
                <a:ext cx="155880" cy="61920"/>
              </a:xfrm>
              <a:custGeom>
                <a:avLst/>
                <a:gdLst/>
                <a:ahLst/>
                <a:rect l="l" t="t" r="r" b="b"/>
                <a:pathLst>
                  <a:path w="153" h="51">
                    <a:moveTo>
                      <a:pt x="153" y="10"/>
                    </a:moveTo>
                    <a:lnTo>
                      <a:pt x="119" y="0"/>
                    </a:lnTo>
                    <a:lnTo>
                      <a:pt x="40" y="32"/>
                    </a:lnTo>
                    <a:lnTo>
                      <a:pt x="0" y="21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7" y="40"/>
                    </a:lnTo>
                    <a:lnTo>
                      <a:pt x="15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85880" y="3582720"/>
                <a:ext cx="155880" cy="61920"/>
              </a:xfrm>
              <a:custGeom>
                <a:avLst/>
                <a:gdLst/>
                <a:ahLst/>
                <a:rect l="l" t="t" r="r" b="b"/>
                <a:pathLst>
                  <a:path w="153" h="51">
                    <a:moveTo>
                      <a:pt x="153" y="10"/>
                    </a:moveTo>
                    <a:lnTo>
                      <a:pt x="119" y="0"/>
                    </a:lnTo>
                    <a:lnTo>
                      <a:pt x="40" y="32"/>
                    </a:lnTo>
                    <a:lnTo>
                      <a:pt x="0" y="21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7" y="40"/>
                    </a:lnTo>
                    <a:lnTo>
                      <a:pt x="15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95240" y="3511800"/>
                <a:ext cx="155160" cy="579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10"/>
                    </a:moveTo>
                    <a:lnTo>
                      <a:pt x="34" y="0"/>
                    </a:lnTo>
                    <a:lnTo>
                      <a:pt x="115" y="29"/>
                    </a:lnTo>
                    <a:lnTo>
                      <a:pt x="152" y="21"/>
                    </a:lnTo>
                    <a:lnTo>
                      <a:pt x="132" y="48"/>
                    </a:lnTo>
                    <a:lnTo>
                      <a:pt x="37" y="48"/>
                    </a:lnTo>
                    <a:lnTo>
                      <a:pt x="76" y="4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95240" y="3511800"/>
                <a:ext cx="155160" cy="579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10"/>
                    </a:moveTo>
                    <a:lnTo>
                      <a:pt x="34" y="0"/>
                    </a:lnTo>
                    <a:lnTo>
                      <a:pt x="115" y="29"/>
                    </a:lnTo>
                    <a:lnTo>
                      <a:pt x="152" y="21"/>
                    </a:lnTo>
                    <a:lnTo>
                      <a:pt x="132" y="48"/>
                    </a:lnTo>
                    <a:lnTo>
                      <a:pt x="37" y="48"/>
                    </a:lnTo>
                    <a:lnTo>
                      <a:pt x="76" y="4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450760" y="3589200"/>
                <a:ext cx="15516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8"/>
                    </a:moveTo>
                    <a:lnTo>
                      <a:pt x="118" y="48"/>
                    </a:lnTo>
                    <a:lnTo>
                      <a:pt x="40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50760" y="3589200"/>
                <a:ext cx="15516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8"/>
                    </a:moveTo>
                    <a:lnTo>
                      <a:pt x="118" y="48"/>
                    </a:lnTo>
                    <a:lnTo>
                      <a:pt x="40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60120" y="3517200"/>
                <a:ext cx="15444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38"/>
                    </a:moveTo>
                    <a:lnTo>
                      <a:pt x="33" y="48"/>
                    </a:lnTo>
                    <a:lnTo>
                      <a:pt x="115" y="16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60120" y="3517200"/>
                <a:ext cx="15444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38"/>
                    </a:moveTo>
                    <a:lnTo>
                      <a:pt x="33" y="48"/>
                    </a:lnTo>
                    <a:lnTo>
                      <a:pt x="115" y="16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89480" y="3584520"/>
                <a:ext cx="154440" cy="6228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152" y="11"/>
                    </a:moveTo>
                    <a:lnTo>
                      <a:pt x="119" y="0"/>
                    </a:lnTo>
                    <a:lnTo>
                      <a:pt x="40" y="33"/>
                    </a:lnTo>
                    <a:lnTo>
                      <a:pt x="0" y="22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6" y="41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89480" y="3584520"/>
                <a:ext cx="154440" cy="6228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152" y="11"/>
                    </a:moveTo>
                    <a:lnTo>
                      <a:pt x="119" y="0"/>
                    </a:lnTo>
                    <a:lnTo>
                      <a:pt x="40" y="33"/>
                    </a:lnTo>
                    <a:lnTo>
                      <a:pt x="0" y="22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6" y="41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298120" y="3513960"/>
                <a:ext cx="155160" cy="590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11"/>
                    </a:moveTo>
                    <a:lnTo>
                      <a:pt x="34" y="0"/>
                    </a:lnTo>
                    <a:lnTo>
                      <a:pt x="115" y="30"/>
                    </a:lnTo>
                    <a:lnTo>
                      <a:pt x="152" y="22"/>
                    </a:lnTo>
                    <a:lnTo>
                      <a:pt x="132" y="49"/>
                    </a:lnTo>
                    <a:lnTo>
                      <a:pt x="36" y="49"/>
                    </a:lnTo>
                    <a:lnTo>
                      <a:pt x="76" y="4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298120" y="3513960"/>
                <a:ext cx="155160" cy="590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11"/>
                    </a:moveTo>
                    <a:lnTo>
                      <a:pt x="34" y="0"/>
                    </a:lnTo>
                    <a:lnTo>
                      <a:pt x="115" y="30"/>
                    </a:lnTo>
                    <a:lnTo>
                      <a:pt x="152" y="22"/>
                    </a:lnTo>
                    <a:lnTo>
                      <a:pt x="132" y="49"/>
                    </a:lnTo>
                    <a:lnTo>
                      <a:pt x="36" y="49"/>
                    </a:lnTo>
                    <a:lnTo>
                      <a:pt x="76" y="4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453280" y="3592080"/>
                <a:ext cx="15516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7"/>
                    </a:moveTo>
                    <a:lnTo>
                      <a:pt x="118" y="48"/>
                    </a:lnTo>
                    <a:lnTo>
                      <a:pt x="39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53280" y="3592080"/>
                <a:ext cx="15516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7"/>
                    </a:moveTo>
                    <a:lnTo>
                      <a:pt x="118" y="48"/>
                    </a:lnTo>
                    <a:lnTo>
                      <a:pt x="39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6475320" y="3182760"/>
              <a:ext cx="460440" cy="87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295200" y="4089240"/>
              <a:ext cx="389160" cy="6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5"/>
            <a:stretch/>
          </p:blipFill>
          <p:spPr>
            <a:xfrm>
              <a:off x="2295360" y="3457440"/>
              <a:ext cx="39060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870120" y="2478240"/>
              <a:ext cx="91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IEEE 802.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17600" y="3713040"/>
              <a:ext cx="46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B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06640" y="3733920"/>
              <a:ext cx="46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CB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83000" y="3191040"/>
              <a:ext cx="442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L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09760" y="3208320"/>
              <a:ext cx="48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W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57920" y="3160800"/>
              <a:ext cx="44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L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94200" y="3114720"/>
              <a:ext cx="47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W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9760" y="3794040"/>
              <a:ext cx="129960" cy="23652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3" y="124"/>
                  </a:lnTo>
                  <a:lnTo>
                    <a:pt x="84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7120" y="3786120"/>
              <a:ext cx="166680" cy="82728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3" y="124"/>
                  </a:lnTo>
                  <a:lnTo>
                    <a:pt x="84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5960" y="3635280"/>
              <a:ext cx="215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51040" y="3645000"/>
              <a:ext cx="260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14880" y="3645000"/>
              <a:ext cx="311040" cy="14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705640" y="3607920"/>
              <a:ext cx="784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0760" y="2181240"/>
              <a:ext cx="434880" cy="2746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  <a:effectLst>
              <a:outerShdw dist="52300" dir="9963564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21560" y="2189160"/>
              <a:ext cx="522360" cy="287280"/>
            </a:xfrm>
            <a:prstGeom prst="ellipse">
              <a:avLst/>
            </a:prstGeom>
            <a:solidFill>
              <a:srgbClr val="dad5ba"/>
            </a:solidFill>
            <a:ln w="0">
              <a:noFill/>
            </a:ln>
            <a:effectLst>
              <a:outerShdw dist="52300" dir="9963564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78720" y="2184480"/>
              <a:ext cx="67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GW Sig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6120" y="217476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G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624640" y="2528640"/>
              <a:ext cx="609480" cy="11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7242120" y="2479320"/>
              <a:ext cx="892080" cy="10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643800" y="2552400"/>
              <a:ext cx="1440" cy="9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62640" y="38941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808080"/>
                  </a:solidFill>
                  <a:latin typeface="Times New Roman"/>
                </a:rPr>
                <a:t>GW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148360" y="3742920"/>
              <a:ext cx="269640" cy="124956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32320" y="3654360"/>
              <a:ext cx="46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C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72000" y="2658960"/>
              <a:ext cx="476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H.32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15080" y="2644920"/>
              <a:ext cx="48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SS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91240" y="2730600"/>
              <a:ext cx="574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Q931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IPD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MGC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61040" y="3549600"/>
              <a:ext cx="476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G.7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92600" y="4113360"/>
              <a:ext cx="480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L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8360" y="3314880"/>
              <a:ext cx="565200" cy="601560"/>
            </a:xfrm>
            <a:custGeom>
              <a:avLst/>
              <a:gdLst/>
              <a:ahLst/>
              <a:rect l="l" t="t" r="r" b="b"/>
              <a:pathLst>
                <a:path w="366" h="324">
                  <a:moveTo>
                    <a:pt x="0" y="324"/>
                  </a:moveTo>
                  <a:lnTo>
                    <a:pt x="120" y="156"/>
                  </a:lnTo>
                  <a:lnTo>
                    <a:pt x="366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162080" y="2590560"/>
              <a:ext cx="568440" cy="43956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197080" y="3204720"/>
              <a:ext cx="1476360" cy="1116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979880" y="3401640"/>
              <a:ext cx="536760" cy="349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6958080" y="3533760"/>
              <a:ext cx="738000" cy="1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75680" y="2452680"/>
              <a:ext cx="768240" cy="90180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749920" y="3524400"/>
              <a:ext cx="673200" cy="1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39040" y="2583000"/>
              <a:ext cx="1440" cy="86652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597640" y="2543040"/>
              <a:ext cx="488880" cy="97164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6967440" y="3838680"/>
              <a:ext cx="736560" cy="14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043600" y="3800520"/>
              <a:ext cx="260280" cy="11145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179800" y="3793680"/>
              <a:ext cx="1444320" cy="180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951440" y="3738600"/>
              <a:ext cx="377640" cy="14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346040" y="3044880"/>
              <a:ext cx="405000" cy="3333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0320" y="3557520"/>
              <a:ext cx="453960" cy="1204920"/>
            </a:xfrm>
            <a:custGeom>
              <a:avLst/>
              <a:gdLst/>
              <a:ahLst/>
              <a:rect l="l" t="t" r="r" b="b"/>
              <a:pathLst>
                <a:path w="294" h="648">
                  <a:moveTo>
                    <a:pt x="0" y="648"/>
                  </a:moveTo>
                  <a:lnTo>
                    <a:pt x="156" y="648"/>
                  </a:lnTo>
                  <a:lnTo>
                    <a:pt x="294" y="0"/>
                  </a:lnTo>
                </a:path>
              </a:pathLst>
            </a:custGeom>
            <a:noFill/>
            <a:ln w="19080">
              <a:solidFill>
                <a:srgbClr val="33cc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09720" y="2860560"/>
              <a:ext cx="482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H.32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04760" y="4371120"/>
              <a:ext cx="3069000" cy="1736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SU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Subscriber Un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BS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Base 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CBS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Concentrador  de 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CAP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Concentrador de Area Prima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GWU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Gateway Un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GK 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GateKeep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Gwsig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Gateway de señaliz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WAN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Wide área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RAS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Remote Access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1266840" y="2895120"/>
              <a:ext cx="379440" cy="282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246400" y="3479400"/>
              <a:ext cx="1473120" cy="11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90640" y="3952800"/>
              <a:ext cx="696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(paquete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59600" y="4024440"/>
              <a:ext cx="695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(circuito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78000" y="476280"/>
              <a:ext cx="808524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Estructura</a:t>
              </a:r>
              <a:r>
                <a:rPr b="1" i="1" lang="es-C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red WI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1835280" y="1413000"/>
            <a:ext cx="6000120" cy="4770000"/>
            <a:chOff x="1835280" y="1413000"/>
            <a:chExt cx="6000120" cy="477000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6753600" y="1789920"/>
              <a:ext cx="484560" cy="4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6753600" y="2655360"/>
              <a:ext cx="48456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3"/>
            <a:stretch/>
          </p:blipFill>
          <p:spPr>
            <a:xfrm>
              <a:off x="6808680" y="3466080"/>
              <a:ext cx="484560" cy="4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4"/>
            <a:stretch/>
          </p:blipFill>
          <p:spPr>
            <a:xfrm>
              <a:off x="6808680" y="4222800"/>
              <a:ext cx="48456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 flipH="1">
              <a:off x="4267800" y="2602080"/>
              <a:ext cx="106560" cy="16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74720" y="2602080"/>
              <a:ext cx="217080" cy="16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374720" y="21686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67800" y="4276800"/>
              <a:ext cx="324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67800" y="2602080"/>
              <a:ext cx="21528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483440" y="1898280"/>
              <a:ext cx="1243080" cy="43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619240" y="1898280"/>
              <a:ext cx="10728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619240" y="1845360"/>
              <a:ext cx="97200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83440" y="2439360"/>
              <a:ext cx="1243080" cy="5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619240" y="2493000"/>
              <a:ext cx="107280" cy="16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19240" y="2655360"/>
              <a:ext cx="86400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83440" y="2547360"/>
              <a:ext cx="129816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619240" y="3141360"/>
              <a:ext cx="16200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19240" y="3196080"/>
              <a:ext cx="97200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83440" y="2655360"/>
              <a:ext cx="129816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510880" y="3573360"/>
              <a:ext cx="27036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11240" y="3628440"/>
              <a:ext cx="91836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78520" y="2276640"/>
              <a:ext cx="11350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cle local inalámbric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73440" y="4384440"/>
              <a:ext cx="156672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stación Ba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77960" y="4654080"/>
              <a:ext cx="0" cy="11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131800" y="5843160"/>
              <a:ext cx="19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158880" y="5574240"/>
              <a:ext cx="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5"/>
            <a:stretch/>
          </p:blipFill>
          <p:spPr>
            <a:xfrm>
              <a:off x="5726520" y="5087160"/>
              <a:ext cx="81000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phone3"/>
            <p:cNvSpPr/>
            <p:nvPr/>
          </p:nvSpPr>
          <p:spPr>
            <a:xfrm>
              <a:off x="4969800" y="5141880"/>
              <a:ext cx="343080" cy="3430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5132160" y="5465520"/>
              <a:ext cx="0" cy="37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72160" y="4816440"/>
              <a:ext cx="108072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PC Mod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06720" y="4816440"/>
              <a:ext cx="91908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Telefo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65440" y="4870440"/>
              <a:ext cx="102708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04200" y="3249720"/>
              <a:ext cx="1298160" cy="173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104200" y="3087360"/>
              <a:ext cx="32436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28920" y="3087360"/>
              <a:ext cx="70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31640" y="3087360"/>
              <a:ext cx="27072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35280" y="5088240"/>
              <a:ext cx="183816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entro de Administr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62160" y="5978520"/>
              <a:ext cx="29732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uscriptor típ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02360" y="3790800"/>
              <a:ext cx="86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360" y="3357360"/>
              <a:ext cx="8647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lace de transpor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61640" y="3628440"/>
              <a:ext cx="540720" cy="9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1640" y="384372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61640" y="411444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61640" y="438516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61640" y="373608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61640" y="395280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61640" y="422280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61640" y="443808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11120" y="3627360"/>
              <a:ext cx="3812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03120" y="3952800"/>
              <a:ext cx="81252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36920" y="3736080"/>
              <a:ext cx="32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99280" y="4061160"/>
              <a:ext cx="16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28920" y="1413000"/>
              <a:ext cx="2595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onfiguracion W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843640" y="40464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QUEMÁTICO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0" y="1349280"/>
          <a:ext cx="8686800" cy="50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9280"/>
                    <a:ext cx="868680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2987640" y="40464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OS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395280" y="2060640"/>
          <a:ext cx="842472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84247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1337760" y="620640"/>
            <a:ext cx="68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JAS Y DESVENTAJAS SISTEMAS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26920" y="907920"/>
            <a:ext cx="777744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pacidad de 60 Mbps o más por base de 6 se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locidades máximas típicas para el usuario de hasta 1 Mbps o má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WA da la posibilidad de complementar los sistemas móviles con acceso a Internet de banda ancha, para dar paso a los sistemas móviles 3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imi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 mayor limitación es que aun no garantizan la potencialidad de trabajar un 100% con no línea vista. Requiere de una antena exte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 requiere de un esfuerzo considerable en la planificación del sistema, pero menor que los sistemas de 1º gener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Nivel de Standard bajo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, lo cual hace que no se alcancen economías de escala que bajen los precios de los terminales 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15600" y="260280"/>
            <a:ext cx="39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CTERISTICAS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4:45:23Z</dcterms:created>
  <dc:creator>Jorge</dc:creator>
  <dc:description/>
  <dc:language>en-US</dc:language>
  <cp:lastModifiedBy>Jorge</cp:lastModifiedBy>
  <dcterms:modified xsi:type="dcterms:W3CDTF">2005-06-17T14:29:57Z</dcterms:modified>
  <cp:revision>6</cp:revision>
  <dc:subject/>
  <dc:title>Diapositiva 1</dc:title>
</cp:coreProperties>
</file>