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DFE-C01B-4D4E-9056-A73023B7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E6D-AFCA-4E01-91DD-3E5F81A4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6AD-6804-431F-944D-3A8E9F26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238-79D9-4233-8D96-DFAF8F04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8A8-4EF6-4491-BA2D-D20F5CF9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6AC-AB32-4D6C-BC45-484694A7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E18-A03E-406D-B3D3-D0AB3ED9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45B-D287-44D5-A460-CCDCE5E8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667-C625-4150-AD27-59A431C2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9BE-B365-47EC-9186-84E85DC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578-8476-47E1-848F-5C41600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D62-93BC-4D55-BFC9-196ABC16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9B12-5226-47E3-85B2-FC023ACAF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8118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los sistema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1484280"/>
          <a:ext cx="6337080" cy="4752720"/>
        </p:xfrm>
        <a:graphic>
          <a:graphicData uri="http://schemas.openxmlformats.org/drawingml/2006/table">
            <a:tbl>
              <a:tblPr/>
              <a:tblGrid>
                <a:gridCol w="635400"/>
                <a:gridCol w="570168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s móvi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e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4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Mobile Phone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MP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ccess Communication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y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ystem for Mobile Communication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S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 Cellular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1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 1900—Can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—United St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00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400" y="403920"/>
            <a:ext cx="91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FAGAS, CUADROS TDMA Y MULTICUADROS EN INTERFAZ AI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24000" y="1197000"/>
            <a:ext cx="6553080" cy="5016600"/>
            <a:chOff x="324000" y="1197000"/>
            <a:chExt cx="6553080" cy="5016600"/>
          </a:xfrm>
        </p:grpSpPr>
        <p:pic>
          <p:nvPicPr>
            <p:cNvPr id="81" name="" descr="Figure 3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655308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0000" y="1393560"/>
              <a:ext cx="4071600" cy="25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7800" y="1902600"/>
              <a:ext cx="4644000" cy="192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a M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8600" y="2349360"/>
              <a:ext cx="3753360" cy="318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s de localización (LA’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86840" y="2922840"/>
              <a:ext cx="2671920" cy="1911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Área cubierta por una estación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06760" y="2793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cubiertas en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414440"/>
            <a:ext cx="187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Ascendente: 1850 -1910 Mhz, donde la estación móvil transmite y la estación base recib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Descendente: 1930-1990 Mhz, donde la estación base transmite, y la móvil recib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Figure 4"/>
          <p:cNvPicPr/>
          <p:nvPr/>
        </p:nvPicPr>
        <p:blipFill>
          <a:blip r:embed="rId1"/>
          <a:stretch/>
        </p:blipFill>
        <p:spPr>
          <a:xfrm>
            <a:off x="1258920" y="1413000"/>
            <a:ext cx="6624720" cy="1984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33920" y="49536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de Localización (L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2080" y="5589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services switching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8360" y="609300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or locatio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Figure 5"/>
          <p:cNvPicPr/>
          <p:nvPr/>
        </p:nvPicPr>
        <p:blipFill>
          <a:blip r:embed="rId2"/>
          <a:stretch/>
        </p:blipFill>
        <p:spPr>
          <a:xfrm>
            <a:off x="1116000" y="3357720"/>
            <a:ext cx="691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forest"/>
          <p:cNvPicPr/>
          <p:nvPr/>
        </p:nvPicPr>
        <p:blipFill>
          <a:blip r:embed="rId1"/>
          <a:stretch/>
        </p:blipFill>
        <p:spPr>
          <a:xfrm>
            <a:off x="1763640" y="1700280"/>
            <a:ext cx="5257800" cy="4324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70360" y="56664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 SISTEMA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forest"/>
          <p:cNvPicPr/>
          <p:nvPr/>
        </p:nvPicPr>
        <p:blipFill>
          <a:blip r:embed="rId1"/>
          <a:stretch/>
        </p:blipFill>
        <p:spPr>
          <a:xfrm>
            <a:off x="826920" y="1844640"/>
            <a:ext cx="7704360" cy="350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43240" y="69228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forest"/>
          <p:cNvPicPr/>
          <p:nvPr/>
        </p:nvPicPr>
        <p:blipFill>
          <a:blip r:embed="rId1"/>
          <a:stretch/>
        </p:blipFill>
        <p:spPr>
          <a:xfrm>
            <a:off x="2484360" y="1916280"/>
            <a:ext cx="4030920" cy="417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83240" y="3510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536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99480" y="27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CION FUTURA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78160" y="404640"/>
            <a:ext cx="59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OS NECESARIOS EN RED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20920"/>
            <a:ext cx="6337440" cy="420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8160" y="33336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CRIPTORES MOVILES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gure 3"/>
          <p:cNvPicPr/>
          <p:nvPr/>
        </p:nvPicPr>
        <p:blipFill>
          <a:blip r:embed="rId1"/>
          <a:stretch/>
        </p:blipFill>
        <p:spPr>
          <a:xfrm>
            <a:off x="1763640" y="1125360"/>
            <a:ext cx="5977080" cy="431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6360" y="4046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A SISTEM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42120" y="5667480"/>
            <a:ext cx="60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área territorial se va cubriendo con estacione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abarcan el área de una ce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elda tiene un tamaño que está limitado por al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eléctrico y por t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igure 4"/>
          <p:cNvPicPr/>
          <p:nvPr/>
        </p:nvPicPr>
        <p:blipFill>
          <a:blip r:embed="rId1"/>
          <a:stretch/>
        </p:blipFill>
        <p:spPr>
          <a:xfrm>
            <a:off x="2484360" y="1413000"/>
            <a:ext cx="3903840" cy="48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64000" y="1628640"/>
            <a:ext cx="1439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4280" y="3510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UPACIONES DE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0120" y="54936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O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gure 5"/>
          <p:cNvPicPr/>
          <p:nvPr/>
        </p:nvPicPr>
        <p:blipFill>
          <a:blip r:embed="rId1"/>
          <a:stretch/>
        </p:blipFill>
        <p:spPr>
          <a:xfrm>
            <a:off x="2050920" y="1628640"/>
            <a:ext cx="4121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838160"/>
            <a:ext cx="7920000" cy="3070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8880" y="40464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S DE ACCESO 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6560" y="8164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tos en el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00" y="1557360"/>
          <a:ext cx="6480000" cy="4824000"/>
        </p:xfrm>
        <a:graphic>
          <a:graphicData uri="http://schemas.openxmlformats.org/drawingml/2006/table">
            <a:tbl>
              <a:tblPr/>
              <a:tblGrid>
                <a:gridCol w="809640"/>
                <a:gridCol w="5670360"/>
              </a:tblGrid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orma el sistema GSM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 de cam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elige acceso TDMA para interfaz de ai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irma memorando de entendimient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ción del sistema GS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a blan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enza el sistema comer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grandes ciudades y aeropuertos europe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carrete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áreas ru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9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04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CTURA GENERAL DE UNA RED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95280" y="302760"/>
            <a:ext cx="8759880" cy="5881320"/>
            <a:chOff x="395280" y="302760"/>
            <a:chExt cx="8759880" cy="5881320"/>
          </a:xfrm>
        </p:grpSpPr>
        <p:sp>
          <p:nvSpPr>
            <p:cNvPr id="63" name=""/>
            <p:cNvSpPr/>
            <p:nvPr/>
          </p:nvSpPr>
          <p:spPr>
            <a:xfrm>
              <a:off x="1403280" y="302760"/>
              <a:ext cx="5761080" cy="51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de red G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88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Figure 2"/>
            <p:cNvPicPr/>
            <p:nvPr/>
          </p:nvPicPr>
          <p:blipFill>
            <a:blip r:embed="rId1"/>
            <a:stretch/>
          </p:blipFill>
          <p:spPr>
            <a:xfrm>
              <a:off x="395280" y="1484280"/>
              <a:ext cx="4267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003640" y="1484280"/>
              <a:ext cx="41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HLR</a:t>
              </a:r>
              <a:r>
                <a:rPr b="0" lang="en-US" sz="2000" spc="-1" strike="noStrike">
                  <a:solidFill>
                    <a:srgbClr val="33cc33"/>
                  </a:solidFill>
                  <a:latin typeface="Arial"/>
                </a:rPr>
                <a:t>  H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ome location 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8520" y="1844640"/>
              <a:ext cx="433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S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obile services switching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9080" y="2205000"/>
              <a:ext cx="32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L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isitor location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5800" y="2637000"/>
              <a:ext cx="30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thentication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2720" y="2997360"/>
              <a:ext cx="35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I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quipment identity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160" y="3573360"/>
              <a:ext cx="29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S Base St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86360" y="3881520"/>
              <a:ext cx="32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C Base Station Contro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4221000"/>
              <a:ext cx="355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TS Base Transceiver St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32360" y="4797360"/>
              <a:ext cx="409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SS Operation and Support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17480" y="5208480"/>
              <a:ext cx="196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X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sage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15680" y="5445000"/>
              <a:ext cx="23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bile service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27600" y="5589720"/>
              <a:ext cx="43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way mobile services switching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4960" y="5877000"/>
              <a:ext cx="26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IWU GSM interworking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0:07:52Z</dcterms:created>
  <dc:creator>Jorge</dc:creator>
  <dc:description/>
  <dc:language>en-US</dc:language>
  <cp:lastModifiedBy>Jorge</cp:lastModifiedBy>
  <dcterms:modified xsi:type="dcterms:W3CDTF">2005-06-10T14:29:48Z</dcterms:modified>
  <cp:revision>16</cp:revision>
  <dc:subject/>
  <dc:title>Diapositiva 1</dc:title>
</cp:coreProperties>
</file>