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D338-C8EC-46D4-AFEA-714DCF3E4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4E47-733F-4E46-BEE0-602F6110D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1BFD-9DD8-49D1-8212-A5AC69197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E98B-BFFB-4148-BAD8-0A01D45E5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F307-CE4C-4F66-B9AA-72114E75A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8D12-3B21-4AEE-A48E-860AFAAB9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13F7-C50C-4EF1-9C61-68D70E73F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BB65-E478-40FF-8258-16C034F5A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C4F7-80F2-40DD-9AD7-B3AF5CE03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3189-45B4-476C-AB0D-7852E47FC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3CB0-FE91-4C49-958E-AF22B508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4191-F07D-4DD1-BDCE-B706B360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100DA-FD74-4200-8247-993F41D91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47640" y="81180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sarrollo de los sistemas móv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763640" y="1484280"/>
          <a:ext cx="6337080" cy="4752720"/>
        </p:xfrm>
        <a:graphic>
          <a:graphicData uri="http://schemas.openxmlformats.org/drawingml/2006/table">
            <a:tbl>
              <a:tblPr/>
              <a:tblGrid>
                <a:gridCol w="635400"/>
                <a:gridCol w="5701680"/>
              </a:tblGrid>
              <a:tr h="679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ñ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stemas móvil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dic Mobile Telephone (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M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45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merican Mobile Phone System (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AMP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Access Communication System (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TAC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dic Mobile Telephony (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M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9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merican Digital Cellular (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ADC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lobal System for Mobile Communication (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GSM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gital Cellular System (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DC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18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sonal Digital Cellular (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PDC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CS 1900—Cana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CS—United Stat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0" y="516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8209080" cy="50007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4400" y="403920"/>
            <a:ext cx="913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FAGAS, CUADROS TDMA Y MULTICUADROS EN INTERFAZ AIRE G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324000" y="1197000"/>
            <a:ext cx="6553080" cy="5016600"/>
            <a:chOff x="324000" y="1197000"/>
            <a:chExt cx="6553080" cy="5016600"/>
          </a:xfrm>
        </p:grpSpPr>
        <p:pic>
          <p:nvPicPr>
            <p:cNvPr id="81" name="" descr="Figure 3"/>
            <p:cNvPicPr/>
            <p:nvPr/>
          </p:nvPicPr>
          <p:blipFill>
            <a:blip r:embed="rId1"/>
            <a:stretch/>
          </p:blipFill>
          <p:spPr>
            <a:xfrm>
              <a:off x="324000" y="1197000"/>
              <a:ext cx="6553080" cy="501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450000" y="1393560"/>
              <a:ext cx="4071600" cy="2541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Área de servicio de un oper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7800" y="1902600"/>
              <a:ext cx="4644000" cy="19224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Área de servicio de una MS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68600" y="2349360"/>
              <a:ext cx="3753360" cy="3189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Áreas de localización (LA’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086840" y="2922840"/>
              <a:ext cx="2671920" cy="19116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Área cubierta por una estación Ba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1706760" y="279360"/>
            <a:ext cx="490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Áreas cubiertas en sistema G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948360" y="1414440"/>
            <a:ext cx="1873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nlace Ascendente: 1850 -1910 Mhz, donde la estación móvil transmite y la estación base recib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nlace Descendente: 1930-1990 Mhz, donde la estación base transmite, y la móvil recibe.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Figure 4"/>
          <p:cNvPicPr/>
          <p:nvPr/>
        </p:nvPicPr>
        <p:blipFill>
          <a:blip r:embed="rId1"/>
          <a:stretch/>
        </p:blipFill>
        <p:spPr>
          <a:xfrm>
            <a:off x="1258920" y="1413000"/>
            <a:ext cx="6624720" cy="19843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933920" y="495360"/>
            <a:ext cx="416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Áreas de Localización (L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62080" y="5589720"/>
            <a:ext cx="43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S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bile services switching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8360" y="6093000"/>
            <a:ext cx="32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L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sitor location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Figure 5"/>
          <p:cNvPicPr/>
          <p:nvPr/>
        </p:nvPicPr>
        <p:blipFill>
          <a:blip r:embed="rId2"/>
          <a:stretch/>
        </p:blipFill>
        <p:spPr>
          <a:xfrm>
            <a:off x="1116000" y="3357720"/>
            <a:ext cx="6912000" cy="22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forest"/>
          <p:cNvPicPr/>
          <p:nvPr/>
        </p:nvPicPr>
        <p:blipFill>
          <a:blip r:embed="rId1"/>
          <a:stretch/>
        </p:blipFill>
        <p:spPr>
          <a:xfrm>
            <a:off x="1763640" y="1700280"/>
            <a:ext cx="5257800" cy="43243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070360" y="566640"/>
            <a:ext cx="415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QUEMA SISTEMA CD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forest"/>
          <p:cNvPicPr/>
          <p:nvPr/>
        </p:nvPicPr>
        <p:blipFill>
          <a:blip r:embed="rId1"/>
          <a:stretch/>
        </p:blipFill>
        <p:spPr>
          <a:xfrm>
            <a:off x="826920" y="1844640"/>
            <a:ext cx="7704360" cy="35053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343240" y="692280"/>
            <a:ext cx="417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O DE DISP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forest"/>
          <p:cNvPicPr/>
          <p:nvPr/>
        </p:nvPicPr>
        <p:blipFill>
          <a:blip r:embed="rId1"/>
          <a:stretch/>
        </p:blipFill>
        <p:spPr>
          <a:xfrm>
            <a:off x="2484360" y="1916280"/>
            <a:ext cx="4030920" cy="4174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883240" y="351000"/>
            <a:ext cx="28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FT HAND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116000" y="1125360"/>
            <a:ext cx="6840720" cy="5364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599480" y="27936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OLUCION FUTURA SISTEMA G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478160" y="404640"/>
            <a:ext cx="59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QUIPOS NECESARIOS EN RED MÓ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58920" y="1420920"/>
            <a:ext cx="6337440" cy="4208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838160" y="333360"/>
            <a:ext cx="625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SCRIPTORES MOVILES EN EL MU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Figure 3"/>
          <p:cNvPicPr/>
          <p:nvPr/>
        </p:nvPicPr>
        <p:blipFill>
          <a:blip r:embed="rId1"/>
          <a:stretch/>
        </p:blipFill>
        <p:spPr>
          <a:xfrm>
            <a:off x="1763640" y="1125360"/>
            <a:ext cx="5977080" cy="43182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196360" y="404640"/>
            <a:ext cx="49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POLOGIA SISTEMA CE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842120" y="5667480"/>
            <a:ext cx="601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área territorial se va cubriendo con estaciones 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 abarcan el área de una cel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 celda tiene un tamaño que está limitado por alc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oeléctrico y por tráf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Figure 4"/>
          <p:cNvPicPr/>
          <p:nvPr/>
        </p:nvPicPr>
        <p:blipFill>
          <a:blip r:embed="rId1"/>
          <a:stretch/>
        </p:blipFill>
        <p:spPr>
          <a:xfrm>
            <a:off x="2484360" y="1413000"/>
            <a:ext cx="3903840" cy="4860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564000" y="1628640"/>
            <a:ext cx="143964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1989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 cel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14280" y="35100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RUPACIONES DE CEL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130120" y="549360"/>
            <a:ext cx="405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USO DE FRECU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Figure 5"/>
          <p:cNvPicPr/>
          <p:nvPr/>
        </p:nvPicPr>
        <p:blipFill>
          <a:blip r:embed="rId1"/>
          <a:stretch/>
        </p:blipFill>
        <p:spPr>
          <a:xfrm>
            <a:off x="2050920" y="1628640"/>
            <a:ext cx="412128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55640" y="1838160"/>
            <a:ext cx="7920000" cy="30704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838880" y="404640"/>
            <a:ext cx="54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QUEMAS DE ACCESO MULTI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626560" y="816480"/>
            <a:ext cx="37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itos en el sistema G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116000" y="1557360"/>
          <a:ext cx="6480000" cy="4824000"/>
        </p:xfrm>
        <a:graphic>
          <a:graphicData uri="http://schemas.openxmlformats.org/drawingml/2006/table">
            <a:tbl>
              <a:tblPr/>
              <a:tblGrid>
                <a:gridCol w="809640"/>
                <a:gridCol w="5670360"/>
              </a:tblGrid>
              <a:tr h="688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ñ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t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 forma el sistema GSM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ueba de camp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 elige acceso TDMA para interfaz de air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 firma memorando de entendimiento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lidación del sistema GSM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cha blanc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ienza el sistema comerci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brimiento de las grandes ciudades y aeropuertos europe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brimiento de las carretera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brimiento de las áreas rural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"/>
          <p:cNvSpPr/>
          <p:nvPr/>
        </p:nvSpPr>
        <p:spPr>
          <a:xfrm>
            <a:off x="0" y="516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1991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900000" y="404640"/>
            <a:ext cx="77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QUITECTURA GENERAL DE UNA RED G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395280" y="302760"/>
            <a:ext cx="8759880" cy="5881320"/>
            <a:chOff x="395280" y="302760"/>
            <a:chExt cx="8759880" cy="5881320"/>
          </a:xfrm>
        </p:grpSpPr>
        <p:sp>
          <p:nvSpPr>
            <p:cNvPr id="63" name=""/>
            <p:cNvSpPr/>
            <p:nvPr/>
          </p:nvSpPr>
          <p:spPr>
            <a:xfrm>
              <a:off x="1403280" y="302760"/>
              <a:ext cx="5761080" cy="51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Elementos de red GSM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288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                                      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" name="" descr="Figure 2"/>
            <p:cNvPicPr/>
            <p:nvPr/>
          </p:nvPicPr>
          <p:blipFill>
            <a:blip r:embed="rId1"/>
            <a:stretch/>
          </p:blipFill>
          <p:spPr>
            <a:xfrm>
              <a:off x="395280" y="1484280"/>
              <a:ext cx="426708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5003640" y="1484280"/>
              <a:ext cx="414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cc33"/>
                  </a:solidFill>
                  <a:latin typeface="Arial"/>
                </a:rPr>
                <a:t>HLR</a:t>
              </a:r>
              <a:r>
                <a:rPr b="0" lang="en-US" sz="2000" spc="-1" strike="noStrike">
                  <a:solidFill>
                    <a:srgbClr val="33cc33"/>
                  </a:solidFill>
                  <a:latin typeface="Arial"/>
                </a:rPr>
                <a:t>  H</a:t>
              </a:r>
              <a:r>
                <a:rPr b="1" lang="en-US" sz="2000" spc="-1" strike="noStrike">
                  <a:solidFill>
                    <a:srgbClr val="33cc33"/>
                  </a:solidFill>
                  <a:latin typeface="Arial"/>
                </a:rPr>
                <a:t>ome location regis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08520" y="1844640"/>
              <a:ext cx="433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cc33"/>
                  </a:solidFill>
                  <a:latin typeface="Arial"/>
                </a:rPr>
                <a:t>MSC</a:t>
              </a:r>
              <a:r>
                <a:rPr b="0" lang="en-US" sz="1800" spc="-1" strike="noStrike">
                  <a:solidFill>
                    <a:srgbClr val="33cc33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33cc33"/>
                  </a:solidFill>
                  <a:latin typeface="Arial"/>
                </a:rPr>
                <a:t>mobile services switching cen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49080" y="2205000"/>
              <a:ext cx="323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cc33"/>
                  </a:solidFill>
                  <a:latin typeface="Arial"/>
                </a:rPr>
                <a:t>VLR</a:t>
              </a:r>
              <a:r>
                <a:rPr b="0" lang="en-US" sz="1800" spc="-1" strike="noStrike">
                  <a:solidFill>
                    <a:srgbClr val="33cc33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33cc33"/>
                  </a:solidFill>
                  <a:latin typeface="Arial"/>
                </a:rPr>
                <a:t>visitor location regis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365800" y="2637000"/>
              <a:ext cx="305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cc33"/>
                  </a:solidFill>
                  <a:latin typeface="Arial"/>
                </a:rPr>
                <a:t>AUC</a:t>
              </a:r>
              <a:r>
                <a:rPr b="0" lang="en-US" sz="1800" spc="-1" strike="noStrike">
                  <a:solidFill>
                    <a:srgbClr val="33cc33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33cc33"/>
                  </a:solidFill>
                  <a:latin typeface="Arial"/>
                </a:rPr>
                <a:t>authentication cen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292720" y="2997360"/>
              <a:ext cx="356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cc33"/>
                  </a:solidFill>
                  <a:latin typeface="Arial"/>
                </a:rPr>
                <a:t>EIR</a:t>
              </a:r>
              <a:r>
                <a:rPr b="0" lang="en-US" sz="1800" spc="-1" strike="noStrike">
                  <a:solidFill>
                    <a:srgbClr val="33cc33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33cc33"/>
                  </a:solidFill>
                  <a:latin typeface="Arial"/>
                </a:rPr>
                <a:t>equipment identity regis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862160" y="3573360"/>
              <a:ext cx="297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BSS Base Station Syst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986360" y="3881520"/>
              <a:ext cx="326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BSC Base Station Controll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006520" y="4221000"/>
              <a:ext cx="355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BTS Base Transceiver Sta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32360" y="4797360"/>
              <a:ext cx="409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SS Operation and Support Syst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217480" y="5208480"/>
              <a:ext cx="1963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XE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essage cent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15680" y="5445000"/>
              <a:ext cx="234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SN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bile service no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27600" y="5589720"/>
              <a:ext cx="432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MSC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ateway mobile services switching cent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214960" y="5877000"/>
              <a:ext cx="261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IWU GSM interworking un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0T00:07:52Z</dcterms:created>
  <dc:creator>Jorge</dc:creator>
  <dc:description/>
  <dc:language>en-US</dc:language>
  <cp:lastModifiedBy>Jorge</cp:lastModifiedBy>
  <dcterms:modified xsi:type="dcterms:W3CDTF">2005-06-10T14:29:48Z</dcterms:modified>
  <cp:revision>16</cp:revision>
  <dc:subject/>
  <dc:title>Diapositiva 1</dc:title>
</cp:coreProperties>
</file>