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21D6-4D47-4987-8DF3-A092EBEF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0AD-9DAC-425A-B5EB-6584C809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639-4393-44F6-BB78-35A87D67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6C7E-4781-41B3-9364-C29E9DA5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BDC-A093-4E96-A2CD-B34066D2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2F36-DCBD-4328-8ED5-588FCB70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B67A-C26F-41C4-B43C-76A5B291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AB34-56A8-4A23-9A2D-6A864285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08CC-EF88-4BB7-9A99-DA2854D1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42C-41E3-46D4-BC6A-1327B321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22C1-8765-4C22-BF22-10A843F6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C4AB-CCE9-4B30-93DD-0E4BCD31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117B-2826-4F15-9C17-B727F799B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8118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arrollo de los sistemas móv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63640" y="1484280"/>
          <a:ext cx="6337080" cy="4752720"/>
        </p:xfrm>
        <a:graphic>
          <a:graphicData uri="http://schemas.openxmlformats.org/drawingml/2006/table">
            <a:tbl>
              <a:tblPr/>
              <a:tblGrid>
                <a:gridCol w="635400"/>
                <a:gridCol w="5701680"/>
              </a:tblGrid>
              <a:tr h="67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as móvi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dic Mobile Telephone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M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4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erican Mobile Phone System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MP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ccess Communication System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AC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dic Mobile Telephony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M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9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erican Digital Cellular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obal System for Mobile Communication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GS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ital Cellular System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C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18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sonal Digital Cellular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D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S 1900—Cana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S—United Sta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51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09080" cy="5000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400" y="403920"/>
            <a:ext cx="913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FAGAS, CUADROS TDMA Y MULTICUADROS EN INTERFAZ AIRE G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24000" y="1197000"/>
            <a:ext cx="6553080" cy="5016600"/>
            <a:chOff x="324000" y="1197000"/>
            <a:chExt cx="6553080" cy="5016600"/>
          </a:xfrm>
        </p:grpSpPr>
        <p:pic>
          <p:nvPicPr>
            <p:cNvPr id="81" name="" descr="Figure 3"/>
            <p:cNvPicPr/>
            <p:nvPr/>
          </p:nvPicPr>
          <p:blipFill>
            <a:blip r:embed="rId1"/>
            <a:stretch/>
          </p:blipFill>
          <p:spPr>
            <a:xfrm>
              <a:off x="324000" y="1197000"/>
              <a:ext cx="655308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50000" y="1393560"/>
              <a:ext cx="4071600" cy="254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Área de servicio de un oper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7800" y="1902600"/>
              <a:ext cx="4644000" cy="192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Área de servicio de una MS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8600" y="2349360"/>
              <a:ext cx="3753360" cy="3189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Áreas de localización (LA’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86840" y="2922840"/>
              <a:ext cx="2671920" cy="19116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Área cubierta por una estación B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706760" y="27936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reas cubiertas en sistema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414440"/>
            <a:ext cx="187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lace Ascendente: 1850 -1910 Mhz, donde la estación móvil transmite y la estación base recib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lace Descendente: 1930-1990 Mhz, donde la estación base transmite, y la móvil recibe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Figure 4"/>
          <p:cNvPicPr/>
          <p:nvPr/>
        </p:nvPicPr>
        <p:blipFill>
          <a:blip r:embed="rId1"/>
          <a:stretch/>
        </p:blipFill>
        <p:spPr>
          <a:xfrm>
            <a:off x="1258920" y="1413000"/>
            <a:ext cx="6624720" cy="1984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33920" y="495360"/>
            <a:ext cx="41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reas de Localización (L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62080" y="558972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e services switching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8360" y="6093000"/>
            <a:ext cx="32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or location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Figure 5"/>
          <p:cNvPicPr/>
          <p:nvPr/>
        </p:nvPicPr>
        <p:blipFill>
          <a:blip r:embed="rId2"/>
          <a:stretch/>
        </p:blipFill>
        <p:spPr>
          <a:xfrm>
            <a:off x="1116000" y="3357720"/>
            <a:ext cx="691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forest"/>
          <p:cNvPicPr/>
          <p:nvPr/>
        </p:nvPicPr>
        <p:blipFill>
          <a:blip r:embed="rId1"/>
          <a:stretch/>
        </p:blipFill>
        <p:spPr>
          <a:xfrm>
            <a:off x="1763640" y="1700280"/>
            <a:ext cx="5257800" cy="4324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070360" y="56664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QUEMA SISTEMA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forest"/>
          <p:cNvPicPr/>
          <p:nvPr/>
        </p:nvPicPr>
        <p:blipFill>
          <a:blip r:embed="rId1"/>
          <a:stretch/>
        </p:blipFill>
        <p:spPr>
          <a:xfrm>
            <a:off x="826920" y="1844640"/>
            <a:ext cx="7704360" cy="3505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43240" y="69228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O DE 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forest"/>
          <p:cNvPicPr/>
          <p:nvPr/>
        </p:nvPicPr>
        <p:blipFill>
          <a:blip r:embed="rId1"/>
          <a:stretch/>
        </p:blipFill>
        <p:spPr>
          <a:xfrm>
            <a:off x="2484360" y="1916280"/>
            <a:ext cx="4030920" cy="4174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83240" y="351000"/>
            <a:ext cx="28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 HAND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840720" cy="5364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99480" y="279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CION FUTURA SISTEMA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78160" y="404640"/>
            <a:ext cx="59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POS NECESARIOS EN RED 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420920"/>
            <a:ext cx="6337440" cy="4208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38160" y="333360"/>
            <a:ext cx="62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CRIPTORES MOVILES EN 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Figure 3"/>
          <p:cNvPicPr/>
          <p:nvPr/>
        </p:nvPicPr>
        <p:blipFill>
          <a:blip r:embed="rId1"/>
          <a:stretch/>
        </p:blipFill>
        <p:spPr>
          <a:xfrm>
            <a:off x="1763640" y="1125360"/>
            <a:ext cx="5977080" cy="4318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96360" y="40464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OLOGIA SISTEMA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42120" y="5667480"/>
            <a:ext cx="60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área territorial se va cubriendo con estaciones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abarcan el área de una ce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celda tiene un tamaño que está limitado por alc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eléctrico y por t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Figure 4"/>
          <p:cNvPicPr/>
          <p:nvPr/>
        </p:nvPicPr>
        <p:blipFill>
          <a:blip r:embed="rId1"/>
          <a:stretch/>
        </p:blipFill>
        <p:spPr>
          <a:xfrm>
            <a:off x="2484360" y="1413000"/>
            <a:ext cx="3903840" cy="48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64000" y="1628640"/>
            <a:ext cx="1439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989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cel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14280" y="3510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UPACIONES DE CEL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0120" y="549360"/>
            <a:ext cx="40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USO DE FRECU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Figure 5"/>
          <p:cNvPicPr/>
          <p:nvPr/>
        </p:nvPicPr>
        <p:blipFill>
          <a:blip r:embed="rId1"/>
          <a:stretch/>
        </p:blipFill>
        <p:spPr>
          <a:xfrm>
            <a:off x="2050920" y="1628640"/>
            <a:ext cx="41212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1838160"/>
            <a:ext cx="7920000" cy="3070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38880" y="404640"/>
            <a:ext cx="54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QUEMAS DE ACCESO MULT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26560" y="81648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tos en el sistema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116000" y="1557360"/>
          <a:ext cx="6480000" cy="4824000"/>
        </p:xfrm>
        <a:graphic>
          <a:graphicData uri="http://schemas.openxmlformats.org/drawingml/2006/table">
            <a:tbl>
              <a:tblPr/>
              <a:tblGrid>
                <a:gridCol w="809640"/>
                <a:gridCol w="5670360"/>
              </a:tblGrid>
              <a:tr h="68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forma el sistema GSM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ueba de camp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elige acceso TDMA para interfaz de ai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firma memorando de entendimiento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idación del sistema GS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a blan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ienza el sistema comer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brimiento de las grandes ciudades y aeropuertos europe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brimiento de las carreter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brimiento de las áreas rura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0" y="51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19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40464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QUITECTURA GENERAL DE UNA RED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395280" y="302760"/>
            <a:ext cx="8759880" cy="5881320"/>
            <a:chOff x="395280" y="302760"/>
            <a:chExt cx="8759880" cy="5881320"/>
          </a:xfrm>
        </p:grpSpPr>
        <p:sp>
          <p:nvSpPr>
            <p:cNvPr id="63" name=""/>
            <p:cNvSpPr/>
            <p:nvPr/>
          </p:nvSpPr>
          <p:spPr>
            <a:xfrm>
              <a:off x="1403280" y="302760"/>
              <a:ext cx="5761080" cy="51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lementos de red GS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88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Figure 2"/>
            <p:cNvPicPr/>
            <p:nvPr/>
          </p:nvPicPr>
          <p:blipFill>
            <a:blip r:embed="rId1"/>
            <a:stretch/>
          </p:blipFill>
          <p:spPr>
            <a:xfrm>
              <a:off x="395280" y="1484280"/>
              <a:ext cx="42670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003640" y="1484280"/>
              <a:ext cx="414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HLR</a:t>
              </a:r>
              <a:r>
                <a:rPr b="0" lang="en-US" sz="2000" spc="-1" strike="noStrike">
                  <a:solidFill>
                    <a:srgbClr val="33cc33"/>
                  </a:solidFill>
                  <a:latin typeface="Arial"/>
                </a:rPr>
                <a:t>  H</a:t>
              </a: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ome location regis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8520" y="1844640"/>
              <a:ext cx="433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MSC</a:t>
              </a: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mobile services switching 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49080" y="2205000"/>
              <a:ext cx="323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VLR</a:t>
              </a: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visitor location 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65800" y="2637000"/>
              <a:ext cx="305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AUC</a:t>
              </a: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authentication 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92720" y="2997360"/>
              <a:ext cx="356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EIR</a:t>
              </a: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equipment identity 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62160" y="3573360"/>
              <a:ext cx="297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BSS Base Station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86360" y="3881520"/>
              <a:ext cx="32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BSC Base Station Control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6520" y="4221000"/>
              <a:ext cx="355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BTS Base Transceiver St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32360" y="4797360"/>
              <a:ext cx="409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SS Operation and Support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17480" y="5208480"/>
              <a:ext cx="196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X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ssage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15680" y="5445000"/>
              <a:ext cx="23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N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bile service n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27600" y="5589720"/>
              <a:ext cx="432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MSC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teway mobile services switching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14960" y="5877000"/>
              <a:ext cx="261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IWU GSM interworking u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00:07:52Z</dcterms:created>
  <dc:creator>Jorge</dc:creator>
  <dc:description/>
  <dc:language>en-US</dc:language>
  <cp:lastModifiedBy>Jorge</cp:lastModifiedBy>
  <dcterms:modified xsi:type="dcterms:W3CDTF">2005-06-10T14:29:48Z</dcterms:modified>
  <cp:revision>16</cp:revision>
  <dc:subject/>
  <dc:title>Diapositiva 1</dc:title>
</cp:coreProperties>
</file>