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8.jpeg" ContentType="image/jpe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0AAE-E6E3-43DD-B101-ED15ABDD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662-BE23-4E8C-88C4-0B335050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66C9-194A-4E55-B8E7-1C53EA0B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CB7-A9FE-4692-A298-920FE57E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F758-C59B-4102-B038-904D0B89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03E2-201E-4E78-BAC7-187D2E5C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347-BF77-45C6-8133-206641E8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02C0-F008-4422-A66F-D88195C3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807-E071-4C9F-BE00-C09CB9DF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607-77E9-4A4E-A4D5-FF085F7B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046-C811-4CC4-A8A4-483AD602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85B-F17A-45FA-930F-BEE27ECA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521F-32C9-49ED-BE62-47A955A80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6120" y="1481040"/>
            <a:ext cx="5171760" cy="389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50520" y="33336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LACE SATEL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81040" y="1442880"/>
            <a:ext cx="6181920" cy="3972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3080" y="39852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S V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663640" cy="2398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3280" y="1197000"/>
            <a:ext cx="2016360" cy="139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76720" y="2997360"/>
            <a:ext cx="1095480" cy="1257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335268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53280" y="47160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BITAS SATELI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308720" y="1916280"/>
            <a:ext cx="1524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5640" y="1844640"/>
          <a:ext cx="7561440" cy="3640320"/>
        </p:xfrm>
        <a:graphic>
          <a:graphicData uri="http://schemas.openxmlformats.org/drawingml/2006/table">
            <a:tbl>
              <a:tblPr/>
              <a:tblGrid>
                <a:gridCol w="1079640"/>
                <a:gridCol w="2119320"/>
                <a:gridCol w="1760400"/>
                <a:gridCol w="2602080"/>
              </a:tblGrid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Earth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 Earth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stationary Eart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it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-300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0-12000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282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íodo orb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os de lanzamiento baj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 comunicación ba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enuación baj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o lanzamiento moder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 relativamente ba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bre 42.2% superficie terre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ta const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problemas de efecto dopp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ventaj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a cor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nturones de rad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s may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enuaciones mayor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s ele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ciones terrenas costo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2052000" y="692280"/>
            <a:ext cx="48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ACTERISTICAS DE LAS ORB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1173240"/>
            <a:ext cx="6408720" cy="4897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36920" y="471600"/>
            <a:ext cx="43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ES DE UN SATE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3646440" cy="547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45080" y="1484280"/>
            <a:ext cx="2814840" cy="309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01440" y="333360"/>
            <a:ext cx="41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ZAMIENTO DE UN SATE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7129800" cy="5259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50040" y="471600"/>
            <a:ext cx="37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ORCIÓN ATMOSFE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00000" y="1628640"/>
          <a:ext cx="7127640" cy="2487240"/>
        </p:xfrm>
        <a:graphic>
          <a:graphicData uri="http://schemas.openxmlformats.org/drawingml/2006/table">
            <a:tbl>
              <a:tblPr/>
              <a:tblGrid>
                <a:gridCol w="803880"/>
                <a:gridCol w="1665360"/>
                <a:gridCol w="1991880"/>
                <a:gridCol w="2666520"/>
              </a:tblGrid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-LINK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WN-LINK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3.7-4.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.925-6.4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ferencia con enlaces terrest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11.7-12.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(14.0-14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enuación por llu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17.7-21.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(27.5-30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o elevado de equi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1.610-1.6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2.483-2.5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ferencia otros servic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2988720" y="47628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AS UTIL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5751720" cy="5619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51120" y="40464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IDO DE RECEP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826920" y="1852560"/>
          <a:ext cx="7561080" cy="4455720"/>
        </p:xfrm>
        <a:graphic>
          <a:graphicData uri="http://schemas.openxmlformats.org/drawingml/2006/table">
            <a:tbl>
              <a:tblPr/>
              <a:tblGrid>
                <a:gridCol w="3780360"/>
                <a:gridCol w="3780720"/>
              </a:tblGrid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Potencia transmitida</a:t>
                      </a:r>
                      <a:r>
                        <a:rPr b="0" lang="es-E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 = </a:t>
                      </a: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40W = 16 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Ganancia antena transmisión</a:t>
                      </a: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 = </a:t>
                      </a: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30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o, EIRP = 30 + 16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46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atelite geoestacionario 37000 k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Downlink (Espacio a tierra) at 12GHz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o, FSPL = 20log(4πd/λ)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206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Ganancia antena recept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35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Potencia recibida (= 46 - 206 + 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-125 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Temperatura de ruido de recepción = 200K = 23 dBK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k = -229 dBW/Hz/K, so N</a:t>
                      </a:r>
                      <a:r>
                        <a:rPr b="0" lang="es-ES" sz="1200" spc="-1" strike="noStrike" baseline="-30000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 = kT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-206 dBW/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C/N</a:t>
                      </a:r>
                      <a:r>
                        <a:rPr b="0" lang="en-US" sz="1200" spc="-1" strike="noStrike" baseline="-30000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 = (-125 - - 2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82 dB-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2627280" y="83664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O DEL ENLACE BAJ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3:06:39Z</dcterms:created>
  <dc:creator>Jorge</dc:creator>
  <dc:description/>
  <dc:language>en-US</dc:language>
  <cp:lastModifiedBy>Jorge</cp:lastModifiedBy>
  <dcterms:modified xsi:type="dcterms:W3CDTF">2005-05-06T14:02:51Z</dcterms:modified>
  <cp:revision>3</cp:revision>
  <dc:subject/>
  <dc:title>Diapositiva 1</dc:title>
</cp:coreProperties>
</file>