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8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223-CA5E-4FA7-8017-122AD9AC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F6A-E40E-424E-8D3D-A3A27B63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8F3-5D28-4ADA-B8D6-0EA05C62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87D-5A5F-4BAA-91E1-92BB78C0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619-AA63-44B5-9BED-69ACEFF4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9B0-EA05-47DE-9A45-93EB96C0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DF4-61CF-4109-98F8-3EFD8B65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5A2-DC3B-4532-A0CB-12518083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014-7757-47DC-A55E-12CBFFFD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991-6E7F-4009-A826-4569C2EB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C8C-2E67-4952-BB5A-858714F9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C312-6FDD-4EA1-A88E-DD1ACFE7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A82D-22F9-433A-AC1F-A42AC88FE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6120" y="1481040"/>
            <a:ext cx="5171760" cy="389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50520" y="33336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LACE SATEL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81040" y="1442880"/>
            <a:ext cx="6181920" cy="3972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3080" y="3985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S V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663640" cy="239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2016360" cy="139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1095480" cy="1257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33526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53280" y="47160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BITAS SATELI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08720" y="1916280"/>
            <a:ext cx="1524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1844640"/>
          <a:ext cx="7561440" cy="3640320"/>
        </p:xfrm>
        <a:graphic>
          <a:graphicData uri="http://schemas.openxmlformats.org/drawingml/2006/table">
            <a:tbl>
              <a:tblPr/>
              <a:tblGrid>
                <a:gridCol w="1079640"/>
                <a:gridCol w="2119320"/>
                <a:gridCol w="1760400"/>
                <a:gridCol w="2602080"/>
              </a:tblGrid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stationary Eart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it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3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0-120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282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íodo orb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s de lanzamiento baj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comunicación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ón baj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 lanzamiento mode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relativamente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bre 42.2% superficie terre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ta const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problemas de efecto dopp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a cor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nturones de rad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may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ones mayor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ele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ciones terrenas costo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052000" y="692280"/>
            <a:ext cx="48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ISTICAS DE LAS ORB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173240"/>
            <a:ext cx="6408720" cy="4897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36920" y="471600"/>
            <a:ext cx="43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ES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3646440" cy="547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45080" y="1484280"/>
            <a:ext cx="2814840" cy="309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01440" y="333360"/>
            <a:ext cx="41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ZAMIENTO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129800" cy="5259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50040" y="471600"/>
            <a:ext cx="37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RCIÓN ATMOSFE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00000" y="1628640"/>
          <a:ext cx="7127640" cy="2487240"/>
        </p:xfrm>
        <a:graphic>
          <a:graphicData uri="http://schemas.openxmlformats.org/drawingml/2006/table">
            <a:tbl>
              <a:tblPr/>
              <a:tblGrid>
                <a:gridCol w="803880"/>
                <a:gridCol w="1665360"/>
                <a:gridCol w="1991880"/>
                <a:gridCol w="2666520"/>
              </a:tblGrid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-LINK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WN-LINK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3.7-4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.925-6.4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con enlaces terres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11.7-12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14.0-14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enuación por llu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17.7-21.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(27.5-30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o elevado de equi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1.610-1.6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2.483-2.5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otros servi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2988720" y="47628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AS UTI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5751720" cy="5619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51120" y="40464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IDO DE RECEP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26920" y="1852560"/>
          <a:ext cx="7561080" cy="4455720"/>
        </p:xfrm>
        <a:graphic>
          <a:graphicData uri="http://schemas.openxmlformats.org/drawingml/2006/table">
            <a:tbl>
              <a:tblPr/>
              <a:tblGrid>
                <a:gridCol w="3780360"/>
                <a:gridCol w="3780720"/>
              </a:tblGrid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transmitida</a:t>
                      </a:r>
                      <a:r>
                        <a:rPr b="0" lang="es-E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40W = 16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transmisión</a:t>
                      </a: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0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EIRP = 30 + 16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46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atelite geoestacionario 37000 k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Downlink (Espacio a tierra) at 12GHz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FSPL = 20log(4πd/λ)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206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5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recibida (= 46 - 206 + 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125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Temperatura de ruido de recepción = 200K = 23 dBK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k = -229 dBW/Hz/K, so N</a:t>
                      </a:r>
                      <a:r>
                        <a:rPr b="0" lang="es-E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kT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206 dBW/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C/N</a:t>
                      </a:r>
                      <a:r>
                        <a:rPr b="0" lang="en-U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(-125 - - 2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82 dB-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627280" y="83664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O DEL ENLACE BA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3:06:39Z</dcterms:created>
  <dc:creator>Jorge</dc:creator>
  <dc:description/>
  <dc:language>en-US</dc:language>
  <cp:lastModifiedBy>Jorge</cp:lastModifiedBy>
  <dcterms:modified xsi:type="dcterms:W3CDTF">2005-05-06T14:02:51Z</dcterms:modified>
  <cp:revision>3</cp:revision>
  <dc:subject/>
  <dc:title>Diapositiva 1</dc:title>
</cp:coreProperties>
</file>