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0754-71B9-48A1-9EC4-D260B4723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936-9541-4EBA-9EE3-FD539E67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3292-D218-4DD3-B87B-1698388E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D125-F90D-4E83-9D0E-239BA074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5FC-0109-4A37-BFB5-FD2134D8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4CA-DCE0-49A5-90F5-FB389D9BE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6561-BE7E-4BC0-BF99-FEB79AC5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1A4C-2E17-4CD8-8185-B423622E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87AF-ADDC-44C4-8975-ED0F4584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0BB-2668-455D-B67D-90E4F0CE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B466-7C8C-4C4E-9315-C7C397E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309A-66E4-4885-B8D9-AF8862E9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8133-377C-4B98-8B30-717FAEDF4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51Z</dcterms:modified>
  <cp:revision>3</cp:revision>
  <dc:subject/>
  <dc:title>Diapositiva 1</dc:title>
</cp:coreProperties>
</file>