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12.png" ContentType="image/png"/>
  <Override PartName="/ppt/media/image4.gif" ContentType="image/gif"/>
  <Override PartName="/ppt/media/image5.gif" ContentType="image/gif"/>
  <Override PartName="/ppt/media/image9.png" ContentType="image/png"/>
  <Override PartName="/ppt/media/image6.gif" ContentType="image/gif"/>
  <Override PartName="/ppt/media/image8.jpeg" ContentType="image/jpe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11A1-FF4B-4BC8-B3DE-06BD0E827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EA19-081F-4B2D-BFE7-7C6CE620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721F-8B51-426B-951F-0F1B744D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22F0-7D2E-4CB6-A072-39E81222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419C-7B16-44A3-8C58-4EE75810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74DA-BCB6-45BF-8E4F-EE40E7FF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97D2-4838-43AC-BA53-AC587B37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032B-2D93-4C3A-A35B-8775BC35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6BC5-EA48-4A93-9AE6-5677C288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7A72-E300-426D-A2D9-3E907522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EFAC-F8A9-40A8-9705-4314CE2D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B4A6-94F6-480F-A76D-BEA0905D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D8DF-4464-46C0-BAFE-50DEC88B5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86120" y="1481040"/>
            <a:ext cx="5171760" cy="3895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50520" y="333360"/>
            <a:ext cx="269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LACE SATEL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81040" y="1442880"/>
            <a:ext cx="6181920" cy="3972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43080" y="39852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STEMAS V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2663640" cy="2398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43280" y="1197000"/>
            <a:ext cx="2016360" cy="1392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076720" y="2997360"/>
            <a:ext cx="1095480" cy="1257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067280" y="5157720"/>
            <a:ext cx="3352680" cy="762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53280" y="471600"/>
            <a:ext cx="31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BITAS SATELI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308720" y="1916280"/>
            <a:ext cx="1524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5640" y="1844640"/>
          <a:ext cx="7561440" cy="3640320"/>
        </p:xfrm>
        <a:graphic>
          <a:graphicData uri="http://schemas.openxmlformats.org/drawingml/2006/table">
            <a:tbl>
              <a:tblPr/>
              <a:tblGrid>
                <a:gridCol w="1079640"/>
                <a:gridCol w="2119320"/>
                <a:gridCol w="1760400"/>
                <a:gridCol w="2602080"/>
              </a:tblGrid>
              <a:tr h="35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c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Earth Orb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um Earth Orb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ostationary Eart Orb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itu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-300 mill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0-12000 mill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,282 mill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íodo orbi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4 h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h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taj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os de lanzamiento baj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ardo comunicación baj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enuación baj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o lanzamiento moder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ardo relativamente baj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bre 42.2% superficie terres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sta consta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tiene problemas de efecto doppl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ventaj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da cor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nturones de radi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ardos may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enuaciones mayor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ardos elev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ciones terrenas costos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2052000" y="692280"/>
            <a:ext cx="48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ACTERISTICAS DE LAS ORBI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32000" y="1173240"/>
            <a:ext cx="6408720" cy="4897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36920" y="471600"/>
            <a:ext cx="433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ES DE UN SATE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03280" y="981000"/>
            <a:ext cx="3646440" cy="5472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545080" y="1484280"/>
            <a:ext cx="2814840" cy="3097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701440" y="333360"/>
            <a:ext cx="41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ZAMIENTO DE UN SATE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7129800" cy="5259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50040" y="471600"/>
            <a:ext cx="37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ORCIÓN ATMOSFER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900000" y="1628640"/>
          <a:ext cx="7127640" cy="2487240"/>
        </p:xfrm>
        <a:graphic>
          <a:graphicData uri="http://schemas.openxmlformats.org/drawingml/2006/table">
            <a:tbl>
              <a:tblPr/>
              <a:tblGrid>
                <a:gridCol w="803880"/>
                <a:gridCol w="1665360"/>
                <a:gridCol w="1991880"/>
                <a:gridCol w="2666520"/>
              </a:tblGrid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P-LINK (GH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WN-LINK(GH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(3.7-4.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(5.925-6.42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ferencia con enlaces terrest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(11.7-12.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(14.0-14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enuación por llu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17.7-21.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(27.5-30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to elevado de equi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(1.610-1.62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 (2.483-2.5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ferencia otros servic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2988720" y="476280"/>
            <a:ext cx="28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DAS UTILIZ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63640" y="907920"/>
            <a:ext cx="5751720" cy="5619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51120" y="40464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IDO DE RECEP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826920" y="1852560"/>
          <a:ext cx="7561080" cy="4455720"/>
        </p:xfrm>
        <a:graphic>
          <a:graphicData uri="http://schemas.openxmlformats.org/drawingml/2006/table">
            <a:tbl>
              <a:tblPr/>
              <a:tblGrid>
                <a:gridCol w="3780360"/>
                <a:gridCol w="3780720"/>
              </a:tblGrid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Potencia transmitida</a:t>
                      </a:r>
                      <a:r>
                        <a:rPr b="0" lang="es-E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 = </a:t>
                      </a: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40W = 16 dB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Ganancia antena transmisión</a:t>
                      </a: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 = </a:t>
                      </a: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30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So, EIRP = 30 + 16 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46dB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Satelite geoestacionario 37000 k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Downlink (Espacio a tierra) at 12GHz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So, FSPL = 20log(4πd/λ) 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206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Ganancia antena recept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35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Potencia recibida (= 46 - 206 + 3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-125 dB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Temperatura de ruido de recepción = 200K = 23 dBK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k = -229 dBW/Hz/K, so N</a:t>
                      </a:r>
                      <a:r>
                        <a:rPr b="0" lang="es-ES" sz="1200" spc="-1" strike="noStrike" baseline="-30000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 = kT 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-206 dBW/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C/N</a:t>
                      </a:r>
                      <a:r>
                        <a:rPr b="0" lang="en-US" sz="1200" spc="-1" strike="noStrike" baseline="-30000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 = (-125 - - 20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82 dB-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2627280" y="836640"/>
            <a:ext cx="42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O DEL ENLACE BAJ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13:06:39Z</dcterms:created>
  <dc:creator>Jorge</dc:creator>
  <dc:description/>
  <dc:language>en-US</dc:language>
  <cp:lastModifiedBy>Jorge</cp:lastModifiedBy>
  <dcterms:modified xsi:type="dcterms:W3CDTF">2005-05-06T14:02:51Z</dcterms:modified>
  <cp:revision>3</cp:revision>
  <dc:subject/>
  <dc:title>Diapositiva 1</dc:title>
</cp:coreProperties>
</file>