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54.png" ContentType="image/png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36AA-59C8-4122-8EF4-DB8D2B8C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FAF2-E01F-4730-B898-D8DD9372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958E-8CB9-4A48-AD66-1FF682D3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6BCD-DBC5-4DC2-BD89-371CA5EF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35E6-18F3-4FC6-AA04-913E605A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0455-7713-4519-8784-ADBCE060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E61B-57BB-47FF-9F71-8B5ED4F4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F7F2-3E97-49E7-8340-7CA07456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33A0-472B-45C6-83E2-63A8CA05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3FCB-AABC-4F89-BAC5-0226BE67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B8FB-6E11-487E-A58E-AB3DD37B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B7CF-5D96-4972-B7A6-D31A9EC6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4738-56BA-48E2-B348-B02EC3CE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B648-C1E3-4D25-92BF-6B89C70F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FA72-3C66-4661-AE56-37D7F504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4511-C7EB-4814-8304-C864E308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B52F-D096-4A5B-88A2-872A4A4F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60C2-753C-43D8-92C4-C46EA5AA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4E88-1F52-4A83-B4C9-BF656FE9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6614-8594-43AB-B287-E38C5F6E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834F-6210-4F17-BD2D-5B5ED05B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C13F-D226-49C7-AA74-2247C808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A7A7-E918-4AB9-8329-0FAF351A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580A-43F2-4B3B-A716-76B26757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ECF6-178E-4154-B48C-EC0E402068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4671-1BBE-4FEA-8039-4DA1CC96ED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2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5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mulación Dinámica de los Estados de Equilibrio en el Mercado Inmobili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ardo Hurtub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de Septiembre 20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f. Guía: Francisco Martín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0720" y="4419720"/>
            <a:ext cx="711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Ofer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ofit en un períod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7543800" cy="546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600200" y="3429000"/>
            <a:ext cx="2819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39625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tidad vendida en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809880" y="3352680"/>
            <a:ext cx="12956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39625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 de descu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257800" y="34290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39625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cio del bien en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629400" y="33526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9625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tidad construida en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219320" y="4952880"/>
            <a:ext cx="6781320" cy="1601640"/>
            <a:chOff x="1219320" y="4952880"/>
            <a:chExt cx="6781320" cy="1601640"/>
          </a:xfrm>
        </p:grpSpPr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5226480" y="4952880"/>
              <a:ext cx="2774160" cy="16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219320" y="5397480"/>
              <a:ext cx="362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blema del producto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H="1" flipV="1">
            <a:off x="7848360" y="342864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43800" y="40053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sto de construcción uni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914400" y="4724280"/>
            <a:ext cx="2057400" cy="652680"/>
            <a:chOff x="914400" y="4724280"/>
            <a:chExt cx="2057400" cy="652680"/>
          </a:xfrm>
        </p:grpSpPr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2133720" y="4724280"/>
              <a:ext cx="83808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914400" y="4876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upuesto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Ofer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ción de precio mínimo aceptab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       el precio mínimo de venta para la opció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324840" cy="919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905120" y="3733920"/>
            <a:ext cx="457200" cy="53316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1171440" y="4915080"/>
            <a:ext cx="6553440" cy="1319040"/>
            <a:chOff x="1171440" y="4915080"/>
            <a:chExt cx="6553440" cy="1319040"/>
          </a:xfrm>
        </p:grpSpPr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2133720" y="5638680"/>
              <a:ext cx="4495680" cy="5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1171440" y="4915080"/>
              <a:ext cx="65534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ntidad vendida en t será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Ofer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 problema del productor se replante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5562360" cy="1344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333520" y="3733920"/>
            <a:ext cx="1581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057400" y="4876920"/>
            <a:ext cx="433440" cy="609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038480" y="3581280"/>
            <a:ext cx="2133720" cy="781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438280" y="42670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487692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tidad vendida 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952880" y="4343400"/>
            <a:ext cx="1526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480060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dente en la oferta al final d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6719760" y="423864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Ofer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ordenando y planteando de manera recursiv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7925040" cy="1177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838080" y="5638680"/>
            <a:ext cx="10287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Ofer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solviendo el problema del productor encontramos la ecuación de Eul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ultiplicador de Lagrange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3083040"/>
            <a:ext cx="8458200" cy="803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371600" y="4219560"/>
            <a:ext cx="289080" cy="380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715000" y="4191120"/>
            <a:ext cx="1752480" cy="51912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1176480" y="4952880"/>
            <a:ext cx="7086600" cy="1497240"/>
            <a:chOff x="1176480" y="4952880"/>
            <a:chExt cx="7086600" cy="1497240"/>
          </a:xfrm>
        </p:grpSpPr>
        <p:pic>
          <p:nvPicPr>
            <p:cNvPr id="183" name="" descr=""/>
            <p:cNvPicPr/>
            <p:nvPr/>
          </p:nvPicPr>
          <p:blipFill>
            <a:blip r:embed="rId4"/>
            <a:stretch/>
          </p:blipFill>
          <p:spPr>
            <a:xfrm>
              <a:off x="3581280" y="5562720"/>
              <a:ext cx="152424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1176480" y="4952880"/>
              <a:ext cx="70866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ajo el supuesto de miopía de los productores: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Ofer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uego la ecuación de comportamiento del productor 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828800" y="3505320"/>
            <a:ext cx="5486400" cy="930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905120" y="4952880"/>
            <a:ext cx="6019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io igual a costo margina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quilib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34212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 cada perio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 número total de hogares localizados debe ser igual al número total de viviendas utilizada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447920" y="4038480"/>
            <a:ext cx="4190760" cy="684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447920" y="5638680"/>
            <a:ext cx="419076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447920" y="3505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 cad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5029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regad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4038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5638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705720" y="4038480"/>
            <a:ext cx="353880" cy="533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732720" y="5661000"/>
            <a:ext cx="3236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cenar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so de ofer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mará valores tales que los precios de equilibrio se acercarán a la cota inferi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so de 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mará valores tales que los precios de equilibrio se acercarán a la cota superi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erta igual 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 genera una discontinuidad en el equilib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1828800" cy="6904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876920" y="3581280"/>
            <a:ext cx="1904760" cy="72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628640" y="2633760"/>
                <a:ext cx="285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628640" y="4405320"/>
                <a:ext cx="285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5181480" y="5362560"/>
            <a:ext cx="17528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cenar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6095880" cy="3990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905120" y="19954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cios ante exceso de oferta y exceso de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2219400" y="4433760"/>
            <a:ext cx="2209680" cy="623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236232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licación del mode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 define la función de cos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rtir de la ecuación de comportamiento del productor se obtien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3886200" cy="522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438280" y="4876920"/>
            <a:ext cx="35816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sarrollo de un modelo teórico del mercado inmobilia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Que permita modelar interdependencia temporal de las decis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odelo de equilibrio sin imponer igualdad entre la oferta y la demanda (existencia de excedent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ub-modelo de demanda basado en RB&amp;SM (Martínez y Henríquez 200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ub modelo de oferta donde productores maximizan el valor presente de sus vent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licación del mode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 definió una ciudad ficticia, con 3 tipos de hogares y 4 opciones de local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so inic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(250,200,150), crecimiento del ingreso de 1% por perío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(1,2,3)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vi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(1,2,3,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situación base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223344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7162560" cy="43434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-3429000" y="2824200"/>
            <a:ext cx="868680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situación base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223344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7162920" cy="3862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114800" y="1905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o pro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-3429000" y="2819520"/>
            <a:ext cx="868680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(aumento del precio del suelo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7238880" cy="4056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-3809880" y="2743200"/>
            <a:ext cx="9753480" cy="1963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152280" y="5181480"/>
            <a:ext cx="194328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(aumento del precio del suelo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-3809880" y="2743200"/>
            <a:ext cx="9753480" cy="19638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057400" y="2168640"/>
            <a:ext cx="6908760" cy="3724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191120" y="1905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o pro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152280" y="5181480"/>
            <a:ext cx="194328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(disminución del precio del suelo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-3429000" y="2639880"/>
            <a:ext cx="9220320" cy="18558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057400" y="2244600"/>
            <a:ext cx="7061040" cy="3807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52280" y="5181480"/>
            <a:ext cx="194328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(disminución del precio del suelo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23344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-3429000" y="2639880"/>
            <a:ext cx="9220320" cy="18558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1905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o pro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133720" y="2286000"/>
            <a:ext cx="6705360" cy="39830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152280" y="5181480"/>
            <a:ext cx="194328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aumento de las economías de escala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2971800" y="2743200"/>
            <a:ext cx="8229600" cy="1655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981080" y="2362320"/>
            <a:ext cx="6926400" cy="40179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152280" y="5181480"/>
            <a:ext cx="194328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disminución de las economías de escala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-2971800" y="2743200"/>
            <a:ext cx="8269200" cy="1663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981080" y="2286000"/>
            <a:ext cx="7162920" cy="39844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52280" y="5181480"/>
            <a:ext cx="194328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disminución del factor de escala de las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funciones de corte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-2859120" y="2847960"/>
            <a:ext cx="8193240" cy="16477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6908760" cy="37339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304920" y="5867280"/>
            <a:ext cx="3886200" cy="567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4572000" y="5791320"/>
            <a:ext cx="438156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racterísticas generales del model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n cada periodo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un grupo de hogares busca localizar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 construye nueva oferta inmobiliaria, que estará disponible en </a:t>
            </a:r>
            <a:r>
              <a:rPr b="0" i="1" lang="en-US" sz="2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períodos má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l número de hogares localizados es igual al número de viviendas “vendidas” o utilizad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2193840"/>
            <a:ext cx="784836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Se desarrolló un modelo con base microeconómica que permite la modelación periodo a periodo y la existencia de excedentes, tanto en la oferta como en la deman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4205160"/>
            <a:ext cx="784836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l costo de mantener stock no está incorporado de manera explícita, sin embargo los precios de equilibrio desincentivan la producción ante un exceso de ofer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2193840"/>
            <a:ext cx="784836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La indefinición de </a:t>
            </a:r>
            <a:r>
              <a:rPr b="0" i="1" lang="es-ES" sz="2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s-ES" sz="26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  ante la igualdad de oferta y demanda genera “saltos” en los precios de equilibri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3581280"/>
            <a:ext cx="784836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Valor del precio “promedio” en el largo plazo está determinado por las tasas de crecimiento de la población y del ingres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5094360"/>
            <a:ext cx="784836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os supuestos sobre el comportamiento de los productores y la función de costo no son únicos. Posible familia de model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358128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Pregunt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352680" y="2286000"/>
            <a:ext cx="48769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Dema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hogares hacen posturas (bids) por las localizaci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rcado tipo remate: bien asignado a mejor pos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osturas restringidas por ingreso disponible de hog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xternalidades de localización percibidas con desfase de un perío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Dema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unción de Postura: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tilidad cuasi lin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5153040" cy="515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2590920" y="3505320"/>
            <a:ext cx="1523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105520" y="35053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477120" y="342900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426708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onente asociado al nivel de ut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426708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aloración de los atributos de la loc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426708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onente de ajuste glob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23880" y="5334120"/>
            <a:ext cx="5410440" cy="556920"/>
            <a:chOff x="1523880" y="5334120"/>
            <a:chExt cx="5410440" cy="55692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523880" y="5334120"/>
              <a:ext cx="213372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flipH="1">
              <a:off x="3809880" y="563868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05520" y="5486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Error IID Gumb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Dema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obabilidad de localización de hogar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en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vi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: probabilidad de que sea el mejor postor (prob. b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 renta (precio) es valor esperado de la máxima postu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63852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00360" y="3352680"/>
            <a:ext cx="3598920" cy="1128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743200" y="5334120"/>
            <a:ext cx="441972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Dema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ricción de ingres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76520" y="2557440"/>
            <a:ext cx="6400800" cy="933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057400" y="3733920"/>
            <a:ext cx="50292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Dema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obabilidad choice: maximiza excedente del consumidor (B-r); probabilidad de que un hogar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escoja la localización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vi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(probabilidad choice)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ferta tipo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disponible en zona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período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4572000" cy="1119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828800" y="5257800"/>
            <a:ext cx="361800" cy="5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Ofer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oductores: Agente representativo que maximiza el valor presente de profit a largo plaz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cisión: Qué y cuánto construir en cada perío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strucción en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disponible en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t+n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iopía: Productores suponen crecimiento constante de los niveles de precios (opcion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6:56:36Z</dcterms:created>
  <dc:creator>Victor pc</dc:creator>
  <dc:description/>
  <dc:language>en-US</dc:language>
  <cp:lastModifiedBy>F M</cp:lastModifiedBy>
  <dcterms:modified xsi:type="dcterms:W3CDTF">2005-11-14T19:14:07Z</dcterms:modified>
  <cp:revision>12</cp:revision>
  <dc:subject/>
  <dc:title>Simulación Dinámica de los Estados de Equilibrio en el Mercado Inmobiliario</dc:title>
</cp:coreProperties>
</file>