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54.png" ContentType="image/png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EC1-9389-4B03-BD28-FFCC9AAF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E0D-7515-4442-BEBF-C07FCAD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397-A353-4DF7-A901-7F0B06BA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AE1-5DBD-4D97-9BD9-5B3FE2A6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2D83-CFE4-4D36-9FB0-42556144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54EC-92B9-45A6-8F3E-8955A4E6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5893-69F3-48CB-9989-01561533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AFB7-7A46-4460-BACA-7064E625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611B-E128-45A3-AC40-82941A0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8FB3-C962-4D34-AFD6-3980A855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2762-3350-488A-AB00-1F8486C0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DAE-722B-443A-9882-3CA69CA5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B49A-165F-409A-BFBB-E98D8A71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D7B9-17D7-4F5E-AB2D-A39EDAFD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399E-0552-4A2E-B9F9-81021D83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FCEB-A955-44E2-B7CB-FA857458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177D-5F19-4CA7-BFE2-3833B1D9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17B-0CF5-4667-84E3-9D593590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9BA-F5D4-4143-B823-9BC3FBF5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3E9-1C5B-45A9-ABD3-42852AD0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BE4-5080-44C2-B62A-EDECEF31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F6F-83D0-40E5-84B2-0B559C8F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5C2-B8FF-47C8-A052-4002A9B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CD6-EB3C-42E2-A29E-1F3F922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D7AE-44D7-4D4F-8292-9C30721D0E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57BB-2DD1-419B-9661-5CB4250D73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2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5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ulación Dinámica de los Estados de Equilibrio en el Mercado Inmobili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ardo Hurtu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de Septiembre 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. Guía: Francisco Martín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fit en un perío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543800" cy="54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600200" y="3429000"/>
            <a:ext cx="2819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tidad vendida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809880" y="33526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 de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57800" y="34290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 del bien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29400" y="33526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tidad construida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9320" y="4952880"/>
            <a:ext cx="6781320" cy="1601640"/>
            <a:chOff x="1219320" y="4952880"/>
            <a:chExt cx="6781320" cy="16016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226480" y="4952880"/>
              <a:ext cx="277416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219320" y="5397480"/>
              <a:ext cx="36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a del product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 flipV="1">
            <a:off x="7848360" y="34286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40053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 de construcción 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400" y="4724280"/>
            <a:ext cx="2057400" cy="652680"/>
            <a:chOff x="914400" y="4724280"/>
            <a:chExt cx="2057400" cy="65268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133720" y="4724280"/>
              <a:ext cx="8380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914400" y="4876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upuest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ción de precio mínimo acept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      el precio mínimo de venta para la opció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324840" cy="91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457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171440" y="4915080"/>
            <a:ext cx="6553440" cy="1319040"/>
            <a:chOff x="1171440" y="4915080"/>
            <a:chExt cx="6553440" cy="13190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2133720" y="5638680"/>
              <a:ext cx="449568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171440" y="4915080"/>
              <a:ext cx="6553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ntidad vendida en t será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roblema del productor se replant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562360" cy="1344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33520" y="3733920"/>
            <a:ext cx="1581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057400" y="4876920"/>
            <a:ext cx="43344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38480" y="3581280"/>
            <a:ext cx="2133720" cy="781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4382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48769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tidad vendida 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880" y="43434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480060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dente en la oferta al final 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6719760" y="423864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ordenando y planteando de manera recurs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925040" cy="1177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10287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olviendo el problema del productor encontramos la ecuación de Eu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ultiplicador de Lagrang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3083040"/>
            <a:ext cx="8458200" cy="80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71600" y="4219560"/>
            <a:ext cx="289080" cy="380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715000" y="4191120"/>
            <a:ext cx="1752480" cy="51912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176480" y="4952880"/>
            <a:ext cx="7086600" cy="1497240"/>
            <a:chOff x="1176480" y="4952880"/>
            <a:chExt cx="7086600" cy="1497240"/>
          </a:xfrm>
        </p:grpSpPr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3581280" y="5562720"/>
              <a:ext cx="152424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176480" y="4952880"/>
              <a:ext cx="70866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jo el supuesto de miopía de los productores: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ego la ecuación de comportamiento del productor 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486400" cy="930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05120" y="495288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igual a costo margin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lib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3421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cada peri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número total de hogares localizados debe ser igual al número total de viviendas utilizada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4190760" cy="68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47920" y="5638680"/>
            <a:ext cx="419076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4792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cad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5029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d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705720" y="40384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32720" y="5661000"/>
            <a:ext cx="323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en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so de ofer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mará valores tales que los precios de equilibrio se acercarán a la cota inf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so de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mará valores tales que los precios de equilibrio se acercarán a la cota sup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erta igual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genera una discontinuidad en el equilib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1828800" cy="690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1904760" cy="72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28640" y="2633760"/>
                <a:ext cx="28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28640" y="4405320"/>
                <a:ext cx="28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181480" y="5362560"/>
            <a:ext cx="17528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en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095880" cy="3990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905120" y="1995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s ante exceso de oferta y exceso de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19400" y="4433760"/>
            <a:ext cx="2209680" cy="623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236232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ón del 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e la función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rtir de la ecuación de comportamiento del productor se obtie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886200" cy="522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438280" y="4876920"/>
            <a:ext cx="35816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sarrollo de un modelo teórico del mercado inmobili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Que permita modelar interdependencia temporal de las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odelo de equilibrio sin imponer igualdad entre la oferta y la demanda (existencia de exceden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b-modelo de demanda basado en RB&amp;SM (Martínez y Henríquez 200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b modelo de oferta donde productores maximizan el valor presente de sus ven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ón del 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ió una ciudad ficticia, con 3 tipos de hogares y 4 opciones de 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so inic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250,200,150), crecimiento del ingreso de 1% por perío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1,2,3)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vi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1,2,3,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situación bas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7162560" cy="434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429000" y="282420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situación bas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162920" cy="3862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11480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429000" y="281952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aumento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7238880" cy="4056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-3809880" y="2743200"/>
            <a:ext cx="9753480" cy="1963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aumento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3809880" y="2743200"/>
            <a:ext cx="9753480" cy="1963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057400" y="2168640"/>
            <a:ext cx="6908760" cy="3724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9112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disminución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429000" y="2639880"/>
            <a:ext cx="9220320" cy="1855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57400" y="2244600"/>
            <a:ext cx="7061040" cy="380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disminución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429000" y="2639880"/>
            <a:ext cx="9220320" cy="185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6705360" cy="3983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umento de las economías de escala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2971800" y="2743200"/>
            <a:ext cx="8229600" cy="165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6926400" cy="4017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disminución de las economías de escala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2971800" y="2743200"/>
            <a:ext cx="8269200" cy="166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7162920" cy="3984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disminución del factor de escala de la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funciones de corte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2859120" y="2847960"/>
            <a:ext cx="8193240" cy="1647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908760" cy="3733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3886200" cy="567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4572000" y="5791320"/>
            <a:ext cx="43815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racterísticas generales del mode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 cada period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n grupo de hogares busca localizar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 construye nueva oferta inmobiliaria, que estará disponible en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períodos má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número de hogares localizados es igual al número de viviendas “vendidas” o utilizad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193840"/>
            <a:ext cx="784836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Se desarrolló un modelo con base microeconómica que permite la modelación periodo a periodo y la existencia de excedentes, tanto en la oferta como en la 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205160"/>
            <a:ext cx="78483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costo de mantener stock no está incorporado de manera explícita, sin embargo los precios de equilibrio desincentivan la producción ante un exceso de ofer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19384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indefinición de </a:t>
            </a:r>
            <a:r>
              <a:rPr b="0" i="1" lang="es-E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s-ES" sz="26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 ante la igualdad de oferta y demanda genera “saltos” en los precios de equilib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358128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alor del precio “promedio” en el largo plazo está determinado por las tasas de crecimiento de la población y del ingre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09436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s supuestos sobre el comportamiento de los productores y la función de costo no son únicos. Posible familia de model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48769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hogares hacen posturas (bids) por las localiz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rcado tipo remate: bien asignado a mejor pos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sturas restringidas por ingreso disponible de hog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ternalidades de localización percibidas con desfase de un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nción de Postura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dad cuasi lin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153040" cy="515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2590920" y="35053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10552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477120" y="342900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267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onente asociado al nivel de ut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267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oración de los atributos de la lo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42670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onente de ajuste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3880" y="5334120"/>
            <a:ext cx="5410440" cy="556920"/>
            <a:chOff x="1523880" y="5334120"/>
            <a:chExt cx="5410440" cy="5569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523880" y="5334120"/>
              <a:ext cx="213372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H="1">
              <a:off x="3809880" y="56386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5486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Error IID Gum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babilidad de localización de hogar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: probabilidad de que sea el mejor postor (prob. b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renta (precio) es valor esperado de la máxima pos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38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352680"/>
            <a:ext cx="359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43200" y="5334120"/>
            <a:ext cx="44197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ción de ingr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2557440"/>
            <a:ext cx="640080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0292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babilidad choice: maximiza excedente del consumidor (B-r); probabilidad de que un hogar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scoja la localizació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i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probabilidad choice)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ferta tipo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disponible en zona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eríodo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72000" cy="11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828800" y="5257800"/>
            <a:ext cx="361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ductores: Agente representativo que maximiza el valor presente de profit a largo pla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cisión: Qué y cuánto construir en cada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trucción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disponible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+n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opía: Productores suponen crecimiento constante de los niveles de precios (opcio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6:36Z</dcterms:created>
  <dc:creator>Victor pc</dc:creator>
  <dc:description/>
  <dc:language>en-US</dc:language>
  <cp:lastModifiedBy>F M</cp:lastModifiedBy>
  <dcterms:modified xsi:type="dcterms:W3CDTF">2005-11-14T19:14:07Z</dcterms:modified>
  <cp:revision>12</cp:revision>
  <dc:subject/>
  <dc:title>Simulación Dinámica de los Estados de Equilibrio en el Mercado Inmobiliario</dc:title>
</cp:coreProperties>
</file>