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54.png" ContentType="image/png"/>
  <Override PartName="/ppt/media/image14.wmf" ContentType="image/x-wmf"/>
  <Override PartName="/ppt/media/image1.png" ContentType="image/png"/>
  <Override PartName="/ppt/media/image29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30.wmf" ContentType="image/x-wmf"/>
  <Override PartName="/ppt/media/image42.wmf" ContentType="image/x-wmf"/>
  <Override PartName="/ppt/media/image31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6.wmf" ContentType="image/x-wmf"/>
  <Override PartName="/ppt/media/image36.wmf" ContentType="image/x-wmf"/>
  <Override PartName="/ppt/media/image5.wmf" ContentType="image/x-wmf"/>
  <Override PartName="/ppt/media/image3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1A8-F5E9-4D9C-975A-BE05BF149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AAE3-8BFB-4A4D-B1C6-7CCC0B82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79EB-26B1-4487-AD68-01D7B0185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635C-22C1-45F9-84B0-55F23794C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802BD-FA6B-4FCE-B3D5-257F7A01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FB6C2-D6B8-4087-A884-417F8030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8D850-E445-4AA9-90B9-083D2632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7E333-7168-477D-8CCC-0EB6C3D9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87F0-4F81-4C83-8F1D-A80CF0604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5B3D1-C87F-45C1-A6EE-7F80473E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36EB-A563-4A36-8096-77424821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4E47-6868-43FC-950E-FFB6D7788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AFB4A-2846-408D-91C7-1361A3B9F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8820-E07C-4C0F-A50C-AD98233B9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5FE0F-F31A-4CAB-936A-9C6400745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789D0-7DB1-41EE-980B-702F10F52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97CF-D506-4922-B7F4-2E20FBC41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E8295-72B2-492A-8E93-DD872C959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4BDA-7AAF-4A6B-A7BF-345549C1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B834-15A7-4E54-9382-75E7219D4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AB64-8FDB-4818-AF8A-3DA5D076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EC0F-3717-4717-8488-A9B036E1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8737-C35B-4D13-8C1C-5D7A102F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2CC3-0100-4CED-A99C-EAF112B1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914BB-A41C-46D2-AE70-AD7059C0CA0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F30A-6A33-4893-BD13-27D54FDCC7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image" Target="../media/image21.wmf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2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5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image" Target="../media/image51.wmf"/><Relationship Id="rId3" Type="http://schemas.openxmlformats.org/officeDocument/2006/relationships/image" Target="../media/image52.wmf"/><Relationship Id="rId4" Type="http://schemas.openxmlformats.org/officeDocument/2006/relationships/image" Target="../media/image53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mulación Dinámica de los Estados de Equilibrio en el Mercado Inmobili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ardo Hurtub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de Septiembre 200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f. Guía: Francisco Martíne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990720" y="4419720"/>
            <a:ext cx="711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Profit en un períod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219320" y="2819520"/>
            <a:ext cx="7543800" cy="54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600200" y="3429000"/>
            <a:ext cx="2819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3809880" y="3352680"/>
            <a:ext cx="12956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1240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ctor de descu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57800" y="342900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396252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ecio del bien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+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629400" y="33526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96252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ntidad construida en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219320" y="4952880"/>
            <a:ext cx="6781320" cy="1601640"/>
            <a:chOff x="1219320" y="4952880"/>
            <a:chExt cx="6781320" cy="1601640"/>
          </a:xfrm>
        </p:grpSpPr>
        <p:pic>
          <p:nvPicPr>
            <p:cNvPr id="148" name="" descr=""/>
            <p:cNvPicPr/>
            <p:nvPr/>
          </p:nvPicPr>
          <p:blipFill>
            <a:blip r:embed="rId2"/>
            <a:stretch/>
          </p:blipFill>
          <p:spPr>
            <a:xfrm>
              <a:off x="5226480" y="4952880"/>
              <a:ext cx="2774160" cy="16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1219320" y="5397480"/>
              <a:ext cx="362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Problema del producto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 flipH="1" flipV="1">
            <a:off x="7848360" y="3428640"/>
            <a:ext cx="152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4005360"/>
            <a:ext cx="1371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sto de construcción unit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914400" y="4724280"/>
            <a:ext cx="2057400" cy="652680"/>
            <a:chOff x="914400" y="4724280"/>
            <a:chExt cx="2057400" cy="652680"/>
          </a:xfrm>
        </p:grpSpPr>
        <p:pic>
          <p:nvPicPr>
            <p:cNvPr id="153" name="" descr=""/>
            <p:cNvPicPr/>
            <p:nvPr/>
          </p:nvPicPr>
          <p:blipFill>
            <a:blip r:embed="rId3"/>
            <a:stretch/>
          </p:blipFill>
          <p:spPr>
            <a:xfrm>
              <a:off x="2133720" y="4724280"/>
              <a:ext cx="838080" cy="6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914400" y="487692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upuesto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ción de precio mínimo aceptabl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       el precio mínimo de venta para la opció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324840" cy="919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905120" y="3733920"/>
            <a:ext cx="457200" cy="53316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171440" y="4915080"/>
            <a:ext cx="6553440" cy="1319040"/>
            <a:chOff x="1171440" y="4915080"/>
            <a:chExt cx="6553440" cy="1319040"/>
          </a:xfrm>
        </p:grpSpPr>
        <p:pic>
          <p:nvPicPr>
            <p:cNvPr id="160" name="" descr=""/>
            <p:cNvPicPr/>
            <p:nvPr/>
          </p:nvPicPr>
          <p:blipFill>
            <a:blip r:embed="rId3"/>
            <a:stretch/>
          </p:blipFill>
          <p:spPr>
            <a:xfrm>
              <a:off x="2133720" y="5638680"/>
              <a:ext cx="4495680" cy="59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171440" y="4915080"/>
              <a:ext cx="6553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00"/>
                </a:spcBef>
                <a:buClr>
                  <a:srgbClr val="3333cc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Cantidad vendida en t será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 problema del productor se replante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5120" y="2895480"/>
            <a:ext cx="5562360" cy="13446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333520" y="3733920"/>
            <a:ext cx="1581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2057400" y="4876920"/>
            <a:ext cx="433440" cy="6094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4038480" y="3581280"/>
            <a:ext cx="2133720" cy="781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2438280" y="42670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67080" y="4876920"/>
            <a:ext cx="175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tidad vendida en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52880" y="4343400"/>
            <a:ext cx="1526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553080" y="4800600"/>
            <a:ext cx="1752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cedente en la oferta al final d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 flipV="1">
            <a:off x="6719760" y="4238640"/>
            <a:ext cx="60984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ordenando y planteando de manera recursiva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7925040" cy="1177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1028700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Resolviendo el problema del productor encontramos la ecuación de Eule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ultiplicador de Lagrange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3083040"/>
            <a:ext cx="8458200" cy="8031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1371600" y="4219560"/>
            <a:ext cx="289080" cy="38088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5715000" y="4191120"/>
            <a:ext cx="1752480" cy="519120"/>
          </a:xfrm>
          <a:prstGeom prst="rect">
            <a:avLst/>
          </a:prstGeom>
          <a:ln w="0">
            <a:noFill/>
          </a:ln>
        </p:spPr>
      </p:pic>
      <p:grpSp>
        <p:nvGrpSpPr>
          <p:cNvPr id="182" name=""/>
          <p:cNvGrpSpPr/>
          <p:nvPr/>
        </p:nvGrpSpPr>
        <p:grpSpPr>
          <a:xfrm>
            <a:off x="1176480" y="4952880"/>
            <a:ext cx="7086600" cy="1497240"/>
            <a:chOff x="1176480" y="4952880"/>
            <a:chExt cx="7086600" cy="1497240"/>
          </a:xfrm>
        </p:grpSpPr>
        <p:pic>
          <p:nvPicPr>
            <p:cNvPr id="183" name="" descr=""/>
            <p:cNvPicPr/>
            <p:nvPr/>
          </p:nvPicPr>
          <p:blipFill>
            <a:blip r:embed="rId4"/>
            <a:stretch/>
          </p:blipFill>
          <p:spPr>
            <a:xfrm>
              <a:off x="3581280" y="5562720"/>
              <a:ext cx="1524240" cy="88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1176480" y="4952880"/>
              <a:ext cx="708660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Bajo el supuesto de miopía de los productores:</a:t>
              </a:r>
              <a:r>
                <a:rPr b="0" lang="en-US" sz="32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uego la ecuación de comportamiento del productor 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828800" y="3505320"/>
            <a:ext cx="5486400" cy="93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905120" y="4952880"/>
            <a:ext cx="6019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io igual a costo marginal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quilib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6342120" cy="14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 cada periodo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 número total de hogares localizados debe ser igual al número total de viviendas utilizada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447920" y="4038480"/>
            <a:ext cx="4190760" cy="6843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447920" y="5638680"/>
            <a:ext cx="4190760" cy="6858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a cad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502920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regadam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5880" y="4038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6386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6705720" y="4038480"/>
            <a:ext cx="353880" cy="533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6732720" y="5661000"/>
            <a:ext cx="32364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ofert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inf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eso de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mará valores tales que los precios de equilibrio se acercarán a la cota superi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erta igual demand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 genera una discontinuidad en el equilib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1828800" cy="6904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4876920" y="3581280"/>
            <a:ext cx="1904760" cy="72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1628640" y="263376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1628640" y="4405320"/>
                <a:ext cx="285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5181480" y="5362560"/>
            <a:ext cx="1752840" cy="6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scenario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095880" cy="39909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905120" y="199548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cios ante exceso de oferta y exceso de dema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2219400" y="4433760"/>
            <a:ext cx="2209680" cy="6238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3"/>
          <a:stretch/>
        </p:blipFill>
        <p:spPr>
          <a:xfrm>
            <a:off x="4724280" y="3505320"/>
            <a:ext cx="2362320" cy="67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e la función de costo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rtir de la ecuación de comportamiento del productor se obtien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2209680" y="2819520"/>
            <a:ext cx="3886200" cy="52200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2438280" y="4876920"/>
            <a:ext cx="358164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ció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Desarrollo de un modelo teórico del mercado inmobiliar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Que permita modelar interdependencia temporal de las decisio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Modelo de equilibrio sin imponer igualdad entre la oferta y la demanda (existencia de excedent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-modelo de demanda basado en RB&amp;SM (Martínez y Henríquez 200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Sub modelo de oferta donde productores maximizan el valor presente de sus vent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plicación del model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6668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 definió una ciudad ficticia, con 3 tipos de hogares y 4 opciones de localizació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so inici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250,200,150), crecimiento del ingreso de 1% por perío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vi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(1,2,3,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8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7162560" cy="4343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-3429000" y="282420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(situación base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2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1752480" y="2133720"/>
            <a:ext cx="7162920" cy="38624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411480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-3429000" y="2819520"/>
            <a:ext cx="868680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905120" y="2209680"/>
            <a:ext cx="7238880" cy="405612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aumento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-3809880" y="2743200"/>
            <a:ext cx="9753480" cy="19638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057400" y="2168640"/>
            <a:ext cx="6908760" cy="3724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2057400" y="2244600"/>
            <a:ext cx="7061040" cy="380700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(disminución del precio del suelo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2233440" y="216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-3429000" y="2639880"/>
            <a:ext cx="9220320" cy="185580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19051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o prome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2133720" y="2286000"/>
            <a:ext cx="6705360" cy="39830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aumento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29600" cy="16556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1981080" y="2362320"/>
            <a:ext cx="6926400" cy="40179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 las economías de escala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-2971800" y="2743200"/>
            <a:ext cx="8269200" cy="166356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1981080" y="2286000"/>
            <a:ext cx="7162920" cy="39844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152280" y="5181480"/>
            <a:ext cx="1943280" cy="5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ultado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(disminución del factor de escala de las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  funciones de corte)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-2859120" y="2847960"/>
            <a:ext cx="8193240" cy="164772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2057400" y="1981080"/>
            <a:ext cx="6908760" cy="373392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3"/>
          <a:stretch/>
        </p:blipFill>
        <p:spPr>
          <a:xfrm>
            <a:off x="304920" y="5867280"/>
            <a:ext cx="3886200" cy="567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4"/>
          <a:stretch/>
        </p:blipFill>
        <p:spPr>
          <a:xfrm>
            <a:off x="4572000" y="5791320"/>
            <a:ext cx="438156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2640" y="6091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racterísticas generales del model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n cada periodo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un grupo de hogares busca localizars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 construye nueva oferta inmobiliaria, que estará disponible en </a:t>
            </a:r>
            <a:r>
              <a:rPr b="0" i="1" lang="en-US" sz="26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 períodos má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número de hogares localizados es igual al número de viviendas “vendidas” o utilizada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762120" y="2193840"/>
            <a:ext cx="7848360" cy="26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Se desarrolló un modelo con base microeconómica que permite la modelación periodo a periodo y la existencia de excedentes, tanto en la oferta como en la demand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62120" y="4205160"/>
            <a:ext cx="7848360" cy="22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El costo de mantener stock no está incorporado de manera explícita, sin embargo los precios de equilibrio desincentivan la producción ante un exceso de ofer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762120" y="219384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La indefinición de </a:t>
            </a:r>
            <a:r>
              <a:rPr b="0" i="1" lang="es-ES" sz="26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i="1" lang="es-ES" sz="26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600" spc="-1" strike="noStrike">
                <a:solidFill>
                  <a:srgbClr val="000000"/>
                </a:solidFill>
                <a:latin typeface="Tahoma"/>
              </a:rPr>
              <a:t>  ante la igualdad de oferta y demanda genera “saltos” en los precios de equilibri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358128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Valor del precio “promedio” en el largo plazo está determinado por las tasas de crecimiento de la población y del ingres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5094360"/>
            <a:ext cx="7848360" cy="18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6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Los supuestos sobre el comportamiento de los productores y la función de costo no son únicos. Posible familia de modelo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358128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352680" y="2286000"/>
            <a:ext cx="48769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26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os hogares hacen posturas (bids) por las localizaci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o tipo remate: bien asignado a mejor pos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sturas restringidas por ingreso disponible de hog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Externalidades de localización percibidas con desfase de un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ahoma"/>
              </a:rPr>
              <a:t>Función de Postura: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utilidad cuasi lin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5153040" cy="515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 flipV="1">
            <a:off x="2590920" y="3505320"/>
            <a:ext cx="152388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5105520" y="3505320"/>
            <a:ext cx="228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477120" y="342900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asociado al nivel de ut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4267080"/>
            <a:ext cx="2057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aloración de los atributos de la lo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3080" y="4267080"/>
            <a:ext cx="175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ponente de ajuste glob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1523880" y="5334120"/>
            <a:ext cx="5410440" cy="556920"/>
            <a:chOff x="1523880" y="5334120"/>
            <a:chExt cx="5410440" cy="556920"/>
          </a:xfrm>
        </p:grpSpPr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523880" y="5334120"/>
              <a:ext cx="213372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flipH="1">
              <a:off x="3809880" y="5638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05520" y="5486400"/>
              <a:ext cx="1828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ahoma"/>
                </a:rPr>
                <a:t>Error IID Gumb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de localización de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: probabilidad de que sea el mejor postor (prob. b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La renta (precio) es valor esperado de la máxima postur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638520" y="313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700360" y="3352680"/>
            <a:ext cx="3598920" cy="11289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2743200" y="5334120"/>
            <a:ext cx="4419720" cy="9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tricción de ingres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76520" y="2557440"/>
            <a:ext cx="6400800" cy="933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057400" y="3733920"/>
            <a:ext cx="5029200" cy="28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Demand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babilidad choice: maximiza excedente del consumidor (B-r); probabilidad de que un hogar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escoja la localizació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i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probabilidad choice)</a:t>
            </a:r>
            <a:r>
              <a:rPr b="0" lang="es-E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ferta tip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disponible en zona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período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2209680" y="3505320"/>
            <a:ext cx="4572000" cy="11192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828800" y="5257800"/>
            <a:ext cx="361800" cy="5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Sub-Modelo de Ofert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ductores: Agente representativo que maximiza el valor presente de profit a largo plaz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ecisión: Qué y cuánto construir en cada períod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Construcción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disponible en </a:t>
            </a:r>
            <a:r>
              <a:rPr b="0" i="1" lang="es-ES" sz="2400" spc="-1" strike="noStrike">
                <a:solidFill>
                  <a:srgbClr val="000000"/>
                </a:solidFill>
                <a:latin typeface="Tahoma"/>
              </a:rPr>
              <a:t>t+n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iopía: Productores suponen crecimiento constante de los niveles de precios (opcion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56:36Z</dcterms:created>
  <dc:creator>Victor pc</dc:creator>
  <dc:description/>
  <dc:language>en-US</dc:language>
  <cp:lastModifiedBy>F M</cp:lastModifiedBy>
  <dcterms:modified xsi:type="dcterms:W3CDTF">2005-11-14T19:14:07Z</dcterms:modified>
  <cp:revision>12</cp:revision>
  <dc:subject/>
  <dc:title>Simulación Dinámica de los Estados de Equilibrio en el Mercado Inmobiliario</dc:title>
</cp:coreProperties>
</file>