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FD6-F47A-4BBF-8ECB-B96A86EE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821-99DC-443E-9EF9-9AB10E25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C8F-C166-41C4-AA75-7302EC25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675-BA11-487E-BD92-ABAC3B37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D44-3C4E-4455-B217-8DB5F778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EC1D-C82F-4C2B-B9F2-82464997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8B41-F96E-4E29-A0ED-8606E310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5DBC-2F4A-474E-A4C4-8B03C85D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F200-4037-486E-93AF-ADAB728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8531-2B90-46D1-A17A-FF6D6E3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EC54-A988-4520-B6B7-77AD875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6CC-8030-4655-BF3A-3258C954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E83C-A416-4DCB-8E75-861FDBD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A4B-FE46-45CC-A786-21DB089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0311-7E30-45C0-91E6-6E53E9A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45D5-3EBA-43E8-B993-F14E9B92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B129-FBE0-4715-BF0E-FD106471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3EC-364F-4FF5-9B6D-CB7F1CD4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F98-0FEE-4B94-9CB7-3F13E303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3B1-E867-4AD7-8160-04524111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721-1767-4AD0-91EC-823FC83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FDE-73FE-4F59-A677-7BABD6E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435-A66F-4FF8-8A01-EEF817C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920-6A0E-4456-B3C9-7F1B547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D9E-4293-41F8-8B84-0FC50ECE20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F74C-63F6-4C07-97AA-9F74EC54D9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2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5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ulación Dinámica de los Estados de Equilibrio en el Mercado Inmobili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ardo Hurtu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de Septiembre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. Guía: Francisco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fit en un perío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543800" cy="54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600200" y="3429000"/>
            <a:ext cx="2819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09880" y="33526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 de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57800" y="34290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 del bien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29400" y="3352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constru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9320" y="4952880"/>
            <a:ext cx="6781320" cy="1601640"/>
            <a:chOff x="1219320" y="4952880"/>
            <a:chExt cx="6781320" cy="16016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226480" y="4952880"/>
              <a:ext cx="277416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219320" y="5397480"/>
              <a:ext cx="36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a del product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 flipV="1">
            <a:off x="7848360" y="34286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0053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 de construcción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4724280"/>
            <a:ext cx="2057400" cy="652680"/>
            <a:chOff x="914400" y="4724280"/>
            <a:chExt cx="2057400" cy="65268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133720" y="4724280"/>
              <a:ext cx="8380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14400" y="4876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upuest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ción de precio mínimo acept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      el precio mínimo de venta para la opció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324840" cy="91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457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171440" y="4915080"/>
            <a:ext cx="6553440" cy="1319040"/>
            <a:chOff x="1171440" y="4915080"/>
            <a:chExt cx="6553440" cy="13190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2133720" y="5638680"/>
              <a:ext cx="449568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171440" y="4915080"/>
              <a:ext cx="6553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ntidad vendida en t será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blema del productor se replant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562360" cy="1344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33520" y="3733920"/>
            <a:ext cx="1581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057400" y="4876920"/>
            <a:ext cx="43344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38480" y="3581280"/>
            <a:ext cx="2133720" cy="78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4382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48769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880" y="43434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80060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dente en la oferta al final 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6719760" y="423864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ordenando y planteando de manera recurs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925040" cy="117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10287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olviendo el problema del productor encontramos la ecuación de Eu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ltiplicador de Lagrang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3083040"/>
            <a:ext cx="8458200" cy="80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71600" y="4219560"/>
            <a:ext cx="289080" cy="380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715000" y="4191120"/>
            <a:ext cx="1752480" cy="5191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176480" y="4952880"/>
            <a:ext cx="7086600" cy="1497240"/>
            <a:chOff x="1176480" y="4952880"/>
            <a:chExt cx="7086600" cy="149724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581280" y="5562720"/>
              <a:ext cx="152424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76480" y="4952880"/>
              <a:ext cx="7086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jo el supuesto de miopía de los productores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ego la ecuación de comportamiento del productor 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486400" cy="93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05120" y="495288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igual a costo margin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lib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3421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cada peri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número total de hogares localizados debe ser igual al número total de viviendas utilizada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4190760" cy="68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419076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ad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029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d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05720" y="40384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32720" y="5661000"/>
            <a:ext cx="323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ofer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inf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sup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erta igual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 una discontinuidad en el equilib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82880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1904760" cy="72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28640" y="263376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28640" y="440532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181480" y="5362560"/>
            <a:ext cx="1752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095880" cy="3990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05120" y="1995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s ante exceso de oferta y exceso de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19400" y="4433760"/>
            <a:ext cx="2209680" cy="623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236232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 la función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rtir de la ecuación de comportamiento del productor se obtie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886200" cy="522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35816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sarrollo de un modelo teórico del mercado inmobili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 permita modelar interdependencia temporal de las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odelo de equilibrio sin imponer igualdad entre la oferta y la demanda (existencia de exceden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-modelo de demanda basado en RB&amp;SM (Martínez y Henríquez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 modelo de oferta donde productores maximizan el valor presente de sus ven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ió una ciudad ficticia, con 3 tipos de hogares y 4 opciones de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so inic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250,200,150), crecimiento del ingreso de 1% por perí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)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,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7162560" cy="434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429000" y="282420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162920" cy="386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429000" y="281952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7238880" cy="4056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057400" y="2168640"/>
            <a:ext cx="6908760" cy="3724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57400" y="2244600"/>
            <a:ext cx="7061040" cy="380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6705360" cy="3983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umento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29600" cy="165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6926400" cy="4017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69200" cy="166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7162920" cy="3984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l factor de escala de la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funciones de corte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2859120" y="2847960"/>
            <a:ext cx="8193240" cy="164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908760" cy="3733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3886200" cy="56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4572000" y="5791320"/>
            <a:ext cx="43815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racterísticas generales del mod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 cada period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 grupo de hogares busca localizar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 construye nueva oferta inmobiliaria, que estará disponible en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períodos má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número de hogares localizados es igual al número de viviendas “vendidas” o utilizad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193840"/>
            <a:ext cx="78483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e desarrolló un modelo con base microeconómica que permite la modelación periodo a periodo y la existencia de excedentes, tanto en la oferta como en la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205160"/>
            <a:ext cx="7848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costo de mantener stock no está incorporado de manera explícita, sin embargo los precios de equilibrio desincentivan la producción ante un exceso de ofer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19384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indefinición de </a:t>
            </a:r>
            <a:r>
              <a:rPr b="0" i="1" lang="es-E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s-ES" sz="2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 ante la igualdad de oferta y demanda genera “saltos” en los precios de equilib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358128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alor del precio “promedio” en el largo plazo está determinado por las tasas de crecimiento de la población y del ingre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09436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s supuestos sobre el comportamiento de los productores y la función de costo no son únicos. Posible familia de model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48769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hogares hacen posturas (bids) por las localiz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rcado tipo remate: bien asignado a mejor pos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sturas restringidas por ingreso disponible de hog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ternalidades de localización percibidas con desfase de un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nción de Postura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dad cuasi lin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153040" cy="51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2590920" y="3505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0552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477120" y="34290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asociado al nivel de ut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oración de los atributos de la lo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2670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de ajuste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3880" y="5334120"/>
            <a:ext cx="5410440" cy="556920"/>
            <a:chOff x="1523880" y="5334120"/>
            <a:chExt cx="5410440" cy="5569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213372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H="1">
              <a:off x="3809880" y="5638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5486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rror IID Gum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de localización de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: probabilidad de que sea el mejor postor (prob. b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renta (precio) es valor esperado de la máxima pos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352680"/>
            <a:ext cx="359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5334120"/>
            <a:ext cx="44197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ción de ingr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2557440"/>
            <a:ext cx="6400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choice: maximiza excedente del consumidor (B-r); probabilidad de que un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scoja la localizació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probabilidad choice)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ferta tip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disponible en zon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íod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72000" cy="11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28800" y="5257800"/>
            <a:ext cx="361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ductores: Agente representativo que maximiza el valor presente de profit a largo pla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cisión: Qué y cuánto construir en cada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trucción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disponible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+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opía: Productores suponen crecimiento constante de los niveles de precios (opcio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6:36Z</dcterms:created>
  <dc:creator>Victor pc</dc:creator>
  <dc:description/>
  <dc:language>en-US</dc:language>
  <cp:lastModifiedBy>F M</cp:lastModifiedBy>
  <dcterms:modified xsi:type="dcterms:W3CDTF">2005-11-14T19:14:07Z</dcterms:modified>
  <cp:revision>12</cp:revision>
  <dc:subject/>
  <dc:title>Simulación Dinámica de los Estados de Equilibrio en el Mercado Inmobiliario</dc:title>
</cp:coreProperties>
</file>