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C9C-1262-41EF-8EE9-C8032113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D21-D9EC-4515-8F82-20A4C9A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EF5-9B22-449B-92F2-596CD0D6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9C0-226B-447D-9FA9-C67F5989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D17-8DBC-4986-BCB4-A8283ED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291-24BE-405E-95AC-85106AD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6FC-2C5D-4CE4-B0E0-1EB9A638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90D-5959-4E48-9EA7-96AC5F37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BFA-D8A2-473E-84DA-31C5B360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AD8-167B-48D0-9B01-C7F0BFC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61B-1082-4364-AEBA-CD5CE05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263-EAA9-4D55-BDCB-46BFC3E4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264-7846-49BF-B0F8-019613A82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33520"/>
            <a:ext cx="64008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Medidas de Beneficio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 en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391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rancisco Martí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Universidad of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800600"/>
            <a:ext cx="86868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88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4680" y="4181400"/>
                <a:ext cx="2424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1000" y="4976640"/>
                <a:ext cx="3665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09680" y="5919840"/>
                <a:ext cx="46656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5562720"/>
            <a:ext cx="754380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2600" y="3054240"/>
                <a:ext cx="81882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de cambio en WP por cambios causados en los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959760" y="5138640"/>
            <a:ext cx="71924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mbio en WP evaluado a U cte,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5410080"/>
            <a:ext cx="44956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886200"/>
            <a:ext cx="449568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Aplicación: caso lin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47720" y="1693800"/>
                <a:ext cx="54500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78600" y="24382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elo de remate logit (oferta f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219320" y="2971800"/>
                <a:ext cx="5105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W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143000" y="3914640"/>
                <a:ext cx="4114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N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P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;</m:t>
                            </m:r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SU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P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;</m:t>
                            </m:r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5486400" y="411480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61280" y="4071960"/>
            <a:ext cx="192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mate mejor po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170000" y="5578560"/>
                <a:ext cx="24591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5486400" y="548640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61280" y="52912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429000"/>
            <a:ext cx="63244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2752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50840" y="2101680"/>
                <a:ext cx="83088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22:03:38Z</dcterms:created>
  <dc:creator>Francisco Martinez</dc:creator>
  <dc:description/>
  <dc:language>en-US</dc:language>
  <cp:lastModifiedBy>F M</cp:lastModifiedBy>
  <cp:lastPrinted>2001-09-05T00:32:28Z</cp:lastPrinted>
  <dcterms:modified xsi:type="dcterms:W3CDTF">2004-09-09T22:00:34Z</dcterms:modified>
  <cp:revision>27</cp:revision>
  <dc:subject/>
  <dc:title>Measuring Land Use Benefits in Auction Markets</dc:title>
</cp:coreProperties>
</file>