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20F-69F0-43E4-BE86-2A8791C3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275-5A64-452C-81D4-BA8DF4B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FB4-DBFC-414C-AC36-405E75E9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88B-A55B-431E-8D14-4043AD31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DCF-6EEA-4022-8143-16CB8A4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299-A58C-4626-A98D-50348D53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3AE-83CB-4EB0-A513-D03F2DA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4F0-5DEB-4A7A-8BCC-C04F67E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439-0807-4530-A926-BCFE352F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8FC-A686-4008-9147-0C695AD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C11-0626-4C79-A5D3-9AD3AF6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7CD-B5ED-4340-93D8-50186B3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9E64-2A56-47A7-8771-D8E2F865D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33520"/>
            <a:ext cx="64008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Medidas de Beneficio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 en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91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rancisco Martí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niversidad of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800600"/>
            <a:ext cx="86868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88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4680" y="4181400"/>
                <a:ext cx="2424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1000" y="4976640"/>
                <a:ext cx="3665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09680" y="5919840"/>
                <a:ext cx="4665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5562720"/>
            <a:ext cx="754380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2600" y="3054240"/>
                <a:ext cx="81882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de cambio en WP por cambios causados en l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59760" y="5138640"/>
            <a:ext cx="7192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WP evaluado a U cte,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5410080"/>
            <a:ext cx="44956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886200"/>
            <a:ext cx="449568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Aplicación: caso lin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47720" y="1693800"/>
                <a:ext cx="5450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78600" y="24382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elo de remate logit (oferta f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219320" y="2971800"/>
                <a:ext cx="5105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143000" y="3914640"/>
                <a:ext cx="4114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N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;</m:t>
                            </m:r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SU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;</m:t>
                            </m:r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5486400" y="411480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61280" y="4071960"/>
            <a:ext cx="19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mate mejor po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170000" y="5578560"/>
                <a:ext cx="2459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5486400" y="548640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1280" y="52912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429000"/>
            <a:ext cx="63244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2752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50840" y="2101680"/>
                <a:ext cx="83088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22:03:38Z</dcterms:created>
  <dc:creator>Francisco Martinez</dc:creator>
  <dc:description/>
  <dc:language>en-US</dc:language>
  <cp:lastModifiedBy>F M</cp:lastModifiedBy>
  <cp:lastPrinted>2001-09-05T00:32:28Z</cp:lastPrinted>
  <dcterms:modified xsi:type="dcterms:W3CDTF">2004-09-09T22:00:34Z</dcterms:modified>
  <cp:revision>27</cp:revision>
  <dc:subject/>
  <dc:title>Measuring Land Use Benefits in Auction Markets</dc:title>
</cp:coreProperties>
</file>