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D98-3031-4880-A041-7FF5E060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CE4-3ABD-43EF-A0A8-8DBEF03E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6A3-A2B2-4C9A-A3D5-A17F2BA0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32C-7298-4D58-9622-D7F73BD1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802-71E6-4F9C-A89F-E5D9856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449-46CC-4391-B329-BBF5056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D5D-4D8F-4607-A4DB-6402513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0F8-92E8-4C75-ADD2-379BD30A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D64-E215-4D6A-A1E6-27A2611C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D5E-9E8D-4942-BF59-E045667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E96-47F9-41FF-BB4F-EF541B9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A87-D822-4AA2-99E3-F2DB5E9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8617-AF14-40CD-8882-43BBE7A7785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Comportamiento Idiosincrát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76520" y="2871720"/>
                <a:ext cx="601344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57640" y="2438280"/>
                <a:ext cx="5505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5400" y="258984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dddddd"/>
                </a:solidFill>
                <a:latin typeface="Times New Roman"/>
              </a:rPr>
              <a:t>Regulaciones zon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14800" y="3263760"/>
                <a:ext cx="373680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55040" y="35042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dddddd"/>
                </a:solidFill>
                <a:latin typeface="Times New Roman"/>
              </a:rPr>
              <a:t>Profit restringi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09680" y="4705200"/>
                <a:ext cx="53341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 M</cp:lastModifiedBy>
  <dcterms:modified xsi:type="dcterms:W3CDTF">2003-12-15T12:48:05Z</dcterms:modified>
  <cp:revision>24</cp:revision>
  <dc:subject/>
  <dc:title>Modelo de Equilibrio en Localización Urbana: Comportamiento Idiosincrático de Agentes</dc:title>
</cp:coreProperties>
</file>