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EA4-8D9B-4B42-A3E6-723182A5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9FE-8EF9-41CE-AD7E-326A8964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99C-9FE8-4A6E-9E08-A4F6FDC5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78A-F263-47E7-95D3-D3214120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9ED-862D-4D8A-BF07-E14B7115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D1C-3B26-4BFB-9698-601C204F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288-4498-43B4-91F4-B4E345B1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F2C-D1CF-4452-B14B-DAC86F82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78D-6A6C-4974-BD2F-99BC274E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329-E438-4707-AD4B-BA241086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3F5-D42B-4221-AA97-D2C58A27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8B8-ECDF-4298-A77E-4484CBA4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9FB8-91D8-4E9A-81A9-01852D979FF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Comportamiento Idiosincrát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76520" y="2871720"/>
                <a:ext cx="601344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57640" y="2438280"/>
                <a:ext cx="55054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5400" y="258984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dddddd"/>
                </a:solidFill>
                <a:latin typeface="Times New Roman"/>
              </a:rPr>
              <a:t>Regulaciones zona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14800" y="3263760"/>
                <a:ext cx="373680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55040" y="35042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dddddd"/>
                </a:solidFill>
                <a:latin typeface="Times New Roman"/>
              </a:rPr>
              <a:t>Profit restringi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09680" y="4705200"/>
                <a:ext cx="533412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 M</cp:lastModifiedBy>
  <dcterms:modified xsi:type="dcterms:W3CDTF">2003-12-15T12:48:05Z</dcterms:modified>
  <cp:revision>24</cp:revision>
  <dc:subject/>
  <dc:title>Modelo de Equilibrio en Localización Urbana: Comportamiento Idiosincrático de Agentes</dc:title>
</cp:coreProperties>
</file>