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D27-1CBC-4445-A5F9-7F64D38E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C29-6F32-4BA5-BFB5-D6B240A4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A4F-AE44-4D89-A3AE-E6C2C43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465-0222-4B40-BD73-B1E65CF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EF6-6FFF-4D13-A12E-81E34FC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5AF-A862-4F70-A188-F817EF62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BAD-3A08-42C0-9EAE-4AD5D6D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021-EC9A-43DA-A7F3-E3BF53D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956-E5C4-46A9-BF73-77E66553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22B-6208-4669-8FD2-C363417B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2F2-842B-48EF-9922-3833BAA1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9F1-A701-4DE1-9B98-E1F8386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A0EA-7269-497A-9054-73E129898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chuPicchu88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Logit Multinomial restringido: </a:t>
            </a:r>
            <a:br>
              <a:rPr sz="3200"/>
            </a:b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modelo semi-compensatorio de elección disc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F. Martínez, F. Aguila &amp; R. Hurtubia; 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8480" y="3168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66"/>
                </a:solidFill>
                <a:latin typeface="Verdana"/>
              </a:rPr>
              <a:t>Huainapichu, febr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Logit Multinomial Restringido (MN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2362320"/>
                <a:ext cx="47563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65120" y="3359160"/>
                <a:ext cx="66358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4565520"/>
                <a:ext cx="42926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0" y="2362320"/>
            <a:ext cx="1828800" cy="609480"/>
          </a:xfrm>
          <a:prstGeom prst="wedgeRectCallout">
            <a:avLst>
              <a:gd name="adj1" fmla="val -95574"/>
              <a:gd name="adj2" fmla="val 18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D Gum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867280"/>
            <a:ext cx="1828800" cy="762120"/>
          </a:xfrm>
          <a:prstGeom prst="wedgeRectCallout">
            <a:avLst>
              <a:gd name="adj1" fmla="val -264324"/>
              <a:gd name="adj2" fmla="val -16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ju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1447920"/>
            <a:ext cx="1905120" cy="761760"/>
          </a:xfrm>
          <a:prstGeom prst="wedgeRectCallout">
            <a:avLst>
              <a:gd name="adj1" fmla="val -155500"/>
              <a:gd name="adj2" fmla="val 877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248520" y="2743200"/>
            <a:ext cx="121896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abilidad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06560"/>
            <a:ext cx="1524240" cy="2756160"/>
          </a:xfrm>
          <a:custGeom>
            <a:avLst/>
            <a:gdLst/>
            <a:ahLst/>
            <a:rect l="l" t="t" r="r" b="b"/>
            <a:pathLst>
              <a:path w="960" h="1736">
                <a:moveTo>
                  <a:pt x="960" y="8"/>
                </a:moveTo>
                <a:cubicBezTo>
                  <a:pt x="908" y="8"/>
                  <a:pt x="856" y="8"/>
                  <a:pt x="816" y="8"/>
                </a:cubicBezTo>
                <a:cubicBezTo>
                  <a:pt x="776" y="8"/>
                  <a:pt x="760" y="0"/>
                  <a:pt x="720" y="8"/>
                </a:cubicBezTo>
                <a:cubicBezTo>
                  <a:pt x="680" y="16"/>
                  <a:pt x="616" y="32"/>
                  <a:pt x="576" y="56"/>
                </a:cubicBezTo>
                <a:cubicBezTo>
                  <a:pt x="536" y="80"/>
                  <a:pt x="504" y="104"/>
                  <a:pt x="480" y="152"/>
                </a:cubicBezTo>
                <a:cubicBezTo>
                  <a:pt x="456" y="200"/>
                  <a:pt x="448" y="240"/>
                  <a:pt x="432" y="344"/>
                </a:cubicBezTo>
                <a:cubicBezTo>
                  <a:pt x="416" y="448"/>
                  <a:pt x="400" y="648"/>
                  <a:pt x="384" y="776"/>
                </a:cubicBezTo>
                <a:cubicBezTo>
                  <a:pt x="368" y="904"/>
                  <a:pt x="352" y="1000"/>
                  <a:pt x="336" y="1112"/>
                </a:cubicBezTo>
                <a:cubicBezTo>
                  <a:pt x="320" y="1224"/>
                  <a:pt x="312" y="1360"/>
                  <a:pt x="288" y="1448"/>
                </a:cubicBezTo>
                <a:cubicBezTo>
                  <a:pt x="264" y="1536"/>
                  <a:pt x="240" y="1592"/>
                  <a:pt x="192" y="1640"/>
                </a:cubicBezTo>
                <a:cubicBezTo>
                  <a:pt x="144" y="1688"/>
                  <a:pt x="40" y="1720"/>
                  <a:pt x="0" y="173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89040" y="2865600"/>
            <a:ext cx="3770640" cy="715680"/>
          </a:xfrm>
          <a:custGeom>
            <a:avLst/>
            <a:gdLst/>
            <a:ahLst/>
            <a:rect l="l" t="t" r="r" b="b"/>
            <a:pathLst>
              <a:path w="2375" h="451">
                <a:moveTo>
                  <a:pt x="0" y="407"/>
                </a:moveTo>
                <a:cubicBezTo>
                  <a:pt x="18" y="394"/>
                  <a:pt x="73" y="346"/>
                  <a:pt x="108" y="327"/>
                </a:cubicBezTo>
                <a:cubicBezTo>
                  <a:pt x="143" y="308"/>
                  <a:pt x="159" y="305"/>
                  <a:pt x="208" y="291"/>
                </a:cubicBezTo>
                <a:cubicBezTo>
                  <a:pt x="257" y="277"/>
                  <a:pt x="328" y="243"/>
                  <a:pt x="400" y="243"/>
                </a:cubicBezTo>
                <a:cubicBezTo>
                  <a:pt x="472" y="243"/>
                  <a:pt x="536" y="267"/>
                  <a:pt x="640" y="291"/>
                </a:cubicBezTo>
                <a:cubicBezTo>
                  <a:pt x="744" y="315"/>
                  <a:pt x="904" y="363"/>
                  <a:pt x="1024" y="387"/>
                </a:cubicBezTo>
                <a:cubicBezTo>
                  <a:pt x="1144" y="411"/>
                  <a:pt x="1272" y="427"/>
                  <a:pt x="1360" y="435"/>
                </a:cubicBezTo>
                <a:cubicBezTo>
                  <a:pt x="1448" y="443"/>
                  <a:pt x="1480" y="451"/>
                  <a:pt x="1552" y="435"/>
                </a:cubicBezTo>
                <a:cubicBezTo>
                  <a:pt x="1624" y="419"/>
                  <a:pt x="1728" y="371"/>
                  <a:pt x="1792" y="339"/>
                </a:cubicBezTo>
                <a:cubicBezTo>
                  <a:pt x="1856" y="307"/>
                  <a:pt x="1896" y="275"/>
                  <a:pt x="1936" y="243"/>
                </a:cubicBezTo>
                <a:cubicBezTo>
                  <a:pt x="1976" y="211"/>
                  <a:pt x="1992" y="179"/>
                  <a:pt x="2032" y="147"/>
                </a:cubicBezTo>
                <a:cubicBezTo>
                  <a:pt x="2072" y="115"/>
                  <a:pt x="2120" y="75"/>
                  <a:pt x="2176" y="51"/>
                </a:cubicBezTo>
                <a:cubicBezTo>
                  <a:pt x="2232" y="27"/>
                  <a:pt x="2361" y="6"/>
                  <a:pt x="2368" y="3"/>
                </a:cubicBezTo>
                <a:cubicBezTo>
                  <a:pt x="2375" y="0"/>
                  <a:pt x="2229" y="27"/>
                  <a:pt x="2217" y="30"/>
                </a:cubicBezTo>
                <a:cubicBezTo>
                  <a:pt x="2205" y="33"/>
                  <a:pt x="2279" y="24"/>
                  <a:pt x="2297" y="21"/>
                </a:cubicBezTo>
                <a:cubicBezTo>
                  <a:pt x="2315" y="18"/>
                  <a:pt x="2318" y="14"/>
                  <a:pt x="2323" y="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8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5320" y="25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968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787480"/>
            <a:ext cx="5919840" cy="17640"/>
          </a:xfrm>
          <a:custGeom>
            <a:avLst/>
            <a:gdLst/>
            <a:ahLst/>
            <a:rect l="l" t="t" r="r" b="b"/>
            <a:pathLst>
              <a:path w="3729" h="11">
                <a:moveTo>
                  <a:pt x="0" y="11"/>
                </a:moveTo>
                <a:lnTo>
                  <a:pt x="372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782800"/>
            <a:ext cx="2590920" cy="2793960"/>
          </a:xfrm>
          <a:custGeom>
            <a:avLst/>
            <a:gdLst/>
            <a:ahLst/>
            <a:rect l="l" t="t" r="r" b="b"/>
            <a:pathLst>
              <a:path w="1632" h="1760">
                <a:moveTo>
                  <a:pt x="0" y="24"/>
                </a:moveTo>
                <a:cubicBezTo>
                  <a:pt x="44" y="24"/>
                  <a:pt x="88" y="24"/>
                  <a:pt x="144" y="24"/>
                </a:cubicBezTo>
                <a:cubicBezTo>
                  <a:pt x="200" y="24"/>
                  <a:pt x="288" y="0"/>
                  <a:pt x="336" y="24"/>
                </a:cubicBezTo>
                <a:cubicBezTo>
                  <a:pt x="384" y="48"/>
                  <a:pt x="400" y="80"/>
                  <a:pt x="432" y="168"/>
                </a:cubicBezTo>
                <a:cubicBezTo>
                  <a:pt x="464" y="256"/>
                  <a:pt x="504" y="424"/>
                  <a:pt x="528" y="552"/>
                </a:cubicBezTo>
                <a:cubicBezTo>
                  <a:pt x="552" y="680"/>
                  <a:pt x="552" y="808"/>
                  <a:pt x="576" y="936"/>
                </a:cubicBezTo>
                <a:cubicBezTo>
                  <a:pt x="600" y="1064"/>
                  <a:pt x="640" y="1216"/>
                  <a:pt x="672" y="1320"/>
                </a:cubicBezTo>
                <a:cubicBezTo>
                  <a:pt x="704" y="1424"/>
                  <a:pt x="728" y="1496"/>
                  <a:pt x="768" y="1560"/>
                </a:cubicBezTo>
                <a:cubicBezTo>
                  <a:pt x="808" y="1624"/>
                  <a:pt x="832" y="1672"/>
                  <a:pt x="912" y="1704"/>
                </a:cubicBezTo>
                <a:cubicBezTo>
                  <a:pt x="992" y="1736"/>
                  <a:pt x="1128" y="1744"/>
                  <a:pt x="1248" y="1752"/>
                </a:cubicBezTo>
                <a:cubicBezTo>
                  <a:pt x="1368" y="1760"/>
                  <a:pt x="1568" y="1752"/>
                  <a:pt x="1632" y="1752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5308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447560" y="4952880"/>
            <a:ext cx="5105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6320" y="468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8195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581280"/>
            <a:ext cx="53316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336" y="0"/>
                </a:moveTo>
                <a:cubicBezTo>
                  <a:pt x="324" y="8"/>
                  <a:pt x="312" y="16"/>
                  <a:pt x="288" y="48"/>
                </a:cubicBezTo>
                <a:cubicBezTo>
                  <a:pt x="264" y="80"/>
                  <a:pt x="224" y="144"/>
                  <a:pt x="192" y="192"/>
                </a:cubicBezTo>
                <a:cubicBezTo>
                  <a:pt x="160" y="240"/>
                  <a:pt x="128" y="280"/>
                  <a:pt x="96" y="336"/>
                </a:cubicBezTo>
                <a:cubicBezTo>
                  <a:pt x="64" y="392"/>
                  <a:pt x="16" y="496"/>
                  <a:pt x="0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05040" y="3252960"/>
            <a:ext cx="1287360" cy="2322360"/>
          </a:xfrm>
          <a:custGeom>
            <a:avLst/>
            <a:gdLst/>
            <a:ahLst/>
            <a:rect l="l" t="t" r="r" b="b"/>
            <a:pathLst>
              <a:path w="811" h="1463">
                <a:moveTo>
                  <a:pt x="811" y="7"/>
                </a:moveTo>
                <a:cubicBezTo>
                  <a:pt x="800" y="8"/>
                  <a:pt x="753" y="12"/>
                  <a:pt x="747" y="11"/>
                </a:cubicBezTo>
                <a:cubicBezTo>
                  <a:pt x="741" y="10"/>
                  <a:pt x="784" y="0"/>
                  <a:pt x="775" y="3"/>
                </a:cubicBezTo>
                <a:cubicBezTo>
                  <a:pt x="766" y="6"/>
                  <a:pt x="718" y="23"/>
                  <a:pt x="695" y="31"/>
                </a:cubicBezTo>
                <a:cubicBezTo>
                  <a:pt x="672" y="39"/>
                  <a:pt x="650" y="46"/>
                  <a:pt x="635" y="51"/>
                </a:cubicBezTo>
                <a:cubicBezTo>
                  <a:pt x="620" y="56"/>
                  <a:pt x="627" y="52"/>
                  <a:pt x="607" y="59"/>
                </a:cubicBezTo>
                <a:cubicBezTo>
                  <a:pt x="587" y="66"/>
                  <a:pt x="539" y="80"/>
                  <a:pt x="513" y="95"/>
                </a:cubicBezTo>
                <a:cubicBezTo>
                  <a:pt x="487" y="110"/>
                  <a:pt x="466" y="132"/>
                  <a:pt x="451" y="148"/>
                </a:cubicBezTo>
                <a:cubicBezTo>
                  <a:pt x="436" y="164"/>
                  <a:pt x="437" y="159"/>
                  <a:pt x="423" y="191"/>
                </a:cubicBezTo>
                <a:cubicBezTo>
                  <a:pt x="409" y="223"/>
                  <a:pt x="383" y="257"/>
                  <a:pt x="367" y="340"/>
                </a:cubicBezTo>
                <a:cubicBezTo>
                  <a:pt x="351" y="423"/>
                  <a:pt x="340" y="586"/>
                  <a:pt x="326" y="689"/>
                </a:cubicBezTo>
                <a:cubicBezTo>
                  <a:pt x="313" y="792"/>
                  <a:pt x="299" y="869"/>
                  <a:pt x="286" y="960"/>
                </a:cubicBezTo>
                <a:cubicBezTo>
                  <a:pt x="272" y="1050"/>
                  <a:pt x="265" y="1160"/>
                  <a:pt x="245" y="1231"/>
                </a:cubicBezTo>
                <a:cubicBezTo>
                  <a:pt x="224" y="1302"/>
                  <a:pt x="204" y="1347"/>
                  <a:pt x="163" y="1386"/>
                </a:cubicBezTo>
                <a:cubicBezTo>
                  <a:pt x="122" y="1424"/>
                  <a:pt x="34" y="1450"/>
                  <a:pt x="0" y="14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6280" y="2900520"/>
            <a:ext cx="3579840" cy="680760"/>
          </a:xfrm>
          <a:custGeom>
            <a:avLst/>
            <a:gdLst/>
            <a:ahLst/>
            <a:rect l="l" t="t" r="r" b="b"/>
            <a:pathLst>
              <a:path w="2255" h="429">
                <a:moveTo>
                  <a:pt x="0" y="357"/>
                </a:moveTo>
                <a:cubicBezTo>
                  <a:pt x="13" y="348"/>
                  <a:pt x="51" y="320"/>
                  <a:pt x="80" y="305"/>
                </a:cubicBezTo>
                <a:cubicBezTo>
                  <a:pt x="109" y="290"/>
                  <a:pt x="125" y="283"/>
                  <a:pt x="172" y="269"/>
                </a:cubicBezTo>
                <a:cubicBezTo>
                  <a:pt x="219" y="255"/>
                  <a:pt x="292" y="221"/>
                  <a:pt x="364" y="221"/>
                </a:cubicBezTo>
                <a:cubicBezTo>
                  <a:pt x="436" y="221"/>
                  <a:pt x="500" y="245"/>
                  <a:pt x="604" y="269"/>
                </a:cubicBezTo>
                <a:cubicBezTo>
                  <a:pt x="708" y="293"/>
                  <a:pt x="868" y="341"/>
                  <a:pt x="988" y="365"/>
                </a:cubicBezTo>
                <a:cubicBezTo>
                  <a:pt x="1108" y="389"/>
                  <a:pt x="1236" y="405"/>
                  <a:pt x="1324" y="413"/>
                </a:cubicBezTo>
                <a:cubicBezTo>
                  <a:pt x="1412" y="421"/>
                  <a:pt x="1444" y="429"/>
                  <a:pt x="1516" y="413"/>
                </a:cubicBezTo>
                <a:cubicBezTo>
                  <a:pt x="1588" y="397"/>
                  <a:pt x="1692" y="349"/>
                  <a:pt x="1756" y="317"/>
                </a:cubicBezTo>
                <a:cubicBezTo>
                  <a:pt x="1820" y="285"/>
                  <a:pt x="1860" y="253"/>
                  <a:pt x="1900" y="221"/>
                </a:cubicBezTo>
                <a:cubicBezTo>
                  <a:pt x="1940" y="189"/>
                  <a:pt x="1956" y="157"/>
                  <a:pt x="1996" y="125"/>
                </a:cubicBezTo>
                <a:cubicBezTo>
                  <a:pt x="2036" y="93"/>
                  <a:pt x="2102" y="49"/>
                  <a:pt x="2140" y="29"/>
                </a:cubicBezTo>
                <a:cubicBezTo>
                  <a:pt x="2178" y="9"/>
                  <a:pt x="2206" y="10"/>
                  <a:pt x="2224" y="5"/>
                </a:cubicBezTo>
                <a:cubicBezTo>
                  <a:pt x="2242" y="0"/>
                  <a:pt x="2255" y="0"/>
                  <a:pt x="2248" y="1"/>
                </a:cubicBezTo>
                <a:cubicBezTo>
                  <a:pt x="2241" y="2"/>
                  <a:pt x="2189" y="13"/>
                  <a:pt x="2180" y="13"/>
                </a:cubicBezTo>
                <a:cubicBezTo>
                  <a:pt x="2171" y="13"/>
                  <a:pt x="2198" y="1"/>
                  <a:pt x="2196" y="1"/>
                </a:cubicBezTo>
                <a:cubicBezTo>
                  <a:pt x="2194" y="1"/>
                  <a:pt x="2170" y="13"/>
                  <a:pt x="2168" y="13"/>
                </a:cubicBezTo>
                <a:cubicBezTo>
                  <a:pt x="2166" y="13"/>
                  <a:pt x="2177" y="2"/>
                  <a:pt x="2185" y="1"/>
                </a:cubicBezTo>
                <a:cubicBezTo>
                  <a:pt x="2193" y="0"/>
                  <a:pt x="2206" y="4"/>
                  <a:pt x="2216" y="8"/>
                </a:cubicBezTo>
                <a:cubicBezTo>
                  <a:pt x="2226" y="12"/>
                  <a:pt x="2244" y="26"/>
                  <a:pt x="2243" y="26"/>
                </a:cubicBezTo>
                <a:cubicBezTo>
                  <a:pt x="2242" y="26"/>
                  <a:pt x="2215" y="12"/>
                  <a:pt x="2208" y="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344760"/>
            <a:ext cx="1811160" cy="2212920"/>
          </a:xfrm>
          <a:custGeom>
            <a:avLst/>
            <a:gdLst/>
            <a:ahLst/>
            <a:rect l="l" t="t" r="r" b="b"/>
            <a:pathLst>
              <a:path w="1141" h="1394">
                <a:moveTo>
                  <a:pt x="3" y="50"/>
                </a:moveTo>
                <a:cubicBezTo>
                  <a:pt x="3" y="41"/>
                  <a:pt x="0" y="0"/>
                  <a:pt x="3" y="6"/>
                </a:cubicBezTo>
                <a:cubicBezTo>
                  <a:pt x="6" y="12"/>
                  <a:pt x="23" y="85"/>
                  <a:pt x="24" y="89"/>
                </a:cubicBezTo>
                <a:cubicBezTo>
                  <a:pt x="25" y="93"/>
                  <a:pt x="13" y="36"/>
                  <a:pt x="11" y="32"/>
                </a:cubicBezTo>
                <a:cubicBezTo>
                  <a:pt x="9" y="28"/>
                  <a:pt x="8" y="39"/>
                  <a:pt x="12" y="65"/>
                </a:cubicBezTo>
                <a:cubicBezTo>
                  <a:pt x="16" y="91"/>
                  <a:pt x="25" y="102"/>
                  <a:pt x="37" y="186"/>
                </a:cubicBezTo>
                <a:cubicBezTo>
                  <a:pt x="49" y="270"/>
                  <a:pt x="61" y="442"/>
                  <a:pt x="85" y="570"/>
                </a:cubicBezTo>
                <a:cubicBezTo>
                  <a:pt x="109" y="698"/>
                  <a:pt x="149" y="850"/>
                  <a:pt x="181" y="954"/>
                </a:cubicBezTo>
                <a:cubicBezTo>
                  <a:pt x="213" y="1058"/>
                  <a:pt x="237" y="1130"/>
                  <a:pt x="277" y="1194"/>
                </a:cubicBezTo>
                <a:cubicBezTo>
                  <a:pt x="317" y="1258"/>
                  <a:pt x="341" y="1306"/>
                  <a:pt x="421" y="1338"/>
                </a:cubicBezTo>
                <a:cubicBezTo>
                  <a:pt x="501" y="1370"/>
                  <a:pt x="637" y="1378"/>
                  <a:pt x="757" y="1386"/>
                </a:cubicBezTo>
                <a:cubicBezTo>
                  <a:pt x="877" y="1394"/>
                  <a:pt x="1077" y="1386"/>
                  <a:pt x="1141" y="138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917800"/>
            <a:ext cx="304920" cy="434880"/>
          </a:xfrm>
          <a:custGeom>
            <a:avLst/>
            <a:gdLst/>
            <a:ahLst/>
            <a:rect l="l" t="t" r="r" b="b"/>
            <a:pathLst>
              <a:path w="192" h="274">
                <a:moveTo>
                  <a:pt x="0" y="22"/>
                </a:moveTo>
                <a:cubicBezTo>
                  <a:pt x="10" y="18"/>
                  <a:pt x="44" y="0"/>
                  <a:pt x="60" y="2"/>
                </a:cubicBezTo>
                <a:cubicBezTo>
                  <a:pt x="76" y="4"/>
                  <a:pt x="84" y="19"/>
                  <a:pt x="96" y="34"/>
                </a:cubicBezTo>
                <a:cubicBezTo>
                  <a:pt x="108" y="49"/>
                  <a:pt x="122" y="74"/>
                  <a:pt x="132" y="94"/>
                </a:cubicBezTo>
                <a:cubicBezTo>
                  <a:pt x="142" y="114"/>
                  <a:pt x="146" y="126"/>
                  <a:pt x="156" y="156"/>
                </a:cubicBezTo>
                <a:cubicBezTo>
                  <a:pt x="166" y="186"/>
                  <a:pt x="185" y="250"/>
                  <a:pt x="192" y="27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124080"/>
            <a:ext cx="2133720" cy="762120"/>
          </a:xfrm>
          <a:prstGeom prst="wedgeRectCallout">
            <a:avLst>
              <a:gd name="adj1" fmla="val -70236"/>
              <a:gd name="adj2" fmla="val 343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tdad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restrin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487600"/>
            <a:ext cx="1371600" cy="39384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0"/>
                </a:moveTo>
                <a:cubicBezTo>
                  <a:pt x="72" y="240"/>
                  <a:pt x="144" y="240"/>
                  <a:pt x="192" y="240"/>
                </a:cubicBezTo>
                <a:cubicBezTo>
                  <a:pt x="240" y="240"/>
                  <a:pt x="224" y="248"/>
                  <a:pt x="288" y="240"/>
                </a:cubicBezTo>
                <a:cubicBezTo>
                  <a:pt x="352" y="232"/>
                  <a:pt x="480" y="232"/>
                  <a:pt x="576" y="192"/>
                </a:cubicBezTo>
                <a:cubicBezTo>
                  <a:pt x="672" y="152"/>
                  <a:pt x="816" y="32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600200"/>
            <a:ext cx="2362320" cy="762120"/>
          </a:xfrm>
          <a:prstGeom prst="wedgeRectCallout">
            <a:avLst>
              <a:gd name="adj1" fmla="val -53157"/>
              <a:gd name="adj2" fmla="val 2008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dad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compens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0920" y="2117880"/>
            <a:ext cx="182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Fución uti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piedades del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la forma cerrada del log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presenta un modelo “joint log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compens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de viola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libra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usuales ¿applicab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bservaciones están al interior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P data en la frontera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mas de la predi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tricciones del sistema: capacidad, externalidades de localización, economías de aglomeración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68760" y="3281400"/>
                <a:ext cx="27939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19320" y="4505400"/>
                <a:ext cx="64450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209680" y="5638680"/>
            <a:ext cx="1905120" cy="609840"/>
          </a:xfrm>
          <a:prstGeom prst="wedgeRectCallout">
            <a:avLst>
              <a:gd name="adj1" fmla="val 65833"/>
              <a:gd name="adj2" fmla="val -13229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715000"/>
            <a:ext cx="1828800" cy="609480"/>
          </a:xfrm>
          <a:prstGeom prst="wedgeRectCallout">
            <a:avLst>
              <a:gd name="adj1" fmla="val -48523"/>
              <a:gd name="adj2" fmla="val -145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achuPicchu88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lema de punt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abilidad de elección es función de elección de otros agentes.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00400" y="3276720"/>
                <a:ext cx="4214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238880" y="3505320"/>
                <a:ext cx="1594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98560" y="506880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EMA: (Existence, Uniqueness and Convergence) El model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MNLR tiene solución única, y la iteración de punto fijo converge a la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bajo dispersión mínimade utilidad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didas de 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1676520"/>
                <a:ext cx="4572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8720" y="11430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lor esperado de la utilidad restring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19320" y="3649680"/>
                <a:ext cx="47242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34120" y="308772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social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1600" y="5635800"/>
                <a:ext cx="548640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969840" y="51055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 de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5638680"/>
            <a:ext cx="19051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0,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rece cerca de 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tion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476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476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0880" y="1981080"/>
            <a:ext cx="60444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696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284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652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644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499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2895120"/>
            <a:ext cx="2052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29400" y="2971440"/>
            <a:ext cx="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2200" y="2367000"/>
            <a:ext cx="4210200" cy="3182760"/>
          </a:xfrm>
          <a:custGeom>
            <a:avLst/>
            <a:gdLst/>
            <a:ahLst/>
            <a:rect l="l" t="t" r="r" b="b"/>
            <a:pathLst>
              <a:path w="2652" h="2005">
                <a:moveTo>
                  <a:pt x="2631" y="0"/>
                </a:moveTo>
                <a:cubicBezTo>
                  <a:pt x="2632" y="69"/>
                  <a:pt x="2646" y="328"/>
                  <a:pt x="2649" y="415"/>
                </a:cubicBezTo>
                <a:cubicBezTo>
                  <a:pt x="2652" y="502"/>
                  <a:pt x="2649" y="463"/>
                  <a:pt x="2649" y="520"/>
                </a:cubicBezTo>
                <a:cubicBezTo>
                  <a:pt x="2649" y="577"/>
                  <a:pt x="2651" y="641"/>
                  <a:pt x="2649" y="759"/>
                </a:cubicBezTo>
                <a:cubicBezTo>
                  <a:pt x="2647" y="877"/>
                  <a:pt x="2643" y="1123"/>
                  <a:pt x="2640" y="1226"/>
                </a:cubicBezTo>
                <a:cubicBezTo>
                  <a:pt x="2637" y="1329"/>
                  <a:pt x="2644" y="1300"/>
                  <a:pt x="2631" y="1376"/>
                </a:cubicBezTo>
                <a:cubicBezTo>
                  <a:pt x="2618" y="1452"/>
                  <a:pt x="2603" y="1591"/>
                  <a:pt x="2560" y="1685"/>
                </a:cubicBezTo>
                <a:cubicBezTo>
                  <a:pt x="2517" y="1779"/>
                  <a:pt x="2450" y="1889"/>
                  <a:pt x="2375" y="1941"/>
                </a:cubicBezTo>
                <a:cubicBezTo>
                  <a:pt x="2300" y="1993"/>
                  <a:pt x="2222" y="1984"/>
                  <a:pt x="2110" y="1994"/>
                </a:cubicBezTo>
                <a:cubicBezTo>
                  <a:pt x="1998" y="2004"/>
                  <a:pt x="1880" y="2005"/>
                  <a:pt x="1705" y="2003"/>
                </a:cubicBezTo>
                <a:cubicBezTo>
                  <a:pt x="1530" y="2001"/>
                  <a:pt x="1256" y="1989"/>
                  <a:pt x="1057" y="1983"/>
                </a:cubicBezTo>
                <a:cubicBezTo>
                  <a:pt x="858" y="1977"/>
                  <a:pt x="648" y="1997"/>
                  <a:pt x="513" y="1967"/>
                </a:cubicBezTo>
                <a:cubicBezTo>
                  <a:pt x="378" y="1937"/>
                  <a:pt x="318" y="1850"/>
                  <a:pt x="249" y="1800"/>
                </a:cubicBezTo>
                <a:cubicBezTo>
                  <a:pt x="180" y="1750"/>
                  <a:pt x="136" y="1715"/>
                  <a:pt x="99" y="1667"/>
                </a:cubicBezTo>
                <a:cubicBezTo>
                  <a:pt x="62" y="1619"/>
                  <a:pt x="43" y="1629"/>
                  <a:pt x="28" y="1509"/>
                </a:cubicBezTo>
                <a:cubicBezTo>
                  <a:pt x="13" y="1389"/>
                  <a:pt x="16" y="1140"/>
                  <a:pt x="11" y="944"/>
                </a:cubicBezTo>
                <a:lnTo>
                  <a:pt x="0" y="332"/>
                </a:lnTo>
                <a:lnTo>
                  <a:pt x="2" y="44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5760" y="3006720"/>
            <a:ext cx="4557960" cy="3321000"/>
          </a:xfrm>
          <a:custGeom>
            <a:avLst/>
            <a:gdLst/>
            <a:ahLst/>
            <a:rect l="l" t="t" r="r" b="b"/>
            <a:pathLst>
              <a:path w="2871" h="2092">
                <a:moveTo>
                  <a:pt x="4" y="2092"/>
                </a:moveTo>
                <a:cubicBezTo>
                  <a:pt x="4" y="2073"/>
                  <a:pt x="0" y="2021"/>
                  <a:pt x="2" y="1986"/>
                </a:cubicBezTo>
                <a:cubicBezTo>
                  <a:pt x="4" y="1951"/>
                  <a:pt x="14" y="1920"/>
                  <a:pt x="19" y="1880"/>
                </a:cubicBezTo>
                <a:cubicBezTo>
                  <a:pt x="24" y="1840"/>
                  <a:pt x="26" y="1793"/>
                  <a:pt x="33" y="1748"/>
                </a:cubicBezTo>
                <a:cubicBezTo>
                  <a:pt x="40" y="1703"/>
                  <a:pt x="50" y="1669"/>
                  <a:pt x="61" y="1608"/>
                </a:cubicBezTo>
                <a:cubicBezTo>
                  <a:pt x="72" y="1547"/>
                  <a:pt x="71" y="1499"/>
                  <a:pt x="97" y="1379"/>
                </a:cubicBezTo>
                <a:cubicBezTo>
                  <a:pt x="123" y="1259"/>
                  <a:pt x="189" y="993"/>
                  <a:pt x="217" y="887"/>
                </a:cubicBezTo>
                <a:cubicBezTo>
                  <a:pt x="245" y="781"/>
                  <a:pt x="250" y="803"/>
                  <a:pt x="267" y="745"/>
                </a:cubicBezTo>
                <a:cubicBezTo>
                  <a:pt x="284" y="687"/>
                  <a:pt x="285" y="613"/>
                  <a:pt x="317" y="541"/>
                </a:cubicBezTo>
                <a:cubicBezTo>
                  <a:pt x="349" y="469"/>
                  <a:pt x="377" y="347"/>
                  <a:pt x="458" y="312"/>
                </a:cubicBezTo>
                <a:cubicBezTo>
                  <a:pt x="539" y="277"/>
                  <a:pt x="714" y="335"/>
                  <a:pt x="802" y="329"/>
                </a:cubicBezTo>
                <a:cubicBezTo>
                  <a:pt x="890" y="323"/>
                  <a:pt x="923" y="301"/>
                  <a:pt x="988" y="276"/>
                </a:cubicBezTo>
                <a:cubicBezTo>
                  <a:pt x="1053" y="251"/>
                  <a:pt x="1071" y="214"/>
                  <a:pt x="1191" y="179"/>
                </a:cubicBezTo>
                <a:cubicBezTo>
                  <a:pt x="1311" y="144"/>
                  <a:pt x="1551" y="92"/>
                  <a:pt x="1708" y="67"/>
                </a:cubicBezTo>
                <a:cubicBezTo>
                  <a:pt x="1865" y="42"/>
                  <a:pt x="2022" y="0"/>
                  <a:pt x="2135" y="29"/>
                </a:cubicBezTo>
                <a:cubicBezTo>
                  <a:pt x="2248" y="58"/>
                  <a:pt x="2324" y="184"/>
                  <a:pt x="2384" y="244"/>
                </a:cubicBezTo>
                <a:cubicBezTo>
                  <a:pt x="2444" y="304"/>
                  <a:pt x="2466" y="339"/>
                  <a:pt x="2496" y="391"/>
                </a:cubicBezTo>
                <a:cubicBezTo>
                  <a:pt x="2526" y="443"/>
                  <a:pt x="2520" y="389"/>
                  <a:pt x="2566" y="555"/>
                </a:cubicBezTo>
                <a:cubicBezTo>
                  <a:pt x="2612" y="721"/>
                  <a:pt x="2729" y="1199"/>
                  <a:pt x="2770" y="1388"/>
                </a:cubicBezTo>
                <a:lnTo>
                  <a:pt x="2811" y="1687"/>
                </a:lnTo>
                <a:lnTo>
                  <a:pt x="2871" y="1995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86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6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4572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ferta inmobiliaria: planes regul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y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ón de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lidades y aglom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ransporte: congest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UM se mejora modelando mejor las utilidades indirec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NLR mejora modelos de elección discrets imponiendo un dominio realista  y evitando generar conjuntos de el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propiedades fundamentales de punto fi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vee medidas de evaluacion de restric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tension a otros modelos lo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Times New Roman"/>
              </a:rPr>
              <a:t>Gracia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ortamiento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: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x utilidad (indirecta) s.a. restricciones (domin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81080" y="2674800"/>
                <a:ext cx="5105520" cy="22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5056200"/>
                <a:ext cx="6248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41960" y="576432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Endogena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29000" y="620712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ominio de elec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482200">
            <a:off x="2209320" y="2590560"/>
            <a:ext cx="4267440" cy="26668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819520"/>
            <a:ext cx="632448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362320"/>
            <a:ext cx="1752480" cy="609480"/>
          </a:xfrm>
          <a:prstGeom prst="wedgeRectCallout">
            <a:avLst>
              <a:gd name="adj1" fmla="val 58333"/>
              <a:gd name="adj2" fmla="val 1325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mite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03560" y="2590920"/>
            <a:ext cx="13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ndi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523880"/>
            <a:ext cx="2210040" cy="609840"/>
          </a:xfrm>
          <a:prstGeom prst="wedgeRectCallout">
            <a:avLst>
              <a:gd name="adj1" fmla="val -60990"/>
              <a:gd name="adj2" fmla="val 25260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o restrin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600200"/>
            <a:ext cx="1600200" cy="762120"/>
          </a:xfrm>
          <a:prstGeom prst="wedgeRectCallout">
            <a:avLst>
              <a:gd name="adj1" fmla="val -37004"/>
              <a:gd name="adj2" fmla="val 102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restri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720" y="5576760"/>
            <a:ext cx="774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a la elección: individuales - sistema / endogenas - exoge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dividual: Ingreso, tiempo, atributos (selección por aspec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: capacidad vial, de espacio, externalidades de local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048120"/>
            <a:ext cx="632484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209680" y="38523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943600" y="41907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581280" y="34570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00400" y="35049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719440" y="36856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876560" y="390492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77640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160" y="365256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324400" y="412884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715000" y="42238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nf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2386080"/>
            <a:ext cx="617220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s es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junto elecciones factibles cada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ificultad: conjunto muy grande 2m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uristica para reducir conjuntode eleccion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15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versky, 19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514600"/>
            <a:ext cx="259092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nski,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 - BenAkiva,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enAkiva - Boccara, 9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ntillo - Ortúzar,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8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orikawa,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0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600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cetta - Papol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840" y="15238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 no-compensatoria, e.g. eliminación pory asp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120" y="4724280"/>
            <a:ext cx="71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9360" indent="-279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foque de una etap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terminístico: panalidad lineal por violar restr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tinuo pero no-diferenci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mular disponibilidad/percepcion implicitamente en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. Logit Binom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Modelo Logit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a semi-compensatoria de utilidad indirecta: menos infinito fuera del domi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restricciones: atributos &amp;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tipos: endogenos - exogenos, individual -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git mutinomial con penalidades binom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Utilidad semi- compens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2209680"/>
                <a:ext cx="4419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90720" y="3581280"/>
                <a:ext cx="38224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4952880"/>
                <a:ext cx="6248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689880" y="1600200"/>
            <a:ext cx="24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compensatoria más penal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inuo y diferen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3360" y="4314960"/>
            <a:ext cx="198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últiples barrer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 número de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90720" y="5791320"/>
                <a:ext cx="3504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actor de penalidad en la utilit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600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6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717640"/>
            <a:ext cx="4572000" cy="3022920"/>
          </a:xfrm>
          <a:custGeom>
            <a:avLst/>
            <a:gdLst/>
            <a:ahLst/>
            <a:rect l="l" t="t" r="r" b="b"/>
            <a:pathLst>
              <a:path w="2880" h="1904">
                <a:moveTo>
                  <a:pt x="0" y="928"/>
                </a:moveTo>
                <a:cubicBezTo>
                  <a:pt x="60" y="892"/>
                  <a:pt x="120" y="856"/>
                  <a:pt x="192" y="784"/>
                </a:cubicBezTo>
                <a:cubicBezTo>
                  <a:pt x="264" y="712"/>
                  <a:pt x="360" y="592"/>
                  <a:pt x="432" y="496"/>
                </a:cubicBezTo>
                <a:cubicBezTo>
                  <a:pt x="504" y="400"/>
                  <a:pt x="560" y="280"/>
                  <a:pt x="624" y="208"/>
                </a:cubicBezTo>
                <a:cubicBezTo>
                  <a:pt x="688" y="136"/>
                  <a:pt x="744" y="96"/>
                  <a:pt x="816" y="64"/>
                </a:cubicBezTo>
                <a:cubicBezTo>
                  <a:pt x="888" y="32"/>
                  <a:pt x="984" y="0"/>
                  <a:pt x="1056" y="16"/>
                </a:cubicBezTo>
                <a:cubicBezTo>
                  <a:pt x="1128" y="32"/>
                  <a:pt x="1184" y="88"/>
                  <a:pt x="1248" y="160"/>
                </a:cubicBezTo>
                <a:cubicBezTo>
                  <a:pt x="1312" y="232"/>
                  <a:pt x="1320" y="192"/>
                  <a:pt x="1440" y="448"/>
                </a:cubicBezTo>
                <a:cubicBezTo>
                  <a:pt x="1560" y="704"/>
                  <a:pt x="1800" y="1488"/>
                  <a:pt x="1968" y="1696"/>
                </a:cubicBezTo>
                <a:cubicBezTo>
                  <a:pt x="2136" y="1904"/>
                  <a:pt x="2328" y="1768"/>
                  <a:pt x="2448" y="1696"/>
                </a:cubicBezTo>
                <a:cubicBezTo>
                  <a:pt x="2568" y="1624"/>
                  <a:pt x="2616" y="1408"/>
                  <a:pt x="2688" y="1264"/>
                </a:cubicBezTo>
                <a:cubicBezTo>
                  <a:pt x="2760" y="1120"/>
                  <a:pt x="2848" y="904"/>
                  <a:pt x="2880" y="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286000"/>
            <a:ext cx="762120" cy="2184480"/>
          </a:xfrm>
          <a:custGeom>
            <a:avLst/>
            <a:gdLst/>
            <a:ahLst/>
            <a:rect l="l" t="t" r="r" b="b"/>
            <a:pathLst>
              <a:path w="480" h="1184">
                <a:moveTo>
                  <a:pt x="480" y="1008"/>
                </a:moveTo>
                <a:cubicBezTo>
                  <a:pt x="396" y="1032"/>
                  <a:pt x="312" y="1056"/>
                  <a:pt x="240" y="1056"/>
                </a:cubicBezTo>
                <a:cubicBezTo>
                  <a:pt x="168" y="1056"/>
                  <a:pt x="88" y="1184"/>
                  <a:pt x="48" y="1008"/>
                </a:cubicBezTo>
                <a:cubicBezTo>
                  <a:pt x="8" y="832"/>
                  <a:pt x="8" y="16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438280"/>
            <a:ext cx="1066680" cy="1600200"/>
          </a:xfrm>
          <a:custGeom>
            <a:avLst/>
            <a:gdLst/>
            <a:ahLst/>
            <a:rect l="l" t="t" r="r" b="b"/>
            <a:pathLst>
              <a:path w="672" h="1008">
                <a:moveTo>
                  <a:pt x="0" y="1008"/>
                </a:moveTo>
                <a:cubicBezTo>
                  <a:pt x="48" y="936"/>
                  <a:pt x="96" y="864"/>
                  <a:pt x="192" y="720"/>
                </a:cubicBezTo>
                <a:cubicBezTo>
                  <a:pt x="288" y="576"/>
                  <a:pt x="496" y="264"/>
                  <a:pt x="576" y="144"/>
                </a:cubicBezTo>
                <a:cubicBezTo>
                  <a:pt x="656" y="24"/>
                  <a:pt x="664" y="12"/>
                  <a:pt x="672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191120"/>
            <a:ext cx="1440" cy="761760"/>
          </a:xfrm>
          <a:custGeom>
            <a:avLst/>
            <a:gdLst/>
            <a:ahLst/>
            <a:rect l="l" t="t" r="r" b="b"/>
            <a:pathLst>
              <a:path w="1" h="480">
                <a:moveTo>
                  <a:pt x="0" y="0"/>
                </a:moveTo>
                <a:cubicBezTo>
                  <a:pt x="0" y="200"/>
                  <a:pt x="0" y="400"/>
                  <a:pt x="0" y="48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9000" y="4038480"/>
            <a:ext cx="1440" cy="99072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0"/>
                </a:moveTo>
                <a:cubicBezTo>
                  <a:pt x="0" y="260"/>
                  <a:pt x="0" y="520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586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040" y="60040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ominio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28800"/>
            <a:ext cx="2133720" cy="1066680"/>
          </a:xfrm>
          <a:prstGeom prst="wedgeRectCallout">
            <a:avLst>
              <a:gd name="adj1" fmla="val -58259"/>
              <a:gd name="adj2" fmla="val 885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ón 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360" y="136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2560" y="498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029200"/>
            <a:ext cx="1295640" cy="1143000"/>
          </a:xfrm>
          <a:prstGeom prst="wedgeRectCallout">
            <a:avLst>
              <a:gd name="adj1" fmla="val 101472"/>
              <a:gd name="adj2" fmla="val -82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n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4191120"/>
            <a:ext cx="533520" cy="1143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4038480"/>
            <a:ext cx="685800" cy="1295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enalidad Logit Bi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96880" y="2556000"/>
                <a:ext cx="5937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38200" y="1600200"/>
                <a:ext cx="6078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47920" y="3581280"/>
                <a:ext cx="1981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143000" y="487692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no-lineal (continua y diferenci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minio difuso: labarreras se pueden violar con baja probabilidad “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mayor violación mayor 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unción de pe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-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 de restricción de ingreso en remate de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89320" y="3024360"/>
            <a:ext cx="27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19200" y="2562120"/>
                <a:ext cx="5892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3:50:13Z</dcterms:created>
  <dc:creator>F M</dc:creator>
  <dc:description/>
  <dc:language>en-US</dc:language>
  <cp:lastModifiedBy>F M</cp:lastModifiedBy>
  <dcterms:modified xsi:type="dcterms:W3CDTF">2005-10-18T10:10:03Z</dcterms:modified>
  <cp:revision>39</cp:revision>
  <dc:subject/>
  <dc:title>The Constrained Multinomial Logit:  a semi-compensatory choice model</dc:title>
</cp:coreProperties>
</file>