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FBD-A30B-43D9-A60D-94105BDE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E13-5653-470F-B744-E280F6D6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217-E471-48B7-9E92-9C3135FB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E45-70CC-4580-8C9D-82B80123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A55-3E50-40FB-9BF0-8D6635B6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ADB-D288-48C4-B9B0-F0C32DE6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E78-A3BC-44F8-A117-10B01873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E88-1C68-4F86-B947-76E6E12D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F05-E348-42D9-9EF5-93C4C7EE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5DC-8980-42E5-A16C-4F35E7F3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0BB-9BAA-49D2-9292-3C74246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149-D40F-4017-99E1-AED094B8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D1BF10-3FC3-407E-9935-67776025A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D2E-4D3F-49B2-8014-AA6B9B8BD729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297-3F7D-45EC-9AA6-0DFA116350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F83-780D-4FD8-9BF3-5FD3B97A0E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FE7-6047-4EB5-AF96-C7752C222F1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5EB-932A-4731-A86B-6C6669B4BD5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38C-5D41-48ED-A91A-871E5F737A2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i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E14-6B50-4F28-91A0-B8713C8DC66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36D-FF5E-4018-8153-C8EA18BB10D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comp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68B-32DF-467C-853F-2250373AC8A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demanda por servicios de comercio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43000" y="1981080"/>
                <a:ext cx="70102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4302000"/>
                <a:ext cx="46483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43000" y="3124080"/>
                <a:ext cx="33908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67080" y="5562720"/>
                <a:ext cx="2108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094120" y="57902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0CE-1208-4B6F-81D8-A28023260D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3171960"/>
                <a:ext cx="40006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415880" y="2132640"/>
            <a:ext cx="75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medida de atractividad, tamaño del centr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23080" y="41900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edida de acce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6200" y="5150160"/>
            <a:ext cx="71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es el comportamiento implícito de los consumidores en este model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421-6558-42FE-8C77-D4D8DDFAF6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ED8-BB8A-4359-A1D7-0B66B3336B5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Versión desagregad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43000" y="1905120"/>
                <a:ext cx="7677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099800" y="2818440"/>
            <a:ext cx="481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g: tipo de bienes, w: tipos de consumi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k: modo transporte, h: tipo de ti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4952880"/>
                <a:ext cx="47242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h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w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w</m:t>
                                        </m:r>
                                      </m:sup>
                                    </m:sSup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679920"/>
                <a:ext cx="29718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h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hw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39840" y="38851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CED-C1B6-4CCB-A6F0-513661B833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Factores de atracción: </a:t>
            </a:r>
            <a:r>
              <a:rPr b="0" i="1" lang="es-CL" sz="4400" spc="-1" strike="noStrike">
                <a:solidFill>
                  <a:srgbClr val="8cf4ea"/>
                </a:solidFill>
                <a:latin typeface="Times New Roman"/>
              </a:rPr>
              <a:t>W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55600" y="1798560"/>
          <a:ext cx="7378920" cy="17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1798560"/>
                    <a:ext cx="737892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38280" y="4038480"/>
                <a:ext cx="45975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g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g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h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sup>
                            </m:sSubSup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553-DA87-4C99-B009-3F2C9D9ACA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localización de centros comerc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D69-60FC-471C-B3F3-39A1FA4434D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Cálculo de tamaño y localización óptima de centros comerciales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66760" y="2102040"/>
            <a:ext cx="72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Hipótesis: Los comerciantes invierten en infraestructura si obtienen gana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33640" y="3160800"/>
                <a:ext cx="3314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08360" y="4419720"/>
                <a:ext cx="32986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76720" y="5746680"/>
                <a:ext cx="2425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53724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567480" y="4454640"/>
                <a:ext cx="2055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∈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s un parámetr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: es tiemp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124680" y="5866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dició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8160" y="3437280"/>
            <a:ext cx="212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: costo por m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62F-E17E-4A47-BA24-D9291DB69D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682720" y="2057400"/>
                <a:ext cx="3975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682720" y="3048120"/>
                <a:ext cx="3810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4157640"/>
                <a:ext cx="187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49680" y="5027760"/>
                <a:ext cx="3193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ona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687320" y="213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0720" y="4266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518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3D3-8BCE-4A0C-8D01-88054925E3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... cont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62320" y="2133720"/>
                <a:ext cx="43113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α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23880" y="3962520"/>
                <a:ext cx="6553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β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362320" y="5665680"/>
                <a:ext cx="420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punto fijo en 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26D-479F-4BD4-A388-30650BE0C7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860640" y="457200"/>
          <a:ext cx="459756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457200"/>
                    <a:ext cx="459756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903920" y="787320"/>
                <a:ext cx="35388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427800" y="774720"/>
                <a:ext cx="3538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881840" y="762120"/>
                <a:ext cx="3412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880" y="687240"/>
                <a:ext cx="6858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80880" y="2109960"/>
                <a:ext cx="685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3352680"/>
                <a:ext cx="6858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222560" y="713160"/>
            <a:ext cx="186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Una solu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89000" y="2039400"/>
            <a:ext cx="2797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i no hay intersección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0, entonces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=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65920"/>
            <a:ext cx="2797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res ca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corta la función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) es solo tang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i) no se toc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bserv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se puede pasar de caso (I) a caso (III) cambiando cosot de cosntruc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, pasando abruptamente de W&gt;0 a W=0. Esta es la base de la teoría de la catástrof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02720" y="10911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26600" y="10785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39520" y="1002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6680" y="27327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58600" y="280908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58600" y="4485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810-1A03-462A-901C-06B508C49F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: catástrofe 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2120" y="2332080"/>
          <a:ext cx="800100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32080"/>
                    <a:ext cx="80010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E7C-D152-4A3B-A010-C0D6E1DF41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Insumo Produ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244-7FEC-4202-A63F-EC41743504C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Teoría de Producción y Multiplicador (Keynes,1936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ducc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depende de la demanda futura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, la que no es función de los precios sino del ingreso.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),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que depende  de la invers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istema cerrado en equilibrio general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=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sumidores: consumir o ahorrar, productores: producir o invert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127400" y="3800520"/>
                <a:ext cx="2121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2D5-EF3E-4800-867E-37F53B0DAA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C8B-DCD9-4F30-9B33-3E5E036119E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080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2057400"/>
          <a:ext cx="7016760" cy="41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701676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625120" y="617112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Y=C+S       P=C+I            S=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008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93B-5193-43F6-8FFD-63EC9F2A1D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br>
              <a:rPr sz="3600"/>
            </a:br>
            <a:r>
              <a:rPr b="0" lang="es-CL" sz="2800" spc="-1" strike="noStrike">
                <a:solidFill>
                  <a:srgbClr val="8cf4ea"/>
                </a:solidFill>
                <a:latin typeface="Times New Roman"/>
              </a:rPr>
              <a:t>Propensión al consumo (CC) y al ahorro (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066680" y="1309680"/>
          <a:ext cx="615960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09680"/>
                    <a:ext cx="61596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562720" y="13734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sólo consumo (pto de quieb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qulibrio se mueve a la izquierda,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equlibriuo se mueva a decrecha, en este caso ingreso aumenta más que la inversió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fecto multiplic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D4C-DFE7-452C-85DB-9C50FB61B4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60600" y="2050920"/>
          <a:ext cx="584820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2050920"/>
                    <a:ext cx="58482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114800" y="204480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0574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121-5DEA-4B3B-BDA2-2D8A3EBA78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6920" y="15991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antidad de producto del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 requerido para producción de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09680" y="2362320"/>
                <a:ext cx="4813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457360" y="3276720"/>
                <a:ext cx="18860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1840" y="3352680"/>
                <a:ext cx="442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495520" y="4267080"/>
                <a:ext cx="3143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514600" y="5257800"/>
                <a:ext cx="563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</m:e>
                    </m:nary>
                    <m:r>
                      <m:t xml:space="preserve">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99520" y="2634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8840" y="3276000"/>
            <a:ext cx="21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Demandas intermedia y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208-6B18-4EDC-B277-21EBF02375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9520" y="1218240"/>
            <a:ext cx="59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oeficiente técnico estable en el corto plazo, cambia con la tecnolog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1828800"/>
                <a:ext cx="41468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2971800"/>
                <a:ext cx="340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838080" y="3962520"/>
                <a:ext cx="817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66680" y="5181480"/>
                <a:ext cx="5061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257800" y="5943600"/>
            <a:ext cx="1905120" cy="762120"/>
          </a:xfrm>
          <a:prstGeom prst="wedgeRectCallout">
            <a:avLst>
              <a:gd name="adj1" fmla="val -70583"/>
              <a:gd name="adj2" fmla="val -85208"/>
            </a:avLst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ultipli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841-8001-4376-9904-560C87AB64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7920" y="1111320"/>
          <a:ext cx="6311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1320"/>
                    <a:ext cx="6311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D62-684E-4FB7-BCE8-D934E82292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65440" y="1676520"/>
          <a:ext cx="561312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676520"/>
                    <a:ext cx="56131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752480" y="5308560"/>
                <a:ext cx="33210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den>
                    </m:f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5464080" y="560736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Q: función de distancia a esti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A50-F0CF-46E9-B2F0-BE044DFABF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277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01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02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07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12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17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22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5F5-303B-40FD-B128-3912DDE935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C9B-45EE-434B-BA41-6A4AADA080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AA9-4080-44B2-AC5D-7AD05C02FB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A06-0F4A-4F76-89A3-E1E8DAA644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BFA-F6D7-43B7-BC91-CF68B9327D3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6C1-10C1-4DB4-9515-841388FC77C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CF9-62A9-4E61-BE6B-1FD5EC1BC24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5-08-30T20:15:39Z</dcterms:modified>
  <cp:revision>141</cp:revision>
  <dc:subject/>
  <dc:title>General</dc:title>
</cp:coreProperties>
</file>