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25C-26D5-4E8F-9C5E-A0003F0B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245-1866-44DB-AE33-24B150F0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50E-C899-4C89-8135-86AF9275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EB6-6C38-4088-B7AA-BE2AF6A1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F41-DE58-4CA8-A0FB-1563FC39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4A3-7E2F-41F0-B868-215927F5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29E-01F2-4872-838F-E8CD725F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A96-187F-4BB0-B355-2B55EB08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1CE-20EA-4FD2-8CA8-D0A466D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B51-4460-4754-B9D1-BDF2D8B1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D05-5AE6-4B04-96F1-1C3D6CF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8F0-E36F-470F-90EA-3834D97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80A3E6-EE9F-4314-858A-E51B67C03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EFE-BF2E-4074-9A0D-1864EF69484B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1E8-1071-4D1E-ACAA-DDF4ED09B1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964-DFD2-4CE8-83AD-6D236D56F96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B45-DC4E-4925-8088-14DC45B1D1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7EF-4832-4421-937D-E7808C1E2F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BF1-008D-4C6A-B395-777AA0DB6A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35A-6C02-4B7D-B3DC-C33538757A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46B-7C06-4719-A412-7D46A30B024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807-623C-4003-A2A6-415A7FB1821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8F6-3863-4515-8082-64AB338F4B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681-E977-4691-96FF-86B5C44B4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901-83D2-4073-9B1E-AE4964CECE3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033-6467-43F4-BDDD-011A50B5A3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D7B-3FD0-4BF5-BE93-431B4B4D65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1DD-6327-497A-9289-847759ED416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12D-EF59-4B67-878E-1F0227CF00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DD6-91F6-4DE9-8A0D-864B2FF222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BE4-8106-4E25-9113-0FC50095E1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C6D-1194-4186-8915-7042663752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1BF-BA3D-4DED-91D4-B4D3DA5625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D59-0E8A-4F22-9DE7-C4254D23691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D51-32E2-45DF-82B5-8C1BDC7972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3BB-B8C9-438E-B1CB-053574B5C1B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69E-E1BC-4982-8FA0-7D051F3912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2EE-CAFA-451D-8F90-DE47387E83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83D-90AB-41D9-A7DB-38EC381B76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BD5-FA90-40F4-8784-4F17F98A53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A0C-9B9B-413A-B05E-8DEC3539F4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4E1-1B2A-4220-9C48-5213B68ABD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E53-DA8D-49DD-B8CC-A716B0F9B2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6BF-2AD2-4ADD-B312-5951B74376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495-F4AD-4C1D-9FB8-B3E0CCCC06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FBC-82E9-4D5A-A83A-D050432F1F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C36-65EC-4C23-8CB5-6A862BA772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3DD-FB63-421E-B77E-FACBDBEAB6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8B6-17E8-45AA-B118-3C883728CA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255-5E86-46DA-A4E6-B86327C278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8-30T20:15:39Z</dcterms:modified>
  <cp:revision>141</cp:revision>
  <dc:subject/>
  <dc:title>General</dc:title>
</cp:coreProperties>
</file>