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958-7843-4123-AE74-3A6CC5BC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993-0C5D-4F56-AF91-740CF426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D58-091C-44C9-AAE6-566CD76B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1EF-9F0C-4BD7-A62C-5CB2C8FF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78C-ACB9-4343-8A80-28A10A83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135-14C1-4CE5-8A34-04A241A4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EE1-62C1-490A-81C0-FD07A023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DFD-DF4A-4F44-8CB3-21719FE8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097-F443-4745-AD9D-E3A22525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6B5-13B9-4F14-A930-B000C6D7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763-2775-4D4A-A998-3FEEE487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E5D-0A65-4A08-A23C-0A343839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AF931D-5196-49FD-B1B0-F51FE16935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1E07-52F8-4B24-BC2F-3F50F6AAB8A2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oblemente aco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0A2-8906-4B24-994B-452DCB8B75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Formulación Genre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68960" y="3301920"/>
                <a:ext cx="404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2514600"/>
                <a:ext cx="434340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sub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957600" y="5653080"/>
            <a:ext cx="77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Qué se está maximizan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 es el factor de dispersión, o la desviación estándar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AA1-71AE-4350-9129-BDFB5ADD10A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55880" y="1981080"/>
                <a:ext cx="51530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58920" y="3733920"/>
                <a:ext cx="4497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90760" y="5275440"/>
                <a:ext cx="622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6DF-BD39-430B-B5BD-57F98E45527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71520" y="1523880"/>
                <a:ext cx="634860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519-A839-449D-A9F6-76AAE1B1EF2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38760" y="1133640"/>
                <a:ext cx="3985920" cy="20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362320" y="29718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248520"/>
            <a:ext cx="541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3429000"/>
            <a:ext cx="3352680" cy="2819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1400" y="281844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8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3886200"/>
            <a:ext cx="4419720" cy="2209680"/>
            <a:chOff x="1143000" y="3886200"/>
            <a:chExt cx="4419720" cy="2209680"/>
          </a:xfrm>
        </p:grpSpPr>
        <p:sp>
          <p:nvSpPr>
            <p:cNvPr id="139" name=""/>
            <p:cNvSpPr/>
            <p:nvPr/>
          </p:nvSpPr>
          <p:spPr>
            <a:xfrm>
              <a:off x="1143000" y="556272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388620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857680" y="5867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129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3581280"/>
            <a:ext cx="4419000" cy="2209680"/>
            <a:chOff x="762120" y="3581280"/>
            <a:chExt cx="4419000" cy="2209680"/>
          </a:xfrm>
        </p:grpSpPr>
        <p:sp>
          <p:nvSpPr>
            <p:cNvPr id="144" name=""/>
            <p:cNvSpPr/>
            <p:nvPr/>
          </p:nvSpPr>
          <p:spPr>
            <a:xfrm>
              <a:off x="762120" y="5257800"/>
              <a:ext cx="243792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040" y="3581280"/>
              <a:ext cx="198108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00200" y="3962520"/>
            <a:ext cx="4419720" cy="2209680"/>
            <a:chOff x="1600200" y="3962520"/>
            <a:chExt cx="4419720" cy="2209680"/>
          </a:xfrm>
        </p:grpSpPr>
        <p:sp>
          <p:nvSpPr>
            <p:cNvPr id="147" name=""/>
            <p:cNvSpPr/>
            <p:nvPr/>
          </p:nvSpPr>
          <p:spPr>
            <a:xfrm>
              <a:off x="1600200" y="563904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96252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BB7-E22D-45FE-82D2-312D1AF871D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Probabilidades de localiza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84320" y="1720800"/>
                <a:ext cx="6265800" cy="41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513560" y="335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54880" y="4799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B04-04D2-4160-A60B-AAD6C3C107F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Interpretación de multiplicador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66720" y="1701720"/>
                <a:ext cx="4757760" cy="31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349640" y="56376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rregir por factor de disper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324480" y="5243400"/>
                <a:ext cx="1125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μ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833D-05C1-4417-A19D-C954591F41A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compr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F86-40BF-40BA-9E8D-C3D8186F797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demanda por servicios de comercio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43000" y="1981080"/>
                <a:ext cx="701028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143000" y="4302000"/>
                <a:ext cx="46483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43000" y="3124080"/>
                <a:ext cx="339084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a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267080" y="5562720"/>
                <a:ext cx="21081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094120" y="57902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sul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461-C48A-4065-B812-16CC3026163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Interpret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86000" y="3171960"/>
                <a:ext cx="40006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415880" y="2132640"/>
            <a:ext cx="75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medida de atractividad, tamaño del centro comer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23080" y="419004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edida de acces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76200" y="5150160"/>
            <a:ext cx="710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es el comportamiento implícito de los consumidores en este model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8C2-70BF-4DBE-AAD3-6365885B6E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WRY 19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B58-B071-47F9-A679-4F569896B67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Versión desagregad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143000" y="1905120"/>
                <a:ext cx="7677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k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p>
                        </m:s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099800" y="2818440"/>
            <a:ext cx="481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g: tipo de bienes, w: tipos de consumi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k: modo transporte, h: tipo de tien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133720" y="4952880"/>
                <a:ext cx="472428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h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hw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w</m:t>
                                        </m:r>
                                      </m:sup>
                                    </m:sSup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429000" y="3679920"/>
                <a:ext cx="29718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jh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hwk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239840" y="38851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B04-9620-4B0E-80C8-9371C18366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Factores de atracción: </a:t>
            </a:r>
            <a:r>
              <a:rPr b="0" i="1" lang="es-CL" sz="4400" spc="-1" strike="noStrike">
                <a:solidFill>
                  <a:srgbClr val="8cf4ea"/>
                </a:solidFill>
                <a:latin typeface="Times New Roman"/>
              </a:rPr>
              <a:t>W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55600" y="1798560"/>
          <a:ext cx="7378920" cy="178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1798560"/>
                    <a:ext cx="737892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438280" y="4038480"/>
                <a:ext cx="459756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g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g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h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  <m:sup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sup>
                            </m:sSubSup>
                          </m:e>
                        </m:d>
                      </m:e>
                      <m:sup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9EA-A965-4266-98B7-D3D38E5B97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localización de centros comerci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DISEÑ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88A-881E-4168-A09A-7423BF020F7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Cálculo de tamaño y localización óptima de centros comerciales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66760" y="2102040"/>
            <a:ext cx="72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Hipótesis: Los comerciantes invierten en infraestructura si obtienen gana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33640" y="3160800"/>
                <a:ext cx="3314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08360" y="4419720"/>
                <a:ext cx="329868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276720" y="5746680"/>
                <a:ext cx="24256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653724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567480" y="4454640"/>
                <a:ext cx="2055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∈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es un parámetr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: es tiemp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124680" y="58662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ndició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8160" y="3437280"/>
            <a:ext cx="212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: costo por m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285-9AF2-4028-9D58-1F5EA25300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nálisis diná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682720" y="2057400"/>
                <a:ext cx="39751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682720" y="3048120"/>
                <a:ext cx="38102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4157640"/>
                <a:ext cx="1873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749680" y="5027760"/>
                <a:ext cx="31939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  <m:r>
                      <m:t xml:space="preserve">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zona</m:t>
                    </m:r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1687320" y="213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0720" y="4266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7960" y="5180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48A-7945-4999-8D4A-AE434F24C6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nálisis dinámico... cont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62320" y="2133720"/>
                <a:ext cx="43113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α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23880" y="3962520"/>
                <a:ext cx="65534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α</m:t>
                                        </m:r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β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nary>
                              </m:den>
                            </m:f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362320" y="5665680"/>
                <a:ext cx="420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punto fijo en 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E7EE-5CA4-4FC7-A6C5-6153611BB3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860640" y="457200"/>
          <a:ext cx="459756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0640" y="457200"/>
                    <a:ext cx="459756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903920" y="787320"/>
                <a:ext cx="353880" cy="1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427800" y="774720"/>
                <a:ext cx="3538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881840" y="762120"/>
                <a:ext cx="3412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0880" y="687240"/>
                <a:ext cx="68580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80880" y="2109960"/>
                <a:ext cx="685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880" y="3352680"/>
                <a:ext cx="6858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222560" y="713160"/>
            <a:ext cx="186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Una solución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&gt;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89000" y="2039400"/>
            <a:ext cx="2797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Si no hay intersección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0, entonces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=0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716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3265920"/>
            <a:ext cx="2797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res ca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corta la función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i) es solo tang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ii) no se toc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Observ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se puede pasar de caso (I) a caso (III) cambiando cosot de cosntrucción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, pasando abruptamente de W&gt;0 a W=0. Esta es la base de la teoría de la catástrof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02720" y="10911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26600" y="10785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39520" y="100224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6680" y="27327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58600" y="280908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58600" y="448524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0DA-F832-471C-AA2C-82C9B00F1E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quilibrio: catástrofe 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62120" y="2332080"/>
          <a:ext cx="800100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32080"/>
                    <a:ext cx="800100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A01E-98C3-4BDD-BE21-ADD80A6F54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Insumo Produc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A58-CF4A-4051-A124-6507D58AEA7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Teoría de Producción y Multiplicador (Keynes,1936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oducción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depende de la demanda futura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, la que no es función de los precios sino del ingreso.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),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que depende  de la inversión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istema cerrado en equilibrio general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=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sumidores: consumir o ahorrar, productores: producir o invert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127400" y="3800520"/>
                <a:ext cx="2121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540-8709-4A84-A600-7B39CCE1A2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" y="76320"/>
                <a:ext cx="5689440" cy="65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/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p/>
                            </m:sSup>
                          </m:sup>
                        </m:sSup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ógen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100640" y="151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4000" y="608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31360" y="18277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ist.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7600" y="36565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4240" y="53330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so suel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0BB-CBC7-4889-87FC-83BAC1E0FF6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080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Teoría de Producción y Multiplicador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2057400"/>
          <a:ext cx="7016760" cy="413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701676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625120" y="617112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Y=C+S       P=C+I            S=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008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E91E-8845-48C5-9AB3-4126E26EE4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Teoría de Producción y Multiplicador...</a:t>
            </a:r>
            <a:br>
              <a:rPr sz="3600"/>
            </a:br>
            <a:r>
              <a:rPr b="0" lang="es-CL" sz="2800" spc="-1" strike="noStrike">
                <a:solidFill>
                  <a:srgbClr val="8cf4ea"/>
                </a:solidFill>
                <a:latin typeface="Times New Roman"/>
              </a:rPr>
              <a:t>Propensión al consumo (CC) y al ahorro (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066680" y="1309680"/>
          <a:ext cx="6159600" cy="50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09680"/>
                    <a:ext cx="61596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5562720" y="137340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sólo consumo (pto de quieb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equilib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’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aumenta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S,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qulibrio se mueve a la izquierda, aumenta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equlibriuo se mueva a decrecha, en este caso ingreso aumenta más que la inversión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fecto multiplic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92B-EBAF-4F23-BC51-6891F70A55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60600" y="2050920"/>
          <a:ext cx="584820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0600" y="2050920"/>
                    <a:ext cx="58482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4114800" y="2044800"/>
            <a:ext cx="0" cy="23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205740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CA6-25DF-426D-9D67-27D5E1863D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36920" y="159912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mn : cantidad de producto del sector </a:t>
            </a:r>
            <a:r>
              <a:rPr b="1" i="1" lang="es-CL" sz="24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 requerido para producción de sector </a:t>
            </a:r>
            <a:r>
              <a:rPr b="1" i="1" lang="es-C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209680" y="2362320"/>
                <a:ext cx="4813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457360" y="3276720"/>
                <a:ext cx="18860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641840" y="3352680"/>
                <a:ext cx="4425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495520" y="4267080"/>
                <a:ext cx="3143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514600" y="5257800"/>
                <a:ext cx="5638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</m:e>
                    </m:nary>
                    <m:r>
                      <m:t xml:space="preserve">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299520" y="26344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8840" y="3276000"/>
            <a:ext cx="21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Demandas intermedia y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BD9-2239-4603-B4DC-156CA0092D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9520" y="1218240"/>
            <a:ext cx="59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mn : Coeficiente técnico estable en el corto plazo, cambia con la tecnolog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438280" y="1828800"/>
                <a:ext cx="414684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95480" y="2971800"/>
                <a:ext cx="3403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838080" y="3962520"/>
                <a:ext cx="8172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p>
                                </m:sSup>
                              </m:e>
                            </m:d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066680" y="5181480"/>
                <a:ext cx="5061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5257800" y="5943600"/>
            <a:ext cx="1905120" cy="762120"/>
          </a:xfrm>
          <a:prstGeom prst="wedgeRectCallout">
            <a:avLst>
              <a:gd name="adj1" fmla="val -70583"/>
              <a:gd name="adj2" fmla="val -85208"/>
            </a:avLst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ultiplic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42F9-58BF-4749-A76C-D4273CB8901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47920" y="1111320"/>
          <a:ext cx="6311880" cy="55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11320"/>
                    <a:ext cx="631188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4F9-3163-4096-8DA9-B88214BFA18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65440" y="1676520"/>
          <a:ext cx="5613120" cy="350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1676520"/>
                    <a:ext cx="56131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752480" y="5308560"/>
                <a:ext cx="33210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</m:den>
                    </m:f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5464080" y="560736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Q: función de distancia a esti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662-F2D2-436A-9352-EAB84B2D454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277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01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02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07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12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17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22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2A1-35CD-4FC2-AA9A-A281244DFA9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376-F89F-433D-B9F4-539E8933F53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Residen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080" y="3567240"/>
                <a:ext cx="8797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838080" y="1675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ación de la entropía: modelo doblemente acotado a población y empleo, que maximiza las post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40" y="304704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delo pro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3280" y="4785480"/>
            <a:ext cx="619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 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hog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viv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de hogar (salario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proporción de salario destinado a viv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4D18-CBF8-4EFB-9BB3-474F4F494E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2680" y="5657760"/>
                <a:ext cx="853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6600" y="158436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ción de la entropía: modelo doblemente acotado a población y empleo, que maximiza las posturas (absolut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80960" y="2749680"/>
                <a:ext cx="6234120" cy="25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w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p>
                                        <m:r>
                                          <m:t xml:space="preserve">w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6FA-2C80-4EC3-A77F-61B8D67638B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3560" y="1371600"/>
                <a:ext cx="853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13520" y="228492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tensión a otras funciones de  at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2895480"/>
                <a:ext cx="4849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4191120"/>
                <a:ext cx="73911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sup>
                        </m:sSup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1589-839C-40A8-A577-2EE7FD4EA3B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ilson tipo Alons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95280" y="4191120"/>
                <a:ext cx="5791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1676520"/>
                <a:ext cx="579132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36800" y="5257800"/>
                <a:ext cx="3818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155600" y="5455080"/>
            <a:ext cx="23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quivalencia con modelo ant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8419-DF4B-4736-AD2A-A1F441DD699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omparación con Herbet &amp; Steven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49200" y="1751040"/>
                <a:ext cx="338472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1828800"/>
                <a:ext cx="49374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89640" y="396144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75560" y="38851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stocá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4606920"/>
                <a:ext cx="244008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w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00720" y="5150160"/>
            <a:ext cx="41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os multiplicadores representan la r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7767-8838-4BE6-B0A7-855CCB70A92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5-08-30T20:15:39Z</dcterms:modified>
  <cp:revision>141</cp:revision>
  <dc:subject/>
  <dc:title>General</dc:title>
</cp:coreProperties>
</file>