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embeddings/oleObject4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C291-18B9-485C-8125-0EB6B4294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57040" y="413064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2AA7-9F0E-45A8-AA3E-F18FA3B53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494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8BD8-6BE6-4D24-8DCA-BB3B497CC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116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5704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116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7DEA-8585-4428-939D-4FB61CAE6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ECAA-DFC6-43FB-AAAC-4AC4E41CC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34DC-CF5F-47F8-8E2B-E851FB1FA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7C42-80E4-4F38-B32B-3517547EE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A74E-2365-4C40-89D0-9BE52464D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80800" y="609120"/>
            <a:ext cx="7715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4C56-6288-4CA6-A16F-0F63BE0F7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6A45-A399-4AA3-8CA5-1598FB3D3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494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4D4E-1CFB-4688-92EF-93CA1F1C5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039E-D77D-4DD0-BA3D-0A36F9403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9E8298B-1951-4EB6-ACE5-D33261541B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8cf4ea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1085760" cy="6845400"/>
            <a:chOff x="0" y="0"/>
            <a:chExt cx="1085760" cy="6845400"/>
          </a:xfrm>
        </p:grpSpPr>
        <p:sp>
          <p:nvSpPr>
            <p:cNvPr id="6" name=""/>
            <p:cNvSpPr/>
            <p:nvPr/>
          </p:nvSpPr>
          <p:spPr>
            <a:xfrm>
              <a:off x="0" y="0"/>
              <a:ext cx="1085760" cy="6845400"/>
            </a:xfrm>
            <a:prstGeom prst="rect">
              <a:avLst/>
            </a:prstGeom>
            <a:gradFill rotWithShape="0">
              <a:gsLst>
                <a:gs pos="0">
                  <a:srgbClr val="114ffb"/>
                </a:gs>
                <a:gs pos="50000">
                  <a:srgbClr val="030f32"/>
                </a:gs>
                <a:gs pos="100000">
                  <a:srgbClr val="114ff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76320" y="162000"/>
              <a:ext cx="152280" cy="6543720"/>
              <a:chOff x="76320" y="162000"/>
              <a:chExt cx="152280" cy="6543720"/>
            </a:xfrm>
          </p:grpSpPr>
          <p:sp>
            <p:nvSpPr>
              <p:cNvPr id="8" name=""/>
              <p:cNvSpPr/>
              <p:nvPr/>
            </p:nvSpPr>
            <p:spPr>
              <a:xfrm>
                <a:off x="76320" y="1752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1981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2209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2438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2666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2895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3124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3352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3581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3809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4038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4267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4495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4724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4952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5181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5410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5638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5867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095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6324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6553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76320" y="6192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76320" y="8478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76320" y="10764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76320" y="13050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76320" y="15336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838080" y="7621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Economía Urbana y Transport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CI 73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Archivo 3.3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8075520" y="5029200"/>
            <a:ext cx="1068480" cy="16002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295280" y="3276720"/>
            <a:ext cx="563904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6633"/>
                </a:solidFill>
                <a:latin typeface="Times New Roman"/>
              </a:rPr>
              <a:t>Prof. FRANCISCO J. MARTÍNEZ 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6633"/>
                </a:solidFill>
                <a:latin typeface="Times New Roman"/>
              </a:rPr>
              <a:t>Auxiliares: Pedro Donoso y Felipe Aguil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72B6-5C12-4E1C-AF22-B1CEDA790CAF}" type="slidenum">
              <a:t>1</a:t>
            </a:fld>
          </a:p>
        </p:txBody>
      </p:sp>
    </p:spTree>
  </p:cSld>
  <p:transition spd="med" advTm="15000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129492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MODELOS DE INTERACCIÓN ESPACIAL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Modelo de localización con Entropí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Modelo doblemente acota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E3E9-4AA5-4BAA-8A12-81AB2541D7E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129492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Formulación Genreal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4368960" y="3301920"/>
                <a:ext cx="404640" cy="2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2362320" y="2514600"/>
                <a:ext cx="4343400" cy="28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</m:sub>
                        </m:sSub>
                        <m:r>
                          <m:t xml:space="preserve">Z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H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</m:e>
                        </m:nary>
                        <m:r>
                          <m:t xml:space="preserve"> 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∀</m:t>
                        </m:r>
                        <m:r>
                          <m:t xml:space="preserve">h</m:t>
                        </m:r>
                      </m:e>
                      <m:e>
                        <m:r>
                          <m:t xml:space="preserve">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h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S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r>
                          <m:t xml:space="preserve"> 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∀</m:t>
                        </m:r>
                        <m:r>
                          <m:t xml:space="preserve">i</m:t>
                        </m:r>
                      </m:e>
                      <m:e>
                        <m:r>
                          <m:t xml:space="preserve">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B</m:t>
                                </m:r>
                              </m:e>
                            </m:bar>
                          </m:e>
                        </m:nary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957600" y="5653080"/>
            <a:ext cx="7732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¿Qué se está maximizando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¿Cuál es el factor de dispersión, o la desviación estándar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D514-B055-40C1-80BD-11FC8C56F5FD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76176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Solución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1955880" y="1981080"/>
                <a:ext cx="5153040" cy="141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L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+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h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H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+</m:t>
                        </m:r>
                      </m:e>
                      <m:e>
                        <m:r>
                          <m:t xml:space="preserve">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S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+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  <m:sup/>
                          <m:e>
                            <m:r>
                              <m:t xml:space="preserve">θ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B</m:t>
                                </m:r>
                              </m:e>
                            </m:bar>
                            <m:r>
                              <m:t xml:space="preserve">)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2158920" y="3733920"/>
                <a:ext cx="449748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L</m:t>
                        </m:r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sSubSup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i</m:t>
                        </m:r>
                      </m:sub>
                      <m:sup/>
                    </m:sSubSup>
                    <m:r>
                      <m:t xml:space="preserve">+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θ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1490760" y="5275440"/>
                <a:ext cx="6227640" cy="8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sSubSup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i</m:t>
                        </m:r>
                      </m:sub>
                      <m:sup/>
                    </m:sSub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θ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79CA-401F-453D-A6DF-9D3239BEBA48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Solución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271520" y="1523880"/>
                <a:ext cx="6348600" cy="404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sSubSup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  <m:sup/>
                        </m:sSubSup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H</m:t>
                                </m:r>
                              </m:e>
                            </m:ba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sSub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S</m:t>
                                </m:r>
                              </m:e>
                            </m:ba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θ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/>
                      <m:e>
                        <m:r>
                          <m:t xml:space="preserve"> 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S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θ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t xml:space="preserve"> 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h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H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θ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44A0-97CE-4B26-8DFE-B70BB6771676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Solución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3938760" y="1133640"/>
                <a:ext cx="3985920" cy="203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S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θ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t xml:space="preserve"> 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h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H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θ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r>
                          <m:t xml:space="preserve">)</m:t>
                        </m:r>
                        <m:r>
                          <m:t xml:space="preserve">→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2362320" y="2971800"/>
            <a:ext cx="0" cy="3276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143000" y="6248520"/>
            <a:ext cx="54100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2362320" y="3429000"/>
            <a:ext cx="3352680" cy="2819520"/>
          </a:xfrm>
          <a:prstGeom prst="line">
            <a:avLst/>
          </a:prstGeom>
          <a:ln w="381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661400" y="2818440"/>
            <a:ext cx="63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f(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554880" y="6094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1143000" y="3886200"/>
            <a:ext cx="4419720" cy="2209680"/>
            <a:chOff x="1143000" y="3886200"/>
            <a:chExt cx="4419720" cy="2209680"/>
          </a:xfrm>
        </p:grpSpPr>
        <p:sp>
          <p:nvSpPr>
            <p:cNvPr id="139" name=""/>
            <p:cNvSpPr/>
            <p:nvPr/>
          </p:nvSpPr>
          <p:spPr>
            <a:xfrm>
              <a:off x="1143000" y="5562720"/>
              <a:ext cx="2438280" cy="533160"/>
            </a:xfrm>
            <a:custGeom>
              <a:avLst/>
              <a:gdLst/>
              <a:ahLst/>
              <a:rect l="l" t="t" r="r" b="b"/>
              <a:pathLst>
                <a:path w="1536" h="336">
                  <a:moveTo>
                    <a:pt x="0" y="336"/>
                  </a:moveTo>
                  <a:cubicBezTo>
                    <a:pt x="216" y="328"/>
                    <a:pt x="432" y="320"/>
                    <a:pt x="624" y="288"/>
                  </a:cubicBezTo>
                  <a:cubicBezTo>
                    <a:pt x="816" y="256"/>
                    <a:pt x="1000" y="192"/>
                    <a:pt x="1152" y="144"/>
                  </a:cubicBezTo>
                  <a:cubicBezTo>
                    <a:pt x="1304" y="96"/>
                    <a:pt x="1472" y="24"/>
                    <a:pt x="1536" y="0"/>
                  </a:cubicBezTo>
                </a:path>
              </a:pathLst>
            </a:custGeom>
            <a:noFill/>
            <a:ln w="381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581280" y="3886200"/>
              <a:ext cx="1981440" cy="1676520"/>
            </a:xfrm>
            <a:custGeom>
              <a:avLst/>
              <a:gdLst/>
              <a:ahLst/>
              <a:rect l="l" t="t" r="r" b="b"/>
              <a:pathLst>
                <a:path w="1248" h="1056">
                  <a:moveTo>
                    <a:pt x="0" y="1056"/>
                  </a:moveTo>
                  <a:cubicBezTo>
                    <a:pt x="88" y="1000"/>
                    <a:pt x="176" y="944"/>
                    <a:pt x="384" y="768"/>
                  </a:cubicBezTo>
                  <a:cubicBezTo>
                    <a:pt x="592" y="592"/>
                    <a:pt x="1104" y="128"/>
                    <a:pt x="1248" y="0"/>
                  </a:cubicBezTo>
                </a:path>
              </a:pathLst>
            </a:custGeom>
            <a:noFill/>
            <a:ln w="381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2857680" y="58672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12960" y="61711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x*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762120" y="3581280"/>
            <a:ext cx="4419000" cy="2209680"/>
            <a:chOff x="762120" y="3581280"/>
            <a:chExt cx="4419000" cy="2209680"/>
          </a:xfrm>
        </p:grpSpPr>
        <p:sp>
          <p:nvSpPr>
            <p:cNvPr id="144" name=""/>
            <p:cNvSpPr/>
            <p:nvPr/>
          </p:nvSpPr>
          <p:spPr>
            <a:xfrm>
              <a:off x="762120" y="5257800"/>
              <a:ext cx="2437920" cy="533160"/>
            </a:xfrm>
            <a:custGeom>
              <a:avLst/>
              <a:gdLst/>
              <a:ahLst/>
              <a:rect l="l" t="t" r="r" b="b"/>
              <a:pathLst>
                <a:path w="1536" h="336">
                  <a:moveTo>
                    <a:pt x="0" y="336"/>
                  </a:moveTo>
                  <a:cubicBezTo>
                    <a:pt x="216" y="328"/>
                    <a:pt x="432" y="320"/>
                    <a:pt x="624" y="288"/>
                  </a:cubicBezTo>
                  <a:cubicBezTo>
                    <a:pt x="816" y="256"/>
                    <a:pt x="1000" y="192"/>
                    <a:pt x="1152" y="144"/>
                  </a:cubicBezTo>
                  <a:cubicBezTo>
                    <a:pt x="1304" y="96"/>
                    <a:pt x="1472" y="24"/>
                    <a:pt x="1536" y="0"/>
                  </a:cubicBezTo>
                </a:path>
              </a:pathLst>
            </a:custGeom>
            <a:noFill/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200040" y="3581280"/>
              <a:ext cx="1981080" cy="1676520"/>
            </a:xfrm>
            <a:custGeom>
              <a:avLst/>
              <a:gdLst/>
              <a:ahLst/>
              <a:rect l="l" t="t" r="r" b="b"/>
              <a:pathLst>
                <a:path w="1248" h="1056">
                  <a:moveTo>
                    <a:pt x="0" y="1056"/>
                  </a:moveTo>
                  <a:cubicBezTo>
                    <a:pt x="88" y="1000"/>
                    <a:pt x="176" y="944"/>
                    <a:pt x="384" y="768"/>
                  </a:cubicBezTo>
                  <a:cubicBezTo>
                    <a:pt x="592" y="592"/>
                    <a:pt x="1104" y="128"/>
                    <a:pt x="1248" y="0"/>
                  </a:cubicBezTo>
                </a:path>
              </a:pathLst>
            </a:custGeom>
            <a:noFill/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1600200" y="3962520"/>
            <a:ext cx="4419720" cy="2209680"/>
            <a:chOff x="1600200" y="3962520"/>
            <a:chExt cx="4419720" cy="2209680"/>
          </a:xfrm>
        </p:grpSpPr>
        <p:sp>
          <p:nvSpPr>
            <p:cNvPr id="147" name=""/>
            <p:cNvSpPr/>
            <p:nvPr/>
          </p:nvSpPr>
          <p:spPr>
            <a:xfrm>
              <a:off x="1600200" y="5639040"/>
              <a:ext cx="2438280" cy="533160"/>
            </a:xfrm>
            <a:custGeom>
              <a:avLst/>
              <a:gdLst/>
              <a:ahLst/>
              <a:rect l="l" t="t" r="r" b="b"/>
              <a:pathLst>
                <a:path w="1536" h="336">
                  <a:moveTo>
                    <a:pt x="0" y="336"/>
                  </a:moveTo>
                  <a:cubicBezTo>
                    <a:pt x="216" y="328"/>
                    <a:pt x="432" y="320"/>
                    <a:pt x="624" y="288"/>
                  </a:cubicBezTo>
                  <a:cubicBezTo>
                    <a:pt x="816" y="256"/>
                    <a:pt x="1000" y="192"/>
                    <a:pt x="1152" y="144"/>
                  </a:cubicBezTo>
                  <a:cubicBezTo>
                    <a:pt x="1304" y="96"/>
                    <a:pt x="1472" y="24"/>
                    <a:pt x="1536" y="0"/>
                  </a:cubicBezTo>
                </a:path>
              </a:pathLst>
            </a:custGeom>
            <a:noFill/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038480" y="3962520"/>
              <a:ext cx="1981440" cy="1676520"/>
            </a:xfrm>
            <a:custGeom>
              <a:avLst/>
              <a:gdLst/>
              <a:ahLst/>
              <a:rect l="l" t="t" r="r" b="b"/>
              <a:pathLst>
                <a:path w="1248" h="1056">
                  <a:moveTo>
                    <a:pt x="0" y="1056"/>
                  </a:moveTo>
                  <a:cubicBezTo>
                    <a:pt x="88" y="1000"/>
                    <a:pt x="176" y="944"/>
                    <a:pt x="384" y="768"/>
                  </a:cubicBezTo>
                  <a:cubicBezTo>
                    <a:pt x="592" y="592"/>
                    <a:pt x="1104" y="128"/>
                    <a:pt x="1248" y="0"/>
                  </a:cubicBezTo>
                </a:path>
              </a:pathLst>
            </a:custGeom>
            <a:noFill/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FA70-76B9-431C-8EE1-C2CC012E4E11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Probabilidades de localización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1084320" y="1720800"/>
                <a:ext cx="6265800" cy="418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  <m:sup/>
                        </m:sSubSup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H</m:t>
                                </m:r>
                              </m:e>
                            </m:ba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sSub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S</m:t>
                                </m:r>
                              </m:e>
                            </m:ba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θ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</m:num>
                          <m:den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H</m:t>
                                </m:r>
                              </m:e>
                            </m:bar>
                          </m:den>
                        </m:f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h</m:t>
                                </m:r>
                              </m:num>
                              <m:den>
                                <m:r>
                                  <m:t xml:space="preserve">i</m:t>
                                </m:r>
                              </m:den>
                            </m:f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</m:num>
                          <m:den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h</m:t>
                                </m:r>
                                <m:r>
                                  <m:t xml:space="preserve">'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hi</m:t>
                                    </m:r>
                                  </m:sub>
                                </m:sSub>
                              </m:e>
                            </m:nary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H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θ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h</m:t>
                                </m:r>
                                <m:r>
                                  <m:t xml:space="preserve">'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  <m:r>
                                      <m:t xml:space="preserve">'</m:t>
                                    </m:r>
                                  </m:sub>
                                </m:sSub>
                                <m:sSub>
                                  <m:e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</m:bar>
                                  </m:e>
                                  <m:sub>
                                    <m:r>
                                      <m:t xml:space="preserve">h</m:t>
                                    </m:r>
                                    <m:r>
                                      <m:t xml:space="preserve">'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exp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θB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  <m:r>
                                      <m:t xml:space="preserve">'</m:t>
                                    </m:r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nary>
                          </m:den>
                        </m:f>
                        <m:r>
                          <m:t xml:space="preserve"> </m:t>
                        </m:r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i</m:t>
                                </m:r>
                              </m:num>
                              <m:den>
                                <m:r>
                                  <m:t xml:space="preserve">h</m:t>
                                </m:r>
                              </m:den>
                            </m:f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</m:num>
                          <m:den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'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hi</m:t>
                                    </m:r>
                                  </m:sub>
                                </m:sSub>
                              </m:e>
                            </m:nary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S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θ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'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'</m:t>
                                    </m:r>
                                  </m:sub>
                                </m:sSub>
                                <m:sSub>
                                  <m:e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</m:bar>
                                  </m:e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'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exp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θB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hi</m:t>
                                    </m:r>
                                    <m:r>
                                      <m:t xml:space="preserve">'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nary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2" name=""/>
          <p:cNvSpPr/>
          <p:nvPr/>
        </p:nvSpPr>
        <p:spPr>
          <a:xfrm>
            <a:off x="7513560" y="335160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B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454880" y="47995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Cho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0340-67E9-487B-87C2-4C44F4C4032A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Interpretación de multiplicadores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1566720" y="1701720"/>
                <a:ext cx="4757760" cy="314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sSubSup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  <m:sup/>
                        </m:sSubSup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H</m:t>
                                </m:r>
                              </m:e>
                            </m:ba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sSub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S</m:t>
                                </m:r>
                              </m:e>
                            </m:ba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θ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/>
                      <m:e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</m:bar>
                                  </m:e>
                                  <m:sub>
                                    <m:r>
                                      <m:t xml:space="preserve">h</m:t>
                                    </m:r>
                                  </m:sub>
                                </m:sSub>
                              </m:den>
                            </m:f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'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'</m:t>
                                    </m:r>
                                  </m:sub>
                                </m:sSub>
                                <m:sSub>
                                  <m:e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</m:bar>
                                  </m:e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'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exp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θB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hi</m:t>
                                    </m:r>
                                    <m:r>
                                      <m:t xml:space="preserve">'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nary>
                          </m:e>
                        </m:d>
                      </m:e>
                      <m:e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</m:ba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h</m:t>
                                </m:r>
                                <m:r>
                                  <m:t xml:space="preserve">'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  <m:r>
                                      <m:t xml:space="preserve">'</m:t>
                                    </m:r>
                                  </m:sub>
                                </m:sSub>
                                <m:sSub>
                                  <m:e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</m:bar>
                                  </m:e>
                                  <m:sub>
                                    <m:r>
                                      <m:t xml:space="preserve">h</m:t>
                                    </m:r>
                                    <m:r>
                                      <m:t xml:space="preserve">'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exp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θB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  <m:r>
                                      <m:t xml:space="preserve">'</m:t>
                                    </m:r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nary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7" name=""/>
          <p:cNvSpPr/>
          <p:nvPr/>
        </p:nvSpPr>
        <p:spPr>
          <a:xfrm>
            <a:off x="1349640" y="5637600"/>
            <a:ext cx="451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Corregir por factor de dispers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6324480" y="5243400"/>
                <a:ext cx="1125720" cy="13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α</m:t>
                                </m:r>
                              </m:e>
                            </m:acc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μα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e>
                      <m:e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β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μβ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μθ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3D14-BAA9-424E-914F-F0AC600ADE36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129492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MODELOS DE INTERACCIÓN ESPACIAL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Times New Roman"/>
              </a:rPr>
              <a:t>Modelo de compra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7579-0C1E-427A-9785-75EE00245C7A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Modelo de demanda por servicios de comercio 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1143000" y="1981080"/>
                <a:ext cx="701028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d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α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1143000" y="4302000"/>
                <a:ext cx="4648320" cy="103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/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  <m:sup>
                            <m:r>
                              <m:t xml:space="preserve">α</m:t>
                            </m:r>
                          </m:sup>
                        </m:sSubSup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β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k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1143000" y="3124080"/>
                <a:ext cx="3390840" cy="112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a</m:t>
                    </m:r>
                    <m:r>
                      <m:t xml:space="preserve"> 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4267080" y="5562720"/>
                <a:ext cx="2108160" cy="101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2094120" y="5790240"/>
            <a:ext cx="148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Result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6226-3569-4106-B1E8-014CAD60D525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8cf4ea"/>
                </a:solidFill>
                <a:latin typeface="Times New Roman"/>
              </a:rPr>
              <a:t>Interpretación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2286000" y="3171960"/>
                <a:ext cx="4000680" cy="94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  <m:sup>
                            <m:r>
                              <m:t xml:space="preserve">α</m:t>
                            </m:r>
                          </m:sup>
                        </m:sSubSup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β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k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70" name=""/>
          <p:cNvSpPr/>
          <p:nvPr/>
        </p:nvSpPr>
        <p:spPr>
          <a:xfrm>
            <a:off x="1415880" y="2132640"/>
            <a:ext cx="75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W:</a:t>
            </a: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 medida de atractividad, tamaño del centro comerc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323080" y="4190040"/>
            <a:ext cx="331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Medida de accesibil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276200" y="5150160"/>
            <a:ext cx="710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¿Cuáles el comportamiento implícito de los consumidores en este modelo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CC76-3AE6-4747-98D4-29B7B1B0A9E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129492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MODELOS DE INTERACCIÓN ESPACIAL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MODELO DE LOWRY 196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0082-AA9D-463C-94F6-3414CAA34D0A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8cf4ea"/>
                </a:solidFill>
                <a:latin typeface="Times New Roman"/>
              </a:rPr>
              <a:t>Versión desagregada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1143000" y="1905120"/>
                <a:ext cx="7677000" cy="86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ghwk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gw</m:t>
                        </m:r>
                      </m:sup>
                    </m:sSubSup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gw</m:t>
                        </m:r>
                      </m:sup>
                    </m:sSubSup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w</m:t>
                        </m:r>
                      </m:sup>
                    </m:sSubSup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ghw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β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gw</m:t>
                            </m:r>
                          </m:sup>
                        </m:sSup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5" name=""/>
          <p:cNvSpPr/>
          <p:nvPr/>
        </p:nvSpPr>
        <p:spPr>
          <a:xfrm>
            <a:off x="1099800" y="2818440"/>
            <a:ext cx="4812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g: tipo de bienes, w: tipos de consumidor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k: modo transporte, h: tipo de tiend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2133720" y="4952880"/>
                <a:ext cx="4724280" cy="124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gw</m:t>
                        </m:r>
                      </m:sup>
                    </m:sSub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hk</m:t>
                                </m:r>
                              </m:sub>
                              <m:sup/>
                              <m:e>
                                <m:sSubSup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ghw</m:t>
                                    </m:r>
                                  </m:sup>
                                </m:sSubSup>
                                <m:r>
                                  <m:rPr>
                                    <m:lit/>
                                    <m:nor/>
                                  </m:rPr>
                                  <m:t xml:space="preserve">exp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β</m:t>
                                        </m:r>
                                      </m:e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gw</m:t>
                                        </m:r>
                                      </m:sup>
                                    </m:sSup>
                                    <m:sSubSup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ij</m:t>
                                        </m:r>
                                      </m:sub>
                                      <m:sup>
                                        <m:r>
                                          <m:t xml:space="preserve">k</m:t>
                                        </m:r>
                                      </m:sup>
                                    </m:sSubSup>
                                  </m:e>
                                </m:d>
                              </m:e>
                            </m:nary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3429000" y="3679920"/>
                <a:ext cx="2971800" cy="98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jhk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ghwk</m:t>
                            </m:r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gw</m:t>
                            </m:r>
                          </m:sup>
                        </m:sSubSup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w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78" name=""/>
          <p:cNvSpPr/>
          <p:nvPr/>
        </p:nvSpPr>
        <p:spPr>
          <a:xfrm>
            <a:off x="1239840" y="38851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Restric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B799-982A-4CDC-9A56-C072670B899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8cf4ea"/>
                </a:solidFill>
                <a:latin typeface="Times New Roman"/>
              </a:rPr>
              <a:t>Factores de atracción: </a:t>
            </a:r>
            <a:r>
              <a:rPr b="0" i="1" lang="es-CL" sz="4400" spc="-1" strike="noStrike">
                <a:solidFill>
                  <a:srgbClr val="8cf4ea"/>
                </a:solidFill>
                <a:latin typeface="Times New Roman"/>
              </a:rPr>
              <a:t>W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1155600" y="1798560"/>
          <a:ext cx="7378920" cy="1782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5600" y="1798560"/>
                    <a:ext cx="7378920" cy="17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2438280" y="4038480"/>
                <a:ext cx="4597560" cy="98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ghw</m:t>
                        </m:r>
                      </m:sup>
                    </m:sSub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g</m:t>
                                </m:r>
                                <m:r>
                                  <m:t xml:space="preserve">'</m:t>
                                </m:r>
                                <m:r>
                                  <m:t xml:space="preserve">≥</m:t>
                                </m:r>
                                <m:r>
                                  <m:t xml:space="preserve">g</m:t>
                                </m:r>
                              </m:sub>
                              <m:sup/>
                              <m:e>
                                <m:sSubSup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>
                                    <m:r>
                                      <m:t xml:space="preserve">g</m:t>
                                    </m:r>
                                    <m:r>
                                      <m:t xml:space="preserve">'</m:t>
                                    </m:r>
                                    <m:r>
                                      <m:t xml:space="preserve">h</m:t>
                                    </m:r>
                                  </m:sup>
                                </m:sSubSup>
                              </m:e>
                            </m:nary>
                          </m:e>
                        </m:d>
                      </m:e>
                      <m:sup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w</m:t>
                            </m:r>
                          </m:sup>
                        </m:sSubSup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Sup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gh</m:t>
                                </m:r>
                              </m:sup>
                            </m:sSubSup>
                          </m:e>
                        </m:d>
                      </m:e>
                      <m:sup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w</m:t>
                            </m:r>
                          </m:sup>
                        </m:sSubSup>
                      </m:sup>
                    </m:sSup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γ</m:t>
                            </m:r>
                          </m:e>
                          <m:sup>
                            <m:r>
                              <m:t xml:space="preserve">w</m:t>
                            </m:r>
                          </m:sup>
                        </m:sSup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6A4E-91D1-40DD-858B-A90494F97B3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129492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MODELOS DE INTERACCIÓN ESPACIAL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Times New Roman"/>
              </a:rPr>
              <a:t>Modelo de localización de centros comercial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Times New Roman"/>
              </a:rPr>
              <a:t>Modelo de DISEÑ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65DC-D2BB-492C-9D55-01DE2BD681EF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8cf4ea"/>
                </a:solidFill>
                <a:latin typeface="Times New Roman"/>
              </a:rPr>
              <a:t>Cálculo de tamaño y localización óptima de centros comerciales 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166760" y="2102040"/>
            <a:ext cx="729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Hipótesis: Los comerciantes invierten en infraestructura si obtienen gananci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2933640" y="3160800"/>
                <a:ext cx="331488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2808360" y="4419720"/>
                <a:ext cx="3298680" cy="89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∈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3276720" y="5746680"/>
                <a:ext cx="242568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6537240" y="4648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6567480" y="4454640"/>
                <a:ext cx="205596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∈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es un parámetro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: es tiempo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2" name=""/>
          <p:cNvSpPr/>
          <p:nvPr/>
        </p:nvSpPr>
        <p:spPr>
          <a:xfrm>
            <a:off x="6124680" y="5866200"/>
            <a:ext cx="286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Condición equilibr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788160" y="3437280"/>
            <a:ext cx="212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1" i="1" lang="es-CL" sz="2000" spc="-1" strike="noStrike" baseline="-25000">
                <a:solidFill>
                  <a:srgbClr val="ffffff"/>
                </a:solidFill>
                <a:latin typeface="Times New Roman"/>
              </a:rPr>
              <a:t>j </a:t>
            </a: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: costo por m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DA0D-C709-489E-AD30-C6D6A6C4F48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8cf4ea"/>
                </a:solidFill>
                <a:latin typeface="Times New Roman"/>
              </a:rPr>
              <a:t>Análisis dinámic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2682720" y="2057400"/>
                <a:ext cx="397512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α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2682720" y="3048120"/>
                <a:ext cx="381024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/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  <m:sup>
                            <m:r>
                              <m:t xml:space="preserve">α</m:t>
                            </m:r>
                          </m:sup>
                        </m:sSubSup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β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k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2743200" y="4157640"/>
                <a:ext cx="187308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2749680" y="5027760"/>
                <a:ext cx="319392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 </m:t>
                        </m:r>
                      </m:e>
                    </m:nary>
                    <m:r>
                      <m:t xml:space="preserve">∀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zona</m:t>
                    </m:r>
                    <m:r>
                      <m:t xml:space="preserve"> 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1687320" y="213264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620720" y="42660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77960" y="51804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3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A803-D6A8-4DD7-8BFA-1951A6CEB97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8cf4ea"/>
                </a:solidFill>
                <a:latin typeface="Times New Roman"/>
              </a:rPr>
              <a:t>Análisis dinámico... cont.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2362320" y="2133720"/>
                <a:ext cx="4311360" cy="95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f>
                          <m:num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  <m:sup>
                                <m:r>
                                  <m:t xml:space="preserve">α</m:t>
                                </m:r>
                              </m:sup>
                            </m:sSubSup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βC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</m:e>
                            </m:d>
                          </m:num>
                          <m:den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Sup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  <m:sup>
                                    <m:r>
                                      <m:t xml:space="preserve">α</m:t>
                                    </m:r>
                                  </m:sup>
                                </m:sSubSup>
                                <m:r>
                                  <m:rPr>
                                    <m:lit/>
                                    <m:nor/>
                                  </m:rPr>
                                  <m:t xml:space="preserve">exp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βC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ik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den>
                        </m:f>
                      </m:e>
                    </m:nary>
                    <m:r>
                      <m:t xml:space="preserve"> </m:t>
                    </m:r>
                    <m:sSub>
                      <m:e>
                        <m:r>
                          <m:t xml:space="preserve">∀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1523880" y="3962520"/>
                <a:ext cx="6553440" cy="12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⇒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∈</m:t>
                    </m:r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sSubSup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>
                                    <m:r>
                                      <m:t xml:space="preserve">α</m:t>
                                    </m:r>
                                  </m:sup>
                                </m:sSubSup>
                                <m:r>
                                  <m:rPr>
                                    <m:lit/>
                                    <m:nor/>
                                  </m:rPr>
                                  <m:t xml:space="preserve">exp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βC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ij</m:t>
                                        </m:r>
                                      </m:sub>
                                    </m:sSub>
                                  </m:e>
                                </m:d>
                              </m:num>
                              <m:den>
                                <m:nary>
                                  <m:naryPr>
                                    <m:chr m:val="∑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Sup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α</m:t>
                                        </m:r>
                                      </m:sup>
                                    </m:sSub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exp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−</m:t>
                                        </m:r>
                                        <m:sSub>
                                          <m:e>
                                            <m:r>
                                              <m:t xml:space="preserve">βC</m:t>
                                            </m:r>
                                          </m:e>
                                          <m:sub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ij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nary>
                              </m:den>
                            </m:f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2362320" y="5665680"/>
                <a:ext cx="420372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punto fijo en 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D2DE-6287-4EA3-B488-ED0BB14744A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6" name=""/>
          <p:cNvGraphicFramePr/>
          <p:nvPr/>
        </p:nvGraphicFramePr>
        <p:xfrm>
          <a:off x="3860640" y="457200"/>
          <a:ext cx="4597560" cy="5918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60640" y="457200"/>
                    <a:ext cx="4597560" cy="591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4903920" y="787320"/>
                <a:ext cx="353880" cy="17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6427800" y="774720"/>
                <a:ext cx="353880" cy="17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7881840" y="762120"/>
                <a:ext cx="341280" cy="17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380880" y="687240"/>
                <a:ext cx="685800" cy="34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380880" y="2109960"/>
                <a:ext cx="6858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380880" y="3352680"/>
                <a:ext cx="685800" cy="3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4" name=""/>
          <p:cNvSpPr/>
          <p:nvPr/>
        </p:nvSpPr>
        <p:spPr>
          <a:xfrm>
            <a:off x="1222560" y="713160"/>
            <a:ext cx="18615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</a:rPr>
              <a:t>Una solución </a:t>
            </a:r>
            <a:r>
              <a:rPr b="0" i="1" lang="es-CL" sz="16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i="1" lang="es-CL" sz="16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</a:rPr>
              <a:t>&gt;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089000" y="2039400"/>
            <a:ext cx="279720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</a:rPr>
              <a:t>Si no hay intersección 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s-CL" sz="16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i="1" lang="es-CL" sz="1600" spc="-1" strike="noStrike" baseline="-25000">
                <a:solidFill>
                  <a:srgbClr val="ffffff"/>
                </a:solidFill>
                <a:latin typeface="Arial"/>
              </a:rPr>
              <a:t>j </a:t>
            </a:r>
            <a:r>
              <a:rPr b="0" lang="es-CL" sz="1600" spc="-1" strike="noStrike">
                <a:solidFill>
                  <a:srgbClr val="ffffff"/>
                </a:solidFill>
                <a:latin typeface="Symbol"/>
                <a:ea typeface="Symbol"/>
              </a:rPr>
              <a:t>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</a:rPr>
              <a:t>0, entonces </a:t>
            </a:r>
            <a:r>
              <a:rPr b="0" i="1" lang="es-CL" sz="16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i="1" lang="es-CL" sz="16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0" i="1" lang="es-CL" sz="1600" spc="-1" strike="noStrike">
                <a:solidFill>
                  <a:srgbClr val="ffffff"/>
                </a:solidFill>
                <a:latin typeface="Arial"/>
              </a:rPr>
              <a:t>=0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127160" y="3352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143000" y="3265920"/>
            <a:ext cx="279720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</a:rPr>
              <a:t>Tres cas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</a:rPr>
              <a:t>i) </a:t>
            </a:r>
            <a:r>
              <a:rPr b="0" i="1" lang="es-CL" sz="16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i="1" lang="es-CL" sz="16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</a:rPr>
              <a:t> corta la función de cos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</a:rPr>
              <a:t>ii) es solo tangen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</a:rPr>
              <a:t>iii) no se toca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Observación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</a:rPr>
              <a:t>: se puede pasar de caso (I) a caso (III) cambiando cosot de cosntrucción </a:t>
            </a:r>
            <a:r>
              <a:rPr b="0" i="1" lang="es-CL" sz="16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</a:rPr>
              <a:t>, pasando abruptamente de W&gt;0 a W=0. Esta es la base de la teoría de la catástrof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202720" y="1091160"/>
            <a:ext cx="3956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9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CL" sz="9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i="1" lang="es-CL" sz="9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s-CL" sz="9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726600" y="1078560"/>
            <a:ext cx="3956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9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CL" sz="9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i="1" lang="es-CL" sz="9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s-CL" sz="9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8039520" y="1002240"/>
            <a:ext cx="3956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9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CL" sz="9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i="1" lang="es-CL" sz="9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s-CL" sz="9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556680" y="2732760"/>
            <a:ext cx="3956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9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CL" sz="9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i="1" lang="es-CL" sz="9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s-CL" sz="9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058600" y="2809080"/>
            <a:ext cx="3956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9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CL" sz="9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i="1" lang="es-CL" sz="9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s-CL" sz="9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058600" y="4485240"/>
            <a:ext cx="3956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9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CL" sz="9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i="1" lang="es-CL" sz="9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s-CL" sz="9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7F34-5B5D-4ECF-82BD-67C92532E12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8cf4ea"/>
                </a:solidFill>
                <a:latin typeface="Times New Roman"/>
              </a:rPr>
              <a:t>Equilibrio: catástrofe  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762120" y="2332080"/>
          <a:ext cx="8001000" cy="3127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332080"/>
                    <a:ext cx="8001000" cy="312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FDDA-0DD9-41C4-9730-F3DAFB2E9F3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129492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MODELOS DE INTERACCIÓN ESPACIAL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Times New Roman"/>
              </a:rPr>
              <a:t>Modelo de Insumo Product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D250-09FC-4210-8AB6-B6F9A09848CD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8cf4ea"/>
                </a:solidFill>
                <a:latin typeface="Times New Roman"/>
              </a:rPr>
              <a:t>Teoría de Producción y Multiplicador (Keynes,1936)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9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Producción (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) depende de la demanda futura (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), la que no es función de los precios sino del ingreso.(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Y),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el que depende  de la inversión (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)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Sistema cerrado en equilibrio general: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Y=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Consumidores: consumir o ahorrar, productores: producir o inverti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4127400" y="3800520"/>
                <a:ext cx="212112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[</m:t>
                    </m:r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52F9-389B-4C74-914B-06D8ADD6B37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85800" y="76320"/>
                <a:ext cx="5689440" cy="655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H</m:t>
                            </m:r>
                          </m:sup>
                        </m:sSubSup>
                        <m:r>
                          <m:t xml:space="preserve">=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U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S</m:t>
                            </m:r>
                          </m:sup>
                        </m:sSubSup>
                      </m:e>
                      <m:e>
                        <m:sSubSup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/>
                        </m:sSubSup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S</m:t>
                            </m:r>
                          </m:sup>
                        </m:sSubSup>
                      </m:e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∗</m:t>
                            </m:r>
                          </m:num>
                          <m:den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j</m:t>
                                </m:r>
                              </m:sub>
                              <m:sup/>
                              <m:e>
                                <m:sSub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/>
                                </m:sSubSup>
                              </m:e>
                            </m:nary>
                          </m:den>
                        </m:f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g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</m:sSubSup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μ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P</m:t>
                            </m:r>
                            <m:r>
                              <m:t xml:space="preserve">∗</m:t>
                            </m:r>
                            <m:r>
                              <m:t xml:space="preserve"> </m:t>
                            </m:r>
                            <m:r>
                              <m:t xml:space="preserve">g</m:t>
                            </m:r>
                            <m:r>
                              <m:t xml:space="preserve">=</m:t>
                            </m:r>
                            <m:r>
                              <m:t xml:space="preserve">P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*/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/>
                              <m:e>
                                <m:sSub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/>
                                </m:sSubSup>
                                <m:r>
                                  <m:rPr>
                                    <m:lit/>
                                    <m:nor/>
                                  </m:rPr>
                                  <m:t xml:space="preserve">exp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μc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nary>
                          </m:e>
                        </m:nary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≤</m:t>
                        </m:r>
                        <m:sSubSup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H</m:t>
                            </m:r>
                          </m:sup>
                        </m:sSubSup>
                        <m:sSubSup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H</m:t>
                            </m:r>
                          </m:sup>
                        </m:sSubSup>
                      </m:e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S</m:t>
                            </m:r>
                            <m:r>
                              <m:t xml:space="preserve">∗</m:t>
                            </m:r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P</m:t>
                                </m:r>
                              </m:e>
                              <m:sup/>
                            </m:sSup>
                          </m:sup>
                        </m:sSup>
                        <m:sSubSup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S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b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β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E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  <m:sup/>
                            </m:sSubSup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  <m:sup>
                                <m:r>
                                  <m:t xml:space="preserve">S</m:t>
                                </m:r>
                              </m:sup>
                            </m:sSubSup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S</m:t>
                                </m:r>
                              </m:sup>
                            </m:sSup>
                          </m:e>
                        </m:nary>
                      </m:e>
                      <m:e>
                        <m:sSubSup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S</m:t>
                            </m:r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E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S</m:t>
                            </m:r>
                          </m:sup>
                        </m:sSubSup>
                      </m:e>
                      <m:e>
                        <m:r>
                          <m:t xml:space="preserve">P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xógeno</m:t>
                        </m:r>
                        <m:r>
                          <m:t xml:space="preserve"> </m:t>
                        </m:r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fE</m:t>
                                </m:r>
                              </m:e>
                              <m:sup>
                                <m:r>
                                  <m:t xml:space="preserve">B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fa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7100640" y="15120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Suel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164000" y="60840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Emple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831360" y="182772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Dist. Pobl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717600" y="3656520"/>
            <a:ext cx="242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Empleo Servici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564240" y="5333040"/>
            <a:ext cx="265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Uso suelo Servici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A2C7-4999-47B4-8FF0-8A1B9F52017F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80800" y="45684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Teoría de Producción y Multiplicador...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1371600" y="2057400"/>
          <a:ext cx="7016760" cy="4130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057400"/>
                    <a:ext cx="7016760" cy="413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5" name=""/>
          <p:cNvSpPr/>
          <p:nvPr/>
        </p:nvSpPr>
        <p:spPr>
          <a:xfrm>
            <a:off x="2625120" y="6171120"/>
            <a:ext cx="385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Y=C+S       P=C+I            S=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257800" y="6400800"/>
            <a:ext cx="4572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A02B-684E-4968-8E4F-8B4CDC208DF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1333440" y="15228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Teoría de Producción y Multiplicador...</a:t>
            </a:r>
            <a:br>
              <a:rPr sz="3600"/>
            </a:br>
            <a:r>
              <a:rPr b="0" lang="es-CL" sz="2800" spc="-1" strike="noStrike">
                <a:solidFill>
                  <a:srgbClr val="8cf4ea"/>
                </a:solidFill>
                <a:latin typeface="Times New Roman"/>
              </a:rPr>
              <a:t>Propensión al consumo (CC) y al ahorro (S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1066680" y="1309680"/>
          <a:ext cx="6159600" cy="5000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309680"/>
                    <a:ext cx="6159600" cy="500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" name=""/>
          <p:cNvSpPr/>
          <p:nvPr/>
        </p:nvSpPr>
        <p:spPr>
          <a:xfrm>
            <a:off x="5562720" y="1373400"/>
            <a:ext cx="3581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: sólo consumo (pto de quiebr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: equilibri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000000"/>
                </a:solidFill>
                <a:latin typeface="Times New Roman"/>
              </a:rPr>
              <a:t>E’</a:t>
            </a: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: aumenta </a:t>
            </a:r>
            <a:r>
              <a:rPr b="1" i="1" lang="es-CL" sz="1800" spc="-1" strike="noStrike">
                <a:solidFill>
                  <a:srgbClr val="000000"/>
                </a:solidFill>
                <a:latin typeface="Times New Roman"/>
              </a:rPr>
              <a:t>S, </a:t>
            </a: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equlibrio se mueve a la izquierda, aumenta </a:t>
            </a:r>
            <a:r>
              <a:rPr b="1" i="1" lang="es-CL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 equlibriuo se mueva a decrecha, en este caso ingreso aumenta más que la inversión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000000"/>
                </a:solidFill>
                <a:latin typeface="Times New Roman"/>
              </a:rPr>
              <a:t>efecto multiplicativ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7BF8-7151-4D88-97AC-9F51071407C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1333440" y="15228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Modelo de Insumo Product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1560600" y="2050920"/>
          <a:ext cx="5848200" cy="2619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60600" y="2050920"/>
                    <a:ext cx="5848200" cy="26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4" name=""/>
          <p:cNvSpPr/>
          <p:nvPr/>
        </p:nvSpPr>
        <p:spPr>
          <a:xfrm>
            <a:off x="4114800" y="2044800"/>
            <a:ext cx="0" cy="236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58000" y="2057400"/>
            <a:ext cx="0" cy="236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E566-0C64-4F6F-914F-EC3E3A1AE32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1333440" y="15228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Modelo de Insumo Product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636920" y="1599120"/>
            <a:ext cx="629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es-CL" sz="2400" spc="-1" strike="noStrike" baseline="30000">
                <a:solidFill>
                  <a:srgbClr val="ffffff"/>
                </a:solidFill>
                <a:latin typeface="Times New Roman"/>
              </a:rPr>
              <a:t>mn : cantidad de producto del sector </a:t>
            </a:r>
            <a:r>
              <a:rPr b="1" i="1" lang="es-CL" sz="2400" spc="-1" strike="noStrike" baseline="30000">
                <a:solidFill>
                  <a:srgbClr val="ffffff"/>
                </a:solidFill>
                <a:latin typeface="Times New Roman"/>
              </a:rPr>
              <a:t>m</a:t>
            </a:r>
            <a:r>
              <a:rPr b="1" lang="es-CL" sz="2400" spc="-1" strike="noStrike" baseline="30000">
                <a:solidFill>
                  <a:srgbClr val="ffffff"/>
                </a:solidFill>
                <a:latin typeface="Times New Roman"/>
              </a:rPr>
              <a:t> requerido para producción de sector </a:t>
            </a:r>
            <a:r>
              <a:rPr b="1" i="1" lang="es-CL" sz="2400" spc="-1" strike="noStrike" baseline="30000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2209680" y="2362320"/>
                <a:ext cx="4813560" cy="7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n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G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2457360" y="3276720"/>
                <a:ext cx="1886040" cy="73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W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n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4641840" y="3352680"/>
                <a:ext cx="442584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G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2495520" y="4267080"/>
                <a:ext cx="314316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W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2514600" y="5257800"/>
                <a:ext cx="563868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m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n</m:t>
                            </m:r>
                          </m:sub>
                        </m:sSub>
                      </m:e>
                    </m:nary>
                    <m:r>
                      <m:t xml:space="preserve">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m</m:t>
                        </m:r>
                      </m:sub>
                      <m:sup/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n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3" name=""/>
          <p:cNvSpPr/>
          <p:nvPr/>
        </p:nvSpPr>
        <p:spPr>
          <a:xfrm>
            <a:off x="299520" y="2634480"/>
            <a:ext cx="129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Times New Roman"/>
              </a:rPr>
              <a:t>Produc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58840" y="3276000"/>
            <a:ext cx="210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Times New Roman"/>
              </a:rPr>
              <a:t>Demandas intermedia y fin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1222-A9D8-4E39-8B69-6AE951565C8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1333440" y="15228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Modelo de Insumo Product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829520" y="1218240"/>
            <a:ext cx="596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s-CL" sz="2400" spc="-1" strike="noStrike" baseline="30000">
                <a:solidFill>
                  <a:srgbClr val="ffffff"/>
                </a:solidFill>
                <a:latin typeface="Times New Roman"/>
              </a:rPr>
              <a:t>mn : Coeficiente técnico estable en el corto plazo, cambia con la tecnologí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2438280" y="1828800"/>
                <a:ext cx="4146840" cy="99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mn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mn</m:t>
                        </m:r>
                      </m:sup>
                    </m:sSup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⇒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mn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n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2895480" y="2971800"/>
                <a:ext cx="340380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n</m:t>
                            </m:r>
                          </m:sup>
                        </m:sSup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838080" y="3962520"/>
                <a:ext cx="8172720" cy="95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n</m:t>
                            </m:r>
                          </m:sup>
                        </m:sSup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r>
                          <m:t xml:space="preserve">⇒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n</m:t>
                            </m:r>
                          </m:sub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δ</m:t>
                                    </m:r>
                                  </m:e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mn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a</m:t>
                                    </m:r>
                                  </m:e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mn</m:t>
                                    </m:r>
                                  </m:sup>
                                </m:sSup>
                              </m:e>
                            </m:d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1066680" y="5181480"/>
                <a:ext cx="506124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e>
                    </m:d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Y</m:t>
                    </m:r>
                    <m:r>
                      <m:t xml:space="preserve">⇒</m:t>
                    </m:r>
                    <m:r>
                      <m:t xml:space="preserve">X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e>
                    </m:d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1" name=""/>
          <p:cNvSpPr/>
          <p:nvPr/>
        </p:nvSpPr>
        <p:spPr>
          <a:xfrm>
            <a:off x="5257800" y="5943600"/>
            <a:ext cx="1905120" cy="762120"/>
          </a:xfrm>
          <a:prstGeom prst="wedgeRectCallout">
            <a:avLst>
              <a:gd name="adj1" fmla="val -70583"/>
              <a:gd name="adj2" fmla="val -85208"/>
            </a:avLst>
          </a:prstGeom>
          <a:solidFill>
            <a:srgbClr val="d49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Matriz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multiplicativ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A005-7D87-4316-9E70-A3867E17E7A7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333440" y="15228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Modelo de Insumo Product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1447920" y="1111320"/>
          <a:ext cx="6311880" cy="5518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111320"/>
                    <a:ext cx="6311880" cy="551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51C2-0C4F-40D3-A6F9-83D8344211B9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1333440" y="15228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Modelo de Insumo Product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1765440" y="1676520"/>
          <a:ext cx="5613120" cy="3504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5440" y="1676520"/>
                    <a:ext cx="5613120" cy="35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1752480" y="5308560"/>
                <a:ext cx="3321000" cy="12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</m:e>
                        </m:nary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j</m:t>
                                </m:r>
                              </m:sub>
                              <m:sup/>
                              <m:e>
                                <m:sSub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</m:sSubSup>
                              </m:e>
                            </m:nary>
                          </m:e>
                        </m:nary>
                      </m:den>
                    </m:f>
                    <m:sSubSup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r>
                      <m:t xml:space="preserve"> </m:t>
                    </m:r>
                    <m:r>
                      <m:t xml:space="preserve">∀</m:t>
                    </m:r>
                    <m:r>
                      <m:t xml:space="preserve">i</m:t>
                    </m:r>
                    <m:r>
                      <m:t xml:space="preserve">≠</m:t>
                    </m:r>
                    <m:r>
                      <m:t xml:space="preserve">j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9" name=""/>
          <p:cNvSpPr/>
          <p:nvPr/>
        </p:nvSpPr>
        <p:spPr>
          <a:xfrm>
            <a:off x="5464080" y="5607360"/>
            <a:ext cx="337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Q: función de distancia a estim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A64A-E2BA-4983-B991-0136A08608CD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0" name=""/>
          <p:cNvGraphicFramePr/>
          <p:nvPr/>
        </p:nvGraphicFramePr>
        <p:xfrm>
          <a:off x="4344840" y="2976480"/>
          <a:ext cx="1195560" cy="365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4840" y="2976480"/>
                    <a:ext cx="1195560" cy="365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2" name=""/>
          <p:cNvGraphicFramePr/>
          <p:nvPr/>
        </p:nvGraphicFramePr>
        <p:xfrm>
          <a:off x="0" y="3276720"/>
          <a:ext cx="2063880" cy="5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3276720"/>
                    <a:ext cx="2063880" cy="5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264960" y="1523880"/>
          <a:ext cx="573120" cy="990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4960" y="1523880"/>
                    <a:ext cx="57312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76" name=""/>
          <p:cNvGrpSpPr/>
          <p:nvPr/>
        </p:nvGrpSpPr>
        <p:grpSpPr>
          <a:xfrm>
            <a:off x="6095520" y="533520"/>
            <a:ext cx="2531880" cy="3164040"/>
            <a:chOff x="6095520" y="533520"/>
            <a:chExt cx="2531880" cy="3164040"/>
          </a:xfrm>
        </p:grpSpPr>
        <p:sp>
          <p:nvSpPr>
            <p:cNvPr id="277" name=""/>
            <p:cNvSpPr/>
            <p:nvPr/>
          </p:nvSpPr>
          <p:spPr>
            <a:xfrm flipH="1" flipV="1">
              <a:off x="6635520" y="3262320"/>
              <a:ext cx="27000" cy="395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6635880" y="2719440"/>
              <a:ext cx="29880" cy="54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V="1">
              <a:off x="6173640" y="3079800"/>
              <a:ext cx="59040" cy="177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>
              <a:off x="6232680" y="2155320"/>
              <a:ext cx="417240" cy="924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V="1">
              <a:off x="6716880" y="3092040"/>
              <a:ext cx="0" cy="4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6716880" y="2563920"/>
              <a:ext cx="230040" cy="528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6946920" y="2126880"/>
              <a:ext cx="61920" cy="43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508880" y="3168720"/>
              <a:ext cx="22320" cy="415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7178760" y="3381480"/>
              <a:ext cx="25200" cy="241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7203960" y="3261960"/>
              <a:ext cx="0" cy="119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 flipV="1">
              <a:off x="7176600" y="2759040"/>
              <a:ext cx="27000" cy="503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 flipV="1">
              <a:off x="7148160" y="2541600"/>
              <a:ext cx="28440" cy="217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 flipV="1">
              <a:off x="7116840" y="2172960"/>
              <a:ext cx="31680" cy="368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480440" y="2862360"/>
              <a:ext cx="28440" cy="31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 flipV="1">
              <a:off x="7445160" y="2600280"/>
              <a:ext cx="36360" cy="27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 flipV="1">
              <a:off x="7236000" y="2544480"/>
              <a:ext cx="33120" cy="230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 flipV="1">
              <a:off x="7232400" y="2492280"/>
              <a:ext cx="3240" cy="52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flipH="1" flipV="1">
              <a:off x="7209000" y="2422440"/>
              <a:ext cx="23760" cy="6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flipV="1">
              <a:off x="7209000" y="2343240"/>
              <a:ext cx="0" cy="79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 flipV="1">
              <a:off x="7191000" y="2169720"/>
              <a:ext cx="17640" cy="17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flipH="1">
              <a:off x="7661160" y="2600280"/>
              <a:ext cx="5040" cy="60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661160" y="2660760"/>
              <a:ext cx="0" cy="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7653240" y="2746440"/>
              <a:ext cx="7920" cy="4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653240" y="2795760"/>
              <a:ext cx="1800" cy="4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H="1" flipV="1">
              <a:off x="7612200" y="2692080"/>
              <a:ext cx="46080" cy="57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 flipV="1">
              <a:off x="7569000" y="2601720"/>
              <a:ext cx="42840" cy="90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 flipV="1">
              <a:off x="7493040" y="2319120"/>
              <a:ext cx="69840" cy="28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 flipV="1">
              <a:off x="6360840" y="2230560"/>
              <a:ext cx="6120" cy="164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 flipV="1">
              <a:off x="6357600" y="2104560"/>
              <a:ext cx="3240" cy="125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6357960" y="2044440"/>
              <a:ext cx="0" cy="60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>
              <a:off x="6357960" y="2018880"/>
              <a:ext cx="23760" cy="25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V="1">
              <a:off x="6381720" y="1798200"/>
              <a:ext cx="9684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V="1">
              <a:off x="6478560" y="1760400"/>
              <a:ext cx="3348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V="1">
              <a:off x="6512040" y="1653840"/>
              <a:ext cx="128520" cy="106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V="1">
              <a:off x="6640560" y="1649160"/>
              <a:ext cx="3960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V="1">
              <a:off x="6680160" y="1639440"/>
              <a:ext cx="13824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V="1">
              <a:off x="6410160" y="2314080"/>
              <a:ext cx="5040" cy="3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6415200" y="2235240"/>
              <a:ext cx="58680" cy="79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6473880" y="2066760"/>
              <a:ext cx="36360" cy="168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6510240" y="1995480"/>
              <a:ext cx="65160" cy="7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6575400" y="1878120"/>
              <a:ext cx="138240" cy="117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 flipV="1">
              <a:off x="6585120" y="2062080"/>
              <a:ext cx="80640" cy="52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 flipV="1">
              <a:off x="6572160" y="2047680"/>
              <a:ext cx="12960" cy="14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6572160" y="2001960"/>
              <a:ext cx="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 flipV="1">
              <a:off x="6565680" y="1927080"/>
              <a:ext cx="6120" cy="74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V="1">
              <a:off x="6566040" y="1798200"/>
              <a:ext cx="9360" cy="128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6575400" y="1712880"/>
              <a:ext cx="104760" cy="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6680160" y="1701360"/>
              <a:ext cx="30240" cy="11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V="1">
              <a:off x="6710400" y="1641240"/>
              <a:ext cx="68400" cy="60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6778800" y="1611360"/>
              <a:ext cx="50760" cy="30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>
              <a:off x="6829560" y="1596960"/>
              <a:ext cx="7920" cy="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V="1">
              <a:off x="6837480" y="1565280"/>
              <a:ext cx="144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7356240" y="2007720"/>
              <a:ext cx="142920" cy="32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 flipV="1">
              <a:off x="7106760" y="2044800"/>
              <a:ext cx="9720" cy="13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 flipV="1">
              <a:off x="7087680" y="1838160"/>
              <a:ext cx="19080" cy="206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V="1">
              <a:off x="6799320" y="1774800"/>
              <a:ext cx="52200" cy="168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V="1">
              <a:off x="6716880" y="1844280"/>
              <a:ext cx="83880" cy="33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6800760" y="1831680"/>
              <a:ext cx="9864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6899400" y="1824120"/>
              <a:ext cx="10152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H="1" flipV="1">
              <a:off x="7005600" y="1814400"/>
              <a:ext cx="6480" cy="12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7005600" y="1552320"/>
              <a:ext cx="74520" cy="261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850080" y="1639800"/>
              <a:ext cx="4140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V="1">
              <a:off x="6891480" y="1623600"/>
              <a:ext cx="90360" cy="19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H="1" flipV="1">
              <a:off x="6095520" y="1511280"/>
              <a:ext cx="127080" cy="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H="1" flipV="1">
              <a:off x="6572160" y="1491840"/>
              <a:ext cx="7920" cy="11124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 flipV="1">
              <a:off x="6675480" y="533520"/>
              <a:ext cx="3024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>
              <a:off x="6776640" y="635040"/>
              <a:ext cx="1800" cy="19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777000" y="654120"/>
              <a:ext cx="9720" cy="52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786720" y="706320"/>
              <a:ext cx="27000" cy="68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813720" y="774720"/>
              <a:ext cx="144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815160" y="801720"/>
              <a:ext cx="3024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845400" y="860400"/>
              <a:ext cx="4680" cy="4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850080" y="903240"/>
              <a:ext cx="15840" cy="54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865920" y="957240"/>
              <a:ext cx="144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867360" y="963720"/>
              <a:ext cx="49320" cy="122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916680" y="1085760"/>
              <a:ext cx="20520" cy="6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937200" y="1155600"/>
              <a:ext cx="12960" cy="90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H="1">
              <a:off x="6881760" y="1246320"/>
              <a:ext cx="68400" cy="264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845400" y="863640"/>
              <a:ext cx="34920" cy="74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880320" y="938160"/>
              <a:ext cx="3312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913440" y="996840"/>
              <a:ext cx="47880" cy="76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61320" y="1073160"/>
              <a:ext cx="33120" cy="160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994440" y="1233360"/>
              <a:ext cx="19080" cy="10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885000" y="1239840"/>
              <a:ext cx="6336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948360" y="1231920"/>
              <a:ext cx="4608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994440" y="1231920"/>
              <a:ext cx="10008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H="1">
              <a:off x="7098840" y="1015920"/>
              <a:ext cx="63720" cy="147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H="1">
              <a:off x="7097760" y="1163520"/>
              <a:ext cx="1440" cy="19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97760" y="1182600"/>
              <a:ext cx="0" cy="17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7095600" y="120024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H="1">
              <a:off x="7094520" y="120024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094520" y="120024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094520" y="1206360"/>
              <a:ext cx="11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094520" y="1206360"/>
              <a:ext cx="0" cy="5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7093080" y="121140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093080" y="1211400"/>
              <a:ext cx="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H="1">
              <a:off x="7089480" y="122076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089840" y="1220760"/>
              <a:ext cx="0" cy="17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089840" y="123840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093080" y="1238400"/>
              <a:ext cx="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093080" y="12412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094520" y="1241280"/>
              <a:ext cx="1440" cy="12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095960" y="1254240"/>
              <a:ext cx="0" cy="20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H="1">
              <a:off x="6910200" y="1274760"/>
              <a:ext cx="185400" cy="23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H="1">
              <a:off x="7094520" y="561960"/>
              <a:ext cx="54000" cy="25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072200" y="1055520"/>
              <a:ext cx="0" cy="82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074000" y="1130400"/>
              <a:ext cx="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>
              <a:off x="7059240" y="1182600"/>
              <a:ext cx="11160" cy="6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flipH="1">
              <a:off x="7021440" y="1249200"/>
              <a:ext cx="3816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V="1">
              <a:off x="7164360" y="1007640"/>
              <a:ext cx="6336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227720" y="1008000"/>
              <a:ext cx="504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7232760" y="101448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7232760" y="101916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7236000" y="1019160"/>
              <a:ext cx="14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237440" y="1022400"/>
              <a:ext cx="28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237440" y="10224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237440" y="10256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7237440" y="10256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237440" y="1025640"/>
              <a:ext cx="46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242120" y="102708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242120" y="103176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243920" y="10317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243920" y="1035000"/>
              <a:ext cx="14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245360" y="1036800"/>
              <a:ext cx="20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245360" y="103680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45360" y="104292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246800" y="1042920"/>
              <a:ext cx="0" cy="1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H="1">
              <a:off x="7245360" y="105876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245360" y="1058760"/>
              <a:ext cx="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245360" y="10652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flipH="1">
              <a:off x="7243920" y="10666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243920" y="1066680"/>
              <a:ext cx="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>
              <a:off x="7241760" y="1073160"/>
              <a:ext cx="180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242120" y="1076400"/>
              <a:ext cx="20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H="1">
              <a:off x="7237080" y="107640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237440" y="107640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237440" y="1081080"/>
              <a:ext cx="12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237440" y="108108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H="1">
              <a:off x="7236000" y="108432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236000" y="108432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H="1">
              <a:off x="7232400" y="108756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232760" y="10875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flipH="1">
              <a:off x="7227720" y="1089000"/>
              <a:ext cx="504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7227720" y="1095480"/>
              <a:ext cx="28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 flipH="1" flipV="1">
              <a:off x="7221240" y="1091880"/>
              <a:ext cx="612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V="1">
              <a:off x="7221600" y="109008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V="1">
              <a:off x="7221600" y="10890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215120" y="1089000"/>
              <a:ext cx="6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215120" y="10890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flipH="1">
              <a:off x="7210080" y="109044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H="1">
              <a:off x="7209000" y="1090440"/>
              <a:ext cx="14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209000" y="109224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7205400" y="109548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205760" y="109548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7203600" y="110160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203960" y="1101600"/>
              <a:ext cx="17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H="1">
              <a:off x="7202520" y="110160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202520" y="1101600"/>
              <a:ext cx="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7202520" y="1109520"/>
              <a:ext cx="20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202520" y="1109520"/>
              <a:ext cx="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236000" y="1179360"/>
              <a:ext cx="21960" cy="92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flipH="1">
              <a:off x="7256160" y="1490760"/>
              <a:ext cx="9828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flipH="1" flipV="1">
              <a:off x="7229160" y="1494000"/>
              <a:ext cx="27000" cy="23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flipH="1">
              <a:off x="7097760" y="1494000"/>
              <a:ext cx="131760" cy="45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180200" y="1387440"/>
              <a:ext cx="41400" cy="196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V="1">
              <a:off x="7221600" y="1576440"/>
              <a:ext cx="7128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155000" y="1401840"/>
              <a:ext cx="468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flipH="1">
              <a:off x="7154640" y="1452600"/>
              <a:ext cx="468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55000" y="1460520"/>
              <a:ext cx="25200" cy="142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296120" y="1577880"/>
              <a:ext cx="2052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316640" y="1584360"/>
              <a:ext cx="3348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350120" y="1593720"/>
              <a:ext cx="8100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V="1">
              <a:off x="7431120" y="1590480"/>
              <a:ext cx="3816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flipV="1">
              <a:off x="7469280" y="1584360"/>
              <a:ext cx="3636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V="1">
              <a:off x="7505640" y="1572840"/>
              <a:ext cx="6480" cy="11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512120" y="1573200"/>
              <a:ext cx="2376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V="1">
              <a:off x="7535880" y="1561680"/>
              <a:ext cx="7308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flipV="1">
              <a:off x="7608960" y="1541160"/>
              <a:ext cx="88920" cy="20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697880" y="1541520"/>
              <a:ext cx="155520" cy="17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354800" y="1486080"/>
              <a:ext cx="119160" cy="104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flipV="1">
              <a:off x="7316640" y="934560"/>
              <a:ext cx="32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flipH="1">
              <a:off x="7318440" y="934920"/>
              <a:ext cx="14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318440" y="93672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 flipV="1">
              <a:off x="7318440" y="931680"/>
              <a:ext cx="144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flipH="1">
              <a:off x="7318440" y="932040"/>
              <a:ext cx="144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8440" y="93492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flipV="1">
              <a:off x="7318440" y="932040"/>
              <a:ext cx="612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 flipV="1">
              <a:off x="7324560" y="92844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7324560" y="9252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324560" y="92556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7327800" y="909720"/>
              <a:ext cx="0" cy="1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 flipV="1">
              <a:off x="7327800" y="90756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327800" y="90792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 flipV="1">
              <a:off x="7329600" y="90648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329600" y="9064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 flipV="1">
              <a:off x="7331040" y="90288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331040" y="90324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flipV="1">
              <a:off x="7332840" y="9018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V="1">
              <a:off x="7332840" y="8996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332840" y="90000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V="1">
              <a:off x="7332840" y="899640"/>
              <a:ext cx="46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 flipV="1">
              <a:off x="7337520" y="8985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 flipV="1">
              <a:off x="7337520" y="8949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 flipV="1">
              <a:off x="7337520" y="89388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7338960" y="89388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flipV="1">
              <a:off x="7340760" y="89172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340760" y="8920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 flipV="1">
              <a:off x="7342200" y="890640"/>
              <a:ext cx="46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V="1">
              <a:off x="7346880" y="88560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7346880" y="88596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V="1">
              <a:off x="7351560" y="880920"/>
              <a:ext cx="3240" cy="5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 flipV="1">
              <a:off x="7354800" y="879480"/>
              <a:ext cx="46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 flipH="1">
              <a:off x="7354440" y="87948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 flipV="1">
              <a:off x="7354800" y="873000"/>
              <a:ext cx="468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 flipV="1">
              <a:off x="7359480" y="8715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V="1">
              <a:off x="7359480" y="8701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7359480" y="870120"/>
              <a:ext cx="8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7359480" y="87012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 flipV="1">
              <a:off x="7364520" y="861480"/>
              <a:ext cx="0" cy="8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364520" y="8618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flipV="1">
              <a:off x="7364520" y="86148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 flipV="1">
              <a:off x="7367760" y="85536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7367760" y="855720"/>
              <a:ext cx="15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 flipV="1">
              <a:off x="7367760" y="853560"/>
              <a:ext cx="28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flipV="1">
              <a:off x="7370640" y="851040"/>
              <a:ext cx="324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flipV="1">
              <a:off x="7373880" y="84744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373880" y="84780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 flipV="1">
              <a:off x="7378560" y="8442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7378560" y="844560"/>
              <a:ext cx="28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378560" y="844560"/>
              <a:ext cx="15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flipV="1">
              <a:off x="7378560" y="8409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378560" y="841320"/>
              <a:ext cx="6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 flipV="1">
              <a:off x="7385040" y="83484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 flipV="1">
              <a:off x="7385040" y="831600"/>
              <a:ext cx="46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flipV="1">
              <a:off x="7389720" y="82980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7389720" y="830160"/>
              <a:ext cx="9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 flipV="1">
              <a:off x="7389720" y="8265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 flipV="1">
              <a:off x="7389720" y="824040"/>
              <a:ext cx="180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 flipV="1">
              <a:off x="7391520" y="821880"/>
              <a:ext cx="28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flipV="1">
              <a:off x="7394400" y="8208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394400" y="8208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394400" y="822240"/>
              <a:ext cx="17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flipV="1">
              <a:off x="7394400" y="81576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 flipV="1">
              <a:off x="7394400" y="81396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flipV="1">
              <a:off x="7397640" y="812880"/>
              <a:ext cx="1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flipH="1">
              <a:off x="7397280" y="812880"/>
              <a:ext cx="1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 flipV="1">
              <a:off x="7397640" y="809280"/>
              <a:ext cx="180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 flipV="1">
              <a:off x="7399440" y="80820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400880" y="808200"/>
              <a:ext cx="22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 flipV="1">
              <a:off x="7400880" y="8060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400880" y="80640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 flipV="1">
              <a:off x="7404120" y="8028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404120" y="80316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 flipV="1">
              <a:off x="7407360" y="8017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407360" y="8017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 flipV="1">
              <a:off x="7407360" y="79812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 flipV="1">
              <a:off x="7407360" y="79704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 flipV="1">
              <a:off x="7408800" y="79488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7408800" y="7952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 flipV="1">
              <a:off x="7408800" y="79488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 flipH="1">
              <a:off x="7410600" y="79524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 flipV="1">
              <a:off x="7410600" y="790200"/>
              <a:ext cx="144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 flipV="1">
              <a:off x="7412040" y="7891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412040" y="789120"/>
              <a:ext cx="19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412040" y="78912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 flipV="1">
              <a:off x="7416720" y="78696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 flipV="1">
              <a:off x="7416720" y="785880"/>
              <a:ext cx="1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7418520" y="7858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 flipV="1">
              <a:off x="7419960" y="78372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7419960" y="784080"/>
              <a:ext cx="15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7419960" y="78408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 flipV="1">
              <a:off x="7423200" y="781200"/>
              <a:ext cx="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423200" y="78120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 flipV="1">
              <a:off x="7426440" y="7790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7426440" y="777960"/>
              <a:ext cx="46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431120" y="777960"/>
              <a:ext cx="64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437600" y="779400"/>
              <a:ext cx="10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 flipV="1">
              <a:off x="7448400" y="7779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448400" y="77796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 flipV="1">
              <a:off x="7453440" y="7743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7453440" y="774720"/>
              <a:ext cx="6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V="1">
              <a:off x="7459560" y="77112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459560" y="77148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7459560" y="77112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459560" y="771480"/>
              <a:ext cx="15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7459560" y="771480"/>
              <a:ext cx="9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7469280" y="771480"/>
              <a:ext cx="11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 flipV="1">
              <a:off x="7480440" y="7700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 flipV="1">
              <a:off x="7480440" y="766440"/>
              <a:ext cx="14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 flipV="1">
              <a:off x="7481880" y="763200"/>
              <a:ext cx="2376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V="1">
              <a:off x="7505640" y="759960"/>
              <a:ext cx="180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 flipV="1">
              <a:off x="7507440" y="75888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508880" y="75888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 flipV="1">
              <a:off x="7508880" y="758880"/>
              <a:ext cx="32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flipV="1">
              <a:off x="7512120" y="756720"/>
              <a:ext cx="158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 flipH="1">
              <a:off x="7522920" y="757080"/>
              <a:ext cx="46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 flipH="1">
              <a:off x="7516800" y="758880"/>
              <a:ext cx="64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 flipH="1" flipV="1">
              <a:off x="7515360" y="75888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flipV="1">
              <a:off x="7515360" y="756720"/>
              <a:ext cx="28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V="1">
              <a:off x="7518240" y="754200"/>
              <a:ext cx="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7518240" y="75420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7523280" y="75420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7527960" y="754200"/>
              <a:ext cx="17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7527960" y="75420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flipV="1">
              <a:off x="7532640" y="7506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7532640" y="75096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540560" y="75096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7545240" y="750960"/>
              <a:ext cx="16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7545240" y="75096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 flipV="1">
              <a:off x="7547040" y="7473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7547040" y="747720"/>
              <a:ext cx="6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 flipV="1">
              <a:off x="7553160" y="74412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7553160" y="74448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556400" y="74448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7561440" y="744480"/>
              <a:ext cx="9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flipV="1">
              <a:off x="7570800" y="7430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7570800" y="74304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7574040" y="73944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7574040" y="739800"/>
              <a:ext cx="19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574040" y="73980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 flipV="1">
              <a:off x="7577280" y="7383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577280" y="738360"/>
              <a:ext cx="2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flipV="1">
              <a:off x="7580160" y="73620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580160" y="736560"/>
              <a:ext cx="6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 flipV="1">
              <a:off x="7586640" y="7329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586640" y="733320"/>
              <a:ext cx="11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597800" y="73332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597800" y="736560"/>
              <a:ext cx="1260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 flipV="1">
              <a:off x="7610400" y="736200"/>
              <a:ext cx="1260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 flipV="1">
              <a:off x="7623000" y="7329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flipV="1">
              <a:off x="7623000" y="731880"/>
              <a:ext cx="50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 flipV="1">
              <a:off x="7628040" y="72972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631280" y="730080"/>
              <a:ext cx="6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 flipV="1">
              <a:off x="7637400" y="72504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7637400" y="72540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 flipV="1">
              <a:off x="7639200" y="72396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 flipV="1">
              <a:off x="7640640" y="721800"/>
              <a:ext cx="14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7642080" y="72216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 flipV="1">
              <a:off x="7643880" y="7207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7643880" y="720720"/>
              <a:ext cx="6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7650000" y="72072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7655040" y="71748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 flipV="1">
              <a:off x="7658280" y="7160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7658280" y="716040"/>
              <a:ext cx="2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 flipV="1">
              <a:off x="7661160" y="71388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7661160" y="71424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 flipV="1">
              <a:off x="7666200" y="7128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 flipV="1">
              <a:off x="7666200" y="711360"/>
              <a:ext cx="612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7672320" y="711360"/>
              <a:ext cx="9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7682040" y="711360"/>
              <a:ext cx="158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7697880" y="71280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7699320" y="7142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7699320" y="71604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7702560" y="7160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7702560" y="7174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7704000" y="71748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flipV="1">
              <a:off x="7704000" y="715680"/>
              <a:ext cx="1584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719840" y="716040"/>
              <a:ext cx="11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731000" y="716040"/>
              <a:ext cx="50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7736040" y="71748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736040" y="720720"/>
              <a:ext cx="6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7742160" y="7207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742160" y="72216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7746840" y="72216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7746840" y="72396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751880" y="7239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7751880" y="725400"/>
              <a:ext cx="17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 flipV="1">
              <a:off x="7769160" y="7239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7769160" y="72396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7151760" y="157464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156440" y="157464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 flipV="1">
              <a:off x="7167600" y="1572840"/>
              <a:ext cx="324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7170840" y="157320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 flipV="1">
              <a:off x="7175520" y="15696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7175520" y="156996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7180200" y="156996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7183440" y="1571760"/>
              <a:ext cx="792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7191360" y="1574640"/>
              <a:ext cx="14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7201080" y="1587600"/>
              <a:ext cx="219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7639200" y="1782720"/>
              <a:ext cx="93600" cy="30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 flipV="1">
              <a:off x="6178680" y="1227240"/>
              <a:ext cx="2520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 flipV="1">
              <a:off x="6195960" y="1079640"/>
              <a:ext cx="7920" cy="147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V="1">
              <a:off x="6195960" y="723960"/>
              <a:ext cx="236520" cy="35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6432480" y="723960"/>
              <a:ext cx="195480" cy="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 flipV="1">
              <a:off x="6627960" y="638280"/>
              <a:ext cx="77760" cy="100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6705720" y="638280"/>
              <a:ext cx="1047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6810480" y="638280"/>
              <a:ext cx="260280" cy="160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7070760" y="798480"/>
              <a:ext cx="179280" cy="200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V="1">
              <a:off x="7250040" y="969840"/>
              <a:ext cx="23760" cy="28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V="1">
              <a:off x="7273800" y="931680"/>
              <a:ext cx="7920" cy="37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 flipV="1">
              <a:off x="7281720" y="891720"/>
              <a:ext cx="27000" cy="39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 flipV="1">
              <a:off x="7308720" y="882720"/>
              <a:ext cx="1908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7327800" y="882720"/>
              <a:ext cx="3492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7703640" y="843120"/>
              <a:ext cx="25560" cy="75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7676640" y="919080"/>
              <a:ext cx="27000" cy="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7640280" y="933480"/>
              <a:ext cx="36360" cy="55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7624800" y="988920"/>
              <a:ext cx="15840" cy="4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 flipH="1">
              <a:off x="7580160" y="1038240"/>
              <a:ext cx="44640" cy="4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 flipH="1">
              <a:off x="7535520" y="1081080"/>
              <a:ext cx="4428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7512120" y="1343160"/>
              <a:ext cx="4680" cy="66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7516800" y="1409760"/>
              <a:ext cx="2700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7543800" y="1446120"/>
              <a:ext cx="3240" cy="17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7547040" y="1463760"/>
              <a:ext cx="60120" cy="79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607160" y="1542960"/>
              <a:ext cx="59040" cy="144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666200" y="1687680"/>
              <a:ext cx="0" cy="33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 flipH="1">
              <a:off x="7640280" y="1720800"/>
              <a:ext cx="25560" cy="71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 flipH="1">
              <a:off x="7622640" y="1792440"/>
              <a:ext cx="17640" cy="52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 flipH="1">
              <a:off x="7615080" y="1844640"/>
              <a:ext cx="7920" cy="352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7615080" y="2197080"/>
              <a:ext cx="2700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7642080" y="2320920"/>
              <a:ext cx="5040" cy="142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647120" y="2463840"/>
              <a:ext cx="2196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 flipV="1">
              <a:off x="7391520" y="2203200"/>
              <a:ext cx="31680" cy="75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flipV="1">
              <a:off x="7423200" y="2157480"/>
              <a:ext cx="792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 flipV="1">
              <a:off x="7431120" y="2091960"/>
              <a:ext cx="6480" cy="65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 flipV="1">
              <a:off x="7437600" y="1954080"/>
              <a:ext cx="44280" cy="138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 flipV="1">
              <a:off x="7481880" y="1743120"/>
              <a:ext cx="17640" cy="210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 flipV="1">
              <a:off x="7499520" y="1584000"/>
              <a:ext cx="33120" cy="158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 flipH="1" flipV="1">
              <a:off x="7516800" y="1410840"/>
              <a:ext cx="15840" cy="17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H="1" flipV="1">
              <a:off x="7486560" y="1383840"/>
              <a:ext cx="3024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 flipH="1" flipV="1">
              <a:off x="7462800" y="1377720"/>
              <a:ext cx="2376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 flipH="1" flipV="1">
              <a:off x="7446960" y="1339920"/>
              <a:ext cx="1584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367760" y="895320"/>
              <a:ext cx="44280" cy="4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7412040" y="938160"/>
              <a:ext cx="1440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7426440" y="976320"/>
              <a:ext cx="0" cy="4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7232760" y="1165320"/>
              <a:ext cx="3168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 flipV="1">
              <a:off x="7264440" y="1170000"/>
              <a:ext cx="396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7304040" y="1170000"/>
              <a:ext cx="34920" cy="30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7338960" y="1200240"/>
              <a:ext cx="61920" cy="88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400880" y="1289160"/>
              <a:ext cx="46080" cy="54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 flipH="1" flipV="1">
              <a:off x="7505640" y="1293480"/>
              <a:ext cx="6480" cy="4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H="1" flipV="1">
              <a:off x="7451640" y="1200240"/>
              <a:ext cx="54000" cy="93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 flipV="1">
              <a:off x="7451640" y="1179360"/>
              <a:ext cx="0" cy="2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 flipH="1" flipV="1">
              <a:off x="7426440" y="1072800"/>
              <a:ext cx="25200" cy="106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V="1">
              <a:off x="7426440" y="1039320"/>
              <a:ext cx="4680" cy="33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 flipH="1">
              <a:off x="7499160" y="1089000"/>
              <a:ext cx="4428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 flipH="1">
              <a:off x="7478640" y="1120680"/>
              <a:ext cx="20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 flipH="1">
              <a:off x="7435440" y="1120680"/>
              <a:ext cx="42840" cy="33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 flipH="1">
              <a:off x="7338600" y="1154160"/>
              <a:ext cx="96840" cy="4428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 flipH="1">
              <a:off x="7311600" y="1198440"/>
              <a:ext cx="27000" cy="1908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7257960" y="1285920"/>
              <a:ext cx="42840" cy="125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7300800" y="1411200"/>
              <a:ext cx="15840" cy="189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7216920" y="1663560"/>
              <a:ext cx="9504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7311960" y="1670040"/>
              <a:ext cx="34920" cy="2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346880" y="1698480"/>
              <a:ext cx="10008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7446960" y="1708200"/>
              <a:ext cx="5256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7499520" y="1744560"/>
              <a:ext cx="13968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 flipH="1">
              <a:off x="7457760" y="1744560"/>
              <a:ext cx="41400" cy="47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 flipH="1" flipV="1">
              <a:off x="7430760" y="1782360"/>
              <a:ext cx="2700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 flipH="1">
              <a:off x="7423200" y="1782720"/>
              <a:ext cx="792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 flipH="1">
              <a:off x="7203600" y="1792440"/>
              <a:ext cx="219240" cy="20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7075440" y="1452600"/>
              <a:ext cx="85680" cy="43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7161120" y="1889280"/>
              <a:ext cx="17640" cy="1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178760" y="1905120"/>
              <a:ext cx="48960" cy="23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7227720" y="1928880"/>
              <a:ext cx="17640" cy="11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423200" y="2176560"/>
              <a:ext cx="7632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7499520" y="2189160"/>
              <a:ext cx="69840" cy="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 flipV="1">
              <a:off x="7569360" y="2198520"/>
              <a:ext cx="45720" cy="5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 flipV="1">
              <a:off x="7367760" y="2281320"/>
              <a:ext cx="2664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 flipH="1">
              <a:off x="7338960" y="2317680"/>
              <a:ext cx="28800" cy="6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 flipH="1">
              <a:off x="7292880" y="2387520"/>
              <a:ext cx="46080" cy="13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 flipH="1">
              <a:off x="7175520" y="2522520"/>
              <a:ext cx="11736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 flipH="1" flipV="1">
              <a:off x="6960960" y="2495160"/>
              <a:ext cx="21420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 flipH="1" flipV="1">
              <a:off x="6849720" y="2430000"/>
              <a:ext cx="111240" cy="65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 flipV="1">
              <a:off x="6850080" y="1825560"/>
              <a:ext cx="150840" cy="604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7000920" y="1825560"/>
              <a:ext cx="3960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7040520" y="1832040"/>
              <a:ext cx="5400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 flipV="1">
              <a:off x="7094520" y="1831680"/>
              <a:ext cx="5724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 flipV="1">
              <a:off x="7151760" y="1809720"/>
              <a:ext cx="52200" cy="22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6934320" y="2085840"/>
              <a:ext cx="182520" cy="79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116840" y="2165400"/>
              <a:ext cx="16488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 flipH="1" flipV="1">
              <a:off x="7227360" y="1925280"/>
              <a:ext cx="828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7162920" y="1893960"/>
              <a:ext cx="288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7165800" y="1952640"/>
              <a:ext cx="3240" cy="87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7169040" y="2039760"/>
              <a:ext cx="22320" cy="125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7273800" y="2173320"/>
              <a:ext cx="15732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 flipH="1">
              <a:off x="7308720" y="1604880"/>
              <a:ext cx="6480" cy="73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7308720" y="1677960"/>
              <a:ext cx="0" cy="122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7308720" y="1800360"/>
              <a:ext cx="3240" cy="161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7311960" y="1962000"/>
              <a:ext cx="6480" cy="25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 flipH="1">
              <a:off x="7314840" y="1987560"/>
              <a:ext cx="3240" cy="144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 flipH="1">
              <a:off x="7284960" y="2131920"/>
              <a:ext cx="30240" cy="4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flipV="1">
              <a:off x="7013520" y="1852560"/>
              <a:ext cx="27000" cy="160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 flipH="1" flipV="1">
              <a:off x="7094520" y="1844280"/>
              <a:ext cx="6192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6703920" y="641520"/>
              <a:ext cx="66600" cy="220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770520" y="861840"/>
              <a:ext cx="14400" cy="74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784920" y="936720"/>
              <a:ext cx="47520" cy="122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6832440" y="1058760"/>
              <a:ext cx="17640" cy="14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6850080" y="1204920"/>
              <a:ext cx="39600" cy="82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889680" y="1287360"/>
              <a:ext cx="73080" cy="4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 flipH="1">
              <a:off x="6705720" y="803160"/>
              <a:ext cx="46080" cy="149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6705720" y="952560"/>
              <a:ext cx="41040" cy="136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6746760" y="1089000"/>
              <a:ext cx="2232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H="1">
              <a:off x="6754680" y="1212840"/>
              <a:ext cx="14400" cy="150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6754680" y="1363680"/>
              <a:ext cx="3240" cy="7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 flipH="1">
              <a:off x="6751440" y="1434960"/>
              <a:ext cx="6120" cy="82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6751800" y="1517760"/>
              <a:ext cx="12600" cy="7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6764400" y="1589040"/>
              <a:ext cx="22320" cy="90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6786720" y="1679400"/>
              <a:ext cx="0" cy="47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6786720" y="1727280"/>
              <a:ext cx="9360" cy="92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 flipH="1">
              <a:off x="7160760" y="939960"/>
              <a:ext cx="33480" cy="74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 flipH="1" flipV="1">
              <a:off x="7013520" y="966960"/>
              <a:ext cx="147600" cy="47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>
              <a:off x="6919920" y="966960"/>
              <a:ext cx="93600" cy="18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>
              <a:off x="6876720" y="985680"/>
              <a:ext cx="42840" cy="39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H="1">
              <a:off x="6821640" y="1025640"/>
              <a:ext cx="5544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 flipH="1" flipV="1">
              <a:off x="6770520" y="1031400"/>
              <a:ext cx="5400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flipH="1" flipV="1">
              <a:off x="6757560" y="1022400"/>
              <a:ext cx="1260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 flipH="1">
              <a:off x="6729120" y="1022400"/>
              <a:ext cx="28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H="1">
              <a:off x="6699240" y="1023840"/>
              <a:ext cx="3024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 flipH="1">
              <a:off x="6676920" y="1050840"/>
              <a:ext cx="2232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flipH="1">
              <a:off x="6673320" y="1096920"/>
              <a:ext cx="3240" cy="192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 flipH="1">
              <a:off x="6664320" y="1289160"/>
              <a:ext cx="9360" cy="185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664320" y="1474920"/>
              <a:ext cx="3240" cy="68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667560" y="1542960"/>
              <a:ext cx="12600" cy="93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680160" y="1636560"/>
              <a:ext cx="7920" cy="133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6688080" y="1770120"/>
              <a:ext cx="3240" cy="66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691320" y="1836720"/>
              <a:ext cx="27000" cy="4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718320" y="1886040"/>
              <a:ext cx="3636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6754680" y="1922400"/>
              <a:ext cx="30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6784920" y="1922400"/>
              <a:ext cx="66600" cy="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851520" y="2008080"/>
              <a:ext cx="5076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6902280" y="2071800"/>
              <a:ext cx="34920" cy="20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6770520" y="1227240"/>
              <a:ext cx="3996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6810480" y="1265400"/>
              <a:ext cx="269640" cy="161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 flipV="1">
              <a:off x="7124760" y="1379160"/>
              <a:ext cx="39600" cy="2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 flipV="1">
              <a:off x="7164360" y="1332000"/>
              <a:ext cx="22320" cy="47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 flipV="1">
              <a:off x="7186680" y="1262160"/>
              <a:ext cx="14400" cy="6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 flipV="1">
              <a:off x="7201080" y="1200240"/>
              <a:ext cx="7920" cy="6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 flipV="1">
              <a:off x="7209000" y="1168560"/>
              <a:ext cx="2376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V="1">
              <a:off x="7232760" y="1128240"/>
              <a:ext cx="39600" cy="39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V="1">
              <a:off x="7272360" y="1101240"/>
              <a:ext cx="1728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H="1">
              <a:off x="7197480" y="1238400"/>
              <a:ext cx="68040" cy="6336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 flipH="1">
              <a:off x="7178400" y="1346040"/>
              <a:ext cx="19080" cy="4932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 flipH="1">
              <a:off x="7054920" y="1389240"/>
              <a:ext cx="131760" cy="8388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 flipV="1">
              <a:off x="6718320" y="1808280"/>
              <a:ext cx="76320" cy="7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 flipV="1">
              <a:off x="6794640" y="1774440"/>
              <a:ext cx="55440" cy="33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 flipV="1">
              <a:off x="6850080" y="1565280"/>
              <a:ext cx="1440" cy="209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 flipH="1" flipV="1">
              <a:off x="6843600" y="1537920"/>
              <a:ext cx="792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 flipH="1" flipV="1">
              <a:off x="6832080" y="1333080"/>
              <a:ext cx="11160" cy="204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 flipV="1">
              <a:off x="6832440" y="1306080"/>
              <a:ext cx="792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 flipV="1">
              <a:off x="6840360" y="1297080"/>
              <a:ext cx="1620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6988320" y="1617840"/>
              <a:ext cx="4680" cy="10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6993000" y="1727280"/>
              <a:ext cx="468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997680" y="1758960"/>
              <a:ext cx="11160" cy="6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 flipV="1">
              <a:off x="6851520" y="1757520"/>
              <a:ext cx="146160" cy="1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796080" y="1812960"/>
              <a:ext cx="1260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 flipH="1">
              <a:off x="6771960" y="1851120"/>
              <a:ext cx="36360" cy="169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 flipH="1">
              <a:off x="6698880" y="2021040"/>
              <a:ext cx="73080" cy="27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699240" y="2300400"/>
              <a:ext cx="69840" cy="83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6769080" y="2384280"/>
              <a:ext cx="7956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 flipH="1">
              <a:off x="6821280" y="2430360"/>
              <a:ext cx="2700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 flipV="1">
              <a:off x="6432480" y="2252520"/>
              <a:ext cx="95400" cy="90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 flipV="1">
              <a:off x="6527880" y="2151000"/>
              <a:ext cx="123840" cy="10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 flipV="1">
              <a:off x="6651720" y="2117880"/>
              <a:ext cx="14040" cy="33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 flipV="1">
              <a:off x="6665760" y="1878120"/>
              <a:ext cx="52560" cy="239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 flipH="1">
              <a:off x="6683400" y="2300400"/>
              <a:ext cx="15840" cy="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6683400" y="2386080"/>
              <a:ext cx="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 flipH="1">
              <a:off x="6673320" y="2424240"/>
              <a:ext cx="972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 flipH="1">
              <a:off x="6665760" y="2470320"/>
              <a:ext cx="7920" cy="247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 flipV="1">
              <a:off x="6665760" y="2554200"/>
              <a:ext cx="150840" cy="163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 flipH="1">
              <a:off x="6365520" y="2340000"/>
              <a:ext cx="65160" cy="60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 flipH="1">
              <a:off x="6113160" y="2400480"/>
              <a:ext cx="252360" cy="33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 flipH="1" flipV="1">
              <a:off x="6676920" y="2281320"/>
              <a:ext cx="23760" cy="17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 flipH="1" flipV="1">
              <a:off x="6595560" y="2259000"/>
              <a:ext cx="81000" cy="22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 flipH="1" flipV="1">
              <a:off x="6572160" y="2212920"/>
              <a:ext cx="2376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 flipH="1" flipV="1">
              <a:off x="6557760" y="2174760"/>
              <a:ext cx="1404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 flipH="1" flipV="1">
              <a:off x="6462360" y="2123640"/>
              <a:ext cx="9540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 flipH="1" flipV="1">
              <a:off x="6399360" y="1968480"/>
              <a:ext cx="63360" cy="155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 flipH="1" flipV="1">
              <a:off x="6378480" y="1884240"/>
              <a:ext cx="20880" cy="84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 flipH="1" flipV="1">
              <a:off x="6335280" y="1792080"/>
              <a:ext cx="42840" cy="9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 flipH="1" flipV="1">
              <a:off x="6310440" y="1682280"/>
              <a:ext cx="25200" cy="109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 flipH="1" flipV="1">
              <a:off x="6306840" y="1647360"/>
              <a:ext cx="3240" cy="3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 flipH="1" flipV="1">
              <a:off x="6232320" y="1558440"/>
              <a:ext cx="74520" cy="88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 flipH="1" flipV="1">
              <a:off x="6219720" y="1525680"/>
              <a:ext cx="12960" cy="33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6219720" y="1525680"/>
              <a:ext cx="42552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 flipV="1">
              <a:off x="6620040" y="1593720"/>
              <a:ext cx="152280" cy="5904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 flipH="1" flipV="1">
              <a:off x="6180120" y="1428840"/>
              <a:ext cx="39600" cy="93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 flipH="1" flipV="1">
              <a:off x="6178680" y="1343160"/>
              <a:ext cx="1440" cy="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 flipV="1">
              <a:off x="7724880" y="812520"/>
              <a:ext cx="61920" cy="3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 flipV="1">
              <a:off x="7786800" y="764640"/>
              <a:ext cx="17280" cy="47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 flipH="1">
              <a:off x="7245000" y="1217520"/>
              <a:ext cx="66600" cy="3996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 flipH="1">
              <a:off x="7191000" y="1285920"/>
              <a:ext cx="17640" cy="7776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 flipH="1" flipV="1">
              <a:off x="6571800" y="1590840"/>
              <a:ext cx="55800" cy="7128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 flipH="1">
              <a:off x="6764400" y="1467000"/>
              <a:ext cx="304560" cy="12996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969240" y="1236600"/>
              <a:ext cx="104040" cy="234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57"/>
                  </a:moveTo>
                  <a:arcTo wR="10800" hR="10800" stAng="-10754537" swAng="5252631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57"/>
                  </a:moveTo>
                  <a:arcTo wR="10800" hR="10800" stAng="-10754537" swAng="5252631"/>
                </a:path>
              </a:pathLst>
            </a:custGeom>
            <a:noFill/>
            <a:ln cap="rnd"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 flipH="1">
              <a:off x="6959160" y="2247840"/>
              <a:ext cx="33480" cy="252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 flipH="1">
              <a:off x="7080120" y="819000"/>
              <a:ext cx="14400" cy="54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 flipH="1">
              <a:off x="7071840" y="863640"/>
              <a:ext cx="9720" cy="200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flipH="1" flipV="1">
              <a:off x="6973560" y="1342800"/>
              <a:ext cx="66600" cy="50940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flipV="1">
              <a:off x="6991200" y="1848960"/>
              <a:ext cx="51120" cy="40500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flipH="1" flipV="1">
              <a:off x="7365600" y="2306520"/>
              <a:ext cx="79560" cy="293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 flipV="1">
              <a:off x="7292880" y="939600"/>
              <a:ext cx="25560" cy="161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7203960" y="1090800"/>
              <a:ext cx="63720" cy="7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7202520" y="1112760"/>
              <a:ext cx="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 flipH="1">
              <a:off x="6856200" y="1276200"/>
              <a:ext cx="27000" cy="22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 flipH="1" flipV="1">
              <a:off x="7175160" y="1617840"/>
              <a:ext cx="34920" cy="48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172920" y="2197080"/>
              <a:ext cx="5842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MAIPÚ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6204240" y="1393920"/>
              <a:ext cx="8722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PUDAHUEL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467400" y="1422360"/>
              <a:ext cx="40968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O PRADO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368040" y="1000080"/>
              <a:ext cx="627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RENC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411600" y="731880"/>
              <a:ext cx="8737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QUILICUR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6358320" y="1209600"/>
              <a:ext cx="10551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CERRO NAVI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36200" y="717480"/>
              <a:ext cx="10688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HUECHURAB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460280" y="647640"/>
              <a:ext cx="8236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VITACUR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628400" y="1015920"/>
              <a:ext cx="9990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AS COND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643880" y="1374840"/>
              <a:ext cx="7596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A REIN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09080" y="1608120"/>
              <a:ext cx="642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ÑUÑO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93600" y="1878120"/>
              <a:ext cx="627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MACUL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062840" y="1916280"/>
              <a:ext cx="7488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SA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JOAQUÍ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 flipH="1" flipV="1">
              <a:off x="7319880" y="1999800"/>
              <a:ext cx="3168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459560" y="2359080"/>
              <a:ext cx="9226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A FLORID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193160" y="1324080"/>
              <a:ext cx="10551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PROVIDENCI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381800" y="3300480"/>
              <a:ext cx="56844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PTE .ALTO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061760" y="3121200"/>
              <a:ext cx="921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A PINTAN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6787800" y="2922480"/>
              <a:ext cx="915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EL BOSQUE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6819120" y="1906560"/>
              <a:ext cx="5493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P.A.C.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6678720" y="2227320"/>
              <a:ext cx="49032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O ESPEJO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6438240" y="2085840"/>
              <a:ext cx="9014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CERRILLO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6569280" y="1668600"/>
              <a:ext cx="10551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EST.CENTRAL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7277040" y="2174760"/>
              <a:ext cx="90720" cy="14472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7237440" y="1941480"/>
              <a:ext cx="39600" cy="23040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7205760" y="1812960"/>
              <a:ext cx="31680" cy="12852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7182000" y="1744560"/>
              <a:ext cx="23760" cy="6984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7124760" y="1407960"/>
              <a:ext cx="55440" cy="33660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00" name=""/>
          <p:cNvGrpSpPr/>
          <p:nvPr/>
        </p:nvGrpSpPr>
        <p:grpSpPr>
          <a:xfrm>
            <a:off x="7488360" y="914400"/>
            <a:ext cx="666720" cy="1144440"/>
            <a:chOff x="7488360" y="914400"/>
            <a:chExt cx="666720" cy="1144440"/>
          </a:xfrm>
        </p:grpSpPr>
        <p:grpSp>
          <p:nvGrpSpPr>
            <p:cNvPr id="901" name=""/>
            <p:cNvGrpSpPr/>
            <p:nvPr/>
          </p:nvGrpSpPr>
          <p:grpSpPr>
            <a:xfrm>
              <a:off x="7812000" y="920880"/>
              <a:ext cx="284400" cy="965160"/>
              <a:chOff x="7812000" y="920880"/>
              <a:chExt cx="284400" cy="965160"/>
            </a:xfrm>
          </p:grpSpPr>
          <p:sp>
            <p:nvSpPr>
              <p:cNvPr id="902" name=""/>
              <p:cNvSpPr/>
              <p:nvPr/>
            </p:nvSpPr>
            <p:spPr>
              <a:xfrm>
                <a:off x="7823160" y="1297080"/>
                <a:ext cx="176400" cy="585720"/>
              </a:xfrm>
              <a:custGeom>
                <a:avLst/>
                <a:gdLst/>
                <a:ahLst/>
                <a:rect l="l" t="t" r="r" b="b"/>
                <a:pathLst>
                  <a:path w="111" h="369">
                    <a:moveTo>
                      <a:pt x="1" y="368"/>
                    </a:moveTo>
                    <a:lnTo>
                      <a:pt x="11" y="365"/>
                    </a:lnTo>
                    <a:lnTo>
                      <a:pt x="12" y="340"/>
                    </a:lnTo>
                    <a:lnTo>
                      <a:pt x="13" y="318"/>
                    </a:lnTo>
                    <a:lnTo>
                      <a:pt x="15" y="296"/>
                    </a:lnTo>
                    <a:lnTo>
                      <a:pt x="17" y="274"/>
                    </a:lnTo>
                    <a:lnTo>
                      <a:pt x="20" y="256"/>
                    </a:lnTo>
                    <a:lnTo>
                      <a:pt x="23" y="241"/>
                    </a:lnTo>
                    <a:lnTo>
                      <a:pt x="25" y="226"/>
                    </a:lnTo>
                    <a:lnTo>
                      <a:pt x="28" y="209"/>
                    </a:lnTo>
                    <a:lnTo>
                      <a:pt x="32" y="194"/>
                    </a:lnTo>
                    <a:lnTo>
                      <a:pt x="38" y="177"/>
                    </a:lnTo>
                    <a:lnTo>
                      <a:pt x="43" y="162"/>
                    </a:lnTo>
                    <a:lnTo>
                      <a:pt x="47" y="148"/>
                    </a:lnTo>
                    <a:lnTo>
                      <a:pt x="53" y="135"/>
                    </a:lnTo>
                    <a:lnTo>
                      <a:pt x="59" y="118"/>
                    </a:lnTo>
                    <a:lnTo>
                      <a:pt x="67" y="99"/>
                    </a:lnTo>
                    <a:lnTo>
                      <a:pt x="73" y="88"/>
                    </a:lnTo>
                    <a:lnTo>
                      <a:pt x="79" y="77"/>
                    </a:lnTo>
                    <a:lnTo>
                      <a:pt x="85" y="65"/>
                    </a:lnTo>
                    <a:lnTo>
                      <a:pt x="92" y="56"/>
                    </a:lnTo>
                    <a:lnTo>
                      <a:pt x="101" y="41"/>
                    </a:lnTo>
                    <a:lnTo>
                      <a:pt x="110" y="34"/>
                    </a:lnTo>
                    <a:lnTo>
                      <a:pt x="103" y="0"/>
                    </a:lnTo>
                    <a:lnTo>
                      <a:pt x="90" y="16"/>
                    </a:lnTo>
                    <a:lnTo>
                      <a:pt x="76" y="37"/>
                    </a:lnTo>
                    <a:lnTo>
                      <a:pt x="64" y="58"/>
                    </a:lnTo>
                    <a:lnTo>
                      <a:pt x="53" y="84"/>
                    </a:lnTo>
                    <a:lnTo>
                      <a:pt x="35" y="122"/>
                    </a:lnTo>
                    <a:lnTo>
                      <a:pt x="21" y="161"/>
                    </a:lnTo>
                    <a:lnTo>
                      <a:pt x="10" y="201"/>
                    </a:lnTo>
                    <a:lnTo>
                      <a:pt x="5" y="237"/>
                    </a:lnTo>
                    <a:lnTo>
                      <a:pt x="0" y="279"/>
                    </a:lnTo>
                    <a:lnTo>
                      <a:pt x="0" y="313"/>
                    </a:lnTo>
                    <a:lnTo>
                      <a:pt x="1" y="368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7915320" y="920880"/>
                <a:ext cx="181080" cy="250560"/>
              </a:xfrm>
              <a:custGeom>
                <a:avLst/>
                <a:gdLst/>
                <a:ahLst/>
                <a:rect l="l" t="t" r="r" b="b"/>
                <a:pathLst>
                  <a:path w="114" h="158">
                    <a:moveTo>
                      <a:pt x="89" y="155"/>
                    </a:moveTo>
                    <a:lnTo>
                      <a:pt x="113" y="149"/>
                    </a:lnTo>
                    <a:lnTo>
                      <a:pt x="106" y="143"/>
                    </a:lnTo>
                    <a:lnTo>
                      <a:pt x="99" y="137"/>
                    </a:lnTo>
                    <a:lnTo>
                      <a:pt x="92" y="128"/>
                    </a:lnTo>
                    <a:lnTo>
                      <a:pt x="84" y="118"/>
                    </a:lnTo>
                    <a:lnTo>
                      <a:pt x="76" y="107"/>
                    </a:lnTo>
                    <a:lnTo>
                      <a:pt x="68" y="98"/>
                    </a:lnTo>
                    <a:lnTo>
                      <a:pt x="61" y="88"/>
                    </a:lnTo>
                    <a:lnTo>
                      <a:pt x="53" y="79"/>
                    </a:lnTo>
                    <a:lnTo>
                      <a:pt x="48" y="69"/>
                    </a:lnTo>
                    <a:lnTo>
                      <a:pt x="42" y="58"/>
                    </a:lnTo>
                    <a:lnTo>
                      <a:pt x="36" y="46"/>
                    </a:lnTo>
                    <a:lnTo>
                      <a:pt x="31" y="34"/>
                    </a:lnTo>
                    <a:lnTo>
                      <a:pt x="26" y="22"/>
                    </a:lnTo>
                    <a:lnTo>
                      <a:pt x="21" y="9"/>
                    </a:lnTo>
                    <a:lnTo>
                      <a:pt x="17" y="0"/>
                    </a:lnTo>
                    <a:lnTo>
                      <a:pt x="0" y="4"/>
                    </a:lnTo>
                    <a:lnTo>
                      <a:pt x="5" y="23"/>
                    </a:lnTo>
                    <a:lnTo>
                      <a:pt x="15" y="46"/>
                    </a:lnTo>
                    <a:lnTo>
                      <a:pt x="27" y="79"/>
                    </a:lnTo>
                    <a:lnTo>
                      <a:pt x="40" y="102"/>
                    </a:lnTo>
                    <a:lnTo>
                      <a:pt x="57" y="122"/>
                    </a:lnTo>
                    <a:lnTo>
                      <a:pt x="71" y="142"/>
                    </a:lnTo>
                    <a:lnTo>
                      <a:pt x="85" y="157"/>
                    </a:lnTo>
                    <a:lnTo>
                      <a:pt x="112" y="149"/>
                    </a:lnTo>
                    <a:lnTo>
                      <a:pt x="89" y="155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8023320" y="1155600"/>
                <a:ext cx="73080" cy="355680"/>
              </a:xfrm>
              <a:custGeom>
                <a:avLst/>
                <a:gdLst/>
                <a:ahLst/>
                <a:rect l="l" t="t" r="r" b="b"/>
                <a:pathLst>
                  <a:path w="46" h="224">
                    <a:moveTo>
                      <a:pt x="1" y="223"/>
                    </a:moveTo>
                    <a:lnTo>
                      <a:pt x="20" y="217"/>
                    </a:lnTo>
                    <a:lnTo>
                      <a:pt x="21" y="203"/>
                    </a:lnTo>
                    <a:lnTo>
                      <a:pt x="21" y="189"/>
                    </a:lnTo>
                    <a:lnTo>
                      <a:pt x="22" y="176"/>
                    </a:lnTo>
                    <a:lnTo>
                      <a:pt x="23" y="162"/>
                    </a:lnTo>
                    <a:lnTo>
                      <a:pt x="25" y="146"/>
                    </a:lnTo>
                    <a:lnTo>
                      <a:pt x="25" y="128"/>
                    </a:lnTo>
                    <a:lnTo>
                      <a:pt x="28" y="106"/>
                    </a:lnTo>
                    <a:lnTo>
                      <a:pt x="29" y="85"/>
                    </a:lnTo>
                    <a:lnTo>
                      <a:pt x="32" y="72"/>
                    </a:lnTo>
                    <a:lnTo>
                      <a:pt x="34" y="54"/>
                    </a:lnTo>
                    <a:lnTo>
                      <a:pt x="36" y="36"/>
                    </a:lnTo>
                    <a:lnTo>
                      <a:pt x="39" y="18"/>
                    </a:lnTo>
                    <a:lnTo>
                      <a:pt x="43" y="6"/>
                    </a:lnTo>
                    <a:lnTo>
                      <a:pt x="45" y="0"/>
                    </a:lnTo>
                    <a:lnTo>
                      <a:pt x="21" y="5"/>
                    </a:lnTo>
                    <a:lnTo>
                      <a:pt x="16" y="20"/>
                    </a:lnTo>
                    <a:lnTo>
                      <a:pt x="11" y="48"/>
                    </a:lnTo>
                    <a:lnTo>
                      <a:pt x="6" y="81"/>
                    </a:lnTo>
                    <a:lnTo>
                      <a:pt x="3" y="110"/>
                    </a:lnTo>
                    <a:lnTo>
                      <a:pt x="0" y="142"/>
                    </a:lnTo>
                    <a:lnTo>
                      <a:pt x="0" y="173"/>
                    </a:lnTo>
                    <a:lnTo>
                      <a:pt x="0" y="196"/>
                    </a:lnTo>
                    <a:lnTo>
                      <a:pt x="1" y="223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7812000" y="928800"/>
                <a:ext cx="249480" cy="957240"/>
              </a:xfrm>
              <a:custGeom>
                <a:avLst/>
                <a:gdLst/>
                <a:ahLst/>
                <a:rect l="l" t="t" r="r" b="b"/>
                <a:pathLst>
                  <a:path w="157" h="603">
                    <a:moveTo>
                      <a:pt x="9" y="602"/>
                    </a:moveTo>
                    <a:lnTo>
                      <a:pt x="5" y="571"/>
                    </a:lnTo>
                    <a:lnTo>
                      <a:pt x="3" y="554"/>
                    </a:lnTo>
                    <a:lnTo>
                      <a:pt x="1" y="535"/>
                    </a:lnTo>
                    <a:lnTo>
                      <a:pt x="1" y="517"/>
                    </a:lnTo>
                    <a:lnTo>
                      <a:pt x="0" y="500"/>
                    </a:lnTo>
                    <a:lnTo>
                      <a:pt x="0" y="482"/>
                    </a:lnTo>
                    <a:lnTo>
                      <a:pt x="0" y="466"/>
                    </a:lnTo>
                    <a:lnTo>
                      <a:pt x="1" y="447"/>
                    </a:lnTo>
                    <a:lnTo>
                      <a:pt x="2" y="427"/>
                    </a:lnTo>
                    <a:lnTo>
                      <a:pt x="5" y="405"/>
                    </a:lnTo>
                    <a:lnTo>
                      <a:pt x="7" y="387"/>
                    </a:lnTo>
                    <a:lnTo>
                      <a:pt x="9" y="365"/>
                    </a:lnTo>
                    <a:lnTo>
                      <a:pt x="13" y="345"/>
                    </a:lnTo>
                    <a:lnTo>
                      <a:pt x="17" y="325"/>
                    </a:lnTo>
                    <a:lnTo>
                      <a:pt x="21" y="308"/>
                    </a:lnTo>
                    <a:lnTo>
                      <a:pt x="24" y="289"/>
                    </a:lnTo>
                    <a:lnTo>
                      <a:pt x="27" y="273"/>
                    </a:lnTo>
                    <a:lnTo>
                      <a:pt x="33" y="255"/>
                    </a:lnTo>
                    <a:lnTo>
                      <a:pt x="37" y="237"/>
                    </a:lnTo>
                    <a:lnTo>
                      <a:pt x="43" y="217"/>
                    </a:lnTo>
                    <a:lnTo>
                      <a:pt x="48" y="202"/>
                    </a:lnTo>
                    <a:lnTo>
                      <a:pt x="54" y="183"/>
                    </a:lnTo>
                    <a:lnTo>
                      <a:pt x="60" y="168"/>
                    </a:lnTo>
                    <a:lnTo>
                      <a:pt x="66" y="151"/>
                    </a:lnTo>
                    <a:lnTo>
                      <a:pt x="73" y="138"/>
                    </a:lnTo>
                    <a:lnTo>
                      <a:pt x="80" y="128"/>
                    </a:lnTo>
                    <a:lnTo>
                      <a:pt x="86" y="117"/>
                    </a:lnTo>
                    <a:lnTo>
                      <a:pt x="65" y="0"/>
                    </a:lnTo>
                    <a:lnTo>
                      <a:pt x="72" y="14"/>
                    </a:lnTo>
                    <a:lnTo>
                      <a:pt x="79" y="33"/>
                    </a:lnTo>
                    <a:lnTo>
                      <a:pt x="85" y="47"/>
                    </a:lnTo>
                    <a:lnTo>
                      <a:pt x="90" y="59"/>
                    </a:lnTo>
                    <a:lnTo>
                      <a:pt x="95" y="70"/>
                    </a:lnTo>
                    <a:lnTo>
                      <a:pt x="100" y="79"/>
                    </a:lnTo>
                    <a:lnTo>
                      <a:pt x="106" y="87"/>
                    </a:lnTo>
                    <a:lnTo>
                      <a:pt x="111" y="97"/>
                    </a:lnTo>
                    <a:lnTo>
                      <a:pt x="117" y="105"/>
                    </a:lnTo>
                    <a:lnTo>
                      <a:pt x="125" y="116"/>
                    </a:lnTo>
                    <a:lnTo>
                      <a:pt x="133" y="124"/>
                    </a:lnTo>
                    <a:lnTo>
                      <a:pt x="140" y="134"/>
                    </a:lnTo>
                    <a:lnTo>
                      <a:pt x="148" y="143"/>
                    </a:lnTo>
                    <a:lnTo>
                      <a:pt x="156" y="150"/>
                    </a:lnTo>
                    <a:lnTo>
                      <a:pt x="153" y="161"/>
                    </a:lnTo>
                    <a:lnTo>
                      <a:pt x="150" y="170"/>
                    </a:lnTo>
                    <a:lnTo>
                      <a:pt x="149" y="182"/>
                    </a:lnTo>
                    <a:lnTo>
                      <a:pt x="147" y="195"/>
                    </a:lnTo>
                    <a:lnTo>
                      <a:pt x="145" y="206"/>
                    </a:lnTo>
                    <a:lnTo>
                      <a:pt x="143" y="219"/>
                    </a:lnTo>
                    <a:lnTo>
                      <a:pt x="142" y="230"/>
                    </a:lnTo>
                    <a:lnTo>
                      <a:pt x="141" y="244"/>
                    </a:lnTo>
                    <a:lnTo>
                      <a:pt x="140" y="257"/>
                    </a:lnTo>
                    <a:lnTo>
                      <a:pt x="139" y="270"/>
                    </a:lnTo>
                    <a:lnTo>
                      <a:pt x="138" y="283"/>
                    </a:lnTo>
                    <a:lnTo>
                      <a:pt x="137" y="296"/>
                    </a:lnTo>
                    <a:lnTo>
                      <a:pt x="137" y="309"/>
                    </a:lnTo>
                    <a:lnTo>
                      <a:pt x="137" y="320"/>
                    </a:lnTo>
                    <a:lnTo>
                      <a:pt x="136" y="334"/>
                    </a:lnTo>
                    <a:lnTo>
                      <a:pt x="135" y="348"/>
                    </a:lnTo>
                    <a:lnTo>
                      <a:pt x="135" y="365"/>
                    </a:lnTo>
                    <a:lnTo>
                      <a:pt x="110" y="246"/>
                    </a:lnTo>
                    <a:lnTo>
                      <a:pt x="100" y="256"/>
                    </a:lnTo>
                    <a:lnTo>
                      <a:pt x="94" y="268"/>
                    </a:lnTo>
                    <a:lnTo>
                      <a:pt x="80" y="290"/>
                    </a:lnTo>
                    <a:lnTo>
                      <a:pt x="74" y="303"/>
                    </a:lnTo>
                    <a:lnTo>
                      <a:pt x="68" y="315"/>
                    </a:lnTo>
                    <a:lnTo>
                      <a:pt x="59" y="338"/>
                    </a:lnTo>
                    <a:lnTo>
                      <a:pt x="53" y="350"/>
                    </a:lnTo>
                    <a:lnTo>
                      <a:pt x="47" y="365"/>
                    </a:lnTo>
                    <a:lnTo>
                      <a:pt x="42" y="380"/>
                    </a:lnTo>
                    <a:lnTo>
                      <a:pt x="37" y="392"/>
                    </a:lnTo>
                    <a:lnTo>
                      <a:pt x="33" y="403"/>
                    </a:lnTo>
                    <a:lnTo>
                      <a:pt x="29" y="417"/>
                    </a:lnTo>
                    <a:lnTo>
                      <a:pt x="25" y="432"/>
                    </a:lnTo>
                    <a:lnTo>
                      <a:pt x="22" y="447"/>
                    </a:lnTo>
                    <a:lnTo>
                      <a:pt x="19" y="461"/>
                    </a:lnTo>
                    <a:lnTo>
                      <a:pt x="16" y="480"/>
                    </a:lnTo>
                    <a:lnTo>
                      <a:pt x="14" y="497"/>
                    </a:lnTo>
                    <a:lnTo>
                      <a:pt x="13" y="514"/>
                    </a:lnTo>
                    <a:lnTo>
                      <a:pt x="12" y="532"/>
                    </a:lnTo>
                    <a:lnTo>
                      <a:pt x="10" y="550"/>
                    </a:lnTo>
                    <a:lnTo>
                      <a:pt x="10" y="569"/>
                    </a:lnTo>
                    <a:lnTo>
                      <a:pt x="9" y="602"/>
                    </a:lnTo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06" name=""/>
            <p:cNvGrpSpPr/>
            <p:nvPr/>
          </p:nvGrpSpPr>
          <p:grpSpPr>
            <a:xfrm>
              <a:off x="7601040" y="914400"/>
              <a:ext cx="245880" cy="981000"/>
              <a:chOff x="7601040" y="914400"/>
              <a:chExt cx="245880" cy="981000"/>
            </a:xfrm>
          </p:grpSpPr>
          <p:sp>
            <p:nvSpPr>
              <p:cNvPr id="907" name=""/>
              <p:cNvSpPr/>
              <p:nvPr/>
            </p:nvSpPr>
            <p:spPr>
              <a:xfrm>
                <a:off x="7631280" y="928800"/>
                <a:ext cx="215640" cy="966600"/>
              </a:xfrm>
              <a:custGeom>
                <a:avLst/>
                <a:gdLst/>
                <a:ahLst/>
                <a:rect l="l" t="t" r="r" b="b"/>
                <a:pathLst>
                  <a:path w="136" h="609">
                    <a:moveTo>
                      <a:pt x="115" y="608"/>
                    </a:moveTo>
                    <a:lnTo>
                      <a:pt x="121" y="577"/>
                    </a:lnTo>
                    <a:lnTo>
                      <a:pt x="124" y="561"/>
                    </a:lnTo>
                    <a:lnTo>
                      <a:pt x="127" y="543"/>
                    </a:lnTo>
                    <a:lnTo>
                      <a:pt x="129" y="526"/>
                    </a:lnTo>
                    <a:lnTo>
                      <a:pt x="131" y="510"/>
                    </a:lnTo>
                    <a:lnTo>
                      <a:pt x="132" y="492"/>
                    </a:lnTo>
                    <a:lnTo>
                      <a:pt x="133" y="474"/>
                    </a:lnTo>
                    <a:lnTo>
                      <a:pt x="135" y="456"/>
                    </a:lnTo>
                    <a:lnTo>
                      <a:pt x="135" y="436"/>
                    </a:lnTo>
                    <a:lnTo>
                      <a:pt x="133" y="414"/>
                    </a:lnTo>
                    <a:lnTo>
                      <a:pt x="132" y="396"/>
                    </a:lnTo>
                    <a:lnTo>
                      <a:pt x="131" y="374"/>
                    </a:lnTo>
                    <a:lnTo>
                      <a:pt x="129" y="354"/>
                    </a:lnTo>
                    <a:lnTo>
                      <a:pt x="126" y="333"/>
                    </a:lnTo>
                    <a:lnTo>
                      <a:pt x="124" y="315"/>
                    </a:lnTo>
                    <a:lnTo>
                      <a:pt x="121" y="295"/>
                    </a:lnTo>
                    <a:lnTo>
                      <a:pt x="119" y="278"/>
                    </a:lnTo>
                    <a:lnTo>
                      <a:pt x="116" y="259"/>
                    </a:lnTo>
                    <a:lnTo>
                      <a:pt x="111" y="240"/>
                    </a:lnTo>
                    <a:lnTo>
                      <a:pt x="108" y="219"/>
                    </a:lnTo>
                    <a:lnTo>
                      <a:pt x="103" y="203"/>
                    </a:lnTo>
                    <a:lnTo>
                      <a:pt x="98" y="183"/>
                    </a:lnTo>
                    <a:lnTo>
                      <a:pt x="93" y="166"/>
                    </a:lnTo>
                    <a:lnTo>
                      <a:pt x="88" y="148"/>
                    </a:lnTo>
                    <a:lnTo>
                      <a:pt x="82" y="134"/>
                    </a:lnTo>
                    <a:lnTo>
                      <a:pt x="76" y="123"/>
                    </a:lnTo>
                    <a:lnTo>
                      <a:pt x="71" y="111"/>
                    </a:lnTo>
                    <a:lnTo>
                      <a:pt x="99" y="0"/>
                    </a:lnTo>
                    <a:lnTo>
                      <a:pt x="91" y="14"/>
                    </a:lnTo>
                    <a:lnTo>
                      <a:pt x="84" y="26"/>
                    </a:lnTo>
                    <a:lnTo>
                      <a:pt x="77" y="42"/>
                    </a:lnTo>
                    <a:lnTo>
                      <a:pt x="70" y="52"/>
                    </a:lnTo>
                    <a:lnTo>
                      <a:pt x="64" y="60"/>
                    </a:lnTo>
                    <a:lnTo>
                      <a:pt x="58" y="69"/>
                    </a:lnTo>
                    <a:lnTo>
                      <a:pt x="52" y="76"/>
                    </a:lnTo>
                    <a:lnTo>
                      <a:pt x="46" y="84"/>
                    </a:lnTo>
                    <a:lnTo>
                      <a:pt x="39" y="91"/>
                    </a:lnTo>
                    <a:lnTo>
                      <a:pt x="31" y="99"/>
                    </a:lnTo>
                    <a:lnTo>
                      <a:pt x="23" y="109"/>
                    </a:lnTo>
                    <a:lnTo>
                      <a:pt x="15" y="116"/>
                    </a:lnTo>
                    <a:lnTo>
                      <a:pt x="7" y="123"/>
                    </a:lnTo>
                    <a:lnTo>
                      <a:pt x="0" y="129"/>
                    </a:lnTo>
                    <a:lnTo>
                      <a:pt x="0" y="139"/>
                    </a:lnTo>
                    <a:lnTo>
                      <a:pt x="1" y="150"/>
                    </a:lnTo>
                    <a:lnTo>
                      <a:pt x="2" y="161"/>
                    </a:lnTo>
                    <a:lnTo>
                      <a:pt x="4" y="173"/>
                    </a:lnTo>
                    <a:lnTo>
                      <a:pt x="5" y="186"/>
                    </a:lnTo>
                    <a:lnTo>
                      <a:pt x="6" y="199"/>
                    </a:lnTo>
                    <a:lnTo>
                      <a:pt x="6" y="210"/>
                    </a:lnTo>
                    <a:lnTo>
                      <a:pt x="7" y="224"/>
                    </a:lnTo>
                    <a:lnTo>
                      <a:pt x="6" y="237"/>
                    </a:lnTo>
                    <a:lnTo>
                      <a:pt x="7" y="251"/>
                    </a:lnTo>
                    <a:lnTo>
                      <a:pt x="7" y="264"/>
                    </a:lnTo>
                    <a:lnTo>
                      <a:pt x="7" y="275"/>
                    </a:lnTo>
                    <a:lnTo>
                      <a:pt x="6" y="290"/>
                    </a:lnTo>
                    <a:lnTo>
                      <a:pt x="6" y="302"/>
                    </a:lnTo>
                    <a:lnTo>
                      <a:pt x="5" y="315"/>
                    </a:lnTo>
                    <a:lnTo>
                      <a:pt x="5" y="327"/>
                    </a:lnTo>
                    <a:lnTo>
                      <a:pt x="3" y="346"/>
                    </a:lnTo>
                    <a:lnTo>
                      <a:pt x="38" y="232"/>
                    </a:lnTo>
                    <a:lnTo>
                      <a:pt x="46" y="245"/>
                    </a:lnTo>
                    <a:lnTo>
                      <a:pt x="53" y="258"/>
                    </a:lnTo>
                    <a:lnTo>
                      <a:pt x="64" y="284"/>
                    </a:lnTo>
                    <a:lnTo>
                      <a:pt x="69" y="297"/>
                    </a:lnTo>
                    <a:lnTo>
                      <a:pt x="75" y="310"/>
                    </a:lnTo>
                    <a:lnTo>
                      <a:pt x="83" y="335"/>
                    </a:lnTo>
                    <a:lnTo>
                      <a:pt x="88" y="349"/>
                    </a:lnTo>
                    <a:lnTo>
                      <a:pt x="92" y="365"/>
                    </a:lnTo>
                    <a:lnTo>
                      <a:pt x="95" y="380"/>
                    </a:lnTo>
                    <a:lnTo>
                      <a:pt x="98" y="392"/>
                    </a:lnTo>
                    <a:lnTo>
                      <a:pt x="101" y="404"/>
                    </a:lnTo>
                    <a:lnTo>
                      <a:pt x="103" y="419"/>
                    </a:lnTo>
                    <a:lnTo>
                      <a:pt x="107" y="436"/>
                    </a:lnTo>
                    <a:lnTo>
                      <a:pt x="109" y="449"/>
                    </a:lnTo>
                    <a:lnTo>
                      <a:pt x="110" y="461"/>
                    </a:lnTo>
                    <a:lnTo>
                      <a:pt x="111" y="481"/>
                    </a:lnTo>
                    <a:lnTo>
                      <a:pt x="111" y="496"/>
                    </a:lnTo>
                    <a:lnTo>
                      <a:pt x="110" y="516"/>
                    </a:lnTo>
                    <a:lnTo>
                      <a:pt x="110" y="533"/>
                    </a:lnTo>
                    <a:lnTo>
                      <a:pt x="109" y="552"/>
                    </a:lnTo>
                    <a:lnTo>
                      <a:pt x="102" y="601"/>
                    </a:lnTo>
                    <a:lnTo>
                      <a:pt x="115" y="608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7608960" y="1282680"/>
                <a:ext cx="79200" cy="196920"/>
              </a:xfrm>
              <a:custGeom>
                <a:avLst/>
                <a:gdLst/>
                <a:ahLst/>
                <a:rect l="l" t="t" r="r" b="b"/>
                <a:pathLst>
                  <a:path w="50" h="124">
                    <a:moveTo>
                      <a:pt x="17" y="123"/>
                    </a:moveTo>
                    <a:lnTo>
                      <a:pt x="0" y="114"/>
                    </a:lnTo>
                    <a:lnTo>
                      <a:pt x="33" y="0"/>
                    </a:lnTo>
                    <a:lnTo>
                      <a:pt x="42" y="6"/>
                    </a:lnTo>
                    <a:lnTo>
                      <a:pt x="49" y="18"/>
                    </a:lnTo>
                    <a:lnTo>
                      <a:pt x="17" y="123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7711920" y="914400"/>
                <a:ext cx="78120" cy="190440"/>
              </a:xfrm>
              <a:custGeom>
                <a:avLst/>
                <a:gdLst/>
                <a:ahLst/>
                <a:rect l="l" t="t" r="r" b="b"/>
                <a:pathLst>
                  <a:path w="49" h="120">
                    <a:moveTo>
                      <a:pt x="48" y="7"/>
                    </a:moveTo>
                    <a:lnTo>
                      <a:pt x="31" y="0"/>
                    </a:lnTo>
                    <a:lnTo>
                      <a:pt x="0" y="108"/>
                    </a:lnTo>
                    <a:lnTo>
                      <a:pt x="19" y="119"/>
                    </a:lnTo>
                    <a:lnTo>
                      <a:pt x="48" y="7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7601040" y="914400"/>
                <a:ext cx="223920" cy="971640"/>
              </a:xfrm>
              <a:custGeom>
                <a:avLst/>
                <a:gdLst/>
                <a:ahLst/>
                <a:rect l="l" t="t" r="r" b="b"/>
                <a:pathLst>
                  <a:path w="141" h="612">
                    <a:moveTo>
                      <a:pt x="120" y="611"/>
                    </a:moveTo>
                    <a:lnTo>
                      <a:pt x="126" y="580"/>
                    </a:lnTo>
                    <a:lnTo>
                      <a:pt x="129" y="566"/>
                    </a:lnTo>
                    <a:lnTo>
                      <a:pt x="133" y="546"/>
                    </a:lnTo>
                    <a:lnTo>
                      <a:pt x="134" y="529"/>
                    </a:lnTo>
                    <a:lnTo>
                      <a:pt x="137" y="512"/>
                    </a:lnTo>
                    <a:lnTo>
                      <a:pt x="138" y="494"/>
                    </a:lnTo>
                    <a:lnTo>
                      <a:pt x="139" y="478"/>
                    </a:lnTo>
                    <a:lnTo>
                      <a:pt x="140" y="460"/>
                    </a:lnTo>
                    <a:lnTo>
                      <a:pt x="140" y="438"/>
                    </a:lnTo>
                    <a:lnTo>
                      <a:pt x="138" y="417"/>
                    </a:lnTo>
                    <a:lnTo>
                      <a:pt x="138" y="398"/>
                    </a:lnTo>
                    <a:lnTo>
                      <a:pt x="136" y="376"/>
                    </a:lnTo>
                    <a:lnTo>
                      <a:pt x="133" y="356"/>
                    </a:lnTo>
                    <a:lnTo>
                      <a:pt x="131" y="335"/>
                    </a:lnTo>
                    <a:lnTo>
                      <a:pt x="129" y="317"/>
                    </a:lnTo>
                    <a:lnTo>
                      <a:pt x="126" y="296"/>
                    </a:lnTo>
                    <a:lnTo>
                      <a:pt x="123" y="281"/>
                    </a:lnTo>
                    <a:lnTo>
                      <a:pt x="120" y="261"/>
                    </a:lnTo>
                    <a:lnTo>
                      <a:pt x="116" y="242"/>
                    </a:lnTo>
                    <a:lnTo>
                      <a:pt x="110" y="222"/>
                    </a:lnTo>
                    <a:lnTo>
                      <a:pt x="107" y="204"/>
                    </a:lnTo>
                    <a:lnTo>
                      <a:pt x="101" y="185"/>
                    </a:lnTo>
                    <a:lnTo>
                      <a:pt x="96" y="166"/>
                    </a:lnTo>
                    <a:lnTo>
                      <a:pt x="91" y="148"/>
                    </a:lnTo>
                    <a:lnTo>
                      <a:pt x="84" y="135"/>
                    </a:lnTo>
                    <a:lnTo>
                      <a:pt x="79" y="123"/>
                    </a:lnTo>
                    <a:lnTo>
                      <a:pt x="73" y="112"/>
                    </a:lnTo>
                    <a:lnTo>
                      <a:pt x="101" y="0"/>
                    </a:lnTo>
                    <a:lnTo>
                      <a:pt x="93" y="14"/>
                    </a:lnTo>
                    <a:lnTo>
                      <a:pt x="87" y="27"/>
                    </a:lnTo>
                    <a:lnTo>
                      <a:pt x="79" y="42"/>
                    </a:lnTo>
                    <a:lnTo>
                      <a:pt x="72" y="51"/>
                    </a:lnTo>
                    <a:lnTo>
                      <a:pt x="66" y="60"/>
                    </a:lnTo>
                    <a:lnTo>
                      <a:pt x="60" y="69"/>
                    </a:lnTo>
                    <a:lnTo>
                      <a:pt x="54" y="77"/>
                    </a:lnTo>
                    <a:lnTo>
                      <a:pt x="48" y="84"/>
                    </a:lnTo>
                    <a:lnTo>
                      <a:pt x="41" y="92"/>
                    </a:lnTo>
                    <a:lnTo>
                      <a:pt x="32" y="101"/>
                    </a:lnTo>
                    <a:lnTo>
                      <a:pt x="24" y="108"/>
                    </a:lnTo>
                    <a:lnTo>
                      <a:pt x="16" y="116"/>
                    </a:lnTo>
                    <a:lnTo>
                      <a:pt x="8" y="123"/>
                    </a:lnTo>
                    <a:lnTo>
                      <a:pt x="0" y="128"/>
                    </a:lnTo>
                    <a:lnTo>
                      <a:pt x="0" y="138"/>
                    </a:lnTo>
                    <a:lnTo>
                      <a:pt x="2" y="148"/>
                    </a:lnTo>
                    <a:lnTo>
                      <a:pt x="3" y="160"/>
                    </a:lnTo>
                    <a:lnTo>
                      <a:pt x="5" y="173"/>
                    </a:lnTo>
                    <a:lnTo>
                      <a:pt x="5" y="188"/>
                    </a:lnTo>
                    <a:lnTo>
                      <a:pt x="7" y="198"/>
                    </a:lnTo>
                    <a:lnTo>
                      <a:pt x="7" y="210"/>
                    </a:lnTo>
                    <a:lnTo>
                      <a:pt x="8" y="224"/>
                    </a:lnTo>
                    <a:lnTo>
                      <a:pt x="8" y="237"/>
                    </a:lnTo>
                    <a:lnTo>
                      <a:pt x="8" y="251"/>
                    </a:lnTo>
                    <a:lnTo>
                      <a:pt x="8" y="264"/>
                    </a:lnTo>
                    <a:lnTo>
                      <a:pt x="8" y="276"/>
                    </a:lnTo>
                    <a:lnTo>
                      <a:pt x="8" y="290"/>
                    </a:lnTo>
                    <a:lnTo>
                      <a:pt x="8" y="301"/>
                    </a:lnTo>
                    <a:lnTo>
                      <a:pt x="7" y="314"/>
                    </a:lnTo>
                    <a:lnTo>
                      <a:pt x="6" y="329"/>
                    </a:lnTo>
                    <a:lnTo>
                      <a:pt x="5" y="346"/>
                    </a:lnTo>
                    <a:lnTo>
                      <a:pt x="39" y="232"/>
                    </a:lnTo>
                    <a:lnTo>
                      <a:pt x="49" y="245"/>
                    </a:lnTo>
                    <a:lnTo>
                      <a:pt x="54" y="259"/>
                    </a:lnTo>
                    <a:lnTo>
                      <a:pt x="67" y="284"/>
                    </a:lnTo>
                    <a:lnTo>
                      <a:pt x="73" y="298"/>
                    </a:lnTo>
                    <a:lnTo>
                      <a:pt x="77" y="311"/>
                    </a:lnTo>
                    <a:lnTo>
                      <a:pt x="86" y="336"/>
                    </a:lnTo>
                    <a:lnTo>
                      <a:pt x="91" y="350"/>
                    </a:lnTo>
                    <a:lnTo>
                      <a:pt x="98" y="366"/>
                    </a:lnTo>
                    <a:lnTo>
                      <a:pt x="101" y="382"/>
                    </a:lnTo>
                    <a:lnTo>
                      <a:pt x="105" y="395"/>
                    </a:lnTo>
                    <a:lnTo>
                      <a:pt x="109" y="408"/>
                    </a:lnTo>
                    <a:lnTo>
                      <a:pt x="112" y="423"/>
                    </a:lnTo>
                    <a:lnTo>
                      <a:pt x="116" y="438"/>
                    </a:lnTo>
                    <a:lnTo>
                      <a:pt x="117" y="454"/>
                    </a:lnTo>
                    <a:lnTo>
                      <a:pt x="120" y="469"/>
                    </a:lnTo>
                    <a:lnTo>
                      <a:pt x="122" y="488"/>
                    </a:lnTo>
                    <a:lnTo>
                      <a:pt x="123" y="504"/>
                    </a:lnTo>
                    <a:lnTo>
                      <a:pt x="123" y="522"/>
                    </a:lnTo>
                    <a:lnTo>
                      <a:pt x="123" y="539"/>
                    </a:lnTo>
                    <a:lnTo>
                      <a:pt x="123" y="559"/>
                    </a:lnTo>
                    <a:lnTo>
                      <a:pt x="122" y="578"/>
                    </a:lnTo>
                    <a:lnTo>
                      <a:pt x="120" y="611"/>
                    </a:lnTo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11" name=""/>
            <p:cNvGrpSpPr/>
            <p:nvPr/>
          </p:nvGrpSpPr>
          <p:grpSpPr>
            <a:xfrm>
              <a:off x="7812000" y="1139760"/>
              <a:ext cx="343080" cy="911160"/>
              <a:chOff x="7812000" y="1139760"/>
              <a:chExt cx="343080" cy="911160"/>
            </a:xfrm>
          </p:grpSpPr>
          <p:sp>
            <p:nvSpPr>
              <p:cNvPr id="912" name=""/>
              <p:cNvSpPr/>
              <p:nvPr/>
            </p:nvSpPr>
            <p:spPr>
              <a:xfrm>
                <a:off x="7812000" y="1533600"/>
                <a:ext cx="227160" cy="517320"/>
              </a:xfrm>
              <a:custGeom>
                <a:avLst/>
                <a:gdLst/>
                <a:ahLst/>
                <a:rect l="l" t="t" r="r" b="b"/>
                <a:pathLst>
                  <a:path w="143" h="326">
                    <a:moveTo>
                      <a:pt x="0" y="323"/>
                    </a:moveTo>
                    <a:lnTo>
                      <a:pt x="9" y="325"/>
                    </a:lnTo>
                    <a:lnTo>
                      <a:pt x="12" y="300"/>
                    </a:lnTo>
                    <a:lnTo>
                      <a:pt x="16" y="277"/>
                    </a:lnTo>
                    <a:lnTo>
                      <a:pt x="20" y="259"/>
                    </a:lnTo>
                    <a:lnTo>
                      <a:pt x="25" y="239"/>
                    </a:lnTo>
                    <a:lnTo>
                      <a:pt x="29" y="221"/>
                    </a:lnTo>
                    <a:lnTo>
                      <a:pt x="34" y="206"/>
                    </a:lnTo>
                    <a:lnTo>
                      <a:pt x="37" y="193"/>
                    </a:lnTo>
                    <a:lnTo>
                      <a:pt x="43" y="178"/>
                    </a:lnTo>
                    <a:lnTo>
                      <a:pt x="48" y="165"/>
                    </a:lnTo>
                    <a:lnTo>
                      <a:pt x="56" y="148"/>
                    </a:lnTo>
                    <a:lnTo>
                      <a:pt x="61" y="136"/>
                    </a:lnTo>
                    <a:lnTo>
                      <a:pt x="68" y="124"/>
                    </a:lnTo>
                    <a:lnTo>
                      <a:pt x="75" y="113"/>
                    </a:lnTo>
                    <a:lnTo>
                      <a:pt x="83" y="99"/>
                    </a:lnTo>
                    <a:lnTo>
                      <a:pt x="93" y="84"/>
                    </a:lnTo>
                    <a:lnTo>
                      <a:pt x="101" y="75"/>
                    </a:lnTo>
                    <a:lnTo>
                      <a:pt x="107" y="66"/>
                    </a:lnTo>
                    <a:lnTo>
                      <a:pt x="115" y="57"/>
                    </a:lnTo>
                    <a:lnTo>
                      <a:pt x="122" y="50"/>
                    </a:lnTo>
                    <a:lnTo>
                      <a:pt x="133" y="39"/>
                    </a:lnTo>
                    <a:lnTo>
                      <a:pt x="142" y="33"/>
                    </a:lnTo>
                    <a:lnTo>
                      <a:pt x="139" y="0"/>
                    </a:lnTo>
                    <a:lnTo>
                      <a:pt x="125" y="9"/>
                    </a:lnTo>
                    <a:lnTo>
                      <a:pt x="108" y="25"/>
                    </a:lnTo>
                    <a:lnTo>
                      <a:pt x="94" y="41"/>
                    </a:lnTo>
                    <a:lnTo>
                      <a:pt x="80" y="65"/>
                    </a:lnTo>
                    <a:lnTo>
                      <a:pt x="59" y="94"/>
                    </a:lnTo>
                    <a:lnTo>
                      <a:pt x="42" y="128"/>
                    </a:lnTo>
                    <a:lnTo>
                      <a:pt x="26" y="163"/>
                    </a:lnTo>
                    <a:lnTo>
                      <a:pt x="17" y="195"/>
                    </a:lnTo>
                    <a:lnTo>
                      <a:pt x="8" y="236"/>
                    </a:lnTo>
                    <a:lnTo>
                      <a:pt x="3" y="26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8004240" y="1139760"/>
                <a:ext cx="150840" cy="287280"/>
              </a:xfrm>
              <a:custGeom>
                <a:avLst/>
                <a:gdLst/>
                <a:ahLst/>
                <a:rect l="l" t="t" r="r" b="b"/>
                <a:pathLst>
                  <a:path w="95" h="181">
                    <a:moveTo>
                      <a:pt x="71" y="178"/>
                    </a:moveTo>
                    <a:lnTo>
                      <a:pt x="94" y="180"/>
                    </a:lnTo>
                    <a:lnTo>
                      <a:pt x="88" y="172"/>
                    </a:lnTo>
                    <a:lnTo>
                      <a:pt x="83" y="165"/>
                    </a:lnTo>
                    <a:lnTo>
                      <a:pt x="77" y="154"/>
                    </a:lnTo>
                    <a:lnTo>
                      <a:pt x="69" y="140"/>
                    </a:lnTo>
                    <a:lnTo>
                      <a:pt x="62" y="128"/>
                    </a:lnTo>
                    <a:lnTo>
                      <a:pt x="55" y="114"/>
                    </a:lnTo>
                    <a:lnTo>
                      <a:pt x="50" y="102"/>
                    </a:lnTo>
                    <a:lnTo>
                      <a:pt x="45" y="91"/>
                    </a:lnTo>
                    <a:lnTo>
                      <a:pt x="39" y="80"/>
                    </a:lnTo>
                    <a:lnTo>
                      <a:pt x="35" y="67"/>
                    </a:lnTo>
                    <a:lnTo>
                      <a:pt x="30" y="53"/>
                    </a:lnTo>
                    <a:lnTo>
                      <a:pt x="26" y="40"/>
                    </a:lnTo>
                    <a:lnTo>
                      <a:pt x="23" y="26"/>
                    </a:lnTo>
                    <a:lnTo>
                      <a:pt x="19" y="12"/>
                    </a:lnTo>
                    <a:lnTo>
                      <a:pt x="17" y="0"/>
                    </a:lnTo>
                    <a:lnTo>
                      <a:pt x="0" y="0"/>
                    </a:lnTo>
                    <a:lnTo>
                      <a:pt x="2" y="20"/>
                    </a:lnTo>
                    <a:lnTo>
                      <a:pt x="9" y="48"/>
                    </a:lnTo>
                    <a:lnTo>
                      <a:pt x="19" y="84"/>
                    </a:lnTo>
                    <a:lnTo>
                      <a:pt x="28" y="111"/>
                    </a:lnTo>
                    <a:lnTo>
                      <a:pt x="43" y="135"/>
                    </a:lnTo>
                    <a:lnTo>
                      <a:pt x="54" y="159"/>
                    </a:lnTo>
                    <a:lnTo>
                      <a:pt x="66" y="178"/>
                    </a:lnTo>
                    <a:lnTo>
                      <a:pt x="94" y="180"/>
                    </a:lnTo>
                    <a:lnTo>
                      <a:pt x="93" y="180"/>
                    </a:lnTo>
                    <a:lnTo>
                      <a:pt x="71" y="178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8050320" y="1427040"/>
                <a:ext cx="104760" cy="328680"/>
              </a:xfrm>
              <a:custGeom>
                <a:avLst/>
                <a:gdLst/>
                <a:ahLst/>
                <a:rect l="l" t="t" r="r" b="b"/>
                <a:pathLst>
                  <a:path w="66" h="207">
                    <a:moveTo>
                      <a:pt x="0" y="204"/>
                    </a:moveTo>
                    <a:lnTo>
                      <a:pt x="18" y="206"/>
                    </a:lnTo>
                    <a:lnTo>
                      <a:pt x="20" y="191"/>
                    </a:lnTo>
                    <a:lnTo>
                      <a:pt x="21" y="178"/>
                    </a:lnTo>
                    <a:lnTo>
                      <a:pt x="24" y="165"/>
                    </a:lnTo>
                    <a:lnTo>
                      <a:pt x="26" y="152"/>
                    </a:lnTo>
                    <a:lnTo>
                      <a:pt x="29" y="137"/>
                    </a:lnTo>
                    <a:lnTo>
                      <a:pt x="32" y="120"/>
                    </a:lnTo>
                    <a:lnTo>
                      <a:pt x="36" y="99"/>
                    </a:lnTo>
                    <a:lnTo>
                      <a:pt x="41" y="79"/>
                    </a:lnTo>
                    <a:lnTo>
                      <a:pt x="43" y="65"/>
                    </a:lnTo>
                    <a:lnTo>
                      <a:pt x="48" y="51"/>
                    </a:lnTo>
                    <a:lnTo>
                      <a:pt x="53" y="34"/>
                    </a:lnTo>
                    <a:lnTo>
                      <a:pt x="58" y="18"/>
                    </a:lnTo>
                    <a:lnTo>
                      <a:pt x="62" y="6"/>
                    </a:lnTo>
                    <a:lnTo>
                      <a:pt x="65" y="0"/>
                    </a:lnTo>
                    <a:lnTo>
                      <a:pt x="41" y="0"/>
                    </a:lnTo>
                    <a:lnTo>
                      <a:pt x="35" y="12"/>
                    </a:lnTo>
                    <a:lnTo>
                      <a:pt x="26" y="37"/>
                    </a:lnTo>
                    <a:lnTo>
                      <a:pt x="17" y="68"/>
                    </a:lnTo>
                    <a:lnTo>
                      <a:pt x="12" y="95"/>
                    </a:lnTo>
                    <a:lnTo>
                      <a:pt x="7" y="125"/>
                    </a:lnTo>
                    <a:lnTo>
                      <a:pt x="2" y="156"/>
                    </a:lnTo>
                    <a:lnTo>
                      <a:pt x="0" y="178"/>
                    </a:lnTo>
                    <a:lnTo>
                      <a:pt x="0" y="204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7812000" y="1143000"/>
                <a:ext cx="306360" cy="907920"/>
              </a:xfrm>
              <a:custGeom>
                <a:avLst/>
                <a:gdLst/>
                <a:ahLst/>
                <a:rect l="l" t="t" r="r" b="b"/>
                <a:pathLst>
                  <a:path w="193" h="572">
                    <a:moveTo>
                      <a:pt x="1" y="571"/>
                    </a:moveTo>
                    <a:lnTo>
                      <a:pt x="0" y="538"/>
                    </a:lnTo>
                    <a:lnTo>
                      <a:pt x="0" y="523"/>
                    </a:lnTo>
                    <a:lnTo>
                      <a:pt x="0" y="504"/>
                    </a:lnTo>
                    <a:lnTo>
                      <a:pt x="1" y="485"/>
                    </a:lnTo>
                    <a:lnTo>
                      <a:pt x="2" y="469"/>
                    </a:lnTo>
                    <a:lnTo>
                      <a:pt x="4" y="451"/>
                    </a:lnTo>
                    <a:lnTo>
                      <a:pt x="7" y="436"/>
                    </a:lnTo>
                    <a:lnTo>
                      <a:pt x="9" y="418"/>
                    </a:lnTo>
                    <a:lnTo>
                      <a:pt x="12" y="397"/>
                    </a:lnTo>
                    <a:lnTo>
                      <a:pt x="17" y="378"/>
                    </a:lnTo>
                    <a:lnTo>
                      <a:pt x="20" y="360"/>
                    </a:lnTo>
                    <a:lnTo>
                      <a:pt x="25" y="342"/>
                    </a:lnTo>
                    <a:lnTo>
                      <a:pt x="31" y="323"/>
                    </a:lnTo>
                    <a:lnTo>
                      <a:pt x="37" y="303"/>
                    </a:lnTo>
                    <a:lnTo>
                      <a:pt x="43" y="289"/>
                    </a:lnTo>
                    <a:lnTo>
                      <a:pt x="48" y="271"/>
                    </a:lnTo>
                    <a:lnTo>
                      <a:pt x="54" y="256"/>
                    </a:lnTo>
                    <a:lnTo>
                      <a:pt x="60" y="239"/>
                    </a:lnTo>
                    <a:lnTo>
                      <a:pt x="67" y="223"/>
                    </a:lnTo>
                    <a:lnTo>
                      <a:pt x="74" y="207"/>
                    </a:lnTo>
                    <a:lnTo>
                      <a:pt x="81" y="191"/>
                    </a:lnTo>
                    <a:lnTo>
                      <a:pt x="89" y="177"/>
                    </a:lnTo>
                    <a:lnTo>
                      <a:pt x="97" y="162"/>
                    </a:lnTo>
                    <a:lnTo>
                      <a:pt x="105" y="150"/>
                    </a:lnTo>
                    <a:lnTo>
                      <a:pt x="113" y="138"/>
                    </a:lnTo>
                    <a:lnTo>
                      <a:pt x="120" y="130"/>
                    </a:lnTo>
                    <a:lnTo>
                      <a:pt x="127" y="123"/>
                    </a:lnTo>
                    <a:lnTo>
                      <a:pt x="120" y="0"/>
                    </a:lnTo>
                    <a:lnTo>
                      <a:pt x="124" y="18"/>
                    </a:lnTo>
                    <a:lnTo>
                      <a:pt x="129" y="38"/>
                    </a:lnTo>
                    <a:lnTo>
                      <a:pt x="134" y="54"/>
                    </a:lnTo>
                    <a:lnTo>
                      <a:pt x="138" y="65"/>
                    </a:lnTo>
                    <a:lnTo>
                      <a:pt x="141" y="79"/>
                    </a:lnTo>
                    <a:lnTo>
                      <a:pt x="145" y="90"/>
                    </a:lnTo>
                    <a:lnTo>
                      <a:pt x="150" y="101"/>
                    </a:lnTo>
                    <a:lnTo>
                      <a:pt x="155" y="110"/>
                    </a:lnTo>
                    <a:lnTo>
                      <a:pt x="159" y="121"/>
                    </a:lnTo>
                    <a:lnTo>
                      <a:pt x="166" y="133"/>
                    </a:lnTo>
                    <a:lnTo>
                      <a:pt x="173" y="145"/>
                    </a:lnTo>
                    <a:lnTo>
                      <a:pt x="178" y="157"/>
                    </a:lnTo>
                    <a:lnTo>
                      <a:pt x="185" y="169"/>
                    </a:lnTo>
                    <a:lnTo>
                      <a:pt x="192" y="177"/>
                    </a:lnTo>
                    <a:lnTo>
                      <a:pt x="189" y="187"/>
                    </a:lnTo>
                    <a:lnTo>
                      <a:pt x="185" y="197"/>
                    </a:lnTo>
                    <a:lnTo>
                      <a:pt x="181" y="207"/>
                    </a:lnTo>
                    <a:lnTo>
                      <a:pt x="179" y="218"/>
                    </a:lnTo>
                    <a:lnTo>
                      <a:pt x="175" y="230"/>
                    </a:lnTo>
                    <a:lnTo>
                      <a:pt x="172" y="240"/>
                    </a:lnTo>
                    <a:lnTo>
                      <a:pt x="170" y="252"/>
                    </a:lnTo>
                    <a:lnTo>
                      <a:pt x="168" y="264"/>
                    </a:lnTo>
                    <a:lnTo>
                      <a:pt x="165" y="277"/>
                    </a:lnTo>
                    <a:lnTo>
                      <a:pt x="163" y="290"/>
                    </a:lnTo>
                    <a:lnTo>
                      <a:pt x="160" y="303"/>
                    </a:lnTo>
                    <a:lnTo>
                      <a:pt x="158" y="315"/>
                    </a:lnTo>
                    <a:lnTo>
                      <a:pt x="157" y="328"/>
                    </a:lnTo>
                    <a:lnTo>
                      <a:pt x="154" y="339"/>
                    </a:lnTo>
                    <a:lnTo>
                      <a:pt x="153" y="350"/>
                    </a:lnTo>
                    <a:lnTo>
                      <a:pt x="150" y="364"/>
                    </a:lnTo>
                    <a:lnTo>
                      <a:pt x="149" y="383"/>
                    </a:lnTo>
                    <a:lnTo>
                      <a:pt x="137" y="254"/>
                    </a:lnTo>
                    <a:lnTo>
                      <a:pt x="127" y="264"/>
                    </a:lnTo>
                    <a:lnTo>
                      <a:pt x="118" y="272"/>
                    </a:lnTo>
                    <a:lnTo>
                      <a:pt x="103" y="290"/>
                    </a:lnTo>
                    <a:lnTo>
                      <a:pt x="96" y="299"/>
                    </a:lnTo>
                    <a:lnTo>
                      <a:pt x="89" y="310"/>
                    </a:lnTo>
                    <a:lnTo>
                      <a:pt x="77" y="328"/>
                    </a:lnTo>
                    <a:lnTo>
                      <a:pt x="70" y="339"/>
                    </a:lnTo>
                    <a:lnTo>
                      <a:pt x="62" y="353"/>
                    </a:lnTo>
                    <a:lnTo>
                      <a:pt x="56" y="364"/>
                    </a:lnTo>
                    <a:lnTo>
                      <a:pt x="50" y="375"/>
                    </a:lnTo>
                    <a:lnTo>
                      <a:pt x="45" y="385"/>
                    </a:lnTo>
                    <a:lnTo>
                      <a:pt x="39" y="397"/>
                    </a:lnTo>
                    <a:lnTo>
                      <a:pt x="33" y="411"/>
                    </a:lnTo>
                    <a:lnTo>
                      <a:pt x="29" y="424"/>
                    </a:lnTo>
                    <a:lnTo>
                      <a:pt x="24" y="438"/>
                    </a:lnTo>
                    <a:lnTo>
                      <a:pt x="20" y="454"/>
                    </a:lnTo>
                    <a:lnTo>
                      <a:pt x="17" y="469"/>
                    </a:lnTo>
                    <a:lnTo>
                      <a:pt x="13" y="486"/>
                    </a:lnTo>
                    <a:lnTo>
                      <a:pt x="10" y="504"/>
                    </a:lnTo>
                    <a:lnTo>
                      <a:pt x="7" y="522"/>
                    </a:lnTo>
                    <a:lnTo>
                      <a:pt x="5" y="541"/>
                    </a:lnTo>
                    <a:lnTo>
                      <a:pt x="1" y="571"/>
                    </a:lnTo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16" name=""/>
            <p:cNvGrpSpPr/>
            <p:nvPr/>
          </p:nvGrpSpPr>
          <p:grpSpPr>
            <a:xfrm>
              <a:off x="7488360" y="1138320"/>
              <a:ext cx="328320" cy="920520"/>
              <a:chOff x="7488360" y="1138320"/>
              <a:chExt cx="328320" cy="920520"/>
            </a:xfrm>
          </p:grpSpPr>
          <p:sp>
            <p:nvSpPr>
              <p:cNvPr id="917" name=""/>
              <p:cNvSpPr/>
              <p:nvPr/>
            </p:nvSpPr>
            <p:spPr>
              <a:xfrm>
                <a:off x="7551720" y="1544760"/>
                <a:ext cx="52560" cy="198360"/>
              </a:xfrm>
              <a:custGeom>
                <a:avLst/>
                <a:gdLst/>
                <a:ahLst/>
                <a:rect l="l" t="t" r="r" b="b"/>
                <a:pathLst>
                  <a:path w="33" h="125">
                    <a:moveTo>
                      <a:pt x="18" y="124"/>
                    </a:moveTo>
                    <a:lnTo>
                      <a:pt x="0" y="124"/>
                    </a:lnTo>
                    <a:lnTo>
                      <a:pt x="14" y="0"/>
                    </a:lnTo>
                    <a:lnTo>
                      <a:pt x="23" y="2"/>
                    </a:lnTo>
                    <a:lnTo>
                      <a:pt x="32" y="9"/>
                    </a:lnTo>
                    <a:lnTo>
                      <a:pt x="18" y="124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7589880" y="1139760"/>
                <a:ext cx="49320" cy="193680"/>
              </a:xfrm>
              <a:custGeom>
                <a:avLst/>
                <a:gdLst/>
                <a:ahLst/>
                <a:rect l="l" t="t" r="r" b="b"/>
                <a:pathLst>
                  <a:path w="31" h="122">
                    <a:moveTo>
                      <a:pt x="30" y="0"/>
                    </a:moveTo>
                    <a:lnTo>
                      <a:pt x="13" y="0"/>
                    </a:lnTo>
                    <a:lnTo>
                      <a:pt x="0" y="121"/>
                    </a:lnTo>
                    <a:lnTo>
                      <a:pt x="21" y="121"/>
                    </a:lnTo>
                    <a:lnTo>
                      <a:pt x="30" y="0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919" name=""/>
              <p:cNvGrpSpPr/>
              <p:nvPr/>
            </p:nvGrpSpPr>
            <p:grpSpPr>
              <a:xfrm>
                <a:off x="7488360" y="1138320"/>
                <a:ext cx="328320" cy="920520"/>
                <a:chOff x="7488360" y="1138320"/>
                <a:chExt cx="328320" cy="920520"/>
              </a:xfrm>
            </p:grpSpPr>
            <p:sp>
              <p:nvSpPr>
                <p:cNvPr id="920" name=""/>
                <p:cNvSpPr/>
                <p:nvPr/>
              </p:nvSpPr>
              <p:spPr>
                <a:xfrm>
                  <a:off x="7520040" y="1138320"/>
                  <a:ext cx="296640" cy="920520"/>
                </a:xfrm>
                <a:custGeom>
                  <a:avLst/>
                  <a:gdLst/>
                  <a:ahLst/>
                  <a:rect l="l" t="t" r="r" b="b"/>
                  <a:pathLst>
                    <a:path w="187" h="580">
                      <a:moveTo>
                        <a:pt x="185" y="577"/>
                      </a:moveTo>
                      <a:lnTo>
                        <a:pt x="186" y="545"/>
                      </a:lnTo>
                      <a:lnTo>
                        <a:pt x="186" y="530"/>
                      </a:lnTo>
                      <a:lnTo>
                        <a:pt x="186" y="510"/>
                      </a:lnTo>
                      <a:lnTo>
                        <a:pt x="186" y="492"/>
                      </a:lnTo>
                      <a:lnTo>
                        <a:pt x="185" y="475"/>
                      </a:lnTo>
                      <a:lnTo>
                        <a:pt x="183" y="457"/>
                      </a:lnTo>
                      <a:lnTo>
                        <a:pt x="181" y="442"/>
                      </a:lnTo>
                      <a:lnTo>
                        <a:pt x="179" y="424"/>
                      </a:lnTo>
                      <a:lnTo>
                        <a:pt x="176" y="403"/>
                      </a:lnTo>
                      <a:lnTo>
                        <a:pt x="171" y="384"/>
                      </a:lnTo>
                      <a:lnTo>
                        <a:pt x="168" y="365"/>
                      </a:lnTo>
                      <a:lnTo>
                        <a:pt x="163" y="345"/>
                      </a:lnTo>
                      <a:lnTo>
                        <a:pt x="158" y="326"/>
                      </a:lnTo>
                      <a:lnTo>
                        <a:pt x="153" y="307"/>
                      </a:lnTo>
                      <a:lnTo>
                        <a:pt x="147" y="292"/>
                      </a:lnTo>
                      <a:lnTo>
                        <a:pt x="142" y="273"/>
                      </a:lnTo>
                      <a:lnTo>
                        <a:pt x="136" y="259"/>
                      </a:lnTo>
                      <a:lnTo>
                        <a:pt x="131" y="241"/>
                      </a:lnTo>
                      <a:lnTo>
                        <a:pt x="124" y="225"/>
                      </a:lnTo>
                      <a:lnTo>
                        <a:pt x="117" y="209"/>
                      </a:lnTo>
                      <a:lnTo>
                        <a:pt x="111" y="193"/>
                      </a:lnTo>
                      <a:lnTo>
                        <a:pt x="102" y="178"/>
                      </a:lnTo>
                      <a:lnTo>
                        <a:pt x="95" y="162"/>
                      </a:lnTo>
                      <a:lnTo>
                        <a:pt x="87" y="150"/>
                      </a:lnTo>
                      <a:lnTo>
                        <a:pt x="79" y="138"/>
                      </a:lnTo>
                      <a:lnTo>
                        <a:pt x="72" y="128"/>
                      </a:lnTo>
                      <a:lnTo>
                        <a:pt x="64" y="122"/>
                      </a:lnTo>
                      <a:lnTo>
                        <a:pt x="74" y="0"/>
                      </a:lnTo>
                      <a:lnTo>
                        <a:pt x="69" y="18"/>
                      </a:lnTo>
                      <a:lnTo>
                        <a:pt x="64" y="33"/>
                      </a:lnTo>
                      <a:lnTo>
                        <a:pt x="60" y="51"/>
                      </a:lnTo>
                      <a:lnTo>
                        <a:pt x="55" y="64"/>
                      </a:lnTo>
                      <a:lnTo>
                        <a:pt x="51" y="76"/>
                      </a:lnTo>
                      <a:lnTo>
                        <a:pt x="46" y="86"/>
                      </a:lnTo>
                      <a:lnTo>
                        <a:pt x="42" y="97"/>
                      </a:lnTo>
                      <a:lnTo>
                        <a:pt x="37" y="106"/>
                      </a:lnTo>
                      <a:lnTo>
                        <a:pt x="32" y="118"/>
                      </a:lnTo>
                      <a:lnTo>
                        <a:pt x="25" y="130"/>
                      </a:lnTo>
                      <a:lnTo>
                        <a:pt x="19" y="142"/>
                      </a:lnTo>
                      <a:lnTo>
                        <a:pt x="12" y="152"/>
                      </a:lnTo>
                      <a:lnTo>
                        <a:pt x="5" y="164"/>
                      </a:lnTo>
                      <a:lnTo>
                        <a:pt x="0" y="172"/>
                      </a:lnTo>
                      <a:lnTo>
                        <a:pt x="1" y="182"/>
                      </a:lnTo>
                      <a:lnTo>
                        <a:pt x="5" y="191"/>
                      </a:lnTo>
                      <a:lnTo>
                        <a:pt x="7" y="202"/>
                      </a:lnTo>
                      <a:lnTo>
                        <a:pt x="11" y="214"/>
                      </a:lnTo>
                      <a:lnTo>
                        <a:pt x="14" y="226"/>
                      </a:lnTo>
                      <a:lnTo>
                        <a:pt x="17" y="237"/>
                      </a:lnTo>
                      <a:lnTo>
                        <a:pt x="19" y="248"/>
                      </a:lnTo>
                      <a:lnTo>
                        <a:pt x="21" y="261"/>
                      </a:lnTo>
                      <a:lnTo>
                        <a:pt x="23" y="273"/>
                      </a:lnTo>
                      <a:lnTo>
                        <a:pt x="25" y="286"/>
                      </a:lnTo>
                      <a:lnTo>
                        <a:pt x="27" y="299"/>
                      </a:lnTo>
                      <a:lnTo>
                        <a:pt x="29" y="311"/>
                      </a:lnTo>
                      <a:lnTo>
                        <a:pt x="31" y="324"/>
                      </a:lnTo>
                      <a:lnTo>
                        <a:pt x="33" y="336"/>
                      </a:lnTo>
                      <a:lnTo>
                        <a:pt x="34" y="347"/>
                      </a:lnTo>
                      <a:lnTo>
                        <a:pt x="36" y="362"/>
                      </a:lnTo>
                      <a:lnTo>
                        <a:pt x="37" y="381"/>
                      </a:lnTo>
                      <a:lnTo>
                        <a:pt x="52" y="253"/>
                      </a:lnTo>
                      <a:lnTo>
                        <a:pt x="63" y="261"/>
                      </a:lnTo>
                      <a:lnTo>
                        <a:pt x="71" y="271"/>
                      </a:lnTo>
                      <a:lnTo>
                        <a:pt x="86" y="290"/>
                      </a:lnTo>
                      <a:lnTo>
                        <a:pt x="93" y="300"/>
                      </a:lnTo>
                      <a:lnTo>
                        <a:pt x="100" y="311"/>
                      </a:lnTo>
                      <a:lnTo>
                        <a:pt x="108" y="325"/>
                      </a:lnTo>
                      <a:lnTo>
                        <a:pt x="118" y="342"/>
                      </a:lnTo>
                      <a:lnTo>
                        <a:pt x="125" y="357"/>
                      </a:lnTo>
                      <a:lnTo>
                        <a:pt x="134" y="378"/>
                      </a:lnTo>
                      <a:lnTo>
                        <a:pt x="140" y="396"/>
                      </a:lnTo>
                      <a:lnTo>
                        <a:pt x="146" y="413"/>
                      </a:lnTo>
                      <a:lnTo>
                        <a:pt x="151" y="428"/>
                      </a:lnTo>
                      <a:lnTo>
                        <a:pt x="153" y="438"/>
                      </a:lnTo>
                      <a:lnTo>
                        <a:pt x="157" y="457"/>
                      </a:lnTo>
                      <a:lnTo>
                        <a:pt x="161" y="473"/>
                      </a:lnTo>
                      <a:lnTo>
                        <a:pt x="165" y="492"/>
                      </a:lnTo>
                      <a:lnTo>
                        <a:pt x="167" y="519"/>
                      </a:lnTo>
                      <a:lnTo>
                        <a:pt x="169" y="539"/>
                      </a:lnTo>
                      <a:lnTo>
                        <a:pt x="170" y="579"/>
                      </a:lnTo>
                      <a:lnTo>
                        <a:pt x="185" y="577"/>
                      </a:lnTo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21" name=""/>
                <p:cNvSpPr/>
                <p:nvPr/>
              </p:nvSpPr>
              <p:spPr>
                <a:xfrm>
                  <a:off x="7488360" y="1139760"/>
                  <a:ext cx="307800" cy="919080"/>
                </a:xfrm>
                <a:custGeom>
                  <a:avLst/>
                  <a:gdLst/>
                  <a:ahLst/>
                  <a:rect l="l" t="t" r="r" b="b"/>
                  <a:pathLst>
                    <a:path w="194" h="579">
                      <a:moveTo>
                        <a:pt x="191" y="578"/>
                      </a:moveTo>
                      <a:lnTo>
                        <a:pt x="193" y="545"/>
                      </a:lnTo>
                      <a:lnTo>
                        <a:pt x="193" y="530"/>
                      </a:lnTo>
                      <a:lnTo>
                        <a:pt x="193" y="511"/>
                      </a:lnTo>
                      <a:lnTo>
                        <a:pt x="192" y="493"/>
                      </a:lnTo>
                      <a:lnTo>
                        <a:pt x="191" y="476"/>
                      </a:lnTo>
                      <a:lnTo>
                        <a:pt x="190" y="457"/>
                      </a:lnTo>
                      <a:lnTo>
                        <a:pt x="187" y="442"/>
                      </a:lnTo>
                      <a:lnTo>
                        <a:pt x="186" y="424"/>
                      </a:lnTo>
                      <a:lnTo>
                        <a:pt x="182" y="403"/>
                      </a:lnTo>
                      <a:lnTo>
                        <a:pt x="178" y="384"/>
                      </a:lnTo>
                      <a:lnTo>
                        <a:pt x="174" y="367"/>
                      </a:lnTo>
                      <a:lnTo>
                        <a:pt x="169" y="347"/>
                      </a:lnTo>
                      <a:lnTo>
                        <a:pt x="163" y="327"/>
                      </a:lnTo>
                      <a:lnTo>
                        <a:pt x="158" y="307"/>
                      </a:lnTo>
                      <a:lnTo>
                        <a:pt x="152" y="292"/>
                      </a:lnTo>
                      <a:lnTo>
                        <a:pt x="147" y="273"/>
                      </a:lnTo>
                      <a:lnTo>
                        <a:pt x="142" y="260"/>
                      </a:lnTo>
                      <a:lnTo>
                        <a:pt x="135" y="243"/>
                      </a:lnTo>
                      <a:lnTo>
                        <a:pt x="128" y="225"/>
                      </a:lnTo>
                      <a:lnTo>
                        <a:pt x="120" y="209"/>
                      </a:lnTo>
                      <a:lnTo>
                        <a:pt x="115" y="193"/>
                      </a:lnTo>
                      <a:lnTo>
                        <a:pt x="106" y="178"/>
                      </a:lnTo>
                      <a:lnTo>
                        <a:pt x="99" y="163"/>
                      </a:lnTo>
                      <a:lnTo>
                        <a:pt x="91" y="150"/>
                      </a:lnTo>
                      <a:lnTo>
                        <a:pt x="82" y="138"/>
                      </a:lnTo>
                      <a:lnTo>
                        <a:pt x="75" y="128"/>
                      </a:lnTo>
                      <a:lnTo>
                        <a:pt x="67" y="121"/>
                      </a:lnTo>
                      <a:lnTo>
                        <a:pt x="77" y="0"/>
                      </a:lnTo>
                      <a:lnTo>
                        <a:pt x="72" y="18"/>
                      </a:lnTo>
                      <a:lnTo>
                        <a:pt x="67" y="33"/>
                      </a:lnTo>
                      <a:lnTo>
                        <a:pt x="61" y="51"/>
                      </a:lnTo>
                      <a:lnTo>
                        <a:pt x="57" y="65"/>
                      </a:lnTo>
                      <a:lnTo>
                        <a:pt x="52" y="76"/>
                      </a:lnTo>
                      <a:lnTo>
                        <a:pt x="49" y="86"/>
                      </a:lnTo>
                      <a:lnTo>
                        <a:pt x="43" y="97"/>
                      </a:lnTo>
                      <a:lnTo>
                        <a:pt x="39" y="107"/>
                      </a:lnTo>
                      <a:lnTo>
                        <a:pt x="34" y="118"/>
                      </a:lnTo>
                      <a:lnTo>
                        <a:pt x="27" y="130"/>
                      </a:lnTo>
                      <a:lnTo>
                        <a:pt x="20" y="143"/>
                      </a:lnTo>
                      <a:lnTo>
                        <a:pt x="13" y="152"/>
                      </a:lnTo>
                      <a:lnTo>
                        <a:pt x="6" y="164"/>
                      </a:lnTo>
                      <a:lnTo>
                        <a:pt x="0" y="173"/>
                      </a:lnTo>
                      <a:lnTo>
                        <a:pt x="1" y="183"/>
                      </a:lnTo>
                      <a:lnTo>
                        <a:pt x="5" y="192"/>
                      </a:lnTo>
                      <a:lnTo>
                        <a:pt x="8" y="202"/>
                      </a:lnTo>
                      <a:lnTo>
                        <a:pt x="11" y="213"/>
                      </a:lnTo>
                      <a:lnTo>
                        <a:pt x="15" y="226"/>
                      </a:lnTo>
                      <a:lnTo>
                        <a:pt x="17" y="237"/>
                      </a:lnTo>
                      <a:lnTo>
                        <a:pt x="19" y="249"/>
                      </a:lnTo>
                      <a:lnTo>
                        <a:pt x="22" y="260"/>
                      </a:lnTo>
                      <a:lnTo>
                        <a:pt x="24" y="273"/>
                      </a:lnTo>
                      <a:lnTo>
                        <a:pt x="27" y="287"/>
                      </a:lnTo>
                      <a:lnTo>
                        <a:pt x="29" y="300"/>
                      </a:lnTo>
                      <a:lnTo>
                        <a:pt x="31" y="311"/>
                      </a:lnTo>
                      <a:lnTo>
                        <a:pt x="32" y="324"/>
                      </a:lnTo>
                      <a:lnTo>
                        <a:pt x="34" y="337"/>
                      </a:lnTo>
                      <a:lnTo>
                        <a:pt x="35" y="347"/>
                      </a:lnTo>
                      <a:lnTo>
                        <a:pt x="37" y="362"/>
                      </a:lnTo>
                      <a:lnTo>
                        <a:pt x="39" y="379"/>
                      </a:lnTo>
                      <a:lnTo>
                        <a:pt x="53" y="253"/>
                      </a:lnTo>
                      <a:lnTo>
                        <a:pt x="65" y="262"/>
                      </a:lnTo>
                      <a:lnTo>
                        <a:pt x="73" y="272"/>
                      </a:lnTo>
                      <a:lnTo>
                        <a:pt x="88" y="290"/>
                      </a:lnTo>
                      <a:lnTo>
                        <a:pt x="96" y="300"/>
                      </a:lnTo>
                      <a:lnTo>
                        <a:pt x="103" y="311"/>
                      </a:lnTo>
                      <a:lnTo>
                        <a:pt x="115" y="330"/>
                      </a:lnTo>
                      <a:lnTo>
                        <a:pt x="122" y="342"/>
                      </a:lnTo>
                      <a:lnTo>
                        <a:pt x="131" y="356"/>
                      </a:lnTo>
                      <a:lnTo>
                        <a:pt x="137" y="369"/>
                      </a:lnTo>
                      <a:lnTo>
                        <a:pt x="143" y="378"/>
                      </a:lnTo>
                      <a:lnTo>
                        <a:pt x="148" y="389"/>
                      </a:lnTo>
                      <a:lnTo>
                        <a:pt x="153" y="401"/>
                      </a:lnTo>
                      <a:lnTo>
                        <a:pt x="160" y="416"/>
                      </a:lnTo>
                      <a:lnTo>
                        <a:pt x="163" y="429"/>
                      </a:lnTo>
                      <a:lnTo>
                        <a:pt x="169" y="443"/>
                      </a:lnTo>
                      <a:lnTo>
                        <a:pt x="173" y="459"/>
                      </a:lnTo>
                      <a:lnTo>
                        <a:pt x="176" y="476"/>
                      </a:lnTo>
                      <a:lnTo>
                        <a:pt x="179" y="493"/>
                      </a:lnTo>
                      <a:lnTo>
                        <a:pt x="182" y="510"/>
                      </a:lnTo>
                      <a:lnTo>
                        <a:pt x="185" y="528"/>
                      </a:lnTo>
                      <a:lnTo>
                        <a:pt x="187" y="548"/>
                      </a:lnTo>
                      <a:lnTo>
                        <a:pt x="191" y="578"/>
                      </a:lnTo>
                    </a:path>
                  </a:pathLst>
                </a:cu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aphicFrame>
        <p:nvGraphicFramePr>
          <p:cNvPr id="922" name=""/>
          <p:cNvGraphicFramePr/>
          <p:nvPr/>
        </p:nvGraphicFramePr>
        <p:xfrm>
          <a:off x="933480" y="220680"/>
          <a:ext cx="2951280" cy="3652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2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33480" y="220680"/>
                    <a:ext cx="2951280" cy="36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7958-88F0-43A1-B318-5888E4A301C9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129492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MODELOS DE INTERACCIÓN ESPACIAL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WILS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Modelo de localización con Entropí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1ACA-8322-46C4-90F0-B58C09B8448B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8cf4ea"/>
                </a:solidFill>
                <a:latin typeface="Times New Roman"/>
              </a:rPr>
              <a:t>Localización Residencial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289080" y="3567240"/>
                <a:ext cx="879768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w</m:t>
                        </m:r>
                      </m:sup>
                    </m:sSubSup>
                    <m:sSubSup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w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β</m:t>
                        </m:r>
                      </m:e>
                      <m:sup>
                        <m:r>
                          <m:t xml:space="preserve">w</m:t>
                        </m:r>
                      </m:sup>
                    </m:s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μ</m:t>
                    </m:r>
                    <m:r>
                      <m:t xml:space="preserve">[</m:t>
                    </m:r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r>
                      <m:t xml:space="preserve">−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w</m:t>
                        </m:r>
                      </m:sup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w</m:t>
                        </m:r>
                      </m:sup>
                    </m:sSup>
                    <m:r>
                      <m:t xml:space="preserve">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]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" name=""/>
          <p:cNvSpPr/>
          <p:nvPr/>
        </p:nvSpPr>
        <p:spPr>
          <a:xfrm>
            <a:off x="838080" y="1675080"/>
            <a:ext cx="777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Máximización de la entropía: modelo doblemente acotado a población y empleo, que maximiza las postur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05640" y="3047040"/>
            <a:ext cx="254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Modelo propues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043280" y="4785480"/>
            <a:ext cx="6197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H :</a:t>
            </a: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 hoga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E </a:t>
            </a: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: emple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k </a:t>
            </a: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: tipo vivien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w </a:t>
            </a: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: tipo de hogar (salario </a:t>
            </a: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q </a:t>
            </a: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: proporción de salario destinado a viviend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E555-3D3D-4FFE-8ECE-E608B82A98CA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Localización Residencial..... Wilson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112680" y="5657760"/>
                <a:ext cx="853920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w</m:t>
                        </m:r>
                      </m:sup>
                    </m:sSubSup>
                    <m:sSubSup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w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β</m:t>
                        </m:r>
                      </m:e>
                      <m:sup>
                        <m:r>
                          <m:t xml:space="preserve">w</m:t>
                        </m:r>
                      </m:sup>
                    </m:s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μ</m:t>
                        </m:r>
                      </m:e>
                      <m:sup>
                        <m:r>
                          <m:t xml:space="preserve">w</m:t>
                        </m:r>
                      </m:sup>
                    </m:sSup>
                    <m:r>
                      <m:t xml:space="preserve">[</m:t>
                    </m:r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r>
                      <m:t xml:space="preserve">−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w</m:t>
                        </m:r>
                      </m:sup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w</m:t>
                        </m:r>
                      </m:sup>
                    </m:sSup>
                    <m:r>
                      <m:t xml:space="preserve">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]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5" name=""/>
          <p:cNvSpPr/>
          <p:nvPr/>
        </p:nvSpPr>
        <p:spPr>
          <a:xfrm>
            <a:off x="606600" y="1584360"/>
            <a:ext cx="792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Máximizción de la entropía: modelo doblemente acotado a población y empleo, que maximiza las posturas (absoluta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1380960" y="2749680"/>
                <a:ext cx="6234120" cy="253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</m:lim>
                        </m:limLow>
                        <m:r>
                          <m:t xml:space="preserve"> 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kw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[</m:t>
                            </m:r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k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w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I</m:t>
                                </m:r>
                              </m:e>
                              <m:sup>
                                <m:r>
                                  <m:t xml:space="preserve">w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]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w</m:t>
                                </m:r>
                              </m:sub>
                              <m:sup/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sSup>
                                      <m:e>
                                        <m:r>
                                          <m:t xml:space="preserve">μ</m:t>
                                        </m:r>
                                      </m:e>
                                      <m:sup>
                                        <m:r>
                                          <m:t xml:space="preserve">w</m:t>
                                        </m:r>
                                      </m:sup>
                                    </m:sSup>
                                  </m:den>
                                </m:f>
                              </m:e>
                            </m:nary>
                          </m:e>
                        </m:nary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kw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w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k</m:t>
                                </m:r>
                              </m:sup>
                            </m:sSubSup>
                          </m:e>
                        </m:nary>
                      </m:e>
                      <m:e>
                        <m:r>
                          <m:t xml:space="preserve">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  <m:sup>
                                <m:r>
                                  <m:t xml:space="preserve">w</m:t>
                                </m:r>
                              </m:sup>
                            </m:sSubSup>
                          </m:e>
                        </m:nary>
                      </m:e>
                      <m:e>
                        <m:r>
                          <m:t xml:space="preserve">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k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w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B771-50FF-4F7C-838D-C3267529C3F2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Localización Residencial..... Wilson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493560" y="1371600"/>
                <a:ext cx="853920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w</m:t>
                        </m:r>
                      </m:sup>
                    </m:sSubSup>
                    <m:sSubSup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w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β</m:t>
                        </m:r>
                      </m:e>
                      <m:sup>
                        <m:r>
                          <m:t xml:space="preserve">w</m:t>
                        </m:r>
                      </m:sup>
                    </m:s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μ</m:t>
                        </m:r>
                      </m:e>
                      <m:sup>
                        <m:r>
                          <m:t xml:space="preserve">w</m:t>
                        </m:r>
                      </m:sup>
                    </m:sSup>
                    <m:r>
                      <m:t xml:space="preserve">[</m:t>
                    </m:r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r>
                      <m:t xml:space="preserve">−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w</m:t>
                        </m:r>
                      </m:sup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w</m:t>
                        </m:r>
                      </m:sup>
                    </m:sSup>
                    <m:r>
                      <m:t xml:space="preserve">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]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713520" y="2284920"/>
            <a:ext cx="550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Extensión a otras funciones de  atrac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1600200" y="2895480"/>
                <a:ext cx="484992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w</m:t>
                        </m:r>
                      </m:sup>
                    </m:sSubSup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</m:sup>
                    </m:sSubSup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w</m:t>
                        </m:r>
                      </m:sup>
                    </m:sSubSup>
                    <m:r>
                      <m:t xml:space="preserve"> </m:t>
                    </m:r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w</m:t>
                        </m:r>
                      </m:sup>
                    </m:sSubSup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990720" y="4191120"/>
                <a:ext cx="7391160" cy="82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</m:sup>
                    </m:sSubSup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∏"/>
                            <m:supHide m:val="1"/>
                          </m:naryPr>
                          <m:sub>
                            <m:r>
                              <m:t xml:space="preserve">n</m:t>
                            </m:r>
                          </m:sub>
                          <m:sup/>
                          <m:e>
                            <m:r>
                              <m:t xml:space="preserve">(</m:t>
                            </m:r>
                          </m:e>
                        </m:nary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i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  <m:sup>
                                <m:r>
                                  <m:t xml:space="preserve">w</m:t>
                                </m:r>
                              </m:sup>
                            </m:sSubSup>
                          </m:sup>
                        </m:sSup>
                      </m:e>
                    </m:d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Sup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k</m:t>
                                </m:r>
                              </m:sup>
                            </m:sSubSup>
                          </m:e>
                        </m:d>
                      </m:e>
                      <m:sup>
                        <m:sSup>
                          <m:e>
                            <m:r>
                              <m:t xml:space="preserve">α</m:t>
                            </m:r>
                          </m:e>
                          <m:sup>
                            <m:r>
                              <m:t xml:space="preserve">k</m:t>
                            </m:r>
                          </m:sup>
                        </m:sSup>
                      </m:sup>
                    </m:sSup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β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μ</m:t>
                        </m:r>
                      </m:e>
                      <m:sup>
                        <m:r>
                          <m:t xml:space="preserve">w</m:t>
                        </m:r>
                      </m:sup>
                    </m:sSup>
                    <m:r>
                      <m:t xml:space="preserve">[</m:t>
                    </m:r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r>
                      <m:t xml:space="preserve">−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w</m:t>
                        </m:r>
                      </m:sup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w</m:t>
                        </m:r>
                      </m:sup>
                    </m:sSup>
                    <m:r>
                      <m:t xml:space="preserve">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]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04D3-7241-4B3E-AC6A-336852B54655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Localización Residencial..... </a:t>
            </a:r>
            <a:br>
              <a:rPr sz="3200"/>
            </a:b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Wilson tipo Alonso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295280" y="4191120"/>
                <a:ext cx="579132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w</m:t>
                        </m:r>
                      </m:sup>
                    </m:sSubSup>
                    <m:sSubSup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w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μ</m:t>
                    </m:r>
                    <m:r>
                      <m:t xml:space="preserve">[</m:t>
                    </m:r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</m:sup>
                    </m:sSubSup>
                    <m:r>
                      <m:t xml:space="preserve">−</m:t>
                    </m:r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1295280" y="1676520"/>
                <a:ext cx="5791320" cy="23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</m:lim>
                        </m:limLow>
                        <m:r>
                          <m:t xml:space="preserve"> 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kw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μ</m:t>
                            </m:r>
                          </m:den>
                        </m:f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kw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w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k</m:t>
                                </m:r>
                              </m:sup>
                            </m:sSubSup>
                          </m:e>
                        </m:nary>
                      </m:e>
                      <m:e>
                        <m:r>
                          <m:t xml:space="preserve">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  <m:sup>
                                <m:r>
                                  <m:t xml:space="preserve">w</m:t>
                                </m:r>
                              </m:sup>
                            </m:sSubSup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3736800" y="5257800"/>
                <a:ext cx="3818160" cy="10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μ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kw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β</m:t>
                            </m:r>
                          </m:e>
                          <m:sup>
                            <m:r>
                              <m:t xml:space="preserve">w</m:t>
                            </m:r>
                          </m:sup>
                        </m:s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  <m:e>
                        <m:sSubSup>
                          <m:e>
                            <m:r>
                              <m:t xml:space="preserve">μ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kw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μ</m:t>
                        </m:r>
                        <m:r>
                          <m:t xml:space="preserve">[</m:t>
                        </m:r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w</m:t>
                            </m:r>
                          </m:sup>
                        </m:s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w</m:t>
                            </m:r>
                          </m:sup>
                        </m:s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)</m:t>
                        </m:r>
                        <m:sSup>
                          <m:e>
                            <m:r>
                              <m:t xml:space="preserve">]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8" name=""/>
          <p:cNvSpPr/>
          <p:nvPr/>
        </p:nvSpPr>
        <p:spPr>
          <a:xfrm>
            <a:off x="1155600" y="5455080"/>
            <a:ext cx="2349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Equivalencia con modelo anteri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4F1C-1912-4CAF-9BAE-502869B0F9C4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Localización Residencial..... </a:t>
            </a:r>
            <a:br>
              <a:rPr sz="3200"/>
            </a:b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Comparación con Herbet &amp; Stevens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349200" y="1751040"/>
                <a:ext cx="3384720" cy="21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</m:lim>
                        </m:limLow>
                        <m:r>
                          <m:t xml:space="preserve"> 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kw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w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k</m:t>
                                </m:r>
                              </m:sup>
                            </m:sSubSup>
                          </m:e>
                        </m:nary>
                        <m:r>
                          <m:t xml:space="preserve"> 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  <m:sup>
                                <m:r>
                                  <m:t xml:space="preserve">w</m:t>
                                </m:r>
                              </m:sup>
                            </m:sSubSup>
                            <m:r>
                              <m:t xml:space="preserve"> </m:t>
                            </m:r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  <m:sup>
                                <m:r>
                                  <m:t xml:space="preserve">w</m:t>
                                </m:r>
                              </m:sup>
                            </m:sSubSup>
                            <m:r>
                              <m:t xml:space="preserve">)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4038480" y="1828800"/>
                <a:ext cx="4937400" cy="198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</m:lim>
                        </m:limLow>
                        <m:r>
                          <m:t xml:space="preserve"> 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kw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μ</m:t>
                            </m:r>
                          </m:den>
                        </m:f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kw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w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k</m:t>
                                </m:r>
                              </m:sup>
                            </m:sSubSup>
                            <m:r>
                              <m:t xml:space="preserve"> </m:t>
                            </m:r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1</m:t>
                                </m:r>
                                <m:r>
                                  <m:t xml:space="preserve">k</m:t>
                                </m:r>
                              </m:sup>
                            </m:sSubSup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t xml:space="preserve">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  <m:sup>
                                <m:r>
                                  <m:t xml:space="preserve">w</m:t>
                                </m:r>
                              </m:sup>
                            </m:sSubSup>
                            <m:r>
                              <m:t xml:space="preserve"> </m:t>
                            </m:r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  <m:r>
                                  <m:t xml:space="preserve">w</m:t>
                                </m:r>
                              </m:sup>
                            </m:sSubSup>
                            <m:r>
                              <m:t xml:space="preserve">)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3" name=""/>
          <p:cNvSpPr/>
          <p:nvPr/>
        </p:nvSpPr>
        <p:spPr>
          <a:xfrm>
            <a:off x="989640" y="3961440"/>
            <a:ext cx="209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Determinístic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975560" y="3885120"/>
            <a:ext cx="16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Estocástic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1917720" y="4606920"/>
                <a:ext cx="2440080" cy="209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sub>
                            <m:r>
                              <m:t xml:space="preserve">μ</m:t>
                            </m:r>
                            <m:r>
                              <m:t xml:space="preserve">→</m:t>
                            </m:r>
                            <m:r>
                              <m:t xml:space="preserve">∞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Sup>
                                  <m:e>
                                    <m:r>
                                      <m:t xml:space="preserve">λ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1</m:t>
                                    </m:r>
                                    <m:r>
                                      <m:t xml:space="preserve">k</m:t>
                                    </m:r>
                                  </m:sup>
                                </m:sSubSup>
                              </m:num>
                              <m:den>
                                <m:r>
                                  <m:t xml:space="preserve">μ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sub>
                            <m:r>
                              <m:t xml:space="preserve">μ</m:t>
                            </m:r>
                            <m:r>
                              <m:t xml:space="preserve">→</m:t>
                            </m:r>
                            <m:r>
                              <m:t xml:space="preserve">∞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Sup>
                                  <m:e>
                                    <m:r>
                                      <m:t xml:space="preserve">λ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  <m:r>
                                      <m:t xml:space="preserve">w</m:t>
                                    </m:r>
                                  </m:sup>
                                </m:sSubSup>
                              </m:num>
                              <m:den>
                                <m:r>
                                  <m:t xml:space="preserve">μ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w</m:t>
                            </m:r>
                          </m:sup>
                        </m:sSub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6" name=""/>
          <p:cNvSpPr/>
          <p:nvPr/>
        </p:nvSpPr>
        <p:spPr>
          <a:xfrm>
            <a:off x="4500720" y="5150160"/>
            <a:ext cx="410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Los multiplicadores representan la ren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4D34-A083-4185-9EE1-F95BC9D5F8D2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7-03T13:57:26Z</dcterms:created>
  <dc:creator/>
  <dc:description/>
  <dc:language>en-US</dc:language>
  <cp:lastModifiedBy>F M</cp:lastModifiedBy>
  <dcterms:modified xsi:type="dcterms:W3CDTF">2005-08-30T20:15:39Z</dcterms:modified>
  <cp:revision>141</cp:revision>
  <dc:subject/>
  <dc:title>General</dc:title>
</cp:coreProperties>
</file>