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8637-50BB-401B-8F5A-B3797638E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0407-EDA9-45ED-A38E-2DFB2F26A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12B-CB28-4A6D-B436-49CADBB82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955E-E5F6-4D6D-A514-7EE39E1F4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E751-0802-48BA-AAC5-A7F908F3A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137-89F5-4CFA-8298-DE0502B6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34EA-D654-4EC3-98ED-272E640F8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7480-469A-4002-9165-0EC213F76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4BEB-7ABB-48D0-98B8-B449D2FE5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76A0-2905-40AF-AF03-26D2C7F9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89CA8-77C8-43F4-8735-CCF925446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BF60-F675-4AFC-BAC3-4E5DDEEE6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9673-BB4F-40F5-9B19-40298618B4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4400" spc="-1" strike="noStrike">
                <a:solidFill>
                  <a:srgbClr val="8cf4ea"/>
                </a:solidFill>
                <a:latin typeface="Times New Roman"/>
              </a:rPr>
              <a:t>Capítulo 5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7920"/>
            <a:ext cx="640080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609480"/>
            <a:ext cx="6959520" cy="97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779400" y="3075120"/>
                <a:ext cx="7953480" cy="122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m>
                      <m:mr>
                        <m:e/>
                        <m:e/>
                        <m:e>
                          <m:r>
                            <m:rPr>
                              <m:lit/>
                              <m:nor/>
                            </m:rPr>
                            <m:t xml:space="preserve">vi</m:t>
                          </m:r>
                          <m:r>
                            <m:t xml:space="preserve">∈</m:t>
                          </m:r>
                          <m:sSub>
                            <m:e>
                              <m:r>
                                <m:t xml:space="preserve">Ω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1506600" y="5043600"/>
            <a:ext cx="58910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Oferta de máxima ganancia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800" spc="-1" strike="noStrike">
                <a:solidFill>
                  <a:srgbClr val="8cf4ea"/>
                </a:solidFill>
                <a:latin typeface="Symbol"/>
                <a:ea typeface="Symbol"/>
              </a:rPr>
              <a:t>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: función de gan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Walras: Oferta igual dem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320" y="151920"/>
            <a:ext cx="6959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004840" y="3235320"/>
                <a:ext cx="48196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1514520" y="5089680"/>
            <a:ext cx="63799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Área de terreno en tipo de vivienda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Q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Área disponible para localización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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i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Tipos de viviendas aceptables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 de suelo: Oferta de suelo inelás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quilibrio.....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1430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b7a5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Arial"/>
              </a:rPr>
              <a:t>Externalidades de localización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la localización afecta la localización a través de los atributos zonales (variables endógen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1066680" y="4495680"/>
                <a:ext cx="6012000" cy="12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P</m:t>
                            </m:r>
                            <m:r>
                              <m:t xml:space="preserve">)</m:t>
                            </m:r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824040" y="3048120"/>
                <a:ext cx="763560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"/>
          <p:cNvSpPr/>
          <p:nvPr/>
        </p:nvSpPr>
        <p:spPr>
          <a:xfrm>
            <a:off x="2135160" y="6172200"/>
            <a:ext cx="4664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localización :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=f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0280" y="3809880"/>
            <a:ext cx="1828800" cy="838440"/>
          </a:xfrm>
          <a:prstGeom prst="wedgeRectCallout">
            <a:avLst>
              <a:gd name="adj1" fmla="val -156250"/>
              <a:gd name="adj2" fmla="val -75379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Variables  u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l sue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828800" y="1760400"/>
                <a:ext cx="7070760" cy="120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t</m:t>
                        </m:r>
                      </m:sup>
                    </m:sSup>
                    <m:r>
                      <m:t xml:space="preserve">,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t</m:t>
                            </m:r>
                          </m:sup>
                        </m:sSup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917720" y="3513240"/>
                <a:ext cx="72262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981080" y="4495680"/>
                <a:ext cx="36338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1523880" y="3024360"/>
            <a:ext cx="1524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279080" y="2117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79080" y="36417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79080" y="455616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78240" y="517680"/>
            <a:ext cx="620172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Problema de optimizació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981080" y="5486400"/>
                <a:ext cx="318456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1279080" y="5546880"/>
            <a:ext cx="55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22824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025640" y="4183200"/>
                <a:ext cx="7854840" cy="13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sSubSup>
                      <m:e/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  <m:r>
                              <m:t xml:space="preserve">∈</m:t>
                            </m:r>
                            <m:r>
                              <m:t xml:space="preserve">Ω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[</m:t>
                            </m:r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vi</m:t>
                                </m:r>
                              </m:sub>
                              <m:sup>
                                <m:r>
                                  <m:t xml:space="preserve">t</m:t>
                                </m:r>
                              </m:sup>
                            </m:sSubSup>
                          </m:e>
                        </m:nary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(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  <m:sup/>
                        </m:sSubSup>
                        <m:r>
                          <m:t xml:space="preserve">)</m:t>
                        </m:r>
                        <m:r>
                          <m:t xml:space="preserve">]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1978920" y="6156360"/>
            <a:ext cx="4254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unto fijo de utilidad: 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=f(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133720" y="1981080"/>
                <a:ext cx="53337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85720" y="5165640"/>
            <a:ext cx="2742120" cy="85572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P, B</a:t>
            </a:r>
            <a:r>
              <a:rPr b="1" i="1" lang="es-CL" sz="2000" spc="-1" strike="noStrike" baseline="-25000">
                <a:solidFill>
                  <a:srgbClr val="8cf4ea"/>
                </a:solidFill>
                <a:latin typeface="Arial"/>
              </a:rPr>
              <a:t>h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)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rob. 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33000" y="3413160"/>
            <a:ext cx="307764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P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u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4564080" y="2590920"/>
            <a:ext cx="7920" cy="83808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564080" y="4343400"/>
            <a:ext cx="0" cy="762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19920" y="5562720"/>
            <a:ext cx="12189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7238880" y="2057040"/>
            <a:ext cx="0" cy="35053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5880" y="2057400"/>
            <a:ext cx="1143000" cy="0"/>
          </a:xfrm>
          <a:prstGeom prst="line">
            <a:avLst/>
          </a:prstGeom>
          <a:ln w="5076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447920" y="228600"/>
            <a:ext cx="70866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lgoritmo solución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76520"/>
            <a:ext cx="2971800" cy="824040"/>
          </a:xfrm>
          <a:prstGeom prst="rect">
            <a:avLst/>
          </a:prstGeom>
          <a:noFill/>
          <a:ln w="93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1" i="1" lang="es-CL" sz="2400" spc="-1" strike="noStrike" baseline="30000">
                <a:solidFill>
                  <a:srgbClr val="8cf4ea"/>
                </a:solidFill>
                <a:latin typeface="Arial"/>
              </a:rPr>
              <a:t>t </a:t>
            </a:r>
            <a:r>
              <a:rPr b="1" i="1" lang="es-CL" sz="2000" spc="-1" strike="noStrike">
                <a:solidFill>
                  <a:srgbClr val="8cf4ea"/>
                </a:solidFill>
                <a:latin typeface="Arial"/>
              </a:rPr>
              <a:t>(S,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punto fijo ut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59072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92720" y="12193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5880" y="2401920"/>
            <a:ext cx="11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=L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919560" y="1407960"/>
            <a:ext cx="6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P=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28120" y="192240"/>
            <a:ext cx="595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Probabilidad 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4724280" y="44197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4267080" y="4419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28800" y="2590920"/>
            <a:ext cx="4952880" cy="2895480"/>
          </a:xfrm>
          <a:custGeom>
            <a:avLst/>
            <a:gdLst/>
            <a:ahLst/>
            <a:rect l="l" t="t" r="r" b="b"/>
            <a:pathLst>
              <a:path w="3504" h="2256">
                <a:moveTo>
                  <a:pt x="0" y="2256"/>
                </a:moveTo>
                <a:cubicBezTo>
                  <a:pt x="764" y="2084"/>
                  <a:pt x="1528" y="1912"/>
                  <a:pt x="1920" y="1584"/>
                </a:cubicBezTo>
                <a:cubicBezTo>
                  <a:pt x="2312" y="1256"/>
                  <a:pt x="2088" y="552"/>
                  <a:pt x="2352" y="288"/>
                </a:cubicBezTo>
                <a:cubicBezTo>
                  <a:pt x="2616" y="24"/>
                  <a:pt x="3312" y="48"/>
                  <a:pt x="35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15000" y="2590920"/>
            <a:ext cx="228600" cy="15228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3657600"/>
            <a:ext cx="152280" cy="15228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6720" y="1295280"/>
            <a:ext cx="0" cy="4343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14400" y="5638680"/>
            <a:ext cx="723888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276720" y="1676520"/>
            <a:ext cx="3429000" cy="396216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842600" y="590724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00640" y="1219320"/>
            <a:ext cx="508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24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707160" y="2438280"/>
            <a:ext cx="25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=logsuma(B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33240" y="1407960"/>
            <a:ext cx="805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=B</a:t>
            </a:r>
            <a:r>
              <a:rPr b="1" lang="es-ES" sz="1800" spc="-1" strike="noStrike" baseline="-25000">
                <a:solidFill>
                  <a:srgbClr val="ffffff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31000" y="192240"/>
            <a:ext cx="35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cf4ea"/>
                </a:solidFill>
                <a:latin typeface="Arial"/>
              </a:rPr>
              <a:t>Punto Fijo de Log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94360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181120" y="342900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81480" y="3429000"/>
            <a:ext cx="0" cy="2209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495320" y="419112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2743200"/>
            <a:ext cx="4876560" cy="2514600"/>
          </a:xfrm>
          <a:custGeom>
            <a:avLst/>
            <a:gdLst/>
            <a:ahLst/>
            <a:rect l="l" t="t" r="r" b="b"/>
            <a:pathLst>
              <a:path w="3072" h="1584">
                <a:moveTo>
                  <a:pt x="0" y="1584"/>
                </a:moveTo>
                <a:cubicBezTo>
                  <a:pt x="336" y="1584"/>
                  <a:pt x="672" y="1584"/>
                  <a:pt x="960" y="1536"/>
                </a:cubicBezTo>
                <a:cubicBezTo>
                  <a:pt x="1248" y="1488"/>
                  <a:pt x="1472" y="1448"/>
                  <a:pt x="1728" y="1296"/>
                </a:cubicBezTo>
                <a:cubicBezTo>
                  <a:pt x="1984" y="1144"/>
                  <a:pt x="2272" y="840"/>
                  <a:pt x="2496" y="624"/>
                </a:cubicBezTo>
                <a:cubicBezTo>
                  <a:pt x="2720" y="408"/>
                  <a:pt x="2968" y="112"/>
                  <a:pt x="3072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4952880"/>
            <a:ext cx="152280" cy="15264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22440" y="2270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7" name=""/>
              <p:cNvSpPr txBox="1"/>
              <p:nvPr/>
            </p:nvSpPr>
            <p:spPr>
              <a:xfrm>
                <a:off x="1676520" y="1219320"/>
                <a:ext cx="6276960" cy="12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in</m:t>
                    </m:r>
                    <m:r>
                      <m:t xml:space="preserve">F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∈</m:t>
                        </m:r>
                        <m:r>
                          <m:t xml:space="preserve">H</m:t>
                        </m:r>
                      </m:sub>
                      <m:sup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vi</m:t>
                                    </m:r>
                                    <m:r>
                                      <m:t xml:space="preserve">∈</m:t>
                                    </m:r>
                                    <m:sSup>
                                      <m:e>
                                        <m:r>
                                          <m:t xml:space="preserve">Ω</m:t>
                                        </m:r>
                                      </m:e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p>
                                  </m:sub>
                                  <m:sup/>
                                  <m:e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vi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f>
                                          <m:fPr>
                                            <m:type m:val="lin"/>
                                          </m:fPr>
                                          <m:num>
                                            <m:r>
                                              <m:t xml:space="preserve">h</m:t>
                                            </m:r>
                                          </m:num>
                                          <m:den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vi</m:t>
                                            </m:r>
                                          </m:den>
                                        </m:f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  <m:r>
                                      <m:t xml:space="preserve">(</m:t>
                                    </m:r>
                                    <m:sSub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,</m:t>
                                    </m:r>
                                    <m:r>
                                      <m:t xml:space="preserve">P</m:t>
                                    </m:r>
                                    <m:r>
                                      <m:t xml:space="preserve">,</m:t>
                                    </m:r>
                                    <m:sSup>
                                      <m:e>
                                        <m:r>
                                          <m:t xml:space="preserve">I</m:t>
                                        </m:r>
                                      </m:e>
                                      <m:sup>
                                        <m:r>
                                          <m:t xml:space="preserve">h</m:t>
                                        </m:r>
                                      </m:sup>
                                    </m:sSup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sSubSup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>
                                        <m:r>
                                          <m:t xml:space="preserve">t</m:t>
                                        </m:r>
                                      </m:sup>
                                    </m:sSubSup>
                                  </m:e>
                                </m:nary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1981080" y="3429000"/>
                <a:ext cx="6620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=</m:t>
                        </m:r>
                      </m:e>
                    </m:nary>
                    <m:r>
                      <m:t xml:space="preserve">X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h</m:t>
                        </m:r>
                      </m:sup>
                    </m:sSup>
                    <m:r>
                      <m:t xml:space="preserve">)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S</m:t>
                        </m:r>
                      </m:sup>
                    </m:sSup>
                    <m:r>
                      <m:t xml:space="preserve">)</m:t>
                    </m:r>
                    <m:m>
                      <m:mr>
                        <m:e/>
                        <m:e>
                          <m:r>
                            <m:t xml:space="preserve">∀</m:t>
                          </m:r>
                          <m:r>
                            <m:t xml:space="preserve">i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1981080" y="4267080"/>
                <a:ext cx="320040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Î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>
            <a:off x="914400" y="3032280"/>
            <a:ext cx="1523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Sujeto 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143000" y="228600"/>
            <a:ext cx="769608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Regulaciones e incentiv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1981080" y="5105520"/>
                <a:ext cx="337824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2057400" y="5867280"/>
                <a:ext cx="1295280" cy="5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≤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"/>
          <p:cNvSpPr/>
          <p:nvPr/>
        </p:nvSpPr>
        <p:spPr>
          <a:xfrm>
            <a:off x="7696080" y="2438280"/>
            <a:ext cx="1143000" cy="609840"/>
          </a:xfrm>
          <a:prstGeom prst="wedgeRectCallout">
            <a:avLst>
              <a:gd name="adj1" fmla="val -160416"/>
              <a:gd name="adj2" fmla="val -12057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21560" y="243828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g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05600" y="4572000"/>
            <a:ext cx="1143000" cy="609480"/>
          </a:xfrm>
          <a:prstGeom prst="wedgeRectCallout">
            <a:avLst>
              <a:gd name="adj1" fmla="val -93750"/>
              <a:gd name="adj2" fmla="val -189324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831080" y="4572000"/>
            <a:ext cx="131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Incen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ofer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114800" y="5943600"/>
            <a:ext cx="2590920" cy="380880"/>
          </a:xfrm>
          <a:prstGeom prst="wedgeRectCallout">
            <a:avLst>
              <a:gd name="adj1" fmla="val -74634"/>
              <a:gd name="adj2" fmla="val 5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82360" y="59072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Regul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O.K.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Tenemos piezas y partes..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88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8cf4ea"/>
                </a:solidFill>
                <a:latin typeface="Times New Roman"/>
              </a:rPr>
              <a:t>¿cómo se junta todo esto ahora?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6000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95280" y="22860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PROBLEMA</a:t>
            </a: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redecir localización y rentas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Mercado del suelo: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competitivo y especulativ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Agentes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hogares y firm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h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racionales, diversos gustos, compiten suelo, esternal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spacio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(zonas 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i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):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heterogéneo en atributos</a:t>
            </a:r>
            <a:r>
              <a:rPr b="1" lang="es-CL" sz="2400" spc="-1" strike="noStrike">
                <a:solidFill>
                  <a:srgbClr val="8cf4ea"/>
                </a:solidFill>
                <a:latin typeface="Times New Roman"/>
              </a:rPr>
              <a:t>,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imitado y regul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dustria inmobiliaria: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diversas viviendas, maximizadoresde ganancia 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</a:t>
            </a:r>
            <a:r>
              <a:rPr b="1" i="1" lang="es-CL" sz="32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1" i="1" lang="es-CL" sz="28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x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461600" y="2362320"/>
            <a:ext cx="748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Crecimiento: N° hogares y firmas (H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Sistema de transporte (acc, at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gulaciones uso del sue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Incentivos de localiza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609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ndóge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Uso del suelo (S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, q</a:t>
            </a:r>
            <a:r>
              <a:rPr b="0" lang="es-CL" sz="18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 (H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Renta (r</a:t>
            </a:r>
            <a:r>
              <a:rPr b="0" lang="es-CL" sz="1600" spc="-1" strike="noStrike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Decisiones de los ag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Excedentes o Nivel de v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034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nfoque de rem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Postur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2077920" y="2514600"/>
                <a:ext cx="61293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;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"/>
          <p:cNvSpPr/>
          <p:nvPr/>
        </p:nvSpPr>
        <p:spPr>
          <a:xfrm>
            <a:off x="1542600" y="3905280"/>
            <a:ext cx="3453480" cy="31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ostura          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U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, w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componente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y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ingreso hogar     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D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vivien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Z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atributos de l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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arámetros de gu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1411200" y="3200400"/>
                <a:ext cx="7380360" cy="59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152280"/>
            <a:ext cx="7238880" cy="116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localiz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probabilidad que agente tipo h sea mejor postor en 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762120" y="3200400"/>
                <a:ext cx="83055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v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h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v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" name=""/>
          <p:cNvSpPr/>
          <p:nvPr/>
        </p:nvSpPr>
        <p:spPr>
          <a:xfrm>
            <a:off x="2189520" y="4917960"/>
            <a:ext cx="5903280" cy="16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localizados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S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Times New Roman"/>
              </a:rPr>
              <a:t>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Oferta de vieviendas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v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 en </a:t>
            </a: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N° agentes en grupo categoría 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8cf4ea"/>
                </a:solidFill>
                <a:latin typeface="Symbol"/>
                <a:ea typeface="Symbol"/>
              </a:rPr>
              <a:t></a:t>
            </a:r>
            <a:r>
              <a:rPr b="0" i="1" lang="es-CL" sz="1600" spc="-1" strike="noStrike">
                <a:solidFill>
                  <a:srgbClr val="8cf4ea"/>
                </a:solidFill>
                <a:latin typeface="Times New Roman"/>
              </a:rPr>
              <a:t>hvi</a:t>
            </a:r>
            <a:r>
              <a:rPr b="0" lang="es-CL" sz="2400" spc="-1" strike="noStrike">
                <a:solidFill>
                  <a:srgbClr val="8cf4ea"/>
                </a:solidFill>
                <a:latin typeface="Times New Roman"/>
              </a:rPr>
              <a:t>: probabilidad de que h haga posturas en v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94920" y="60912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Enfoque...rent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528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a renta es la máxima postura esper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5029200"/>
            <a:ext cx="746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279440" y="5105520"/>
            <a:ext cx="7255080" cy="8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B</a:t>
            </a:r>
            <a:r>
              <a:rPr b="0" i="1" lang="es-CL" sz="2400" spc="-1" strike="noStrike" baseline="-25000">
                <a:solidFill>
                  <a:srgbClr val="8cf4ea"/>
                </a:solidFill>
                <a:latin typeface="Arial"/>
              </a:rPr>
              <a:t>vi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: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parte de la renta con valor común a todo postor      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(valor de referenc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372960" y="2971800"/>
                <a:ext cx="869472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g</m:t>
                            </m:r>
                            <m:r>
                              <m:t xml:space="preserve">∈</m:t>
                            </m:r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exp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g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gvi</m:t>
                                </m:r>
                              </m:sub>
                            </m:sSub>
                          </m:e>
                        </m:nary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γ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14f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6959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Equilibrio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4400" spc="-1" strike="noStrike">
                <a:solidFill>
                  <a:srgbClr val="8cf4ea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(Condición 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8cf4ea"/>
                </a:solidFill>
                <a:latin typeface="Times New Roman"/>
              </a:rPr>
              <a:t>Localización: Todo agente se locali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1752480" y="2895480"/>
                <a:ext cx="53341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rPr>
                            <m:lit/>
                            <m:nor/>
                          </m:rPr>
                          <m:t xml:space="preserve">vi</m:t>
                        </m:r>
                        <m:r>
                          <m:t xml:space="preserve">Î</m:t>
                        </m:r>
                        <m:r>
                          <m:t xml:space="preserve">Ω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i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h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vi</m:t>
                                </m:r>
                              </m:den>
                            </m:f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t</m:t>
                            </m:r>
                          </m:sup>
                        </m:sSubSup>
                        <m:m>
                          <m:mr>
                            <m:e/>
                            <m:e/>
                            <m:e/>
                          </m:mr>
                        </m:m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513080" y="4632480"/>
            <a:ext cx="65368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S</a:t>
            </a:r>
            <a:r>
              <a:rPr b="0" lang="es-CL" sz="1600" spc="-1" strike="noStrike">
                <a:solidFill>
                  <a:srgbClr val="8cf4ea"/>
                </a:solidFill>
                <a:latin typeface="Arial"/>
              </a:rPr>
              <a:t>vi: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 N° de viviendas disponibles tipo v en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t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    Corte temporal de pred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i="1" lang="es-CL" sz="1600" spc="-1" strike="noStrike">
                <a:solidFill>
                  <a:srgbClr val="8cf4ea"/>
                </a:solidFill>
                <a:latin typeface="Arial"/>
              </a:rPr>
              <a:t>h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:</a:t>
            </a:r>
            <a:r>
              <a:rPr b="0" i="1" lang="es-CL" sz="2400" spc="-1" strike="noStrike">
                <a:solidFill>
                  <a:srgbClr val="8cf4ea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8cf4ea"/>
                </a:solidFill>
                <a:latin typeface="Arial"/>
              </a:rPr>
              <a:t>N° de agentes tipo h (exógen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8T19:14:48Z</dcterms:created>
  <dc:creator>F M</dc:creator>
  <dc:description/>
  <dc:language>en-US</dc:language>
  <cp:lastModifiedBy>F M</cp:lastModifiedBy>
  <dcterms:modified xsi:type="dcterms:W3CDTF">2004-10-28T20:51:41Z</dcterms:modified>
  <cp:revision>2</cp:revision>
  <dc:subject/>
  <dc:title>Módulo 5.</dc:title>
</cp:coreProperties>
</file>