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1A7-65F3-400C-A184-F00AAFC6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4E5-A946-4508-8901-AD9FF3BC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FB9-C9DA-43D5-826A-3CA7E92C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C2F-3E7A-4D0E-BDB4-D1DF24EA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504-2E79-4BC6-B6A3-5245F7A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309-82C8-4176-B0BC-07EA76E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9C1-4CD6-4B15-A758-012C5AD7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CC9-B0FD-4F3E-94F0-1A8CC4E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F56-DC6B-4FDC-8F7E-E279D73B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24B-51D1-46F9-BF82-99906AD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2F6-C839-435A-98B2-59A7C47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021-BE5A-4A7D-A743-582F7D4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C394-9A0A-43AB-B898-2FEFC9FA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Capítulo 5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9595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79400" y="3075120"/>
                <a:ext cx="795348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m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vi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506600" y="5043600"/>
            <a:ext cx="5891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Oferta de máxima ganancia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Symbol"/>
                <a:ea typeface="Symbol"/>
              </a:rPr>
              <a:t>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función de ga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alras: Oferta igual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95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004840" y="3235320"/>
                <a:ext cx="4819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14520" y="5089680"/>
            <a:ext cx="637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Área de terreno en tipo de vivienda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Área disponible para localización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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Tipos de viviendas aceptables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 de suelo: Oferta de suelo inelá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Arial"/>
              </a:rPr>
              <a:t>Externalidades de localización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la localización afecta la localización a través de los atributos zonales (variables endóge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66680" y="4495680"/>
                <a:ext cx="60120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24040" y="3048120"/>
                <a:ext cx="7635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135160" y="6172200"/>
            <a:ext cx="4664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localización :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=f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809880"/>
            <a:ext cx="1828800" cy="838440"/>
          </a:xfrm>
          <a:prstGeom prst="wedgeRectCallout">
            <a:avLst>
              <a:gd name="adj1" fmla="val -156250"/>
              <a:gd name="adj2" fmla="val -7537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riables 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1760400"/>
                <a:ext cx="70707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3513240"/>
                <a:ext cx="7226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81080" y="4495680"/>
                <a:ext cx="3633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523880" y="302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9080" y="2117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080" y="36417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9080" y="45561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517680"/>
            <a:ext cx="6201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Problema de optimiz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81080" y="5486400"/>
                <a:ext cx="3184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279080" y="5546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25640" y="4183200"/>
                <a:ext cx="785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Sup>
                      <m:e/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978920" y="6156360"/>
            <a:ext cx="4254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33720" y="198108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85720" y="5165640"/>
            <a:ext cx="2742120" cy="85572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P, B</a:t>
            </a:r>
            <a:r>
              <a:rPr b="1" i="1" lang="es-CL" sz="20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)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rob. 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562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38880" y="2057040"/>
            <a:ext cx="0" cy="3505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1219320"/>
                <a:ext cx="62769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81080" y="3429000"/>
                <a:ext cx="6620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81080" y="426708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914400" y="3032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Regulaciones 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981080" y="5105520"/>
                <a:ext cx="3378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7400" y="586728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96080" y="2438280"/>
            <a:ext cx="1143000" cy="609840"/>
          </a:xfrm>
          <a:prstGeom prst="wedgeRectCallout">
            <a:avLst>
              <a:gd name="adj1" fmla="val -160416"/>
              <a:gd name="adj2" fmla="val -12057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560" y="2438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05600" y="4572000"/>
            <a:ext cx="1143000" cy="609480"/>
          </a:xfrm>
          <a:prstGeom prst="wedgeRectCallout">
            <a:avLst>
              <a:gd name="adj1" fmla="val -93750"/>
              <a:gd name="adj2" fmla="val -1893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31080" y="4572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943600"/>
            <a:ext cx="2590920" cy="380880"/>
          </a:xfrm>
          <a:prstGeom prst="wedgeRectCallout">
            <a:avLst>
              <a:gd name="adj1" fmla="val -74634"/>
              <a:gd name="adj2" fmla="val 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2360" y="5907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O.K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Tenemos piezas y parte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cómo se junta todo esto ahora?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PROBLEMA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redecir localización y rentas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Mercado del suelo: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competitivo y especulat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gentes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hogares y firm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h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racionales, diversos gustos, compiten suelo, estern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spacio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zon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i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heterogéneo en atributos</a:t>
            </a:r>
            <a:r>
              <a:rPr b="1" lang="es-CL" sz="2400" spc="-1" strike="noStrike">
                <a:solidFill>
                  <a:srgbClr val="8cf4ea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imitado y reg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dustria inmobiliaria: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diversas viviendas, maximizadoresde ganancia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</a:t>
            </a:r>
            <a:r>
              <a:rPr b="1" i="1" lang="es-CL" sz="32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x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61600" y="2362320"/>
            <a:ext cx="748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recimiento: N° hogares y firmas (H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Sistema de transporte (acc, a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gulaciones uso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centivos de local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nd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Uso del suelo (S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, q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(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nta (r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Decisiones de los a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xcedentes o Nivel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re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ostu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077920" y="2514600"/>
                <a:ext cx="6129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542600" y="3905280"/>
            <a:ext cx="34534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ostura          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, w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ingreso hogar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viv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Z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arámetros de g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11200" y="3200400"/>
                <a:ext cx="738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loc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probabilidad que agente tipo h sea mejor postor en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62120" y="3200400"/>
                <a:ext cx="8305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189520" y="4917960"/>
            <a:ext cx="590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ocalizados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Oferta de vievienda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en grupo categoría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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robabilidad de que h haga posturas en 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re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a renta es la máxima postura 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029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79440" y="5105520"/>
            <a:ext cx="7255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vi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arte de la renta con valor común a todo postor      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(valor de re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2960" y="2971800"/>
                <a:ext cx="8694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 Todo agente se local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752480" y="2895480"/>
                <a:ext cx="5334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513080" y="4632480"/>
            <a:ext cx="653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v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N° de viviendas disponibles tipo v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   Corte temporal de pred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N° de agentes tipo h (exóg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9:14:48Z</dcterms:created>
  <dc:creator>F M</dc:creator>
  <dc:description/>
  <dc:language>en-US</dc:language>
  <cp:lastModifiedBy>F M</cp:lastModifiedBy>
  <dcterms:modified xsi:type="dcterms:W3CDTF">2004-10-28T20:51:41Z</dcterms:modified>
  <cp:revision>2</cp:revision>
  <dc:subject/>
  <dc:title>Módulo 5.</dc:title>
</cp:coreProperties>
</file>