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B95A-6128-4EFF-9F1A-1E81EC50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2CFF-5B22-4544-A118-23343955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23D-87E9-476D-B336-4C5CC2CD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61B3-D3C5-4D2D-A65D-327D5BBC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0D13-1395-4671-8123-912AB467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1101-69C6-4744-9D64-AED28F59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D787-8BB3-4DE9-A311-16C3026E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FE5F-2528-4C7F-B643-1A7840CE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6C22-1CC1-44B2-95B2-BB8C2769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9D18-43A1-47D5-8C1C-8DB7A7D2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E40-8C6D-445B-8064-2D240A45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6C49-5E4D-4E9F-B2D9-C5821BBB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4433-CC76-45C2-9CA9-FCECBCE6B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8cf4ea"/>
                </a:solidFill>
                <a:latin typeface="Times New Roman"/>
              </a:rPr>
              <a:t>Capítulo 5</a:t>
            </a: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6959520" cy="9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quilibrio....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Condición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79400" y="3075120"/>
                <a:ext cx="7953480" cy="12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r>
                      <m:t xml:space="preserve">X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m>
                      <m:mr>
                        <m:e/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vi</m:t>
                          </m:r>
                          <m:r>
                            <m:t xml:space="preserve">∈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506600" y="5043600"/>
            <a:ext cx="5891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8cf4ea"/>
                </a:solidFill>
                <a:latin typeface="Arial"/>
              </a:rPr>
              <a:t>S</a:t>
            </a:r>
            <a:r>
              <a:rPr b="0" i="1" lang="es-CL" sz="1600" spc="-1" strike="noStrike">
                <a:solidFill>
                  <a:srgbClr val="8cf4ea"/>
                </a:solidFill>
                <a:latin typeface="Arial"/>
              </a:rPr>
              <a:t>vi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 : Oferta de máxima ganancia en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8cf4ea"/>
                </a:solidFill>
                <a:latin typeface="Symbol"/>
                <a:ea typeface="Symbol"/>
              </a:rPr>
              <a:t></a:t>
            </a:r>
            <a:r>
              <a:rPr b="0" i="1" lang="es-CL" sz="1600" spc="-1" strike="noStrike">
                <a:solidFill>
                  <a:srgbClr val="8cf4ea"/>
                </a:solidFill>
                <a:latin typeface="Arial"/>
              </a:rPr>
              <a:t>v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 : función de gan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Walras: Oferta igual dem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6959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quilibrio....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Condición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004840" y="3235320"/>
                <a:ext cx="48196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Î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514520" y="5089680"/>
            <a:ext cx="6379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q</a:t>
            </a:r>
            <a:r>
              <a:rPr b="0" i="1" lang="es-CL" sz="1600" spc="-1" strike="noStrike">
                <a:solidFill>
                  <a:srgbClr val="8cf4ea"/>
                </a:solidFill>
                <a:latin typeface="Arial"/>
              </a:rPr>
              <a:t>v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: Área de terreno en tipo de vivienda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Q</a:t>
            </a:r>
            <a:r>
              <a:rPr b="0" lang="es-CL" sz="1600" spc="-1" strike="noStrike">
                <a:solidFill>
                  <a:srgbClr val="8cf4ea"/>
                </a:solidFill>
                <a:latin typeface="Arial"/>
              </a:rPr>
              <a:t>i: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 Área disponible para localización en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cf4ea"/>
                </a:solidFill>
                <a:latin typeface="Symbol"/>
                <a:ea typeface="Symbol"/>
              </a:rPr>
              <a:t></a:t>
            </a:r>
            <a:r>
              <a:rPr b="0" lang="es-CL" sz="1600" spc="-1" strike="noStrike">
                <a:solidFill>
                  <a:srgbClr val="8cf4ea"/>
                </a:solidFill>
                <a:latin typeface="Arial"/>
              </a:rPr>
              <a:t>i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: Tipos de viviendas aceptables en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quilibrio de suelo: Oferta de suelo inelá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152280"/>
            <a:ext cx="72388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quilibrio.....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Condición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7a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Arial"/>
              </a:rPr>
              <a:t>Externalidades de localización: 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la localización afecta la localización a través de los atributos zonales (variables endógen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066680" y="4495680"/>
                <a:ext cx="601200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824040" y="3048120"/>
                <a:ext cx="76356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2135160" y="6172200"/>
            <a:ext cx="4664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Punto fijo de localización : 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=f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3809880"/>
            <a:ext cx="1828800" cy="838440"/>
          </a:xfrm>
          <a:prstGeom prst="wedgeRectCallout">
            <a:avLst>
              <a:gd name="adj1" fmla="val -156250"/>
              <a:gd name="adj2" fmla="val -75379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riables  u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l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22440" y="2270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828800" y="1760400"/>
                <a:ext cx="7070760" cy="12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F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  <m:r>
                                      <m:t xml:space="preserve">∈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h</m:t>
                                            </m:r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den>
                                        </m:f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17720" y="3513240"/>
                <a:ext cx="722628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r>
                      <m:t xml:space="preserve">X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)</m:t>
                    </m:r>
                    <m:m>
                      <m:mr>
                        <m:e/>
                        <m:e>
                          <m:r>
                            <m:t xml:space="preserve">∀</m:t>
                          </m:r>
                          <m:r>
                            <m:t xml:space="preserve">i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981080" y="4495680"/>
                <a:ext cx="36338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Î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523880" y="302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ujeto 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79080" y="2117880"/>
            <a:ext cx="55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79080" y="3641760"/>
            <a:ext cx="55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79080" y="4556160"/>
            <a:ext cx="55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78240" y="517680"/>
            <a:ext cx="6201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Problema de optimizac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981080" y="5486400"/>
                <a:ext cx="31845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1279080" y="5546880"/>
            <a:ext cx="55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034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Algoritmo solución</a:t>
            </a: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025640" y="4183200"/>
                <a:ext cx="785484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sSubSup>
                      <m:e/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[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nary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/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  <m:sup/>
                        </m:sSubSup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978920" y="6156360"/>
            <a:ext cx="4254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Punto fijo de utilidad:  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=f(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133720" y="1981080"/>
                <a:ext cx="5333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Î</m:t>
                        </m:r>
                        <m:r>
                          <m:t xml:space="preserve">Ω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85720" y="5165640"/>
            <a:ext cx="2742120" cy="85572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S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P, B</a:t>
            </a:r>
            <a:r>
              <a:rPr b="1" i="1" lang="es-CL" sz="20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)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rob. optim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33000" y="3413160"/>
            <a:ext cx="3077640" cy="82404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P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S,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unto fijo 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564080" y="2590920"/>
            <a:ext cx="792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64080" y="4343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5562720"/>
            <a:ext cx="1218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238880" y="2057040"/>
            <a:ext cx="0" cy="3505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2057400"/>
            <a:ext cx="11430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228600"/>
            <a:ext cx="70866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Algoritmo solución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1676520"/>
            <a:ext cx="2971800" cy="82404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S,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unto fijo ut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12952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276720" y="1676520"/>
            <a:ext cx="3429000" cy="39621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34680" y="5907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2720" y="1219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95880" y="24019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=L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19560" y="1407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=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28120" y="19224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cf4ea"/>
                </a:solidFill>
                <a:latin typeface="Arial"/>
              </a:rPr>
              <a:t>Punto Fijo de Probabilidad 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724280" y="4419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26708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2590920"/>
            <a:ext cx="4952880" cy="2895480"/>
          </a:xfrm>
          <a:custGeom>
            <a:avLst/>
            <a:gdLst/>
            <a:ahLst/>
            <a:rect l="l" t="t" r="r" b="b"/>
            <a:pathLst>
              <a:path w="3504" h="2256">
                <a:moveTo>
                  <a:pt x="0" y="2256"/>
                </a:moveTo>
                <a:cubicBezTo>
                  <a:pt x="764" y="2084"/>
                  <a:pt x="1528" y="1912"/>
                  <a:pt x="1920" y="1584"/>
                </a:cubicBezTo>
                <a:cubicBezTo>
                  <a:pt x="2312" y="1256"/>
                  <a:pt x="2088" y="552"/>
                  <a:pt x="2352" y="288"/>
                </a:cubicBezTo>
                <a:cubicBezTo>
                  <a:pt x="2616" y="24"/>
                  <a:pt x="3312" y="48"/>
                  <a:pt x="3504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4952880"/>
            <a:ext cx="152280" cy="1526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5000" y="2590920"/>
            <a:ext cx="228600" cy="1522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3657600"/>
            <a:ext cx="152280" cy="1522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12952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276720" y="1676520"/>
            <a:ext cx="3429000" cy="39621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42600" y="590724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00640" y="121932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7160" y="2438280"/>
            <a:ext cx="25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=logsuma(B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33240" y="1407960"/>
            <a:ext cx="80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=B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31000" y="19224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cf4ea"/>
                </a:solidFill>
                <a:latin typeface="Arial"/>
              </a:rPr>
              <a:t>Punto Fijo de Log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943600" y="34290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181120" y="3429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1480" y="34290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49532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2743200"/>
            <a:ext cx="4876560" cy="2514600"/>
          </a:xfrm>
          <a:custGeom>
            <a:avLst/>
            <a:gdLst/>
            <a:ahLst/>
            <a:rect l="l" t="t" r="r" b="b"/>
            <a:pathLst>
              <a:path w="3072" h="1584">
                <a:moveTo>
                  <a:pt x="0" y="1584"/>
                </a:moveTo>
                <a:cubicBezTo>
                  <a:pt x="336" y="1584"/>
                  <a:pt x="672" y="1584"/>
                  <a:pt x="960" y="1536"/>
                </a:cubicBezTo>
                <a:cubicBezTo>
                  <a:pt x="1248" y="1488"/>
                  <a:pt x="1472" y="1448"/>
                  <a:pt x="1728" y="1296"/>
                </a:cubicBezTo>
                <a:cubicBezTo>
                  <a:pt x="1984" y="1144"/>
                  <a:pt x="2272" y="840"/>
                  <a:pt x="2496" y="624"/>
                </a:cubicBezTo>
                <a:cubicBezTo>
                  <a:pt x="2720" y="408"/>
                  <a:pt x="2968" y="112"/>
                  <a:pt x="3072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4952880"/>
            <a:ext cx="152280" cy="1526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22440" y="2270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676520" y="1219320"/>
                <a:ext cx="627696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F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  <m:r>
                                      <m:t xml:space="preserve">∈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h</m:t>
                                            </m:r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den>
                                        </m:f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h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981080" y="3429000"/>
                <a:ext cx="6620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r>
                      <m:t xml:space="preserve">X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h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)</m:t>
                    </m:r>
                    <m:m>
                      <m:mr>
                        <m:e/>
                        <m:e>
                          <m:r>
                            <m:t xml:space="preserve">∀</m:t>
                          </m:r>
                          <m:r>
                            <m:t xml:space="preserve">i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981080" y="4267080"/>
                <a:ext cx="3200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Î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914400" y="303228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ujeto 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228600"/>
            <a:ext cx="76960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Regulaciones e incen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981080" y="5105520"/>
                <a:ext cx="3378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057400" y="5867280"/>
                <a:ext cx="1295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7696080" y="2438280"/>
            <a:ext cx="1143000" cy="609840"/>
          </a:xfrm>
          <a:prstGeom prst="wedgeRectCallout">
            <a:avLst>
              <a:gd name="adj1" fmla="val -160416"/>
              <a:gd name="adj2" fmla="val -120574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560" y="243828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cen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05600" y="4572000"/>
            <a:ext cx="1143000" cy="609480"/>
          </a:xfrm>
          <a:prstGeom prst="wedgeRectCallout">
            <a:avLst>
              <a:gd name="adj1" fmla="val -93750"/>
              <a:gd name="adj2" fmla="val -189324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831080" y="457200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cen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5943600"/>
            <a:ext cx="2590920" cy="380880"/>
          </a:xfrm>
          <a:prstGeom prst="wedgeRectCallout">
            <a:avLst>
              <a:gd name="adj1" fmla="val -74634"/>
              <a:gd name="adj2" fmla="val 5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82360" y="59072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gu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1007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88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O.K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88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Tenemos piezas y partes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88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cómo se junta todo esto ahora?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PROBLEMA</a:t>
            </a: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Predecir localización y rentas 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Mercado del suelo: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competitivo y especulat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Agentes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(hogares y firmas </a:t>
            </a:r>
            <a:r>
              <a:rPr b="1" i="1" lang="es-CL" sz="2800" spc="-1" strike="noStrike">
                <a:solidFill>
                  <a:srgbClr val="8cf4ea"/>
                </a:solidFill>
                <a:latin typeface="Times New Roman"/>
              </a:rPr>
              <a:t>h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):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racionales, diversos gustos, compiten suelo, esternal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spacio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(zonas </a:t>
            </a:r>
            <a:r>
              <a:rPr b="1" i="1" lang="es-CL" sz="2800" spc="-1" strike="noStrike">
                <a:solidFill>
                  <a:srgbClr val="8cf4ea"/>
                </a:solidFill>
                <a:latin typeface="Times New Roman"/>
              </a:rPr>
              <a:t>i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):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heterogéneo en atributos</a:t>
            </a:r>
            <a:r>
              <a:rPr b="1" lang="es-CL" sz="2400" spc="-1" strike="noStrike">
                <a:solidFill>
                  <a:srgbClr val="8cf4ea"/>
                </a:solidFill>
                <a:latin typeface="Times New Roman"/>
              </a:rPr>
              <a:t>,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 limitado y regu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Industria inmobiliaria: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 diversas viviendas, maximizadoresde ganancia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</a:t>
            </a:r>
            <a:r>
              <a:rPr b="1" i="1" lang="es-CL" sz="3200" spc="-1" strike="noStrike">
                <a:solidFill>
                  <a:srgbClr val="8cf4ea"/>
                </a:solidFill>
                <a:latin typeface="Times New Roman"/>
              </a:rPr>
              <a:t>S</a:t>
            </a:r>
            <a:r>
              <a:rPr b="1" i="1" lang="es-CL" sz="2800" spc="-1" strike="noStrike">
                <a:solidFill>
                  <a:srgbClr val="8cf4ea"/>
                </a:solidFill>
                <a:latin typeface="Times New Roman"/>
              </a:rPr>
              <a:t>vi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xóge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61600" y="2362320"/>
            <a:ext cx="748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Crecimiento: N° hogares y firmas (H</a:t>
            </a:r>
            <a:r>
              <a:rPr b="0" lang="es-CL" sz="1800" spc="-1" strike="noStrike">
                <a:solidFill>
                  <a:srgbClr val="8cf4ea"/>
                </a:solidFill>
                <a:latin typeface="Times New Roman"/>
              </a:rPr>
              <a:t>h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Sistema de transporte (acc, at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Regulaciones uso del su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Incentivos de localiz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ndóge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Uso del suelo (S</a:t>
            </a:r>
            <a:r>
              <a:rPr b="0" lang="es-CL" sz="1600" spc="-1" strike="noStrike">
                <a:solidFill>
                  <a:srgbClr val="8cf4ea"/>
                </a:solidFill>
                <a:latin typeface="Times New Roman"/>
              </a:rPr>
              <a:t>vi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, q</a:t>
            </a:r>
            <a:r>
              <a:rPr b="0" lang="es-CL" sz="1800" spc="-1" strike="noStrike">
                <a:solidFill>
                  <a:srgbClr val="8cf4ea"/>
                </a:solidFill>
                <a:latin typeface="Times New Roman"/>
              </a:rPr>
              <a:t>h</a:t>
            </a:r>
            <a:r>
              <a:rPr b="0" lang="es-CL" sz="1600" spc="-1" strike="noStrike">
                <a:solidFill>
                  <a:srgbClr val="8cf4ea"/>
                </a:solidFill>
                <a:latin typeface="Times New Roman"/>
              </a:rPr>
              <a:t>vi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(H</a:t>
            </a:r>
            <a:r>
              <a:rPr b="0" lang="es-CL" sz="1600" spc="-1" strike="noStrike">
                <a:solidFill>
                  <a:srgbClr val="8cf4ea"/>
                </a:solidFill>
                <a:latin typeface="Times New Roman"/>
              </a:rPr>
              <a:t>hvi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Renta (r</a:t>
            </a:r>
            <a:r>
              <a:rPr b="0" lang="es-CL" sz="1600" spc="-1" strike="noStrike">
                <a:solidFill>
                  <a:srgbClr val="8cf4ea"/>
                </a:solidFill>
                <a:latin typeface="Times New Roman"/>
              </a:rPr>
              <a:t>vi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Decisiones de los ag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xcedentes o Nivel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034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nfoque de rem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Postur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077920" y="2514600"/>
                <a:ext cx="6129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1542600" y="3905280"/>
            <a:ext cx="345348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B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postura              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componente en 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U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Times New Roman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 , w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Times New Roman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Times New Roman"/>
              </a:rPr>
              <a:t>vi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componente en 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y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ingreso hogar    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D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atributos vivien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Z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atributos de l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cf4ea"/>
                </a:solidFill>
                <a:latin typeface="Symbol"/>
                <a:ea typeface="Symbol"/>
              </a:rPr>
              <a:t>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parámetros de gu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411200" y="3200400"/>
                <a:ext cx="7380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723888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Enfoque...localiz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:probabilidad que agente tipo h sea mejor postor en 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762120" y="3200400"/>
                <a:ext cx="830556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2189520" y="4917960"/>
            <a:ext cx="5903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H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Times New Roman"/>
              </a:rPr>
              <a:t>hvi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N° agentes 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 localizados en 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Times New Roman"/>
              </a:rPr>
              <a:t>vi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Oferta de vieviendas 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v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 en 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H</a:t>
            </a:r>
            <a:r>
              <a:rPr b="0" i="1" lang="es-CL" sz="1600" spc="-1" strike="noStrike">
                <a:solidFill>
                  <a:srgbClr val="8cf4ea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N° agentes en grupo categoría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Symbol"/>
                <a:ea typeface="Symbol"/>
              </a:rPr>
              <a:t></a:t>
            </a:r>
            <a:r>
              <a:rPr b="0" i="1" lang="es-CL" sz="1600" spc="-1" strike="noStrike">
                <a:solidFill>
                  <a:srgbClr val="8cf4ea"/>
                </a:solidFill>
                <a:latin typeface="Times New Roman"/>
              </a:rPr>
              <a:t>hvi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probabilidad de que h haga posturas en v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Enfoque...ren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5280" y="1752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a renta es la máxima postura espe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50292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79440" y="5105520"/>
            <a:ext cx="725508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vi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: 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parte de la renta con valor común a todo postor       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(valor de referenc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72960" y="2971800"/>
                <a:ext cx="86947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95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quilibrio</a:t>
            </a: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Condición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: Todo agente se locali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752480" y="2895480"/>
                <a:ext cx="5334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Î</m:t>
                        </m:r>
                        <m:r>
                          <m:t xml:space="preserve">Ω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1513080" y="4632480"/>
            <a:ext cx="6536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S</a:t>
            </a:r>
            <a:r>
              <a:rPr b="0" lang="es-CL" sz="1600" spc="-1" strike="noStrike">
                <a:solidFill>
                  <a:srgbClr val="8cf4ea"/>
                </a:solidFill>
                <a:latin typeface="Arial"/>
              </a:rPr>
              <a:t>vi: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 N° de viviendas disponibles tipo v en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t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:    Corte temporal de pred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1600" spc="-1" strike="noStrike">
                <a:solidFill>
                  <a:srgbClr val="8cf4ea"/>
                </a:solidFill>
                <a:latin typeface="Arial"/>
              </a:rPr>
              <a:t>h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: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N° de agentes tipo h (exóge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19:14:48Z</dcterms:created>
  <dc:creator>F M</dc:creator>
  <dc:description/>
  <dc:language>en-US</dc:language>
  <cp:lastModifiedBy>F M</cp:lastModifiedBy>
  <dcterms:modified xsi:type="dcterms:W3CDTF">2004-10-28T20:51:41Z</dcterms:modified>
  <cp:revision>2</cp:revision>
  <dc:subject/>
  <dc:title>Módulo 5.</dc:title>
</cp:coreProperties>
</file>