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F0E-3AC6-4A7F-8C07-74C6440B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EE0-2047-46F5-A0E5-91E2301D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01F-28A1-461C-912F-40F78166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6D8-0262-4808-BD7F-6934AA4C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B53-96F5-4D70-A94D-77A343EE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63B-5705-4593-A7D5-77AEF6C5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BAB-EE76-4146-B2E7-9641DBEF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D07-954F-4AFA-8941-613638DF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897-82B0-40D0-AD50-1AFCC6A4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B3B-3D16-402B-9CC0-1C728D15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5A3-5AF3-4B8F-B35A-4FEE8D86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532-9002-49D2-B406-11D3CC9B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A7D14A-A4D9-4E4C-A7A6-8FDD6C9BF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84F-3919-4D7C-BE9B-BE77F65F5E2E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E1E-FD34-487B-B8C8-B80F42DDBA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1590840"/>
                <a:ext cx="624852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A39-55A3-403F-8BF3-0E8012FF51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1600200"/>
                <a:ext cx="8193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21400" y="537372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s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775-881B-4406-9084-0B6334A19F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7200" y="3657600"/>
                <a:ext cx="85852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7652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04776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C09-9183-4D35-B63F-BDD569CE8E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5120" y="1752480"/>
                <a:ext cx="5279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6E1-D120-4A9C-BF30-ACE319BE1F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U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928-507A-4AAB-B4C4-FFEA4D43E9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191120" y="2209680"/>
                <a:ext cx="3886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79800" y="4659480"/>
                <a:ext cx="47833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5D7-AFB9-45C2-867B-1BA9354604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11430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18000" y="1119240"/>
                <a:ext cx="4168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84120" y="3112920"/>
                <a:ext cx="6259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limLow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</m:e>
                      <m:lim/>
                    </m:limLow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13200" y="4724280"/>
                <a:ext cx="4697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F7D-2223-4D3D-A5DC-E777552789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52640" y="2378160"/>
                <a:ext cx="621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97080" y="3182760"/>
                <a:ext cx="617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DC0-AD68-4761-A7FB-A7DC8AE728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ECA-ECA0-4BF7-AA7A-C77E6D9B45FC}" type="slidenum">
              <a:t>19</a:t>
            </a:fld>
          </a:p>
        </p:txBody>
      </p:sp>
    </p:spTree>
  </p:cSld>
  <p:transition spd="med"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9F9-8A09-4758-9433-EF4890923E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4FE-1C13-4B7A-BEF7-23EFD029F46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BD4-2FEB-4D96-9AEC-7B0323427BF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46A-7323-4B4F-A7A6-9D1CFDD9F5F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656-4A33-4857-BEE2-5C85DDD54EC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75A-34E7-411F-BE8D-BE018B42BF4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09680" y="5029200"/>
            <a:ext cx="464832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97200" y="2387520"/>
                <a:ext cx="3922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40120" y="3510000"/>
                <a:ext cx="362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355840" y="5149800"/>
                <a:ext cx="44672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819-FC0C-4E3E-8600-93FAAC9B680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1219320"/>
            <a:ext cx="8077320" cy="259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06400" y="1649520"/>
                <a:ext cx="757548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j</m:t>
                                    </m:r>
                                  </m:den>
                                </m:f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40480" y="3886200"/>
            <a:ext cx="567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librio oferta 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782-157C-45D2-B6C0-549ACEB4F16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F3A-92A9-4403-92BC-1E15FC7920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84E-D631-4893-9165-D5B77B51F6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80060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1828800"/>
            <a:ext cx="4343400" cy="1371600"/>
            <a:chOff x="609480" y="1828800"/>
            <a:chExt cx="4343400" cy="13716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9480" y="1969920"/>
                  <a:ext cx="403884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09480" y="3200400"/>
              <a:ext cx="434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52880" y="182880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31800" y="339408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187880" y="35053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5600" y="418140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435840" y="414828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obteniendo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15960" y="497664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804200" y="4800600"/>
            <a:ext cx="36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801-5691-49E9-B252-CE2E0AAE3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175248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54040" y="1928880"/>
                <a:ext cx="3635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97080" y="2971800"/>
                <a:ext cx="5484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95280" y="3657600"/>
                <a:ext cx="541044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3C7-68E7-4535-A159-485A9B5D46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23623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825480" y="1600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38080" y="40482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914-E8BE-4F4D-AAD9-27413328CE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2895480"/>
            <a:ext cx="8534160" cy="259092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76640" y="2057400"/>
                <a:ext cx="472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38080" y="3503520"/>
                <a:ext cx="7820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73200" y="129528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a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371600" cy="685800"/>
          </a:xfrm>
          <a:prstGeom prst="wedgeRectCallout">
            <a:avLst>
              <a:gd name="adj1" fmla="val -78472"/>
              <a:gd name="adj2" fmla="val 136574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otar U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B32-3899-4233-80C4-40E0409E20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867-EA7C-4C92-98CF-4792FC7472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T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93E-1FD3-41AC-A479-7C4FDA2CB9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10-07T12:45:20Z</dcterms:modified>
  <cp:revision>79</cp:revision>
  <dc:subject/>
  <dc:title>General</dc:title>
</cp:coreProperties>
</file>