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17FC-91E4-4936-BDB8-4D46F1D30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A473-F86B-4358-B022-0003CDAC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28C1-83A4-4F1D-A0F2-112010F7B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73D1-3FB7-4735-B27A-3770AD689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F739-BBA8-4642-98F5-22CBC051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9FE1-E40E-47E3-88B4-3E9F8795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37DD-C29A-4DB3-B29D-565D3E7E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53FE-1095-41EB-AB8F-4A9E088D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CDB2-7FEC-421D-B6B7-2EA7CB1A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2494-122D-43DF-A070-69CF1A53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6AFB-8A7A-4736-8CE2-18DE2262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12EC-3336-41F0-928E-4D8F9AC6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88DB3CD-45B5-4B72-B05F-C65CA68742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95280" y="3276720"/>
            <a:ext cx="5639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Felipe Agu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9EC5-554D-4C12-8EA9-2E2307B01D06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cf4ea"/>
                </a:solidFill>
                <a:latin typeface="Tahoma"/>
              </a:rPr>
              <a:t>Beneficios de Uso del suel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874880" y="3498840"/>
                <a:ext cx="604980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U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∈</m:t>
                                    </m:r>
                                    <m:r>
                                      <m:t xml:space="preserve">H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e>
                                </m:nary>
                                <m:r>
                                  <m:t xml:space="preserve">+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sSub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</m:e>
                            </m:d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429000" y="5257800"/>
            <a:ext cx="2286000" cy="990720"/>
          </a:xfrm>
          <a:prstGeom prst="wedgeRectCallout">
            <a:avLst>
              <a:gd name="adj1" fmla="val 1527"/>
              <a:gd name="adj2" fmla="val -123398"/>
            </a:avLst>
          </a:prstGeom>
          <a:solidFill>
            <a:srgbClr val="30209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81280" y="5334120"/>
            <a:ext cx="242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Exceden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Consumi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5181480"/>
            <a:ext cx="2133720" cy="1067040"/>
          </a:xfrm>
          <a:prstGeom prst="wedgeRectCallout">
            <a:avLst>
              <a:gd name="adj1" fmla="val -22546"/>
              <a:gd name="adj2" fmla="val -111162"/>
            </a:avLst>
          </a:prstGeom>
          <a:solidFill>
            <a:srgbClr val="30209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40720" y="5334120"/>
            <a:ext cx="1937880" cy="825480"/>
          </a:xfrm>
          <a:prstGeom prst="rect">
            <a:avLst/>
          </a:prstGeom>
          <a:solidFill>
            <a:srgbClr val="302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Exceden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Produc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52320" y="2252520"/>
                <a:ext cx="730440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U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sSup>
                                      <m:e/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p>
                                    </m:sSup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,</m:t>
                                </m:r>
                                <m:sSub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sSup>
                                      <m:e/>
                                      <m:sup>
                                        <m:r>
                                          <m:t xml:space="preserve">h</m:t>
                                        </m:r>
                                      </m:sup>
                                    </m:sSup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  <m:r>
                                  <m:t xml:space="preserve">,</m:t>
                                </m:r>
                                <m:s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AB01-A378-4707-9C2F-C84D6B0744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cf4ea"/>
                </a:solidFill>
                <a:latin typeface="Tahoma"/>
              </a:rPr>
              <a:t>Caso utilidad cuasi line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600200" y="1590840"/>
                <a:ext cx="6248520" cy="465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  <m:r>
                              <m:t xml:space="preserve">≠</m:t>
                            </m:r>
                            <m:r>
                              <m:t xml:space="preserve">0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B133-FD07-413D-829F-0F15C866F1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1295280"/>
            <a:ext cx="8305920" cy="12956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1522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b7a5"/>
                </a:solidFill>
                <a:latin typeface="Times New Roman"/>
              </a:rPr>
              <a:t>TEORIA DEL COMPORT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3200400"/>
            <a:ext cx="2361960" cy="34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de externalidades de localización (endógenas a US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Nivel de ingres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eguridad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tatu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Etni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glomeración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57200" y="1600200"/>
                <a:ext cx="819324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2514600" y="3200400"/>
            <a:ext cx="236232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del sistema de transporte para acceder a actividades (endógenas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 US&amp;T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3200400"/>
            <a:ext cx="236232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geográficas (exógenas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 US&amp;T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3200400"/>
            <a:ext cx="2057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Parámetros de gust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447920" y="2362320"/>
            <a:ext cx="7617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657600" y="30477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3581280" y="2361960"/>
            <a:ext cx="763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657600" y="2438280"/>
            <a:ext cx="167652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095880" y="2362320"/>
            <a:ext cx="6858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7772400" y="24379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21400" y="5373720"/>
            <a:ext cx="357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6633"/>
                </a:solidFill>
                <a:latin typeface="Arial"/>
              </a:rPr>
              <a:t>h: categoría de ag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6633"/>
                </a:solidFill>
                <a:latin typeface="Arial"/>
              </a:rPr>
              <a:t>s: zona de localización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7ACB-2F27-411A-BA1F-4176364D93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3429000"/>
            <a:ext cx="8534520" cy="13716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304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b7a5"/>
                </a:solidFill>
                <a:latin typeface="Times New Roman"/>
              </a:rPr>
              <a:t>LA DISPOSICION A PAG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106668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 existe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 U</a:t>
            </a:r>
            <a:r>
              <a:rPr b="0" i="1" lang="es-ES" sz="2800" spc="-1" strike="noStrike" baseline="-25000">
                <a:solidFill>
                  <a:srgbClr val="ffffff"/>
                </a:solidFill>
                <a:latin typeface="Times New Roman"/>
              </a:rPr>
              <a:t>h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existe 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i="1" lang="es-ES" sz="2800" spc="-1" strike="noStrike" baseline="-25000">
                <a:solidFill>
                  <a:srgbClr val="ffffff"/>
                </a:solidFill>
                <a:latin typeface="Times New Roman"/>
              </a:rPr>
              <a:t>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1752480"/>
            <a:ext cx="85341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 el monto que un hogar o firma “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 está dispuesto a pagar por  una localización “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 de manera de obtener un nivel de satisfacció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57200" y="3657600"/>
                <a:ext cx="858528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228600" y="5562720"/>
            <a:ext cx="541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 vector de valoración de cada atribu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4952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gr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0" y="4952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Nivel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676520" y="4495680"/>
            <a:ext cx="5331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047760" y="4495680"/>
            <a:ext cx="759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8DDB-B3C9-4806-8954-58FF136E46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600200" y="1523880"/>
            <a:ext cx="6172200" cy="1219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6094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EQUIVALENC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905120" y="1752480"/>
                <a:ext cx="52797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838080" y="56386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Opción:  Trabajar con utilidades o co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19720" y="28195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isposición a pa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8195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ecio a pa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257800" y="2361960"/>
            <a:ext cx="3808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6705360" y="236232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829120" y="2247840"/>
            <a:ext cx="380880" cy="2895480"/>
          </a:xfrm>
          <a:custGeom>
            <a:avLst/>
            <a:gdLst>
              <a:gd name="textAreaLeft" fmla="*/ 243360 w 380880"/>
              <a:gd name="textAreaRight" fmla="*/ 381240 w 38088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43400" y="3962520"/>
            <a:ext cx="3505320" cy="12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cedente del consumi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VARIACIÓN COMPENSATO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429000"/>
            <a:ext cx="1143000" cy="609480"/>
          </a:xfrm>
          <a:prstGeom prst="wedgeRectCallout">
            <a:avLst>
              <a:gd name="adj1" fmla="val 80416"/>
              <a:gd name="adj2" fmla="val -198175"/>
            </a:avLst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52640" y="3468600"/>
            <a:ext cx="1028160" cy="4597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fer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923E-A9F0-43C3-BD44-7C5A1DE61C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57200" y="457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REGLA MEJOR POS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4114800"/>
            <a:ext cx="6248160" cy="9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localización es asignada 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2800" spc="-1" strike="noStrike">
                <a:solidFill>
                  <a:srgbClr val="ff6633"/>
                </a:solidFill>
                <a:latin typeface="Times New Roman"/>
              </a:rPr>
              <a:t>mejor postor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Bienes Un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05320" y="21337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5288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m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2819520"/>
            <a:ext cx="73915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uelo Urbano es un bien “</a:t>
            </a:r>
            <a:r>
              <a:rPr b="1" lang="es-ES" sz="2400" spc="-1" strike="noStrike">
                <a:solidFill>
                  <a:srgbClr val="ff6633"/>
                </a:solidFill>
                <a:latin typeface="Times New Roman"/>
              </a:rPr>
              <a:t>cuasi-únic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33"/>
                </a:solidFill>
                <a:latin typeface="Times New Roman"/>
              </a:rPr>
              <a:t>N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es posible producir localizaciones de iguales atrib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114B-4164-496F-9790-885E67CE90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733920" y="1981080"/>
            <a:ext cx="5105160" cy="10670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2057400"/>
            <a:ext cx="320040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CONSUMID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max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4446720"/>
            <a:ext cx="26668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OFER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max postu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191120" y="2209680"/>
                <a:ext cx="38862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457200" y="457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REGLA MEJOR POS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33920" y="4038480"/>
            <a:ext cx="5135400" cy="19051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979800" y="4659480"/>
                <a:ext cx="478332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/>
                    </m:limLow>
                    <m:r>
                      <m:t xml:space="preserve"> 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B9AF-C62E-497E-B123-BBC54B9E4D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86200" y="4419720"/>
            <a:ext cx="4800600" cy="22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2895480"/>
            <a:ext cx="6858000" cy="11430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838080"/>
            <a:ext cx="8001000" cy="9907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4648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mejor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postor e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457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7a5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457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7a5"/>
                </a:solidFill>
                <a:latin typeface="Times New Roman"/>
              </a:rPr>
              <a:t>OFER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05120" y="21337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Equilibrio </a:t>
            </a:r>
            <a:r>
              <a:rPr b="1" i="1" lang="es-ES" sz="2400" spc="-1" strike="noStrike">
                <a:solidFill>
                  <a:srgbClr val="ff6633"/>
                </a:solidFill>
                <a:latin typeface="Times New Roman"/>
              </a:rPr>
              <a:t>BID-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5486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hace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eor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oferta que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066680" y="1143000"/>
                <a:ext cx="30481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518000" y="1119240"/>
                <a:ext cx="41688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r>
                      <m:t xml:space="preserve"> 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284120" y="3112920"/>
                <a:ext cx="62596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r>
                      <m:t xml:space="preserve"> </m:t>
                    </m:r>
                    <m:limLow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</m:e>
                      <m:lim/>
                    </m:limLow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913200" y="4724280"/>
                <a:ext cx="469728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&gt;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301C-43C0-4E7C-AD86-F3E30F6CCC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762120" y="68580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CONCLUSION:  Modelo Bid-Cho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(oferta dad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133720"/>
            <a:ext cx="7543800" cy="22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052640" y="2378160"/>
                <a:ext cx="621000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r>
                          <m:t xml:space="preserve">'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</m:t>
                    </m:r>
                    <m:sSub>
                      <m:e>
                        <m:r>
                          <m:t xml:space="preserve">∀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297080" y="3182760"/>
                <a:ext cx="61704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914400" y="4419720"/>
            <a:ext cx="746748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se observa un agente localizado, entonc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a localización maximiza su utilid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a renta representa su máxima disposición a paga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(dada una ofert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441160" y="6172200"/>
            <a:ext cx="491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33"/>
                </a:solidFill>
                <a:latin typeface="Arial"/>
              </a:rPr>
              <a:t>BID ES CONDICIÓN SUFIC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BA08-C585-4206-816D-6541B8E900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03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¡Bien...pero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8cf4ea"/>
                </a:solidFill>
                <a:latin typeface="Times New Roman"/>
              </a:rPr>
              <a:t>¿ Cómo puedo saber exactamente el comporta-miento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1D00-4339-4F76-86A4-E9C28522A212}" type="slidenum">
              <a:t>19</a:t>
            </a:fld>
          </a:p>
        </p:txBody>
      </p:sp>
    </p:spTree>
  </p:cSld>
  <p:transition spd="med" advTm="16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8cf4ea"/>
                </a:solidFill>
                <a:latin typeface="Times New Roman"/>
              </a:rPr>
              <a:t>Módulo 4</a:t>
            </a: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Modelo de Demanda a Corto Plaz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599C-75DE-4D96-A62B-0CC2E142DF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Enfoque de elección discret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044800" y="2755800"/>
            <a:ext cx="1854000" cy="2184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346200" y="2749680"/>
            <a:ext cx="54612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92680" y="2749680"/>
            <a:ext cx="29196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92680" y="2749680"/>
            <a:ext cx="2273040" cy="204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19160" y="22654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20800" y="5054760"/>
            <a:ext cx="4756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,i1         v2,i2         vk,ik                          v,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91920" y="4749840"/>
            <a:ext cx="160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Ofer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vienda,z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304680" y="2158920"/>
            <a:ext cx="1571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Consumi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ogar o fi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52880" y="5724360"/>
            <a:ext cx="5701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aximización utilidad del consumi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04360" y="18288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7DCA-73F8-4AAF-B03C-5D95BFA12EC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523880" y="3962520"/>
            <a:ext cx="5181840" cy="1600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Modelos estocástico: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Versión Choice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(z,U) - 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Supuesto: 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IIDGumbel 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, precio p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exóg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/h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Prob(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&gt; 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j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; j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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828800" y="4038480"/>
                <a:ext cx="419112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ε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j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- 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900000" y="5883120"/>
            <a:ext cx="6502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ogit multinomial. Alternativas son predi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59D8-2D4A-4A6F-A99D-77D77E2BC74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Enfoque remate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(selección discreta)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044800" y="2755800"/>
            <a:ext cx="1854000" cy="2184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346200" y="2749680"/>
            <a:ext cx="54612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92680" y="2749680"/>
            <a:ext cx="29196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92680" y="2749680"/>
            <a:ext cx="2273040" cy="204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18440" y="2265480"/>
            <a:ext cx="495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v,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20800" y="5054760"/>
            <a:ext cx="4597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1                 h2           h3                         h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382440" y="2235240"/>
            <a:ext cx="160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Oferente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vienda,z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60800" y="4902120"/>
            <a:ext cx="2152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Consumidor/pos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ogar o fi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52520" y="5724360"/>
            <a:ext cx="6253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aximización utilidad del dueño del sue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83440" y="19051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B0E9-77A6-4563-B0D7-EA4F38882A5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371600" y="3657600"/>
            <a:ext cx="6324480" cy="19810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D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(z,U) 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Supuestos: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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IIDGumbel 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/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Prob(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&gt; 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g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; g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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030400" y="3654360"/>
                <a:ext cx="4370400" cy="18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833400" y="6019920"/>
            <a:ext cx="7431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ogit multinomial. Alternativas son consumido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457200"/>
            <a:ext cx="771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Modelos estocástico: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Versión B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5633-2102-4077-853E-AC303EFC602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066680" y="3809880"/>
            <a:ext cx="7696440" cy="22100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8cf4ea"/>
                </a:solidFill>
                <a:latin typeface="Times New Roman"/>
              </a:rPr>
              <a:t>Renta endógena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enta es valor esperado máxima pos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áx</a:t>
            </a:r>
            <a:r>
              <a:rPr b="0" lang="es-CL" sz="32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= r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+ 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IIDG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722600" y="4167360"/>
                <a:ext cx="6354720" cy="16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F694-D48E-4444-AAC1-B59CEC4426E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209680" y="5029200"/>
            <a:ext cx="4648320" cy="160020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1066680"/>
            <a:ext cx="5029200" cy="3505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Resumen: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909960" y="1219320"/>
                <a:ext cx="35355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ε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- 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697200" y="2387520"/>
                <a:ext cx="392292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840120" y="3510000"/>
                <a:ext cx="36273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745200" y="1403280"/>
            <a:ext cx="1208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1) Cho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22600" y="2546280"/>
            <a:ext cx="839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2) B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21160" y="3689280"/>
            <a:ext cx="1110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3) Ren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2355840" y="5149800"/>
                <a:ext cx="446724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/i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 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f>
                          <m:num>
                            <m:r>
                              <m:t xml:space="preserve">γ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E285-73F9-4054-9B70-BDDCC90ADF9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5800" y="1219320"/>
            <a:ext cx="8077320" cy="259056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80800" y="30492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Equivalencia modelos estocástico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806400" y="1649520"/>
                <a:ext cx="7575480" cy="18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h</m:t>
                                    </m:r>
                                  </m:num>
                                  <m:den>
                                    <m:r>
                                      <m:t xml:space="preserve">j</m:t>
                                    </m:r>
                                  </m:den>
                                </m:f>
                              </m:sub>
                            </m:sSub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2040480" y="3886200"/>
            <a:ext cx="567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quivalencia ocurre si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os factores de escala son idéntico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ecios endógen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quilibrio oferta dema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51080" y="6095880"/>
            <a:ext cx="47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6633"/>
                </a:solidFill>
                <a:latin typeface="Arial"/>
              </a:rPr>
              <a:t>BID es aplicable siemp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C6F6-7883-4DC4-83A6-FCA5316F820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3890880" y="1593720"/>
          <a:ext cx="1343160" cy="36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90880" y="1593720"/>
                    <a:ext cx="134316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5492880" y="539640"/>
            <a:ext cx="3643200" cy="295920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32320" y="1203480"/>
            <a:ext cx="1946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uff!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#%&amp;&amp;$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que falta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BB97-9578-4F94-98BF-C8AAE028E30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Contexto Económic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mercado del suelo urba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últiples consumidores: residentes y firm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últiples attributos de loc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xternalidades de loc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Una variedad de opciones zona-edific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ercado de Remates:competencia imperfec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nálisis de equilibrium de 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edidas en cambios d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egul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yectos de 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4A3F-CEBB-4F57-A601-CF1C53748B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4800600"/>
            <a:ext cx="4343400" cy="914400"/>
          </a:xfrm>
          <a:prstGeom prst="rect">
            <a:avLst/>
          </a:prstGeom>
          <a:solidFill>
            <a:srgbClr val="c9cfc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Modelo Consumidor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609480" y="1828800"/>
            <a:ext cx="4343400" cy="1371600"/>
            <a:chOff x="609480" y="1828800"/>
            <a:chExt cx="4343400" cy="1371600"/>
          </a:xfrm>
        </p:grpSpPr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609480" y="1969920"/>
                  <a:ext cx="4038840" cy="115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δ</m:t>
                                </m:r>
                              </m:lim>
                            </m:limLow>
                          </m:e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x</m:t>
                                    </m:r>
                                  </m:lim>
                                </m:limLow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,z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δ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mr>
                        <m:mr>
                          <m:e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I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86" name=""/>
            <p:cNvSpPr/>
            <p:nvPr/>
          </p:nvSpPr>
          <p:spPr>
            <a:xfrm>
              <a:off x="609480" y="3200400"/>
              <a:ext cx="4343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52880" y="1828800"/>
              <a:ext cx="0" cy="137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31800" y="3394080"/>
                <a:ext cx="32767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V</m:t>
                        </m:r>
                      </m:e>
                    </m:ba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4187880" y="3505320"/>
            <a:ext cx="46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tilidad Indirecta &amp; condi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25600" y="4181400"/>
                <a:ext cx="2423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e</m:t>
                        </m:r>
                      </m:e>
                    </m:ba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3435840" y="4148280"/>
            <a:ext cx="58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: precio exógeno para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obteniendo</a:t>
            </a: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15960" y="4976640"/>
                <a:ext cx="36352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e</m:t>
                        </m:r>
                      </m:e>
                    </m:ba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4804200" y="4800600"/>
            <a:ext cx="365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ax valor para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z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ado 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manda compens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58640" y="5891040"/>
                <a:ext cx="54849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6016320" y="586728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unción de 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9F28-61AF-4BFD-BB35-31900DEEBC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95280" y="1752480"/>
            <a:ext cx="4343400" cy="914400"/>
          </a:xfrm>
          <a:prstGeom prst="rect">
            <a:avLst/>
          </a:prstGeom>
          <a:solidFill>
            <a:srgbClr val="c9cfc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Modelo Consumidor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454040" y="1928880"/>
                <a:ext cx="363564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e</m:t>
                        </m:r>
                      </m:e>
                    </m:ba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297080" y="2971800"/>
                <a:ext cx="54846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295280" y="3657600"/>
                <a:ext cx="5410440" cy="30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,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f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p</m:t>
                                  </m:r>
                                  <m:r>
                                    <m:t xml:space="preserve">&gt;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z</m:t>
                                  </m:r>
                                  <m:r>
                                    <m:t xml:space="preserve">,</m:t>
                                  </m:r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;</m:t>
                                  </m:r>
                                  <m:sSup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f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p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z</m:t>
                                  </m:r>
                                  <m:r>
                                    <m:t xml:space="preserve">,</m:t>
                                  </m:r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;</m:t>
                                  </m:r>
                                  <m:sSup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5FDD-7937-4738-B109-C8B607F909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excedente del consumidor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33520" y="2362320"/>
                <a:ext cx="817380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V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825480" y="1600200"/>
            <a:ext cx="71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edidas clásicas: (p,z,U) en equilib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838080" y="4048200"/>
                <a:ext cx="748044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DFF9-5A13-4665-A7D6-23D2D3E73F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2895480"/>
            <a:ext cx="8534160" cy="2590920"/>
          </a:xfrm>
          <a:prstGeom prst="rect">
            <a:avLst/>
          </a:prstGeom>
          <a:solidFill>
            <a:srgbClr val="c9cfc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excedente del consumidor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276640" y="2057400"/>
                <a:ext cx="47257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838080" y="3503520"/>
                <a:ext cx="782028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673200" y="1295280"/>
            <a:ext cx="71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edidas clasicas: (p,z,U) en equilib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15200" y="2209680"/>
            <a:ext cx="1371600" cy="685800"/>
          </a:xfrm>
          <a:prstGeom prst="wedgeRectCallout">
            <a:avLst>
              <a:gd name="adj1" fmla="val -78472"/>
              <a:gd name="adj2" fmla="val 136574"/>
            </a:avLst>
          </a:prstGeom>
          <a:solidFill>
            <a:srgbClr val="30209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Notar U</a:t>
            </a:r>
            <a:r>
              <a:rPr b="0" lang="es-CL" sz="16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4E59-D7F7-4EF2-9B1F-85770F662B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de beneficio total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52600" y="2819520"/>
                <a:ext cx="818820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US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810720" y="1981080"/>
            <a:ext cx="772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Beneficio Total = Excedente Consumidor + Prod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3434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Mide cambio en DP por cambios causados en los atrib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ifiere de variación de pre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665680" y="5637240"/>
                <a:ext cx="12398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1066680" y="5410080"/>
            <a:ext cx="6978600" cy="1703160"/>
          </a:xfrm>
          <a:prstGeom prst="rect">
            <a:avLst/>
          </a:prstGeom>
          <a:solidFill>
            <a:srgbClr val="c9c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02097"/>
                </a:solidFill>
                <a:latin typeface="Tahoma"/>
              </a:rPr>
              <a:t>Obs.: 1) condiciones exte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02097"/>
                </a:solidFill>
                <a:latin typeface="Tahoma"/>
              </a:rPr>
              <a:t>         </a:t>
            </a:r>
            <a:r>
              <a:rPr b="0" lang="es-ES_tradnl" sz="2400" spc="-1" strike="noStrike">
                <a:solidFill>
                  <a:srgbClr val="302097"/>
                </a:solidFill>
                <a:latin typeface="Tahoma"/>
              </a:rPr>
              <a:t>2) externalidades: interacción entre ag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9360" y="1523880"/>
            <a:ext cx="32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ara una localizac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8D24-D18D-413A-8845-39B0B2C8A2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cf4ea"/>
                </a:solidFill>
                <a:latin typeface="Tahoma"/>
              </a:rPr>
              <a:t>Algunas conclusion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os beneficios totales 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bio en DP evaluado a U cte,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bio en U más cambio en rentas,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bio en valor de ambiente construido y uso del su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ahoma"/>
              </a:rPr>
              <a:t>NOT son idénticos a cambios en r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1719-7F3E-4778-B012-CC15BA17AB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 M</cp:lastModifiedBy>
  <dcterms:modified xsi:type="dcterms:W3CDTF">2004-10-07T12:45:20Z</dcterms:modified>
  <cp:revision>79</cp:revision>
  <dc:subject/>
  <dc:title>General</dc:title>
</cp:coreProperties>
</file>