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FF6F-4E75-4BFA-87F1-22CDB3753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9087-7BA9-4522-BACD-BFD388C6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5E81-E859-488D-BC6A-405F9E3E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744B-E770-42E9-AF49-1F25AAE7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AF84-ABAC-4950-B862-C01E87A9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D59B-5416-453E-A2C2-FFD4FDFA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A552-F6E9-4342-AC83-D70F06F0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3BC8-5264-4DE1-AE1C-0DE23E9F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A18F-B418-4196-BF46-2D90F4AE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76A7-D554-4758-9753-19D99E2A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A92E-4CDE-4C80-9FBE-2698A944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22B8-8D73-48BA-B3EB-39939F08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349A2BD-6733-423F-A6FB-6CD63DE606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AA36-BC28-43C4-8596-3642C9099E14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Beneficios de Uso del suel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874880" y="3498840"/>
                <a:ext cx="604980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U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H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nary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429000" y="5257800"/>
            <a:ext cx="2286000" cy="990720"/>
          </a:xfrm>
          <a:prstGeom prst="wedgeRectCallout">
            <a:avLst>
              <a:gd name="adj1" fmla="val 1527"/>
              <a:gd name="adj2" fmla="val -123398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5334120"/>
            <a:ext cx="242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Consumi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5181480"/>
            <a:ext cx="2133720" cy="1067040"/>
          </a:xfrm>
          <a:prstGeom prst="wedgeRectCallout">
            <a:avLst>
              <a:gd name="adj1" fmla="val -22546"/>
              <a:gd name="adj2" fmla="val -111162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0720" y="5334120"/>
            <a:ext cx="1937880" cy="825480"/>
          </a:xfrm>
          <a:prstGeom prst="rect">
            <a:avLst/>
          </a:prstGeom>
          <a:solidFill>
            <a:srgbClr val="302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Produc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52320" y="2252520"/>
                <a:ext cx="73044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U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,</m:t>
                                </m:r>
                                <m:sSub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t xml:space="preserve">h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42B5-6EA8-4B84-A46D-C77B26E587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Caso utilidad cuasi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600200" y="1590840"/>
                <a:ext cx="6248520" cy="465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3E42-A5E0-4171-B56E-D88E6331D6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295280"/>
            <a:ext cx="8305920" cy="12956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1522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b7a5"/>
                </a:solidFill>
                <a:latin typeface="Times New Roman"/>
              </a:rPr>
              <a:t>TEORIA DEL COMPORT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3200400"/>
            <a:ext cx="2361960" cy="34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 externalidades de localización (endógenas a U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Nivel de ingres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egurida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tatu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Etni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glomeración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7200" y="1600200"/>
                <a:ext cx="81932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514600" y="3200400"/>
            <a:ext cx="236232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l sistema de transporte para acceder a actividades (end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3200400"/>
            <a:ext cx="236232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geográficas (ex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3200400"/>
            <a:ext cx="2057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Parámetros de gust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447920" y="2362320"/>
            <a:ext cx="7617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657600" y="30477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3581280" y="236196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657600" y="2438280"/>
            <a:ext cx="16765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095880" y="2362320"/>
            <a:ext cx="6858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772400" y="24379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21400" y="5373720"/>
            <a:ext cx="357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h: categoría de a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s: zona de localización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FB03-FE0F-4660-AF89-6F3CA9B5B1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3429000"/>
            <a:ext cx="8534520" cy="13716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04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b7a5"/>
                </a:solidFill>
                <a:latin typeface="Times New Roman"/>
              </a:rPr>
              <a:t>LA DISPOSICION A PAG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106668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 existe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existe 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752480"/>
            <a:ext cx="8534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el monto que un hogar o firma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está dispuesto a pagar por  una localización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de manera de obtener un nivel de satisfacció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57200" y="3657600"/>
                <a:ext cx="85852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228600" y="5562720"/>
            <a:ext cx="54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vector de valoración de cada atribu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4952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4952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676520" y="44956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047760" y="4495680"/>
            <a:ext cx="759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9D8C-C655-4784-8D3E-E7353184E5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600200" y="1523880"/>
            <a:ext cx="6172200" cy="1219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6094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EQUIVALENC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905120" y="1752480"/>
                <a:ext cx="52797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838080" y="5638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pción:  Trabajar con utilidades o co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28195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isposición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819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ecio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257800" y="2361960"/>
            <a:ext cx="380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6705360" y="23623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829120" y="2247840"/>
            <a:ext cx="380880" cy="2895480"/>
          </a:xfrm>
          <a:custGeom>
            <a:avLst/>
            <a:gdLst>
              <a:gd name="textAreaLeft" fmla="*/ 243360 w 380880"/>
              <a:gd name="textAreaRight" fmla="*/ 381240 w 38088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3400" y="3962520"/>
            <a:ext cx="350532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cedente del 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ARIACIÓN COMPENSAT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429000"/>
            <a:ext cx="1143000" cy="609480"/>
          </a:xfrm>
          <a:prstGeom prst="wedgeRectCallout">
            <a:avLst>
              <a:gd name="adj1" fmla="val 80416"/>
              <a:gd name="adj2" fmla="val -198175"/>
            </a:avLst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52640" y="3468600"/>
            <a:ext cx="1028160" cy="4597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fe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7342-5B31-4E00-8C8A-A208C7644C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4114800"/>
            <a:ext cx="624816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localización es asignada 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2800" spc="-1" strike="noStrike">
                <a:solidFill>
                  <a:srgbClr val="ff6633"/>
                </a:solidFill>
                <a:latin typeface="Times New Roman"/>
              </a:rPr>
              <a:t>mejor postor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ienes Un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0532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m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819520"/>
            <a:ext cx="7391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uelo Urbano es un bien “</a:t>
            </a: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cuasi-únic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N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es posible producir localizaciones de iguale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9B9D-462D-4E90-9572-584B136F97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733920" y="1981080"/>
            <a:ext cx="5105160" cy="1067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2057400"/>
            <a:ext cx="320040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4446720"/>
            <a:ext cx="26668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post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191120" y="2209680"/>
                <a:ext cx="38862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4038480"/>
            <a:ext cx="5135400" cy="1905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979800" y="4659480"/>
                <a:ext cx="478332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/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D561-5089-462A-926B-E14C7703D1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6200" y="4419720"/>
            <a:ext cx="48006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2895480"/>
            <a:ext cx="68580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838080"/>
            <a:ext cx="8001000" cy="9907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648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ej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postor e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457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457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21337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Equilibrio </a:t>
            </a:r>
            <a:r>
              <a:rPr b="1" i="1" lang="es-ES" sz="2400" spc="-1" strike="noStrike">
                <a:solidFill>
                  <a:srgbClr val="ff6633"/>
                </a:solidFill>
                <a:latin typeface="Times New Roman"/>
              </a:rPr>
              <a:t>BID-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5486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hace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e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oferta que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066680" y="1143000"/>
                <a:ext cx="30481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518000" y="1119240"/>
                <a:ext cx="41688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284120" y="3112920"/>
                <a:ext cx="62596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r>
                      <m:t xml:space="preserve"> </m:t>
                    </m:r>
                    <m:limLow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</m:e>
                      <m:lim/>
                    </m:limLow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913200" y="4724280"/>
                <a:ext cx="46972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21AC-D1DD-4303-B14D-56052EA755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62120" y="68580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CLUSION:  Modelo Bid-Cho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(oferta dad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133720"/>
            <a:ext cx="75438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052640" y="2378160"/>
                <a:ext cx="62100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'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</m:t>
                    </m:r>
                    <m:sSub>
                      <m:e>
                        <m:r>
                          <m:t xml:space="preserve">∀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297080" y="3182760"/>
                <a:ext cx="6170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914400" y="4419720"/>
            <a:ext cx="746748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se observa un agente localizado, entonc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a localización maximiza su util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 renta representa su máxima disposición a pag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dada una ofert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41160" y="6172200"/>
            <a:ext cx="49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Arial"/>
              </a:rPr>
              <a:t>BID ES CONDICIÓN SUFIC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8E30-D73D-4F61-B525-0861D76E14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0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Bien...pero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 Cómo puedo saber exactamente el comporta-miento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B992-1078-48C3-A963-5D45B1D4DF12}" type="slidenum">
              <a:t>19</a:t>
            </a:fld>
          </a:p>
        </p:txBody>
      </p:sp>
    </p:spTree>
  </p:cSld>
  <p:transition spd="med" advTm="16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8cf4ea"/>
                </a:solidFill>
                <a:latin typeface="Times New Roman"/>
              </a:rPr>
              <a:t>Módulo 4</a:t>
            </a: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9215-9BE1-481D-9BE3-33C6187FA0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nfoque de elección discret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19160" y="2265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20800" y="5054760"/>
            <a:ext cx="4756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,i1         v2,i2         vk,ik                          v,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91920" y="47498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04680" y="2158920"/>
            <a:ext cx="1571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Consumi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52880" y="5724360"/>
            <a:ext cx="5701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aximización utilidad del consum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4360" y="18288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C4F1-FCC8-4A80-9A30-2557EA73231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523880" y="3962520"/>
            <a:ext cx="5181840" cy="1600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Choice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,U) - 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Supuesto: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, precio p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exóg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/h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j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j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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828800" y="4038480"/>
                <a:ext cx="419112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- 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900000" y="5883120"/>
            <a:ext cx="6502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pred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ADB7-FC8E-433E-AE51-CBA8FD97A13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nfoque remate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(selección discreta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18440" y="2265480"/>
            <a:ext cx="495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v,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20800" y="5054760"/>
            <a:ext cx="4597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1                 h2           h3                         h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82440" y="22352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ente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60800" y="4902120"/>
            <a:ext cx="2152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Consumidor/po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52520" y="5724360"/>
            <a:ext cx="6253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aximización utilidad del dueño del su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3440" y="19051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F238-1D22-4F5A-85B7-42388432D3D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371600" y="3657600"/>
            <a:ext cx="6324480" cy="19810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,U) 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/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g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g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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030400" y="3654360"/>
                <a:ext cx="437040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833400" y="6019920"/>
            <a:ext cx="7431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consumid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457200"/>
            <a:ext cx="771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B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F90C-224A-4346-BDA0-0B7881AA48D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066680" y="3809880"/>
            <a:ext cx="7696440" cy="2210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8cf4ea"/>
                </a:solidFill>
                <a:latin typeface="Times New Roman"/>
              </a:rPr>
              <a:t>Renta endógena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nta es valor esperado máxima pos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áx</a:t>
            </a:r>
            <a:r>
              <a:rPr b="0" lang="es-CL" sz="32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+ 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IIDG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722600" y="4167360"/>
                <a:ext cx="6354720" cy="16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66CA-09BC-4AC9-AC37-59BF7F55476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209680" y="5029200"/>
            <a:ext cx="4648320" cy="16002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1066680"/>
            <a:ext cx="5029200" cy="3505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Resumen: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909960" y="1219320"/>
                <a:ext cx="35355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- 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697200" y="2387520"/>
                <a:ext cx="392292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840120" y="3510000"/>
                <a:ext cx="36273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745200" y="1403280"/>
            <a:ext cx="1208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1) Cho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2600" y="2546280"/>
            <a:ext cx="839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2) B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1160" y="3689280"/>
            <a:ext cx="1110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3) R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355840" y="5149800"/>
                <a:ext cx="446724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/i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 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5F24-0D3A-49A8-9346-2702DE3AA86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1219320"/>
            <a:ext cx="8077320" cy="259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80800" y="30492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quivalencia modelos estocástico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806400" y="1649520"/>
                <a:ext cx="757548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h</m:t>
                                    </m:r>
                                  </m:num>
                                  <m:den>
                                    <m:r>
                                      <m:t xml:space="preserve">j</m:t>
                                    </m:r>
                                  </m:den>
                                </m:f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2040480" y="3886200"/>
            <a:ext cx="567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quivalencia ocurre si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s factores de escala son idéntico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ecios endóge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quilibrio oferta dem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51080" y="6095880"/>
            <a:ext cx="47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6633"/>
                </a:solidFill>
                <a:latin typeface="Arial"/>
              </a:rPr>
              <a:t>BID es aplicable siemp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BD01-C681-4EFC-9BB1-49300003E9C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3890880" y="1593720"/>
          <a:ext cx="13431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593720"/>
                    <a:ext cx="13431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5492880" y="539640"/>
            <a:ext cx="3643200" cy="295920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32320" y="1203480"/>
            <a:ext cx="1946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uff!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#%&amp;&amp;$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que falta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6A6C-CE60-44D6-B419-09991EC0997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Contexto Económ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mercado del suelo urb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últiples consumidores: residentes y fir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últiples attributos de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xternalidades de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na variedad de opciones zona-edif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ercado de Remates:competencia imperfec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nálisis de equilibrium de 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edidas en cambios d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gul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yectos de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A930-11CB-4503-96B1-5FB5FDC0B2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4800600"/>
            <a:ext cx="4343400" cy="91440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09480" y="1828800"/>
            <a:ext cx="4343400" cy="1371600"/>
            <a:chOff x="609480" y="1828800"/>
            <a:chExt cx="4343400" cy="1371600"/>
          </a:xfrm>
        </p:grpSpPr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609480" y="1969920"/>
                  <a:ext cx="4038840" cy="11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δ</m:t>
                                </m:r>
                              </m:lim>
                            </m:limLow>
                          </m:e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x</m:t>
                                    </m:r>
                                  </m:lim>
                                </m:limLow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z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mr>
                        <m:mr>
                          <m:e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>
              <a:off x="609480" y="3200400"/>
              <a:ext cx="4343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52880" y="1828800"/>
              <a:ext cx="0" cy="137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31800" y="3394080"/>
                <a:ext cx="32767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V</m:t>
                        </m:r>
                      </m:e>
                    </m:ba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4187880" y="3505320"/>
            <a:ext cx="46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tilidad Indirecta &amp; condi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25600" y="4181400"/>
                <a:ext cx="2423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3435840" y="4148280"/>
            <a:ext cx="58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: precio exógeno par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obteniendo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15960" y="4976640"/>
                <a:ext cx="36352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4804200" y="4800600"/>
            <a:ext cx="365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ax valor par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z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ado 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manda compens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8640" y="5891040"/>
                <a:ext cx="54849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016320" y="58672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unción de 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C2DD-C0D4-44A1-ACF2-16284A0F60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95280" y="1752480"/>
            <a:ext cx="4343400" cy="91440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454040" y="1928880"/>
                <a:ext cx="36356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297080" y="2971800"/>
                <a:ext cx="54846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295280" y="3657600"/>
                <a:ext cx="541044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,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,</m:t>
                                  </m:r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;</m:t>
                                  </m:r>
                                  <m:s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,</m:t>
                                  </m:r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;</m:t>
                                  </m:r>
                                  <m:s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E7C5-E2C3-41D5-B6A8-BC276792EB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33520" y="2362320"/>
                <a:ext cx="817380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825480" y="160020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didas clásicas: (p,z,U) en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838080" y="4048200"/>
                <a:ext cx="74804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8566-1DBE-48FF-9712-79E8E4B3C0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2895480"/>
            <a:ext cx="8534160" cy="259092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276640" y="2057400"/>
                <a:ext cx="47257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838080" y="3503520"/>
                <a:ext cx="78202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673200" y="129528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didas clasicas: (p,z,U) en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2209680"/>
            <a:ext cx="1371600" cy="685800"/>
          </a:xfrm>
          <a:prstGeom prst="wedgeRectCallout">
            <a:avLst>
              <a:gd name="adj1" fmla="val -78472"/>
              <a:gd name="adj2" fmla="val 136574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Notar U</a:t>
            </a:r>
            <a:r>
              <a:rPr b="0" lang="es-CL" sz="16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9EFF-224B-4A95-A803-DD5E7A09BF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de beneficio total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52600" y="2819520"/>
                <a:ext cx="818820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US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810720" y="1981080"/>
            <a:ext cx="77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Beneficio Total = Excedente Consumidor + Pro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343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ide cambio en DP por cambios causados en lo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ifiere de variación de pre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665680" y="5637240"/>
                <a:ext cx="12398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066680" y="5410080"/>
            <a:ext cx="6978600" cy="1703160"/>
          </a:xfrm>
          <a:prstGeom prst="rect">
            <a:avLst/>
          </a:prstGeom>
          <a:solidFill>
            <a:srgbClr val="c9c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Obs.: 1) condiciones exte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         </a:t>
            </a: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2) externalidades: interacción entre ag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9360" y="1523880"/>
            <a:ext cx="32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ara una localiza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C187-271E-4B5A-AA56-E5AE85FC10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Algunas conclusion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beneficios totales 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DP evaluado a U cte,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U más cambio en rentas,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valor de ambiente construido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NOT son idénticos a cambios en r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BBD6-CF9D-42A7-A84A-4192B1BC30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4-10-07T12:45:20Z</dcterms:modified>
  <cp:revision>79</cp:revision>
  <dc:subject/>
  <dc:title>General</dc:title>
</cp:coreProperties>
</file>