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8BD-7F64-4629-AA54-C01D48EB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251-C46D-413B-B06C-8C6D2498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0F5-AEDF-48A4-9086-3F4D4AED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8DC-A689-4D3E-8951-C2927D07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9F7-DD3D-4696-ABAF-A8590762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045-989B-41F9-8F52-7335C760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8AC-17B0-4900-AC82-BC351C56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A5B-2CF9-4E8C-AEBB-E8F49DBA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BA7-BC45-46F3-B229-4C46536E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31B-7357-42F9-BB3F-315CA52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AD7-B10A-43F1-A9B3-E9D98380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3CB-072B-4EE1-81D3-7055971B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68EEE4-F749-4EA6-8A58-645EF1DF3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89D-E09C-4E22-97D6-EA4E9142442E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FCB-31BA-467B-942F-764E8C730C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1590840"/>
                <a:ext cx="624852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2C7-9C8D-46E4-B206-DF8D4FE345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7F4-0897-4FF3-9702-CA10854A11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449-5FA7-4BD5-8F95-36938D3EE0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112-1423-46E4-BFED-68177D8A9D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522-3BD4-4EE1-923A-577F3F86F2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79800" y="4659480"/>
                <a:ext cx="4783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FA8-7678-4F04-92E4-A9865E3E91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18000" y="1119240"/>
                <a:ext cx="4168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4120" y="3112920"/>
                <a:ext cx="6259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13200" y="4724280"/>
                <a:ext cx="4697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CF9-9B39-420C-83EA-965F0603B3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97080" y="3182760"/>
                <a:ext cx="617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1BB-64DB-4EC1-ABDA-AD8A19FD74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10F-FCBC-4A56-A9F0-08E372AA777A}" type="slidenum">
              <a:t>19</a:t>
            </a:fld>
          </a:p>
        </p:txBody>
      </p:sp>
    </p:spTree>
  </p:cSld>
  <p:transition spd="med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7A0-D037-432F-A899-A7F5BF10B8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C16-C35C-474F-B283-197C2959196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F8F-84B2-4F36-B379-201B015CE3A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FCE-B439-4DB5-BEE1-32D0108C94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D6C-4FDD-45C6-BD53-99B3600E06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3C2-0B6F-4752-A96D-0AD673CA4EC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97200" y="2387520"/>
                <a:ext cx="3922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40120" y="3510000"/>
                <a:ext cx="362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355840" y="5149800"/>
                <a:ext cx="4467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098-32BD-44A0-AFD5-6EDC746B7E6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06400" y="1649520"/>
                <a:ext cx="75754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40480" y="3886200"/>
            <a:ext cx="56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9C7-CA81-43BE-81D8-3EF3C2AE5DB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745-D4CE-409C-88E0-279F789522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BF8-95CB-495A-BEE5-009E1D0C3F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80060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3180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5600" y="418140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5960" y="497664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03F-3393-4EFE-8920-A667507726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175248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54040" y="1928880"/>
                <a:ext cx="3635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97080" y="2971800"/>
                <a:ext cx="5484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3657600"/>
                <a:ext cx="541044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60A-A232-46B0-8BBD-547927F510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738-7E1D-40B7-84A9-C41958FC6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F6B-C9BA-41B0-AA93-C477FA8866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49B-DD4C-4346-A1AD-AF524088AE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992-5020-46D9-B88E-82C8E1E6AD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10-07T12:45:20Z</dcterms:modified>
  <cp:revision>79</cp:revision>
  <dc:subject/>
  <dc:title>General</dc:title>
</cp:coreProperties>
</file>