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DB09-3EAF-4F70-854E-4E2E7D59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DCA1-183E-4878-93B7-FFBD6682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933-79C2-45D3-9AF5-07934497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625-E816-4053-995D-E95EA570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94A-34D7-4A13-8228-2FC5DBB5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F55-73FD-4E23-B57C-B3669D19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053-FB46-40DD-B3D2-DE74CB74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FB6D-01B9-49D8-B594-13650914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675-0FB2-49D3-9BC0-B42480F5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79A-7482-425D-9A00-CA71DC56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D24-0984-4B9F-B865-CBFB069E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210-EC6C-4422-B95B-3F9BAF3E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473B3E-2B52-4F12-92D4-6217F1EB8B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BC2-2F3E-4298-B822-BD1DCE082A84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Beneficios de Uso del suel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874880" y="3498840"/>
                <a:ext cx="60498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H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429000" y="5257800"/>
            <a:ext cx="2286000" cy="990720"/>
          </a:xfrm>
          <a:prstGeom prst="wedgeRectCallout">
            <a:avLst>
              <a:gd name="adj1" fmla="val 1527"/>
              <a:gd name="adj2" fmla="val -123398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5334120"/>
            <a:ext cx="24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Consum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5181480"/>
            <a:ext cx="2133720" cy="1067040"/>
          </a:xfrm>
          <a:prstGeom prst="wedgeRectCallout">
            <a:avLst>
              <a:gd name="adj1" fmla="val -22546"/>
              <a:gd name="adj2" fmla="val -111162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0720" y="5334120"/>
            <a:ext cx="1937880" cy="825480"/>
          </a:xfrm>
          <a:prstGeom prst="rect">
            <a:avLst/>
          </a:prstGeom>
          <a:solidFill>
            <a:srgbClr val="302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Produc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2320" y="2252520"/>
                <a:ext cx="73044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U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4D8-EAB0-47E1-BB03-70F21F0FF2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Caso utilidad cuasi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00200" y="1590840"/>
                <a:ext cx="6248520" cy="46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956-6CB3-4F6A-AEA2-D142D425B3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95280"/>
            <a:ext cx="8305920" cy="12956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52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7a5"/>
                </a:solidFill>
                <a:latin typeface="Times New Roman"/>
              </a:rPr>
              <a:t>TEORIA DEL COMPORT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200400"/>
            <a:ext cx="236196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 externalidades de localización (endógenas a U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Nivel de ingres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egurid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tn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glomeració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" y="1600200"/>
                <a:ext cx="81932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514600" y="3200400"/>
            <a:ext cx="236232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l sistema de transporte para acceder a actividades (end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3200400"/>
            <a:ext cx="236232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geográficas (ex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3200400"/>
            <a:ext cx="205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arámetros de gus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447920" y="2362320"/>
            <a:ext cx="7617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657600" y="30477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581280" y="23619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657600" y="2438280"/>
            <a:ext cx="16765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095880" y="236232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772400" y="2437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21400" y="5373720"/>
            <a:ext cx="35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h: categoría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s: zona de localizació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CAD-8E01-41E6-8784-6D17E7BF92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3429000"/>
            <a:ext cx="8534520" cy="13716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7a5"/>
                </a:solidFill>
                <a:latin typeface="Times New Roman"/>
              </a:rPr>
              <a:t>LA DISPOSICION A PA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0666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existe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existe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75248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el monto que un hogar o firma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está dispuesto a pagar por  una localización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de manera de obtener un nivel de satisfacció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7200" y="3657600"/>
                <a:ext cx="85852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228600" y="5562720"/>
            <a:ext cx="54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vector de valoración de cada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676520" y="44956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047760" y="449568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97E-64EC-490F-BC05-A41BDF98EA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0200" y="1523880"/>
            <a:ext cx="6172200" cy="1219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EQUIVALE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05120" y="1752480"/>
                <a:ext cx="52797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83808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pción:  Trabajar con utilidades o co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2819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ecio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257800" y="2361960"/>
            <a:ext cx="380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6705360" y="23623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829120" y="2247840"/>
            <a:ext cx="380880" cy="2895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3962520"/>
            <a:ext cx="35053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dente del 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ARIACIÓN COMPENSA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429000"/>
            <a:ext cx="1143000" cy="609480"/>
          </a:xfrm>
          <a:prstGeom prst="wedgeRectCallout">
            <a:avLst>
              <a:gd name="adj1" fmla="val 80416"/>
              <a:gd name="adj2" fmla="val -198175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52640" y="3468600"/>
            <a:ext cx="10281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B30-4AFE-4E5E-9D39-39DCCC75EC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4114800"/>
            <a:ext cx="624816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localización es asignada 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800" spc="-1" strike="noStrike">
                <a:solidFill>
                  <a:srgbClr val="ff6633"/>
                </a:solidFill>
                <a:latin typeface="Times New Roman"/>
              </a:rPr>
              <a:t>mejor posto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ienes U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19520"/>
            <a:ext cx="739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elo Urbano es un bien “</a:t>
            </a: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cuasi-ún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s posible producir localizaciones de iguale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649-0CC4-453E-86AD-DC901E2810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733920" y="1981080"/>
            <a:ext cx="5105160" cy="1067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057400"/>
            <a:ext cx="32004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446720"/>
            <a:ext cx="26668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pos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191120" y="2209680"/>
                <a:ext cx="38862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4038480"/>
            <a:ext cx="5135400" cy="1905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79800" y="4659480"/>
                <a:ext cx="47833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/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FC4-9F14-469A-80A8-8F5D8D7B48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4419720"/>
            <a:ext cx="48006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895480"/>
            <a:ext cx="68580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838080"/>
            <a:ext cx="8001000" cy="9907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ostor e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457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21337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Equilibrio </a:t>
            </a:r>
            <a:r>
              <a:rPr b="1" i="1" lang="es-ES" sz="2400" spc="-1" strike="noStrike">
                <a:solidFill>
                  <a:srgbClr val="ff6633"/>
                </a:solidFill>
                <a:latin typeface="Times New Roman"/>
              </a:rPr>
              <a:t>BID-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hace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oferta qu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066680" y="1143000"/>
                <a:ext cx="30481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518000" y="1119240"/>
                <a:ext cx="4168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284120" y="3112920"/>
                <a:ext cx="6259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r>
                      <m:t xml:space="preserve"> </m:t>
                    </m:r>
                    <m:limLow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</m:e>
                      <m:lim/>
                    </m:limLow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913200" y="4724280"/>
                <a:ext cx="46972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A52-7A2E-4AE9-8159-8144F6DF04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2120" y="6858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CLUSION:  Modelo Bid-Ch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(oferta da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133720"/>
            <a:ext cx="75438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052640" y="2378160"/>
                <a:ext cx="62100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</m:t>
                    </m:r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297080" y="3182760"/>
                <a:ext cx="6170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914400" y="4419720"/>
            <a:ext cx="74674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se observa un agente localizado, entonc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a localización maximiza su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renta representa su máxima disposición a pag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dada una ofert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41160" y="617220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Arial"/>
              </a:rPr>
              <a:t>BID ES CONDICIÓN SU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2DD-F627-4D55-8698-48AD0C2DAE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Bien...per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 Cómo puedo saber exactamente el comporta-mient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60FC-4A29-4002-A7BB-0DDD3C67688C}" type="slidenum">
              <a:t>19</a:t>
            </a:fld>
          </a:p>
        </p:txBody>
      </p:sp>
    </p:spTree>
  </p:cSld>
  <p:transition spd="med" advTm="16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8cf4ea"/>
                </a:solidFill>
                <a:latin typeface="Times New Roman"/>
              </a:rPr>
              <a:t>Módulo 4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AFAC-4FBF-42AE-BEAF-DAB5C726CF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de elección discret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19160" y="2265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20800" y="5054760"/>
            <a:ext cx="4756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,i1         v2,i2         vk,ik                          v,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91920" y="47498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04680" y="2158920"/>
            <a:ext cx="1571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52880" y="5724360"/>
            <a:ext cx="5701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aximización utilidad de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4360" y="1828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3C8-E1C2-4BBC-BDFC-ADFFECCD492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23880" y="3962520"/>
            <a:ext cx="5181840" cy="1600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Choice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- 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upuesto: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, precio p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ex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/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j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j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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828800" y="4038480"/>
                <a:ext cx="41911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- 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900000" y="5883120"/>
            <a:ext cx="6502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pred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8494-365A-43C2-81DB-A5A26A11F70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remate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selección discreta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18440" y="2265480"/>
            <a:ext cx="4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,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20800" y="5054760"/>
            <a:ext cx="459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1                 h2           h3                         h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82440" y="22352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ente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60800" y="4902120"/>
            <a:ext cx="2152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sumidor/po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52520" y="5724360"/>
            <a:ext cx="625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aximización utilidad del dueñ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3440" y="19051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2BE-B4FB-4857-9B2B-1CC7CBBD4F0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71600" y="365760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/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g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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030400" y="3654360"/>
                <a:ext cx="437040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833400" y="6019920"/>
            <a:ext cx="743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consumi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45720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B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BAB-DAB0-4C99-9185-EADFFDEA8A1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066680" y="3809880"/>
            <a:ext cx="7696440" cy="2210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8cf4ea"/>
                </a:solidFill>
                <a:latin typeface="Times New Roman"/>
              </a:rPr>
              <a:t>Renta endóge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nta es valor esperado máxima pos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áx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IIDG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722600" y="4167360"/>
                <a:ext cx="635472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20E6-0A00-4FC2-942C-3F6D73F2D7D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09680" y="5029200"/>
            <a:ext cx="4648320" cy="160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066680"/>
            <a:ext cx="5029200" cy="3505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Resumen: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909960" y="1219320"/>
                <a:ext cx="3535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697200" y="2387520"/>
                <a:ext cx="39229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840120" y="3510000"/>
                <a:ext cx="36273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745200" y="1403280"/>
            <a:ext cx="120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1) Ch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2600" y="2546280"/>
            <a:ext cx="83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2) B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1160" y="3689280"/>
            <a:ext cx="111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3)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355840" y="5149800"/>
                <a:ext cx="446724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i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 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85D-028A-481B-BEA5-29620CE8EE6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1219320"/>
            <a:ext cx="8077320" cy="259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0800" y="30492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valencia modelos estocástic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06400" y="1649520"/>
                <a:ext cx="757548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j</m:t>
                                    </m:r>
                                  </m:den>
                                </m:f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2040480" y="3886200"/>
            <a:ext cx="567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valencia ocurre s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factores de escala son idéntic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cios endóge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librio oferta 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51080" y="6095880"/>
            <a:ext cx="47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33"/>
                </a:solidFill>
                <a:latin typeface="Arial"/>
              </a:rPr>
              <a:t>BID es aplicable siemp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E6A1-32AF-4A97-B847-CE56D27A1E3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32320" y="1203480"/>
            <a:ext cx="1946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que falta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CA96-3906-46B3-BD79-4A2CB8832C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Contexto Econó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mercado del suelo urb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últiples consumidores: residentes y fir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últiples attributo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xternalidade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Una variedad de opciones zona-e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rcado de Remates:competencia imperfe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álisis de equilibrium de 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das en cambio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gul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s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62C5-ECC9-4D95-AF90-B1BA53FE2F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80060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09480" y="1828800"/>
            <a:ext cx="4343400" cy="1371600"/>
            <a:chOff x="609480" y="1828800"/>
            <a:chExt cx="4343400" cy="1371600"/>
          </a:xfrm>
        </p:grpSpPr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609480" y="1969920"/>
                  <a:ext cx="403884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609480" y="3200400"/>
              <a:ext cx="4343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52880" y="1828800"/>
              <a:ext cx="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31800" y="3394080"/>
                <a:ext cx="3276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V</m:t>
                        </m:r>
                      </m:e>
                    </m:ba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4187880" y="3505320"/>
            <a:ext cx="46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5600" y="4181400"/>
                <a:ext cx="2423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3435840" y="4148280"/>
            <a:ext cx="58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: precio exógeno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obteniendo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15960" y="4976640"/>
                <a:ext cx="3635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804200" y="4800600"/>
            <a:ext cx="365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ado 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manda compens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8640" y="5891040"/>
                <a:ext cx="5484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16320" y="5867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unción de 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51CB-51D1-4902-A68E-086C6D45B8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5280" y="175248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454040" y="1928880"/>
                <a:ext cx="36356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97080" y="2971800"/>
                <a:ext cx="54846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95280" y="3657600"/>
                <a:ext cx="541044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&lt;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z</m:t>
                                  </m:r>
                                  <m:r>
                                    <m:t xml:space="preserve">,</m:t>
                                  </m:r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;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0F8-9063-4B1C-85A4-B01F03CF0F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33520" y="2362320"/>
                <a:ext cx="817380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825480" y="1600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á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838080" y="4048200"/>
                <a:ext cx="7480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190-0474-4022-A734-CF4164D650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2895480"/>
            <a:ext cx="8534160" cy="259092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76640" y="2057400"/>
                <a:ext cx="4725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838080" y="3503520"/>
                <a:ext cx="78202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673200" y="129528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a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2209680"/>
            <a:ext cx="1371600" cy="685800"/>
          </a:xfrm>
          <a:prstGeom prst="wedgeRectCallout">
            <a:avLst>
              <a:gd name="adj1" fmla="val -78472"/>
              <a:gd name="adj2" fmla="val 136574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Notar U</a:t>
            </a:r>
            <a:r>
              <a:rPr b="0" lang="es-CL" sz="1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E0A-A1EB-4C25-BCBD-23EF486378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de beneficio total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52600" y="2819520"/>
                <a:ext cx="81882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810720" y="1981080"/>
            <a:ext cx="77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eneficio Total = Excedente Consumidor + Pro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343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ide cambio en DP por cambios causados en lo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fiere de variación de pre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65680" y="5637240"/>
                <a:ext cx="12398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066680" y="5410080"/>
            <a:ext cx="6978600" cy="1703160"/>
          </a:xfrm>
          <a:prstGeom prst="rect">
            <a:avLst/>
          </a:prstGeom>
          <a:solidFill>
            <a:srgbClr val="c9c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Obs.: 1) condiciones exte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2) externalidades: interacción entre ag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9360" y="152388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una localiz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7776-419A-4CB2-AA68-F664F704D7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Algunas conclus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beneficios totales 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DP evaluado a U cte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U más cambio en rentas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valor de ambiente construido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NOT son idénticos a cambios en r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313A-DC55-4EBC-BADE-18CA6C2CF7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10-07T12:45:20Z</dcterms:modified>
  <cp:revision>79</cp:revision>
  <dc:subject/>
  <dc:title>General</dc:title>
</cp:coreProperties>
</file>