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27A-D353-4B16-BA85-CD66877E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892-353A-4D48-B6BB-D0544C03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507-1DC4-4166-97EC-16B58B21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0B2-2C90-4BDC-B6A3-D3742304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660-7692-46DE-BAF2-B9C9EA4A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279-A742-419A-8B53-9E9A3501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3DF-6B8A-4058-95B1-3BCBEBD0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0B2-C411-4E99-BC76-39F5DC17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D04-D161-4193-97E1-2659869C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48D-C31B-4B07-A353-48830DBA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FA3-B6F0-4F4A-81C7-067D3FE1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1B0-2528-4DE1-8415-6E245F3C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A1B9CD-1E84-411A-8997-B73049EAA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087-F1FC-40B2-B645-1DAA24622D99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968-CE68-4EBB-929E-4C4ADC3A88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1590840"/>
                <a:ext cx="624852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279-EAB4-494B-B461-64186C5F53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1600200"/>
                <a:ext cx="8193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21400" y="537372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s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1EC-8681-4555-9147-27F664D047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7200" y="3657600"/>
                <a:ext cx="85852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7652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04776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8E6-4F26-4A08-888D-564F8369A4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5120" y="1752480"/>
                <a:ext cx="5279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EFC-6AA4-4651-B036-DD6944F773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U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63C-48BD-41FA-8DD4-97ED8F5C7E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191120" y="2209680"/>
                <a:ext cx="3886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79800" y="4659480"/>
                <a:ext cx="47833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384-A492-40EC-8E18-469340A8C6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11430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18000" y="1119240"/>
                <a:ext cx="4168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84120" y="3112920"/>
                <a:ext cx="6259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limLow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</m:e>
                      <m:lim/>
                    </m:limLow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13200" y="4724280"/>
                <a:ext cx="4697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172-65E7-4BC6-BC3C-4427E843C8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52640" y="2378160"/>
                <a:ext cx="621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97080" y="3182760"/>
                <a:ext cx="617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A53-CC81-43FE-A61E-C1A889898C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EBF-05EB-4ED7-A95E-3660D1113AEA}" type="slidenum">
              <a:t>19</a:t>
            </a:fld>
          </a:p>
        </p:txBody>
      </p:sp>
    </p:spTree>
  </p:cSld>
  <p:transition spd="med"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625-B733-4AD7-871A-AD93621E00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4AA-F9E0-4401-BC5B-BF6C0863A3C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A26-D6E7-452E-9BBE-2560FA3C90F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7A6-99C7-4849-BA92-A6681A30CC6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BF7-02CA-47CF-852B-18F50B166B8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D37-375F-4F8D-A8E0-D5B2A4903B8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09680" y="5029200"/>
            <a:ext cx="464832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97200" y="2387520"/>
                <a:ext cx="3922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40120" y="3510000"/>
                <a:ext cx="362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355840" y="5149800"/>
                <a:ext cx="44672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49C-9C88-4919-8F5D-A1F34DB5D54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1219320"/>
            <a:ext cx="8077320" cy="259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06400" y="1649520"/>
                <a:ext cx="757548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j</m:t>
                                    </m:r>
                                  </m:den>
                                </m:f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40480" y="3886200"/>
            <a:ext cx="567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librio oferta 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89E-4148-446B-8F77-C7BAC7E5932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241-C4B8-4F4F-83A8-C698C8B0B6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333-97AF-46DA-89E3-280ADCE1BC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80060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1828800"/>
            <a:ext cx="4343400" cy="1371600"/>
            <a:chOff x="609480" y="1828800"/>
            <a:chExt cx="4343400" cy="13716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9480" y="1969920"/>
                  <a:ext cx="403884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09480" y="3200400"/>
              <a:ext cx="434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52880" y="182880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31800" y="339408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187880" y="35053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5600" y="418140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435840" y="414828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obteniendo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15960" y="497664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804200" y="4800600"/>
            <a:ext cx="36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BBD-250D-446B-A6C3-7702283A97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175248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54040" y="1928880"/>
                <a:ext cx="3635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97080" y="2971800"/>
                <a:ext cx="5484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95280" y="3657600"/>
                <a:ext cx="541044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C37-29AB-4F17-BC2D-5086E8FCE5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23623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825480" y="1600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38080" y="40482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E01-E280-4626-B9CE-F2992FE2B1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2895480"/>
            <a:ext cx="8534160" cy="259092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76640" y="2057400"/>
                <a:ext cx="472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38080" y="3503520"/>
                <a:ext cx="7820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73200" y="129528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a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371600" cy="685800"/>
          </a:xfrm>
          <a:prstGeom prst="wedgeRectCallout">
            <a:avLst>
              <a:gd name="adj1" fmla="val -78472"/>
              <a:gd name="adj2" fmla="val 136574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otar U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E0D-1D9C-44F0-B961-0FDE7202D2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20C-8C93-4D9B-9996-6342D27356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T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CD9-1B67-4B70-95E5-882C08C290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10-07T12:45:20Z</dcterms:modified>
  <cp:revision>79</cp:revision>
  <dc:subject/>
  <dc:title>General</dc:title>
</cp:coreProperties>
</file>