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14A-38E1-4959-BAF7-F2858EB7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755-5C97-46EB-9413-71CDE7DD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FEE-19FD-4005-8A17-7E31AFED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434-6CEA-44B0-A855-367CBEE9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FD1-9D54-450C-8DDB-E176A259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B5E-410E-4A9A-8EAF-D82E4334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0A0-E520-49EC-8DA5-B848A020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B2C-78CD-4316-8A5D-C846AF74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2E8-57D2-403E-8DE3-EEE19D4E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214-47C5-4EFD-9F51-6285D827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721-924B-414C-B579-4BBEF82D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3E1-109B-4886-9562-07FB7754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A72619-5998-41A8-8562-9FA25382D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D9F-549A-4AF0-B492-E1419D761F29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Beneficios de Uso del suel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874880" y="3498840"/>
                <a:ext cx="60498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H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429000" y="5257800"/>
            <a:ext cx="2286000" cy="990720"/>
          </a:xfrm>
          <a:prstGeom prst="wedgeRectCallout">
            <a:avLst>
              <a:gd name="adj1" fmla="val 1527"/>
              <a:gd name="adj2" fmla="val -123398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533412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Consum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5181480"/>
            <a:ext cx="2133720" cy="1067040"/>
          </a:xfrm>
          <a:prstGeom prst="wedgeRectCallout">
            <a:avLst>
              <a:gd name="adj1" fmla="val -22546"/>
              <a:gd name="adj2" fmla="val -111162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0720" y="5334120"/>
            <a:ext cx="1937880" cy="825480"/>
          </a:xfrm>
          <a:prstGeom prst="rect">
            <a:avLst/>
          </a:prstGeom>
          <a:solidFill>
            <a:srgbClr val="302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Produ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2320" y="2252520"/>
                <a:ext cx="73044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E12E-771B-4146-BFCD-E8D2598916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Caso utilidad cuasi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00200" y="1590840"/>
                <a:ext cx="6248520" cy="46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FD5-E370-45FC-A53B-B79B18C3AC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200400"/>
            <a:ext cx="23619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 externalidades de localización (endógenas a U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ivel de ingre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tn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glomeració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" y="1600200"/>
                <a:ext cx="81932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14600" y="3200400"/>
            <a:ext cx="23623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l sistema de transporte para acceder a actividades (end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3200400"/>
            <a:ext cx="23623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geográficas (ex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20040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arámetros de gus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447920" y="2362320"/>
            <a:ext cx="7617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657600" y="3047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581280" y="23619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657600" y="2438280"/>
            <a:ext cx="1676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9588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772400" y="2437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21400" y="5373720"/>
            <a:ext cx="35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h: categoría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s: zona de localizació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E43-F77F-40D7-89C0-CC1BF79872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3429000"/>
            <a:ext cx="8534520" cy="13716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7a5"/>
                </a:solidFill>
                <a:latin typeface="Times New Roman"/>
              </a:rPr>
              <a:t>LA DISPOSICION A PA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0666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existe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xiste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75248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el monto que un hogar o firma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está dispuesto a pagar por  una localización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de manera de obtener un nivel de satisfacció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7200" y="3657600"/>
                <a:ext cx="85852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228600" y="5562720"/>
            <a:ext cx="54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vector de valoración de cada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7652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047760" y="449568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E71-C587-4282-BFA3-869CCE51E3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1523880"/>
            <a:ext cx="6172200" cy="1219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EQUIVAL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5120" y="1752480"/>
                <a:ext cx="52797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8380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ción:  Trabajar con utilidades o co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2819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cio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257800" y="2361960"/>
            <a:ext cx="380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6705360" y="2362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829120" y="224784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3962520"/>
            <a:ext cx="35053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dente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ARIACIÓN COMPENS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429000"/>
            <a:ext cx="1143000" cy="609480"/>
          </a:xfrm>
          <a:prstGeom prst="wedgeRectCallout">
            <a:avLst>
              <a:gd name="adj1" fmla="val 80416"/>
              <a:gd name="adj2" fmla="val -198175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52640" y="3468600"/>
            <a:ext cx="102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37CF-C922-4072-9FF1-6D43D8C386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114800"/>
            <a:ext cx="62481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localización es asignada 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ff6633"/>
                </a:solidFill>
                <a:latin typeface="Times New Roman"/>
              </a:rPr>
              <a:t>mejor posto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 U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19520"/>
            <a:ext cx="739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elo Urbano es un bien “</a:t>
            </a: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cuasi-ún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posible producir localizaciones de iguale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340-907B-4B2A-8741-94CF1EA331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733920" y="1981080"/>
            <a:ext cx="5105160" cy="1067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057400"/>
            <a:ext cx="3200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446720"/>
            <a:ext cx="2666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pos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191120" y="2209680"/>
                <a:ext cx="38862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4038480"/>
            <a:ext cx="5135400" cy="1905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79800" y="4659480"/>
                <a:ext cx="47833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BD5-331A-49C2-84D5-DFE9BD86D6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4419720"/>
            <a:ext cx="48006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895480"/>
            <a:ext cx="6858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838080"/>
            <a:ext cx="8001000" cy="9907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ostor e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457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2133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Equilibrio </a:t>
            </a:r>
            <a:r>
              <a:rPr b="1" i="1" lang="es-ES" sz="2400" spc="-1" strike="noStrike">
                <a:solidFill>
                  <a:srgbClr val="ff6633"/>
                </a:solidFill>
                <a:latin typeface="Times New Roman"/>
              </a:rPr>
              <a:t>BID-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hace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oferta qu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066680" y="1143000"/>
                <a:ext cx="3048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518000" y="1119240"/>
                <a:ext cx="4168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284120" y="3112920"/>
                <a:ext cx="6259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limLow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</m:e>
                      <m:lim/>
                    </m:limLow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913200" y="4724280"/>
                <a:ext cx="46972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EC1-DB44-49BF-A2C3-77806E5A1E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212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CLUSION:  Modelo Bid-Ch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(oferta da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133720"/>
            <a:ext cx="75438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052640" y="2378160"/>
                <a:ext cx="62100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</m:t>
                    </m:r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97080" y="3182760"/>
                <a:ext cx="6170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914400" y="4419720"/>
            <a:ext cx="7467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se observa un agente localizado, enton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a localización maximiza su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renta representa su máxima disposición a pa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dada una ofer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41160" y="617220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BID ES CONDICIÓN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B9D-40B6-4B05-80A5-3B3A922CAE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Bien...per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 Cómo puedo saber exactamente el comporta-mient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215-7204-4966-9CA2-5E6AF6572309}" type="slidenum">
              <a:t>19</a:t>
            </a:fld>
          </a:p>
        </p:txBody>
      </p:sp>
    </p:spTree>
  </p:cSld>
  <p:transition spd="med" advTm="1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8cf4ea"/>
                </a:solidFill>
                <a:latin typeface="Times New Roman"/>
              </a:rPr>
              <a:t>Módulo 4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0A0-909E-4A04-B9BA-6E3D0D5B1B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de elección discre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19160" y="2265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20800" y="5054760"/>
            <a:ext cx="475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,i1         v2,i2         vk,ik                          v,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91920" y="47498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04680" y="2158920"/>
            <a:ext cx="157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52880" y="5724360"/>
            <a:ext cx="570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4360" y="1828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CE2-809C-4453-B937-A97D5BCCC00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3880" y="3962520"/>
            <a:ext cx="5181840" cy="160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Choic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- 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upuesto: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, precio p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ex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/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j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j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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828800" y="4038480"/>
                <a:ext cx="4191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- 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900000" y="5883120"/>
            <a:ext cx="6502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pred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343-15AE-498A-9161-3DF6074D0C6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remate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selección discreta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18440" y="2265480"/>
            <a:ext cx="4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,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20800" y="5054760"/>
            <a:ext cx="459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1                 h2           h3                        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82440" y="22352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ent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60800" y="4902120"/>
            <a:ext cx="215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/po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52520" y="5724360"/>
            <a:ext cx="625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dueñ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3440" y="1905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2FE-6E07-47A3-826F-213D4308463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71600" y="365760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/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g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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030400" y="3654360"/>
                <a:ext cx="43704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833400" y="60199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consumi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45720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B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DA42-9148-493F-B7FF-DEBE7365F79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66680" y="3809880"/>
            <a:ext cx="7696440" cy="2210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8cf4ea"/>
                </a:solidFill>
                <a:latin typeface="Times New Roman"/>
              </a:rPr>
              <a:t>Renta endóge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 es valor esperado máxima pos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áx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IIDG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722600" y="4167360"/>
                <a:ext cx="635472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E97-F1C6-4F02-A277-3B8FBF5BDD5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09680" y="5029200"/>
            <a:ext cx="464832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066680"/>
            <a:ext cx="5029200" cy="350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909960" y="1219320"/>
                <a:ext cx="3535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697200" y="2387520"/>
                <a:ext cx="39229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40120" y="3510000"/>
                <a:ext cx="3627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745200" y="1403280"/>
            <a:ext cx="120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1) Ch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2600" y="2546280"/>
            <a:ext cx="83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2) B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1160" y="3689280"/>
            <a:ext cx="111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3)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355840" y="5149800"/>
                <a:ext cx="446724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i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 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AA9-DD17-4CD2-B4B1-A2672B72228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1219320"/>
            <a:ext cx="8077320" cy="259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0800" y="30492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valencia modelos estocástic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06400" y="1649520"/>
                <a:ext cx="757548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j</m:t>
                                    </m:r>
                                  </m:den>
                                </m:f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040480" y="3886200"/>
            <a:ext cx="567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valencia ocurre 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factores de escala son idéntic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cios endóge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librio oferta 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51080" y="609588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33"/>
                </a:solidFill>
                <a:latin typeface="Arial"/>
              </a:rPr>
              <a:t>BID es aplicable siemp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79C-EE41-4FDE-BF16-643640FE546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32320" y="1203480"/>
            <a:ext cx="1946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que falta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8865-80F2-4E02-AB0E-D171175D1F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Contexto Econó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ercado del suelo urb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últiples consumidores: residentes y fi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attributo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ternalidade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a variedad de opciones zona-e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rcado de Remates:competencia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álisis de equilibrium de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das en cambio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988-87A0-445B-8D39-5CAA08BADE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80060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09480" y="1828800"/>
            <a:ext cx="4343400" cy="1371600"/>
            <a:chOff x="609480" y="1828800"/>
            <a:chExt cx="4343400" cy="137160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609480" y="1969920"/>
                  <a:ext cx="403884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609480" y="3200400"/>
              <a:ext cx="4343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52880" y="182880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31800" y="3394080"/>
                <a:ext cx="327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4187880" y="35053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5600" y="4181400"/>
                <a:ext cx="2423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435840" y="4148280"/>
            <a:ext cx="58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: precio exógeno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obteniendo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15960" y="4976640"/>
                <a:ext cx="3635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804200" y="4800600"/>
            <a:ext cx="36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do 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manda compen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8640" y="5891040"/>
                <a:ext cx="5484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16320" y="5867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unción de 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CCB-D406-473E-AC04-6B5C11DA2A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175248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54040" y="1928880"/>
                <a:ext cx="36356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97080" y="2971800"/>
                <a:ext cx="54846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95280" y="3657600"/>
                <a:ext cx="541044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723-4C55-476B-9C23-A9E8BA9463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33520" y="2362320"/>
                <a:ext cx="81738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825480" y="1600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á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838080" y="4048200"/>
                <a:ext cx="7480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8F2-0B1E-40B7-8ABE-36FEC7E614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2895480"/>
            <a:ext cx="8534160" cy="259092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76640" y="2057400"/>
                <a:ext cx="4725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838080" y="3503520"/>
                <a:ext cx="78202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73200" y="129528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a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209680"/>
            <a:ext cx="1371600" cy="685800"/>
          </a:xfrm>
          <a:prstGeom prst="wedgeRectCallout">
            <a:avLst>
              <a:gd name="adj1" fmla="val -78472"/>
              <a:gd name="adj2" fmla="val 136574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otar U</a:t>
            </a:r>
            <a:r>
              <a:rPr b="0" lang="es-CL" sz="1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D8B7-93D5-4A04-A257-8300A175A7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de beneficio total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52600" y="2819520"/>
                <a:ext cx="81882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810720" y="19810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eneficio Total = Excedente Consumidor + Pro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de cambio en DP por cambios causados en lo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fiere de variación de pre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65680" y="5637240"/>
                <a:ext cx="1239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066680" y="5410080"/>
            <a:ext cx="6978600" cy="1703160"/>
          </a:xfrm>
          <a:prstGeom prst="rect">
            <a:avLst/>
          </a:prstGeom>
          <a:solidFill>
            <a:srgbClr val="c9c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Obs.: 1) condiciones exte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2) externalidades: interacción entre ag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9360" y="152388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una localiz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F4E-5C67-4F0A-8AC1-85C03B5FB0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Algunas conclus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beneficios totales 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DP evaluado a U cte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U más cambio en rentas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valor de ambiente construido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NOT son idénticos a cambios en r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22D5-2C61-44D0-AA0F-1474B096DE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10-07T12:45:20Z</dcterms:modified>
  <cp:revision>79</cp:revision>
  <dc:subject/>
  <dc:title>General</dc:title>
</cp:coreProperties>
</file>