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E08-7E03-4CA7-9D8F-6509527F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7C3-4323-4422-9D4D-2E218797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EB3-5E9E-445F-8669-2F62C0EC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B4E-323C-4DCE-8C24-63F11131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69C-36AF-4CC9-801F-CB177055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32D-8F02-4476-BBC3-F865EC18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314-8303-430E-B57F-13067E46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468-6734-4508-84D6-1CE0DCD4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B97-11D7-49E7-AA5F-9EA05A78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9DA-93B5-41E3-BD5D-A0A3325A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27D-D7EF-4A82-85A5-ABBC62F0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790-B08D-4DAF-A879-26182D3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5385FE-389A-490E-A858-2502DB6C2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D44-9405-461B-81AF-C0C73718CF8D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29D-BB9F-4C66-8E52-27435D550D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4C4-4C27-401A-B318-DCBEC8DABFCA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3D5-9C44-4A7B-854F-6A2C43FB4746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4E9-819D-444B-BC1D-9502E8FF8BC5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5FB-BC24-4208-B604-40AB11CB2295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E40-906D-4412-A9F4-4241A57972A2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F81-93A5-447E-BF27-E54D77913E1E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319-B51C-438B-8A4F-0F0FCA014ED9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010-9937-4727-B21B-1110274812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C13-57CB-4189-97BB-A17292E35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5CA-14D5-48C5-AA6D-119816846A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E20-A24C-41B1-912E-F57925C140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890-7D90-455C-AE6A-F399EF64CE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F01-4CF8-43A5-A2F6-BA2E422AA5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113-E606-4CCC-A69A-DC5639025F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F69-12B7-4848-B75E-5EBAA381A33B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EE6-0E96-4A29-86B6-4D56DC667CFB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855278-60A1-4F27-AF19-34A39A44DAB6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434DB3-BA77-4749-AC63-9C86F92D4EB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c,p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B7DAF2-494A-46B6-B583-7E8C75EAFC5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91C0E9-1433-4371-9AA2-CB8D27A745F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F91-C982-4645-811B-E80B8B5AC6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D4BD28-69D8-4D33-B9D1-FAC5513C993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8D164D-0A7F-422F-A8D2-FD677C9B0C4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E12784-850E-4529-A78A-E764AB730D4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696DE7-44C4-4190-A508-7D5D18A56BB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6D8-84F2-46D7-A4D2-127826BF643D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16C7D7-0ED8-4FB2-BC3C-0F1D880825B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375A7A-DE00-4B05-A444-286A55C494E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B8ED9E-518E-4E57-B7BA-A8BB0279444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595-30FC-4BB9-BD5B-AF3AE70F5E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86D-211C-41F4-A201-176B6B1B25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547-7894-45B3-B5CD-C1AA4EF356A5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C3F-4EFC-4C6E-B0FC-C3AD0AE1BEAB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358-E375-42C8-BC3A-0FB169240E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0D0-2958-40E4-A661-065CD3CCEBCA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7-26T16:51:33Z</dcterms:modified>
  <cp:revision>80</cp:revision>
  <dc:subject/>
  <dc:title>General</dc:title>
</cp:coreProperties>
</file>