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08B-4C3F-48B5-ACC6-1025524E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6F9-2C07-4D27-ADF5-6E64AC62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734-8088-48DA-A208-B611D75F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657-CD82-457F-B062-5E88B1A0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BFD-1F7B-44F7-AAA3-0516EFC3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C44-9E72-439A-928C-8F65C8C9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EEF-2ACA-4164-8600-95862F7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C42-C54D-4BB2-95FD-B0364B02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38B-493F-4CF0-B78A-488CE2F9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F97-F64C-4F9E-AD0E-19BCA30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8D1-CACD-4716-A901-EA134F0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57C-730D-48CF-BB49-1E668A1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FBFB46-B4FF-4EF4-870F-FB2D2BB75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E00-B89F-4D2F-B428-E7D9178F9C60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CFF-0321-4424-BFA0-CC38B0F48E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E59-A665-4B00-8E12-0B0BE5294133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AFF-143D-4CCB-B1BE-1FFF8C549634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B44-37FE-40C8-A8A0-647125FF535D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CF3-5AF9-45CA-8190-6FC48FB5F64A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85B-8F99-4CB7-A590-94321344EC42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541-8154-49DE-8DE2-94A4771C3DB0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679-3A30-4247-B9AF-028FA713EA97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572-F7A7-4094-A9DA-F11A2FE578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68E-AF19-4D87-87FC-707D13A0CB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953-0D3F-44B3-8E40-D97E51D572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9E7-6500-4AFF-9F6B-E001C6C7A3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385-4194-4EB3-84E9-41898E6B1F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A97-32C5-443C-94D0-B575403257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E8A-275B-4E06-9FAC-357787E6CB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225-17E7-46D2-9A0E-13E026D42EF0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853-394E-4FD1-8133-BB0D7D1743FE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FE1E39-6B23-4B34-9ED5-90D003953CF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B1470E-B7BD-4DE6-A882-5A89A6D53B23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54FF31-5294-479A-910C-A80E20B36EE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5626D7-8CD1-4DFE-827E-8FBE5C9BFF3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4E7-CAA5-4659-B6D1-1D64457804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82DD11-64F7-4629-80DD-DAABF57FFE12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1E9D10-28AF-44B8-86E0-04789EE36D9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A84730-E398-4AF2-B137-96EB98B45F7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9E5B92-F689-4B0F-946D-8E6A7E23FD3F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1E4-831D-47B3-9C20-B49DF17B95CB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0D6AA3-E697-45C4-8607-46E10E75BB2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B95D9F-B7B8-42B6-B9D5-E6938A339E1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F3A04C-CDF9-494D-9C4E-41F6B020DB1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47E-014C-4534-BE4A-19837AFAA3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AA8-C2B4-46DC-8FA2-9B1C88D6CA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49D-91DB-4FF0-AE51-F71208A5CF7B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064-FC0A-4589-A83D-3063BC9DF187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D17-5613-438E-A40F-F8CA44A42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73B-F3C0-4E18-914C-D1C48E02E164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7-26T16:51:33Z</dcterms:modified>
  <cp:revision>80</cp:revision>
  <dc:subject/>
  <dc:title>General</dc:title>
</cp:coreProperties>
</file>