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107-F10B-44E0-ABBA-61E5F076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6D6-D55E-4EDB-924F-ED3EF6AB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285-266F-441C-8066-D7070D90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255-491F-4293-9C2C-9AA63F8B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A43-3D59-4FBD-B984-2FB1DEEE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806-6D69-417F-86CE-A98512A8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EFF5-4438-4656-97EC-D266E2EA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D74-C2DF-4473-863B-2A6CB443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0EB-6FBE-4406-BD0B-4CF136B1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8DE4-B348-459F-83ED-DED1261D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FD94-8DFF-4BE6-9D4F-71E213D9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0B7-E15B-4D1F-B6E5-D93D3C2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A3F627-74F4-415A-97A7-1B6DCD04A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50E-51DC-43CA-BFB3-DCFA07C69E92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5C1-AD21-4075-99B2-BD67EB4E60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7E6-B24B-4868-A6AF-8CFC25FAEFD9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0AC-F1D2-425B-B130-6733D577413F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4E11-47A7-4858-BB90-E5B6E491E9BD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A8C-2865-443D-923D-14C8E4DCD10B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9DBB-2759-43E3-9DCB-B465F8430E4F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8BE1-2EB4-41F4-87C5-BD6A139AE8FE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ADF-A82D-4F79-AB1E-881F8E83CBD3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8AE-52D5-4396-9F39-0582469689E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267-8396-480A-BFF1-5E6BF6E6B0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442-9C14-469F-8C63-B906079979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2160" y="503280"/>
            <a:ext cx="56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76520" y="287964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11880" y="39625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 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ocial, cutural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249560" y="51055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ccesibilid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iene un potecial beneficio en e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352160" y="503280"/>
            <a:ext cx="535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080040" y="2895480"/>
            <a:ext cx="199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1280" y="403848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 poder de com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egocios, afecto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81600" y="518148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tractivi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ransmite un potencial beneficio a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hay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71D-423A-4ECC-BFB6-3B819C6EC9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57040" y="1829880"/>
            <a:ext cx="779148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Relación entre uso del suelo y transpor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El individuo realiza muchas actividades que requieren interacción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viajes</a:t>
            </a: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ebe decidir cuales actividades realizar en su tiempo y recurso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ónde realizarla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dest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En cada actividad obtiene un beneficio y paga un 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F378-40A3-415F-8347-23A3D32B35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96040" y="405612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42400" y="60609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ESPA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84880" y="4056120"/>
            <a:ext cx="92448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39520" y="6060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18080" y="20574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27560" y="27432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29200" y="3733920"/>
            <a:ext cx="1066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29200" y="4800600"/>
            <a:ext cx="99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51080" y="53352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44200" y="60609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UN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67F8-4B66-424D-9C4E-FEAF0137EF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5EF-1A35-4CC2-A219-8E93404251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D986-5BA1-45CE-B95B-930CA82B6965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4EC-F78F-4C52-B8BA-67937464A653}" type="slidenum">
              <a:t>30</a:t>
            </a:fld>
          </a:p>
        </p:txBody>
      </p:sp>
    </p:spTree>
  </p:cSld>
  <p:transition spd="med" advTm="1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1829732-4DE8-42CA-A630-9D2AFBC39855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9C9ED8-2C1E-45D1-A335-9750841F7FA9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1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41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c,p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000680" y="2133720"/>
                <a:ext cx="4903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332160" y="5105520"/>
                <a:ext cx="319392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FB0AA4-14D7-454E-A881-92F27CF2E4F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A03945-2448-4CA0-BD44-D0540D71E16C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Bookman Old Style"/>
              </a:rPr>
              <a:t>Beneficos de corto y largo plazo</a:t>
            </a:r>
            <a:br>
              <a:rPr sz="4400"/>
            </a:br>
            <a:br>
              <a:rPr sz="44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Martínez, F. y Araya, C. (2000).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Note on Trip Benefits in Spatial Interaction Models. </a:t>
            </a:r>
            <a:r>
              <a:rPr b="1" lang="es-CL" sz="3600" spc="-1" strike="noStrike">
                <a:solidFill>
                  <a:srgbClr val="ffffff"/>
                </a:solidFill>
                <a:latin typeface="Bookman Old Style"/>
              </a:rPr>
              <a:t>Journal of Regional Science 40(4)</a:t>
            </a: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, 789-796. </a:t>
            </a:r>
            <a:br>
              <a:rPr sz="3600"/>
            </a:b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E71-34C9-47C0-B0C7-C9B616759C5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489E89D-2F9F-4E4C-8AEA-ECB960A51D8F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828800" y="3809880"/>
                <a:ext cx="519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4" name=""/>
          <p:cNvSpPr/>
          <p:nvPr/>
        </p:nvSpPr>
        <p:spPr>
          <a:xfrm>
            <a:off x="181296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2209680" y="5562720"/>
                <a:ext cx="561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A77869-E05A-4E68-AE40-3B62C337B5C8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97120" y="4022640"/>
                <a:ext cx="6270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u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01920" y="5333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Times New Roman"/>
              </a:rPr>
              <a:t>Pseudo-Regla del 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4A2B3A8-7BD8-4C41-A3FA-89C287104226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B5FB80-8F58-4340-894A-E7908D4836F1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4D5-F388-4956-8BCD-E5990CCBD9D7}" type="slidenum">
              <a:t>4</a:t>
            </a:fld>
          </a:p>
        </p:txBody>
      </p:sp>
    </p:spTree>
  </p:cSld>
  <p:transition spd="med" advTm="1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C5233F1-A667-492F-887D-F8365A250967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95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96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503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9E55BDB-A914-4644-9298-1A00803DD9D0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2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523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530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545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9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0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D86E1F9-1781-4881-A607-DF2E1F6ADA88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64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65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66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9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94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95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604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8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8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6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E0A5-CD9F-42D6-9164-6C66C03E440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4676-5695-454F-BEFB-83C65CE022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EF5E-C210-47E6-9A36-8429A59FDA5A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720-7CAE-4375-9A62-7AA7E991BE83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4DC-D100-4018-8427-7F83C411C9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0F2D-EB19-437C-B6F3-E1E6FEEACB9E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5-07-26T16:51:33Z</dcterms:modified>
  <cp:revision>80</cp:revision>
  <dc:subject/>
  <dc:title>General</dc:title>
</cp:coreProperties>
</file>