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9FB-FA21-41DA-B521-F5E177AF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2B6-6ED8-41BB-825A-BF17FD28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B9F-077D-4897-AD66-C67FEEC5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026-29BE-4947-A795-7E30385A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050-CC5E-4834-A258-4DDB8B58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8D6-5F4E-4D1D-9229-0B4CA787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B23-2B7A-4693-890B-4A4E8DC5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C8D-A1E4-486C-946C-359E6254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0D1-7AC5-4A74-A9D5-1992F589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AE2-9E6D-4CA0-B25E-E2822311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0EA-C566-42EA-BAFF-6A819C91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C5F-1F29-4234-9809-2503F57D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543DB8-910C-4CE4-8579-A8AB66216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2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Transporte &amp;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0880" y="541008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065-64D7-4F7C-98F4-3CBEB5FE600B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56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61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65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70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74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92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96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00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04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6BC-CB2A-4ADC-A9AC-82EA57AE12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C4F-7FD7-4D83-A87D-C95B365D789A}" type="slidenum">
              <a:t>11</a:t>
            </a:fld>
          </a:p>
        </p:txBody>
      </p:sp>
    </p:spTree>
  </p:cSld>
  <p:transition spd="med" advTm="1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43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61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3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394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395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20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49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58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63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489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493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351-2E65-4FC1-A125-73C5FFF1DA39}" type="slidenum">
              <a:t>12</a:t>
            </a:fld>
          </a:p>
        </p:txBody>
      </p:sp>
    </p:spTree>
  </p:cSld>
  <p:transition advTm="3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03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10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17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24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31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38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45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54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3F7-5625-4121-AD77-8057A6C893A7}" type="slidenum">
              <a:t>13</a:t>
            </a:fld>
          </a:p>
        </p:txBody>
      </p:sp>
    </p:spTree>
  </p:cSld>
  <p:transition advTm="2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71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195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11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1BE-F219-4FF2-8F3D-ADB9E270330F}" type="slidenum">
              <a:t>14</a:t>
            </a:fld>
          </a:p>
        </p:txBody>
      </p:sp>
    </p:spTree>
  </p:cSld>
  <p:transition advTm="31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8FC-5DEC-42FB-9CDF-D461EB8A3234}" type="slidenum">
              <a:t>15</a:t>
            </a:fld>
          </a:p>
        </p:txBody>
      </p:sp>
    </p:spTree>
  </p:cSld>
  <p:transition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27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8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0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C50-C3EF-4141-A627-A6CDAC169B22}" type="slidenum">
              <a:t>16</a:t>
            </a:fld>
          </a:p>
        </p:txBody>
      </p:sp>
    </p:spTree>
  </p:cSld>
  <p:transition advTm="31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040C-C19A-4D2A-BA90-609FA4D42A89}" type="slidenum">
              <a:t>17</a:t>
            </a:fld>
          </a:p>
        </p:txBody>
      </p:sp>
    </p:spTree>
  </p:cSld>
  <p:transition spd="med" advTm="1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802-6A0F-405D-A983-210029E11C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444-E907-4A4F-8C75-1F67E1C151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1D3-F557-4ED6-B91D-BB7438C91D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52160" y="503280"/>
            <a:ext cx="562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76520" y="287964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11880" y="396252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tividad econó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ocial, cutural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249560" y="51055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ccesibilid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iene un potecial beneficio en e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352160" y="503280"/>
            <a:ext cx="535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080040" y="2895480"/>
            <a:ext cx="199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1280" y="403848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 poder de com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egocios, afecto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81600" y="518148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tractivida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ransmite un potencial beneficio a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hay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127880" y="55616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isten beneficios en ambos extremos del vi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94C-A8CE-48DA-B537-2222201FE8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57040" y="1829880"/>
            <a:ext cx="779148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Relación entre uso del suelo y transpor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El individuo realiza muchas actividades que requieren interacción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viajes</a:t>
            </a: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ebe decidir cuales actividades realizar en su tiempo y recurso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ónde realizarla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dest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En cada actividad obtiene un beneficio y paga un 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ABD-FA5C-48B2-B34B-E13BFCEBEF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96040" y="405612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42400" y="60609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ESPA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84880" y="4056120"/>
            <a:ext cx="92448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39520" y="60609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18080" y="20574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27560" y="27432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29200" y="3733920"/>
            <a:ext cx="1066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29200" y="4800600"/>
            <a:ext cx="99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351080" y="53352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44200" y="60609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UN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350360" y="503280"/>
            <a:ext cx="714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93D-9793-4C48-B18C-EA4901BB95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F61-E10F-43B5-BC1B-88F42A29E95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43A-3754-4FA5-96BB-60D6711B53E7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165-3A13-4993-A180-C6A2C3A36325}" type="slidenum">
              <a:t>30</a:t>
            </a:fld>
          </a:p>
        </p:txBody>
      </p:sp>
    </p:spTree>
  </p:cSld>
  <p:transition spd="med" advTm="1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5CCEB7-0C9D-4476-A22A-9F6DF884F8C7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br>
              <a:rPr sz="4800"/>
            </a:b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artínez (TR, 1995)</a:t>
            </a: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916280" y="4132440"/>
                <a:ext cx="417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4343400" y="1600200"/>
            <a:ext cx="1676520" cy="609480"/>
          </a:xfrm>
          <a:prstGeom prst="wedgeRectCallout">
            <a:avLst>
              <a:gd name="adj1" fmla="val -160416"/>
              <a:gd name="adj2" fmla="val 1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2255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25520" y="3505320"/>
            <a:ext cx="167652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2255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255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60040" y="2514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75880" y="3048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608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48320" y="2590920"/>
            <a:ext cx="1676160" cy="609480"/>
          </a:xfrm>
          <a:prstGeom prst="wedgeRectCallout">
            <a:avLst>
              <a:gd name="adj1" fmla="val -172916"/>
              <a:gd name="adj2" fmla="val 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Ex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438280" y="259092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cubicBezTo>
                  <a:pt x="56" y="68"/>
                  <a:pt x="112" y="136"/>
                  <a:pt x="192" y="192"/>
                </a:cubicBezTo>
                <a:cubicBezTo>
                  <a:pt x="272" y="248"/>
                  <a:pt x="368" y="296"/>
                  <a:pt x="480" y="336"/>
                </a:cubicBezTo>
                <a:cubicBezTo>
                  <a:pt x="592" y="376"/>
                  <a:pt x="800" y="416"/>
                  <a:pt x="864" y="432"/>
                </a:cubicBezTo>
              </a:path>
            </a:pathLst>
          </a:custGeom>
          <a:noFill/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34080" y="575964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Observación : Demanda depende sól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costos de transporte (bienes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C9D42C-EC08-41F2-AB93-1577F6D5E716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12400" y="30456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Acceso transporte pasajeros</a:t>
            </a:r>
            <a:br>
              <a:rPr sz="48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manda depende de beneficios menos cos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1397160" y="3743280"/>
                <a:ext cx="713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13" name=""/>
          <p:cNvGrpSpPr/>
          <p:nvPr/>
        </p:nvGrpSpPr>
        <p:grpSpPr>
          <a:xfrm>
            <a:off x="1072800" y="1905120"/>
            <a:ext cx="3063600" cy="1678680"/>
            <a:chOff x="1072800" y="1905120"/>
            <a:chExt cx="3063600" cy="1678680"/>
          </a:xfrm>
        </p:grpSpPr>
        <p:sp>
          <p:nvSpPr>
            <p:cNvPr id="1414" name=""/>
            <p:cNvSpPr/>
            <p:nvPr/>
          </p:nvSpPr>
          <p:spPr>
            <a:xfrm>
              <a:off x="2225520" y="2093760"/>
              <a:ext cx="0" cy="990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25520" y="3084480"/>
              <a:ext cx="167652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25520" y="2398680"/>
              <a:ext cx="4572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25520" y="2779560"/>
              <a:ext cx="11430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72800" y="190512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c,p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72800" y="255096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360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38280" y="2170080"/>
              <a:ext cx="1371600" cy="6854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0" y="0"/>
                  </a:moveTo>
                  <a:cubicBezTo>
                    <a:pt x="56" y="68"/>
                    <a:pt x="112" y="136"/>
                    <a:pt x="192" y="192"/>
                  </a:cubicBezTo>
                  <a:cubicBezTo>
                    <a:pt x="272" y="248"/>
                    <a:pt x="368" y="296"/>
                    <a:pt x="480" y="336"/>
                  </a:cubicBezTo>
                  <a:cubicBezTo>
                    <a:pt x="592" y="376"/>
                    <a:pt x="800" y="416"/>
                    <a:pt x="864" y="432"/>
                  </a:cubicBezTo>
                </a:path>
              </a:pathLst>
            </a:custGeom>
            <a:noFill/>
            <a:ln w="38160">
              <a:solidFill>
                <a:srgbClr val="ff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251460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000680" y="2133720"/>
                <a:ext cx="4903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t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332160" y="5105520"/>
                <a:ext cx="319392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5" name=""/>
          <p:cNvSpPr/>
          <p:nvPr/>
        </p:nvSpPr>
        <p:spPr>
          <a:xfrm>
            <a:off x="1069920" y="5104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Obser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0D6DD4-2180-4AFC-BB35-7A07501D92A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4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F9F6B3-F389-4657-BF06-D0926A5E629E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</a:t>
            </a:r>
            <a:br>
              <a:rPr sz="4400"/>
            </a:b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5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6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Bookman Old Style"/>
              </a:rPr>
              <a:t>Beneficos de corto y largo plazo</a:t>
            </a:r>
            <a:br>
              <a:rPr sz="4400"/>
            </a:br>
            <a:br>
              <a:rPr sz="44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Martínez, F. y Araya, C. (2000).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Note on Trip Benefits in Spatial Interaction Models. </a:t>
            </a:r>
            <a:r>
              <a:rPr b="1" lang="es-CL" sz="3600" spc="-1" strike="noStrike">
                <a:solidFill>
                  <a:srgbClr val="ffffff"/>
                </a:solidFill>
                <a:latin typeface="Bookman Old Style"/>
              </a:rPr>
              <a:t>Journal of Regional Science 40(4)</a:t>
            </a: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, 789-796. </a:t>
            </a:r>
            <a:br>
              <a:rPr sz="3600"/>
            </a:b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980-DAFB-40A5-9D64-AC09AE10127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267B76-7E98-41D8-B334-DD16160C0B7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76520" y="2362320"/>
                <a:ext cx="6495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828800" y="3809880"/>
                <a:ext cx="5194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4" name=""/>
          <p:cNvSpPr/>
          <p:nvPr/>
        </p:nvSpPr>
        <p:spPr>
          <a:xfrm>
            <a:off x="1812960" y="579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2209680" y="5562720"/>
                <a:ext cx="561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622143-E36A-4DDA-BE66-B96E312333FA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 por viaje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97120" y="4022640"/>
                <a:ext cx="62704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u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814400" y="2209680"/>
                <a:ext cx="277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4760640" y="24372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Beneficio (absoluto) por vi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84640" y="58662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01920" y="5333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Times New Roman"/>
              </a:rPr>
              <a:t>Pseudo-Regla del 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7CDA1E-9657-4EC9-A82B-E6815E99BF6C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ccesibil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6E1976-4AFD-4128-A23A-F936C5BF40CC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2271600" y="3505320"/>
                <a:ext cx="484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C20-E9DF-4E45-A9C1-81D3DBF7BF33}" type="slidenum">
              <a:t>4</a:t>
            </a:fld>
          </a:p>
        </p:txBody>
      </p:sp>
    </p:spTree>
  </p:cSld>
  <p:transition spd="med" advTm="1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753537-6066-425E-9093-C53BC03D47D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6094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95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96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97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503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03760" y="5713920"/>
            <a:ext cx="76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derivación de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3CABCC-41AE-4B4E-B8AB-D8E5A9741EBC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7504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5403960" y="1295280"/>
                <a:ext cx="2749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2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523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530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531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545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9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0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A6FD5C-522D-4178-A1FB-5F91AAE1736E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2670120" y="1109520"/>
                <a:ext cx="2511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2716200" y="2678040"/>
                <a:ext cx="2465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2732040" y="4309920"/>
                <a:ext cx="3921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564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565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66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9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94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95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604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8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8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6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786-7D42-4E1C-A711-C3F7E81D00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6D4-0E26-49CF-8A13-8616AC34BA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97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02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06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11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15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20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30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47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FFDB-D4BF-4B24-AC7B-228A23B0FF1F}" type="slidenum">
              <a:t>6</a:t>
            </a:fld>
          </a:p>
        </p:txBody>
      </p:sp>
    </p:spTree>
  </p:cSld>
  <p:transition spd="med" advTm="3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9D0-7D2D-4B02-82E2-E70044319468}" type="slidenum">
              <a:t>7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18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18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19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19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0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2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3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3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4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1A5-746D-4914-B1E8-6D5912EA14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139-6808-452B-9D15-E8129629D13E}" type="slidenum">
              <a:t>9</a:t>
            </a:fld>
          </a:p>
        </p:txBody>
      </p:sp>
    </p:spTree>
  </p:cSld>
  <p:transition spd="med" advTm="1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5-07-26T16:51:33Z</dcterms:modified>
  <cp:revision>80</cp:revision>
  <dc:subject/>
  <dc:title>General</dc:title>
</cp:coreProperties>
</file>