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AB5-E365-43D8-B023-94A851A2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1E7-30D9-490C-AF68-3BFEDBFF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770-D5A5-4039-9373-A80C0EB9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DFF-0D1E-49BD-8803-7D5CCC0C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222-90D5-492E-BA00-3E3B5F68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DF9-FE8D-49C8-97A3-33743340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4DF-DE2B-4B5D-BAC9-8957B2B5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E5F-113B-4A71-A248-6E9EB85A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34E-49B6-4400-8137-E7C391C2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528-77A3-4171-AF85-AC184451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728-2581-46E3-9386-8C161A0E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0F1-586E-4906-8020-D291282A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0B86712-DAE1-409F-82E8-85BFBB9EA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Pedro Ja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957-CB32-4EED-BB49-84ECE424A880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E96-76EA-46B5-A39B-20D0AE13FB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8CE-0F78-492B-BA01-D107C92F4C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787-F482-465D-B492-A267C5649E9E}" type="slidenum">
              <a:t>3</a:t>
            </a:fld>
          </a:p>
        </p:txBody>
      </p:sp>
    </p:spTree>
  </p:cSld>
  <p:transition spd="med" advTm="1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B70-8177-4FF6-B6AD-98F07EB392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BEA-7586-44C4-B550-4B09F72087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D2B-1167-47DF-9780-7EF95DC736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C53-04A7-4152-B1DE-1EBA9F2407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C2A-FDC2-4966-9EF3-CCADECAE60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AE2-524D-4F6E-9E61-FE23C0C227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Universidad de Chile</cp:lastModifiedBy>
  <dcterms:modified xsi:type="dcterms:W3CDTF">2001-08-12T17:12:28Z</dcterms:modified>
  <cp:revision>69</cp:revision>
  <dc:subject/>
  <dc:title>General</dc:title>
</cp:coreProperties>
</file>