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0D0-A23E-4240-BACF-AF8AEA36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E1E-C4D1-45E5-B2E5-BCA6B2D0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873-1606-47F1-8BAD-90B182A8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920-D416-4594-B5A6-E1009F68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0AB-0A14-43BC-A969-EB68C1EF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686-0386-471A-99FA-E5C078F2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966-7A13-4D0D-8941-A16E5E58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039-BAA7-4E56-8CE4-A881E8F7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B45-EDF9-408E-A88D-01ED3445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028-2CBC-4D03-BCE5-41AABBD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3D0-D981-488C-AFCA-9D06D779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FBF-4F43-4F45-9AFD-CEF998D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4866D8-CF97-45FB-90B2-767606609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771-6DF3-4731-B926-A24DB8ADC01C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049-5277-4BB4-8A5C-4CC027F2FA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F75-58DE-4597-8706-E564C018F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05A-74D3-4BA7-8ABF-281E3B1BB1C6}" type="slidenum">
              <a:t>3</a:t>
            </a:fld>
          </a:p>
        </p:txBody>
      </p:sp>
    </p:spTree>
  </p:cSld>
  <p:transition spd="med" advTm="1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C10-79A1-4B1B-ACA1-4BE852430F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433-8EB0-4252-93BD-1ECB7B4068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C5F-0DCF-415E-98F8-230588C9EC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616-C5DF-4C44-88EC-92E662DAA6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971-E448-4A21-BDF5-8BEEAC960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1F1-DDD1-4510-8F7C-CEE065A07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2T17:12:28Z</dcterms:modified>
  <cp:revision>69</cp:revision>
  <dc:subject/>
  <dc:title>General</dc:title>
</cp:coreProperties>
</file>