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0E6-768D-4C3F-98B9-4CA3D07C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06B2-2FAD-487A-854D-22DA8785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973-7199-4FD9-A8BC-ACFE43EA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D1A-1780-4E82-AA72-9DDDE890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134-FBCA-48CE-A9BA-9AE2AB71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8E2-D842-4B35-A76D-D277E86C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B67-81F9-4AC1-8326-88E6DBAA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666-5EF7-4BC5-92B1-CC26E764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B1A-4950-4CF5-BF3D-E757C86B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8D7-40D4-4FAA-B791-17C9C93A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3BA-F4C2-4276-8D4B-875A2C68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4E8-923F-4133-8C6B-876C48C1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3F40A1-3341-48E7-B6B9-83414F8EC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F2A-43DD-48E8-9461-1E3465E820A0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377-ADA8-4167-92DC-72BA2394DD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855-6B10-45A4-B722-A33684032F0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09A-6031-4FF8-96F4-70736897DFD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9C4-BE72-4A56-80D9-13752D8C481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9A3-B59C-45AF-9D50-5B73157BAF5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o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986-521C-488F-A28A-3A1377E05E2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92D-9426-4906-BD20-5580D4B80B6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166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790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791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796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801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806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8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811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095-9311-4B72-AF23-488F3C73C4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F50-CB08-47F5-B9DE-B3A4F2C1D29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3689-3260-4073-A077-5855720B568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158-DBF8-45B2-86A0-8584F80251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CC3-6449-4BA5-803F-C74BB303E50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839-421C-483C-9784-ED6E03115C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8E2-FD61-4DD2-9AFF-3333142B41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C2D-D572-4D86-97D2-A22DE34C34B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712-F10D-4FEF-B2E7-DE7CCB8F541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30T16:09:35Z</dcterms:modified>
  <cp:revision>124</cp:revision>
  <dc:subject/>
  <dc:title>General</dc:title>
</cp:coreProperties>
</file>