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D0DD-B486-4E4F-BF81-A97A9024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DA5-185C-4161-BC07-554528B4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4D06-9BDF-4060-A9FD-6EF004FA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86FC-F1BB-4983-A379-B1B2F60A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2ED-86A5-4EF8-A3B7-052F7924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A63-15A4-4137-9C6A-E55303C3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344F-3EFA-43AE-8229-D4B15284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EFF-E014-4B96-ABAB-BA29C87C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BBD-E82A-40ED-95D2-C8D7F248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20D-F4C8-4799-BB0D-625C6659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35A4-16C0-4036-96F9-EAEDD13C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54A8-71EC-4471-BE6C-02B3FF21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F04AFD-BC98-4513-A942-C94FC437AA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65F-6010-4CC3-80DE-CBF5D388106C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oblemente aco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B86-B1CE-4655-B4DC-BCFC046E99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Formulación Genre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68960" y="3301920"/>
                <a:ext cx="404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62320" y="2514600"/>
                <a:ext cx="434340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sub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957600" y="5653080"/>
            <a:ext cx="773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Qué se está maximizan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 es el factor de dispersión, o la desviación estándar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0370-FE2A-4FE9-AE8F-D37F7750DA7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55880" y="1981080"/>
                <a:ext cx="515304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58920" y="3733920"/>
                <a:ext cx="4497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90760" y="5275440"/>
                <a:ext cx="622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E94-1C21-4FB8-A299-AA299FDCC01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71520" y="1523880"/>
                <a:ext cx="6348600" cy="404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A69-FD62-4868-83C6-74F94144218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38760" y="1133640"/>
                <a:ext cx="3985920" cy="20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362320" y="2971800"/>
            <a:ext cx="0" cy="327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248520"/>
            <a:ext cx="5410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62320" y="3429000"/>
            <a:ext cx="3352680" cy="281952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61400" y="281844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4880" y="609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43000" y="3886200"/>
            <a:ext cx="4419720" cy="2209680"/>
            <a:chOff x="1143000" y="3886200"/>
            <a:chExt cx="4419720" cy="2209680"/>
          </a:xfrm>
        </p:grpSpPr>
        <p:sp>
          <p:nvSpPr>
            <p:cNvPr id="139" name=""/>
            <p:cNvSpPr/>
            <p:nvPr/>
          </p:nvSpPr>
          <p:spPr>
            <a:xfrm>
              <a:off x="1143000" y="556272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1280" y="388620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857680" y="58672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129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2120" y="3581280"/>
            <a:ext cx="4419000" cy="2209680"/>
            <a:chOff x="762120" y="3581280"/>
            <a:chExt cx="4419000" cy="2209680"/>
          </a:xfrm>
        </p:grpSpPr>
        <p:sp>
          <p:nvSpPr>
            <p:cNvPr id="144" name=""/>
            <p:cNvSpPr/>
            <p:nvPr/>
          </p:nvSpPr>
          <p:spPr>
            <a:xfrm>
              <a:off x="762120" y="5257800"/>
              <a:ext cx="243792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040" y="3581280"/>
              <a:ext cx="198108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600200" y="3962520"/>
            <a:ext cx="4419720" cy="2209680"/>
            <a:chOff x="1600200" y="3962520"/>
            <a:chExt cx="4419720" cy="2209680"/>
          </a:xfrm>
        </p:grpSpPr>
        <p:sp>
          <p:nvSpPr>
            <p:cNvPr id="147" name=""/>
            <p:cNvSpPr/>
            <p:nvPr/>
          </p:nvSpPr>
          <p:spPr>
            <a:xfrm>
              <a:off x="1600200" y="563904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396252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8E3D-D3E7-4551-8D63-A6B3BD452D6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Probabilidades de localoza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84320" y="1720800"/>
                <a:ext cx="6265800" cy="41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7513560" y="335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54880" y="4799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8FD-E7D9-4809-8058-ABB94348762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Interpretación de multiplicador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566720" y="1701720"/>
                <a:ext cx="4757760" cy="31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349640" y="563760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rregir por factor de disper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324480" y="5243400"/>
                <a:ext cx="11257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μ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2B5-B3FA-4909-8C6E-DF8167F53E3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166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790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791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796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801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806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8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811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E3E-3A21-427C-BC5B-6B722B099D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WRY 19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425-3ECF-4F41-8F1E-EFCC7B72354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5800" y="76320"/>
                <a:ext cx="5689440" cy="65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</m:sSubSup>
                              </m:e>
                            </m:nary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/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p/>
                            </m:sSup>
                          </m:sup>
                        </m:sSup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ógeno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7100640" y="151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4000" y="608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31360" y="18277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ist.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17600" y="36565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4240" y="53330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so suel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2A4-7F15-4945-BD06-CEE0885666F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6DF-4711-44BE-82AD-ED06EA77076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Residen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080" y="3567240"/>
                <a:ext cx="8797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838080" y="16750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ación de la entropía: modelo doblemente acotado a población y empleo, que maximiza las post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640" y="304704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odelo pro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3280" y="4785480"/>
            <a:ext cx="619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 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hog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vivi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de hogar (salario 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q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proporción de salario destinado a vivie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F51-8C2C-419F-BC0A-5DE64E4CED3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2680" y="5657760"/>
                <a:ext cx="853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6600" y="158436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ción de la entropía: modelo doblemente acotado a población y empleo, que maximiza las posturas (absolut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80960" y="2749680"/>
                <a:ext cx="6234120" cy="25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w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p>
                                        <m:r>
                                          <m:t xml:space="preserve">w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23DB-C8BD-4C54-A190-F318442FCDF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3560" y="1371600"/>
                <a:ext cx="853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13520" y="228492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xtensión a otras funciones de  at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2895480"/>
                <a:ext cx="4849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4191120"/>
                <a:ext cx="739116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sup>
                        </m:sSup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1C3-BB02-42B9-BB9D-5AC3AE7F65E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ilson tipo Alons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95280" y="4191120"/>
                <a:ext cx="5791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95280" y="1676520"/>
                <a:ext cx="579132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736800" y="5257800"/>
                <a:ext cx="3818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155600" y="5455080"/>
            <a:ext cx="234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quivalencia con modelo ant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320E-C7E0-4599-9472-08EE5831040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omparación con Herbet &amp; Steven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49200" y="1751040"/>
                <a:ext cx="3384720" cy="21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38480" y="1828800"/>
                <a:ext cx="493740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89640" y="396144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75560" y="38851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stocá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17720" y="4606920"/>
                <a:ext cx="244008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w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00720" y="5150160"/>
            <a:ext cx="41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os multiplicadores representan la r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038-06BF-41E5-B40A-B6B43D482D3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30T16:09:35Z</dcterms:modified>
  <cp:revision>124</cp:revision>
  <dc:subject/>
  <dc:title>General</dc:title>
</cp:coreProperties>
</file>