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9E4-2489-45A0-BBBF-4E956052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CE8-0BFB-4272-9EAF-C9A0832B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9FC-D2F3-4D7C-9F6F-438E4E06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DC8-F576-4F4A-9DF2-4C995255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05E-405A-443F-ACA7-EA9F38B1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D9D-3F78-42B3-9F34-CD2EEDAE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607-A508-487B-9E8C-1D8ADCFF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E62-50C8-4BEA-B19D-69DFBE67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698-3AEB-46BC-9B8A-33AD54AF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6BA-F7E5-461D-B699-ECD0F2E4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26B-5CBA-42D1-A3E9-8C3BC3C4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CE9-B549-4FCF-BBD9-4AB8E023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5E31DB-F0CC-448E-B51D-E62E0B14C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0BA-EC69-4ADF-8D89-0A725D5E16D5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AF0-9787-4A07-B43B-ABB17327F2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1991-8CEA-4D8A-8DA0-D446E6990C4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7E4-284A-44EF-8FD0-F93126A6059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75480" y="-1460520"/>
            <a:ext cx="11450520" cy="6261120"/>
            <a:chOff x="375480" y="-1460520"/>
            <a:chExt cx="11450520" cy="6261120"/>
          </a:xfrm>
        </p:grpSpPr>
        <p:sp>
          <p:nvSpPr>
            <p:cNvPr id="142" name="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35120" y="-1460520"/>
              <a:ext cx="11090880" cy="6261120"/>
              <a:chOff x="735120" y="-1460520"/>
              <a:chExt cx="11090880" cy="62611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60000">
                <a:off x="849240" y="-5558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0000">
                <a:off x="963720" y="-1025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0000">
                <a:off x="1127520" y="-1367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4400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4B7A-9A53-4A38-BB27-4FE74B538E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0000">
            <a:off x="9730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60000">
            <a:off x="11257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60000">
            <a:off x="858960" y="99360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895480"/>
            <a:ext cx="426708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0"/>
                </a:moveTo>
                <a:cubicBezTo>
                  <a:pt x="4" y="168"/>
                  <a:pt x="8" y="336"/>
                  <a:pt x="48" y="480"/>
                </a:cubicBezTo>
                <a:cubicBezTo>
                  <a:pt x="88" y="624"/>
                  <a:pt x="104" y="768"/>
                  <a:pt x="240" y="864"/>
                </a:cubicBezTo>
                <a:cubicBezTo>
                  <a:pt x="376" y="960"/>
                  <a:pt x="608" y="992"/>
                  <a:pt x="864" y="1056"/>
                </a:cubicBezTo>
                <a:cubicBezTo>
                  <a:pt x="1120" y="1120"/>
                  <a:pt x="1472" y="1200"/>
                  <a:pt x="1776" y="1248"/>
                </a:cubicBezTo>
                <a:cubicBezTo>
                  <a:pt x="2080" y="1296"/>
                  <a:pt x="2528" y="1328"/>
                  <a:pt x="2688" y="134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E5D-9225-46F9-885B-21D566EF11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89F-F747-4420-8A74-F15D2463D7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106280" y="4129560"/>
            <a:ext cx="752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Vt: Cambio costo operación por cambio en volumen de nego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F33-7E45-485C-B05C-7BEE44C303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62360" y="2646360"/>
                <a:ext cx="4174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BB8E-5E16-431D-979C-D12B3CC92A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60000">
            <a:off x="849240" y="284400"/>
            <a:ext cx="10661400" cy="480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60000">
            <a:off x="963360" y="-186480"/>
            <a:ext cx="1066140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60000">
            <a:off x="1127520" y="-529920"/>
            <a:ext cx="106603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216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27280" y="1816200"/>
            <a:ext cx="4673520" cy="2679480"/>
          </a:xfrm>
          <a:custGeom>
            <a:avLst/>
            <a:gdLst/>
            <a:ahLst/>
            <a:rect l="l" t="t" r="r" b="b"/>
            <a:pathLst>
              <a:path w="2944" h="1688">
                <a:moveTo>
                  <a:pt x="16" y="0"/>
                </a:moveTo>
                <a:cubicBezTo>
                  <a:pt x="8" y="152"/>
                  <a:pt x="0" y="304"/>
                  <a:pt x="112" y="528"/>
                </a:cubicBezTo>
                <a:cubicBezTo>
                  <a:pt x="224" y="752"/>
                  <a:pt x="320" y="1160"/>
                  <a:pt x="688" y="1344"/>
                </a:cubicBezTo>
                <a:cubicBezTo>
                  <a:pt x="1056" y="1528"/>
                  <a:pt x="1944" y="1576"/>
                  <a:pt x="2320" y="1632"/>
                </a:cubicBezTo>
                <a:cubicBezTo>
                  <a:pt x="2696" y="1688"/>
                  <a:pt x="2820" y="1684"/>
                  <a:pt x="2944" y="168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0E4-487A-4312-A57D-304F29307D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626-52E6-453A-88EF-247A328DC9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7B6-89D8-48B3-8862-E90C38F6028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B54-840F-42B6-B348-2D78E81B32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E807-EBF5-4053-A0EB-BB990DD36F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60000">
            <a:off x="1574280" y="-76932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300000">
            <a:off x="2521800" y="-1445040"/>
            <a:ext cx="548352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01492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01492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20000">
            <a:off x="1479240" y="2945160"/>
            <a:ext cx="12013560" cy="163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2" y="20534"/>
                </a:moveTo>
                <a:arcTo wR="10800" hR="10800" stAng="6940080" swAng="3866601"/>
                <a:lnTo>
                  <a:pt x="10800" y="10800"/>
                </a:lnTo>
                <a:close/>
              </a:path>
              <a:path fill="none" w="21600" h="21600">
                <a:moveTo>
                  <a:pt x="6122" y="20534"/>
                </a:moveTo>
                <a:arcTo wR="10800" hR="10800" stAng="6940080" swAng="3866601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92000">
            <a:off x="2492640" y="-1492920"/>
            <a:ext cx="548280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58" y="17536"/>
                </a:moveTo>
                <a:arcTo wR="10800" hR="10800" stAng="8484575" swAng="2317105"/>
                <a:lnTo>
                  <a:pt x="10800" y="10800"/>
                </a:lnTo>
                <a:close/>
              </a:path>
              <a:path fill="none" w="21600" h="21600">
                <a:moveTo>
                  <a:pt x="2358" y="17536"/>
                </a:moveTo>
                <a:arcTo wR="10800" hR="10800" stAng="8484575" swAng="231710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60000">
            <a:off x="1569240" y="-767160"/>
            <a:ext cx="11690640" cy="546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4" y="20793"/>
                </a:moveTo>
                <a:arcTo wR="10800" hR="10800" stAng="6737166" swAng="1612575"/>
                <a:lnTo>
                  <a:pt x="10800" y="10800"/>
                </a:lnTo>
                <a:close/>
              </a:path>
              <a:path fill="none" w="21600" h="21600">
                <a:moveTo>
                  <a:pt x="6704" y="20793"/>
                </a:moveTo>
                <a:arcTo wR="10800" hR="10800" stAng="6737166" swAng="161257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20000">
            <a:off x="1461960" y="2957040"/>
            <a:ext cx="12009600" cy="163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09" swAng="1368189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09" swAng="1368189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60000">
            <a:off x="1395000" y="-61668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60000">
            <a:off x="1874520" y="-851760"/>
            <a:ext cx="1168956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86D-570C-455C-A822-8F7CBB0227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n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106-DC89-4322-AF8A-7065585C15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80880" y="1371600"/>
          <a:ext cx="8763120" cy="261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763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259-6898-48A6-948F-F33C2A9B70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345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69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70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75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80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85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90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B8B-DAFD-4CA9-82BB-13C05325E2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0AB-35EF-4F5F-95A2-9F7629407CD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C35-F833-4C73-AC5C-9E68EF270C9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a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487-0AF0-49FF-9EBC-DEE6E962AFE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B30-9718-4266-8915-4560CB990D1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1" name="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5480" y="1703880"/>
              <a:ext cx="4431240" cy="3381120"/>
            </a:xfrm>
            <a:custGeom>
              <a:avLst/>
              <a:gdLst/>
              <a:ahLst/>
              <a:rect l="l" t="t" r="r" b="b"/>
              <a:pathLst>
                <a:path w="3216" h="2496">
                  <a:moveTo>
                    <a:pt x="0" y="0"/>
                  </a:moveTo>
                  <a:cubicBezTo>
                    <a:pt x="44" y="296"/>
                    <a:pt x="88" y="592"/>
                    <a:pt x="240" y="864"/>
                  </a:cubicBezTo>
                  <a:cubicBezTo>
                    <a:pt x="392" y="1136"/>
                    <a:pt x="624" y="1416"/>
                    <a:pt x="912" y="1632"/>
                  </a:cubicBezTo>
                  <a:cubicBezTo>
                    <a:pt x="1200" y="1848"/>
                    <a:pt x="1584" y="2016"/>
                    <a:pt x="1968" y="2160"/>
                  </a:cubicBezTo>
                  <a:cubicBezTo>
                    <a:pt x="2352" y="2304"/>
                    <a:pt x="2992" y="2432"/>
                    <a:pt x="3216" y="249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0080" y="1833840"/>
              <a:ext cx="3703680" cy="3251160"/>
            </a:xfrm>
            <a:custGeom>
              <a:avLst/>
              <a:gdLst/>
              <a:ahLst/>
              <a:rect l="l" t="t" r="r" b="b"/>
              <a:pathLst>
                <a:path w="2688" h="2400">
                  <a:moveTo>
                    <a:pt x="0" y="2400"/>
                  </a:moveTo>
                  <a:cubicBezTo>
                    <a:pt x="280" y="2360"/>
                    <a:pt x="560" y="2320"/>
                    <a:pt x="816" y="2208"/>
                  </a:cubicBezTo>
                  <a:cubicBezTo>
                    <a:pt x="1072" y="2096"/>
                    <a:pt x="1280" y="2000"/>
                    <a:pt x="1536" y="1728"/>
                  </a:cubicBezTo>
                  <a:cubicBezTo>
                    <a:pt x="1792" y="1456"/>
                    <a:pt x="2160" y="864"/>
                    <a:pt x="2352" y="576"/>
                  </a:cubicBezTo>
                  <a:cubicBezTo>
                    <a:pt x="2544" y="288"/>
                    <a:pt x="2624" y="104"/>
                    <a:pt x="2688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2640" y="4856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4520" y="17352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8880" y="5441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1CE-336F-452E-A5E1-C5FB9E0DFA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536-75FB-47EA-8051-63AAE3E0BB9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5DB-1277-4F51-8269-7A0D0758FBD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09T14:20:47Z</dcterms:modified>
  <cp:revision>113</cp:revision>
  <dc:subject/>
  <dc:title>General</dc:title>
</cp:coreProperties>
</file>