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7A5-8425-4E5E-A369-2CC60B3C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07F-BFA3-4744-B4AB-A76C9C7B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52A4-18B8-4BD5-98E5-EF0766E2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D82C-7B4E-4B5D-B51B-7221B176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7E5-A44A-4183-BF18-1A5D2FBE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CAA-A65A-4C02-8EF3-931835C2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6B4-7FC9-43F2-954B-61828EC7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D72-A3F1-426C-AA34-B77B2215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FEE-518D-4A1A-9AB5-5A533936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4D6-2540-4B9A-841E-8FF24E05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DEF9-D5A8-4CD9-B585-262109DC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9FE-640B-48FD-B2E7-805302FE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D5050A-5881-4581-B313-B08642DF5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52F-7FDE-4F22-AB6E-AB24194FA010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2F2-CCDA-485C-AA65-E46D4D4A07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AC0-26F1-4266-B655-1C1B2D28A11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87E-390F-47C4-8448-87FE1A5ACE0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75480" y="-1460520"/>
            <a:ext cx="11450520" cy="6261120"/>
            <a:chOff x="375480" y="-1460520"/>
            <a:chExt cx="11450520" cy="6261120"/>
          </a:xfrm>
        </p:grpSpPr>
        <p:sp>
          <p:nvSpPr>
            <p:cNvPr id="142" name="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35120" y="-1460520"/>
              <a:ext cx="11090880" cy="6261120"/>
              <a:chOff x="735120" y="-1460520"/>
              <a:chExt cx="11090880" cy="62611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60000">
                <a:off x="849240" y="-5558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60000">
                <a:off x="963720" y="-1025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60000">
                <a:off x="1127520" y="-1367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4400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423-15C3-4223-81A6-D2E1D7903D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60000">
            <a:off x="9730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60000">
            <a:off x="11257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60000">
            <a:off x="858960" y="99360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895480"/>
            <a:ext cx="4267080" cy="2133720"/>
          </a:xfrm>
          <a:custGeom>
            <a:avLst/>
            <a:gdLst/>
            <a:ahLst/>
            <a:rect l="l" t="t" r="r" b="b"/>
            <a:pathLst>
              <a:path w="2688" h="1344">
                <a:moveTo>
                  <a:pt x="0" y="0"/>
                </a:moveTo>
                <a:cubicBezTo>
                  <a:pt x="4" y="168"/>
                  <a:pt x="8" y="336"/>
                  <a:pt x="48" y="480"/>
                </a:cubicBezTo>
                <a:cubicBezTo>
                  <a:pt x="88" y="624"/>
                  <a:pt x="104" y="768"/>
                  <a:pt x="240" y="864"/>
                </a:cubicBezTo>
                <a:cubicBezTo>
                  <a:pt x="376" y="960"/>
                  <a:pt x="608" y="992"/>
                  <a:pt x="864" y="1056"/>
                </a:cubicBezTo>
                <a:cubicBezTo>
                  <a:pt x="1120" y="1120"/>
                  <a:pt x="1472" y="1200"/>
                  <a:pt x="1776" y="1248"/>
                </a:cubicBezTo>
                <a:cubicBezTo>
                  <a:pt x="2080" y="1296"/>
                  <a:pt x="2528" y="1328"/>
                  <a:pt x="2688" y="134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E42-851D-4BC1-8FB5-2486C6DE1C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8C6A-A3A4-4CBA-9724-89E30DCC97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106280" y="4129560"/>
            <a:ext cx="752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Vt: Cambio costo operación por cambio en volumen de nego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B4B-E439-40A4-8218-4776E81EE1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62360" y="2646360"/>
                <a:ext cx="4174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391-0155-4923-891D-1CF9EA39F6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60000">
            <a:off x="849240" y="284400"/>
            <a:ext cx="10661400" cy="480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60000">
            <a:off x="963360" y="-186480"/>
            <a:ext cx="1066140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60000">
            <a:off x="1127520" y="-529920"/>
            <a:ext cx="106603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216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27280" y="1816200"/>
            <a:ext cx="4673520" cy="2679480"/>
          </a:xfrm>
          <a:custGeom>
            <a:avLst/>
            <a:gdLst/>
            <a:ahLst/>
            <a:rect l="l" t="t" r="r" b="b"/>
            <a:pathLst>
              <a:path w="2944" h="1688">
                <a:moveTo>
                  <a:pt x="16" y="0"/>
                </a:moveTo>
                <a:cubicBezTo>
                  <a:pt x="8" y="152"/>
                  <a:pt x="0" y="304"/>
                  <a:pt x="112" y="528"/>
                </a:cubicBezTo>
                <a:cubicBezTo>
                  <a:pt x="224" y="752"/>
                  <a:pt x="320" y="1160"/>
                  <a:pt x="688" y="1344"/>
                </a:cubicBezTo>
                <a:cubicBezTo>
                  <a:pt x="1056" y="1528"/>
                  <a:pt x="1944" y="1576"/>
                  <a:pt x="2320" y="1632"/>
                </a:cubicBezTo>
                <a:cubicBezTo>
                  <a:pt x="2696" y="1688"/>
                  <a:pt x="2820" y="1684"/>
                  <a:pt x="2944" y="168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B1F-E533-4224-8B3D-6E716B31D1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5E95-9802-4B6B-8FC6-D13FF18CCB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0CF-223E-4F9B-BF9D-12299AC93A9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72C-D6A7-42F7-A80A-DF8A10251F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F88-B345-4284-B478-B93E14AFD2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60000">
            <a:off x="1574280" y="-76932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300000">
            <a:off x="2521800" y="-1445040"/>
            <a:ext cx="548352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014928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014928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20000">
            <a:off x="1479240" y="2945160"/>
            <a:ext cx="12013560" cy="163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22" y="20534"/>
                </a:moveTo>
                <a:arcTo wR="10800" hR="10800" stAng="6940080" swAng="3866601"/>
                <a:lnTo>
                  <a:pt x="10800" y="10800"/>
                </a:lnTo>
                <a:close/>
              </a:path>
              <a:path fill="none" w="21600" h="21600">
                <a:moveTo>
                  <a:pt x="6122" y="20534"/>
                </a:moveTo>
                <a:arcTo wR="10800" hR="10800" stAng="6940080" swAng="3866601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92000">
            <a:off x="2492640" y="-1492920"/>
            <a:ext cx="548280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58" y="17536"/>
                </a:moveTo>
                <a:arcTo wR="10800" hR="10800" stAng="8484575" swAng="2317105"/>
                <a:lnTo>
                  <a:pt x="10800" y="10800"/>
                </a:lnTo>
                <a:close/>
              </a:path>
              <a:path fill="none" w="21600" h="21600">
                <a:moveTo>
                  <a:pt x="2358" y="17536"/>
                </a:moveTo>
                <a:arcTo wR="10800" hR="10800" stAng="8484575" swAng="231710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60000">
            <a:off x="1569240" y="-767160"/>
            <a:ext cx="11690640" cy="546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4" y="20793"/>
                </a:moveTo>
                <a:arcTo wR="10800" hR="10800" stAng="6737166" swAng="1612575"/>
                <a:lnTo>
                  <a:pt x="10800" y="10800"/>
                </a:lnTo>
                <a:close/>
              </a:path>
              <a:path fill="none" w="21600" h="21600">
                <a:moveTo>
                  <a:pt x="6704" y="20793"/>
                </a:moveTo>
                <a:arcTo wR="10800" hR="10800" stAng="6737166" swAng="161257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20000">
            <a:off x="1461960" y="2957040"/>
            <a:ext cx="12009600" cy="163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09" swAng="1368189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09" swAng="1368189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60000">
            <a:off x="1395000" y="-61668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60000">
            <a:off x="1874520" y="-851760"/>
            <a:ext cx="1168956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B5A-1154-43D9-9185-24C3B94B94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n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6FB-133C-4C5E-BBDC-7D38B8CEE9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80880" y="1371600"/>
          <a:ext cx="8763120" cy="261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76312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BF79-822A-4400-8539-065E0A48B6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345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69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70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75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80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85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90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34B-11AE-4E43-BB06-3478EB321B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DE1-E1BA-492F-A866-3AA79E93AE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B23-2666-40D4-A8A3-14C152D987B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a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604C-EC14-4DD6-AF05-22443686BA9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743E-DA9B-4B27-A1B9-460698F31E3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1" name="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5480" y="1703880"/>
              <a:ext cx="4431240" cy="3381120"/>
            </a:xfrm>
            <a:custGeom>
              <a:avLst/>
              <a:gdLst/>
              <a:ahLst/>
              <a:rect l="l" t="t" r="r" b="b"/>
              <a:pathLst>
                <a:path w="3216" h="2496">
                  <a:moveTo>
                    <a:pt x="0" y="0"/>
                  </a:moveTo>
                  <a:cubicBezTo>
                    <a:pt x="44" y="296"/>
                    <a:pt x="88" y="592"/>
                    <a:pt x="240" y="864"/>
                  </a:cubicBezTo>
                  <a:cubicBezTo>
                    <a:pt x="392" y="1136"/>
                    <a:pt x="624" y="1416"/>
                    <a:pt x="912" y="1632"/>
                  </a:cubicBezTo>
                  <a:cubicBezTo>
                    <a:pt x="1200" y="1848"/>
                    <a:pt x="1584" y="2016"/>
                    <a:pt x="1968" y="2160"/>
                  </a:cubicBezTo>
                  <a:cubicBezTo>
                    <a:pt x="2352" y="2304"/>
                    <a:pt x="2992" y="2432"/>
                    <a:pt x="3216" y="249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0080" y="1833840"/>
              <a:ext cx="3703680" cy="3251160"/>
            </a:xfrm>
            <a:custGeom>
              <a:avLst/>
              <a:gdLst/>
              <a:ahLst/>
              <a:rect l="l" t="t" r="r" b="b"/>
              <a:pathLst>
                <a:path w="2688" h="2400">
                  <a:moveTo>
                    <a:pt x="0" y="2400"/>
                  </a:moveTo>
                  <a:cubicBezTo>
                    <a:pt x="280" y="2360"/>
                    <a:pt x="560" y="2320"/>
                    <a:pt x="816" y="2208"/>
                  </a:cubicBezTo>
                  <a:cubicBezTo>
                    <a:pt x="1072" y="2096"/>
                    <a:pt x="1280" y="2000"/>
                    <a:pt x="1536" y="1728"/>
                  </a:cubicBezTo>
                  <a:cubicBezTo>
                    <a:pt x="1792" y="1456"/>
                    <a:pt x="2160" y="864"/>
                    <a:pt x="2352" y="576"/>
                  </a:cubicBezTo>
                  <a:cubicBezTo>
                    <a:pt x="2544" y="288"/>
                    <a:pt x="2624" y="104"/>
                    <a:pt x="2688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02640" y="48567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4520" y="17352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8880" y="5441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6B25-DD89-432D-9E20-73068B26AD4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C4E-DB2F-4FCD-9503-EB1BACD3F94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9CC7-F809-4436-B531-FFCD304AEB2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09T14:20:47Z</dcterms:modified>
  <cp:revision>113</cp:revision>
  <dc:subject/>
  <dc:title>General</dc:title>
</cp:coreProperties>
</file>