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957D-B5D2-41AC-A218-2DC9444B4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6F5A-FD11-4477-9447-3D1C39ED3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A250C-ED68-4674-9504-D961355165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116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8108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570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116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130640"/>
            <a:ext cx="2508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5F34-75D6-4BF6-AD35-D06EB31F1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E8C8-2547-4D5C-80B0-D27BB0638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A09A-2C1C-4642-A10F-7AF38DEF0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3D47-A654-4B54-A8DF-E51878B2A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B934-CBED-49DD-9D5C-22BCDF0F3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80800" y="609120"/>
            <a:ext cx="7715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7118-D2B7-43DB-8DF7-E446F7169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4F5BD-BE5F-4459-96D9-1FC966DDE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49440" y="413064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7E18-678E-48AD-A475-E479EA71F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70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49440" y="1981080"/>
            <a:ext cx="38019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57040" y="4130640"/>
            <a:ext cx="77914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C8C07-A7D1-416F-AC91-0572E863F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B334E505-3A61-4D4F-830D-88DBB77764B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body"/>
          </p:nvPr>
        </p:nvSpPr>
        <p:spPr>
          <a:xfrm>
            <a:off x="1157040" y="1981080"/>
            <a:ext cx="77914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8cf4ea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1180800" y="6091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cf4e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1085760" cy="6845400"/>
            <a:chOff x="0" y="0"/>
            <a:chExt cx="1085760" cy="6845400"/>
          </a:xfrm>
        </p:grpSpPr>
        <p:sp>
          <p:nvSpPr>
            <p:cNvPr id="6" name=""/>
            <p:cNvSpPr/>
            <p:nvPr/>
          </p:nvSpPr>
          <p:spPr>
            <a:xfrm>
              <a:off x="0" y="0"/>
              <a:ext cx="1085760" cy="6845400"/>
            </a:xfrm>
            <a:prstGeom prst="rect">
              <a:avLst/>
            </a:prstGeom>
            <a:gradFill rotWithShape="0">
              <a:gsLst>
                <a:gs pos="0">
                  <a:srgbClr val="114ffb"/>
                </a:gs>
                <a:gs pos="50000">
                  <a:srgbClr val="030f32"/>
                </a:gs>
                <a:gs pos="100000">
                  <a:srgbClr val="114ff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76320" y="162000"/>
              <a:ext cx="152280" cy="6543720"/>
              <a:chOff x="76320" y="162000"/>
              <a:chExt cx="152280" cy="6543720"/>
            </a:xfrm>
          </p:grpSpPr>
          <p:sp>
            <p:nvSpPr>
              <p:cNvPr id="8" name=""/>
              <p:cNvSpPr/>
              <p:nvPr/>
            </p:nvSpPr>
            <p:spPr>
              <a:xfrm>
                <a:off x="76320" y="1752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1981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2209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2438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2666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2895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3124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3352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3581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3809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4038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4267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4495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4724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4952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5181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5410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56386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58672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0958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63244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6553080"/>
                <a:ext cx="152280" cy="15264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76320" y="6192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76320" y="8478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76320" y="10764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76320" y="13050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76320" y="1533600"/>
                <a:ext cx="152280" cy="152280"/>
              </a:xfrm>
              <a:prstGeom prst="rect">
                <a:avLst/>
              </a:prstGeom>
              <a:solidFill>
                <a:srgbClr val="114ff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838080" y="7621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Economía Urbana y Transport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CI 73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ffffff"/>
                </a:solidFill>
                <a:latin typeface="Times New Roman"/>
              </a:rPr>
              <a:t>Archivo 3.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8075520" y="5029200"/>
            <a:ext cx="1068480" cy="16002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95280" y="3276720"/>
            <a:ext cx="56390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Prof. FRANCISCO J. MARTÍNEZ 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ff6633"/>
                </a:solidFill>
                <a:latin typeface="Times New Roman"/>
              </a:rPr>
              <a:t>Auxiliares: Pedro Donoso y Felipe Aguil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63E1-41D6-44AB-B5EF-89638FA1DB05}" type="slidenum">
              <a:t>1</a:t>
            </a:fld>
          </a:p>
        </p:txBody>
      </p:sp>
    </p:spTree>
  </p:cSld>
  <p:transition spd="med" advTm="15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tasas marginales de sustitución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1295280"/>
            <a:ext cx="7772400" cy="502920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76520" y="182880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243320" y="2057400"/>
                <a:ext cx="346392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&lt;</m:t>
                        </m:r>
                        <m:r>
                          <m:t xml:space="preserve">0</m:t>
                        </m:r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0</m:t>
                        </m:r>
                      </m:den>
                    </m:f>
                    <m:r>
                      <m:t xml:space="preserve">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+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1808280" y="3300480"/>
                <a:ext cx="5757840" cy="66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   precios  decrecientes con 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828800" y="4151160"/>
                <a:ext cx="1808280" cy="82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q</m:t>
                    </m:r>
                    <m:r>
                      <m:t xml:space="preserve">⋅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≥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9" name=""/>
          <p:cNvSpPr/>
          <p:nvPr/>
        </p:nvSpPr>
        <p:spPr>
          <a:xfrm>
            <a:off x="4289400" y="4113000"/>
            <a:ext cx="432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lejarse del CBD mientras los ahorros en renta sean mayor que costo extra en transpor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DED5B-9639-47BC-818B-642B6215C4C1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61760" y="220932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efinición: conjunto de precios que el individuo está dispuesto a pagar a diversas distancias para obtener un nivel de utilidad dad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Propia de cada individuo (gustos e ingreso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eferida a un nivel de utilidad. Existe una familia de curva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No tiene necesaria relación con la curva de precios rea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496960" y="1143000"/>
                <a:ext cx="42674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F0B0F-3C3B-4C8F-ABBD-2034B07F3AEB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Disposición a pagar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2344680" y="1143000"/>
                <a:ext cx="426564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762120" y="3232080"/>
                <a:ext cx="3332160" cy="13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"/>
              <p:cNvSpPr txBox="1"/>
              <p:nvPr/>
            </p:nvSpPr>
            <p:spPr>
              <a:xfrm>
                <a:off x="4343400" y="3200400"/>
                <a:ext cx="4191120" cy="14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limLow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q</m:t>
                        </m:r>
                      </m:den>
                    </m:f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</m:num>
                      <m:den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  <m:lim>
                            <m:r>
                              <m:t xml:space="preserve">0</m:t>
                            </m:r>
                          </m:lim>
                        </m:limLow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7" name=""/>
          <p:cNvSpPr/>
          <p:nvPr/>
        </p:nvSpPr>
        <p:spPr>
          <a:xfrm>
            <a:off x="609480" y="487440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Se obtiene un precio o costo marginal de localización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ún si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s constante, DP decrec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or desutilidad tpt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noc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U(x,q,t)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k(t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se puede derivar la D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Mayor costo tpte con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más desutilidad de viajar debe compensarse con disminución de DP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62120" y="2362320"/>
                <a:ext cx="312408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q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B7BF-C973-401D-BA21-057866DB6A29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Características de las curvas DP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4648320"/>
            <a:ext cx="80010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y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satisfac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 mismo individuo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fecto ingreso terreno más barato compensa costo tpte para mantener nivel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75480" y="-1460520"/>
            <a:ext cx="11450520" cy="6261120"/>
            <a:chOff x="375480" y="-1460520"/>
            <a:chExt cx="11450520" cy="6261120"/>
          </a:xfrm>
        </p:grpSpPr>
        <p:sp>
          <p:nvSpPr>
            <p:cNvPr id="142" name=""/>
            <p:cNvSpPr/>
            <p:nvPr/>
          </p:nvSpPr>
          <p:spPr>
            <a:xfrm>
              <a:off x="375480" y="685800"/>
              <a:ext cx="38232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1" i="1" lang="es-ES_tradnl" sz="2400" spc="-1" strike="noStrike" baseline="-25000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3" name=""/>
            <p:cNvGrpSpPr/>
            <p:nvPr/>
          </p:nvGrpSpPr>
          <p:grpSpPr>
            <a:xfrm>
              <a:off x="735120" y="-1460520"/>
              <a:ext cx="11090880" cy="6261120"/>
              <a:chOff x="735120" y="-1460520"/>
              <a:chExt cx="11090880" cy="6261120"/>
            </a:xfrm>
          </p:grpSpPr>
          <p:sp>
            <p:nvSpPr>
              <p:cNvPr id="144" name=""/>
              <p:cNvSpPr/>
              <p:nvPr/>
            </p:nvSpPr>
            <p:spPr>
              <a:xfrm>
                <a:off x="735120" y="995760"/>
                <a:ext cx="0" cy="3276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40520" y="4277520"/>
                <a:ext cx="582408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92080" y="4209120"/>
                <a:ext cx="283680" cy="45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t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60000">
                <a:off x="849240" y="-5558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1554120" y="4330800"/>
                <a:ext cx="30636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554120" y="4062240"/>
                <a:ext cx="32364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5166720" y="4398120"/>
                <a:ext cx="306720" cy="402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60000">
                <a:off x="963720" y="-1025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60000">
                <a:off x="1127520" y="-1367640"/>
                <a:ext cx="10657440" cy="48128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97" y="21600"/>
                    </a:moveTo>
                    <a:arcTo wR="10800" hR="10800" stAng="5400934" swAng="5401063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97" y="21600"/>
                    </a:moveTo>
                    <a:arcTo wR="10800" hR="10800" stAng="5400934" swAng="5401063"/>
                  </a:path>
                </a:pathLst>
              </a:custGeom>
              <a:noFill/>
              <a:ln cap="rnd" w="507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444000" y="308268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1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514200" y="34862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2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583680" y="3887640"/>
                <a:ext cx="43848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s-ES_tradnl" sz="2400" spc="-1" strike="noStrike">
                    <a:solidFill>
                      <a:srgbClr val="ffffff"/>
                    </a:solidFill>
                    <a:latin typeface="Times New Roman"/>
                  </a:rPr>
                  <a:t>u</a:t>
                </a:r>
                <a:r>
                  <a:rPr b="1" i="1" lang="es-ES_tradnl" sz="2400" spc="-1" strike="noStrike" baseline="-25000">
                    <a:solidFill>
                      <a:srgbClr val="ffffff"/>
                    </a:solidFill>
                    <a:latin typeface="Times New Roman"/>
                  </a:rPr>
                  <a:t>3</a:t>
                </a: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" name=""/>
          <p:cNvSpPr/>
          <p:nvPr/>
        </p:nvSpPr>
        <p:spPr>
          <a:xfrm>
            <a:off x="7316280" y="3167640"/>
            <a:ext cx="15739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u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47440" y="1505160"/>
            <a:ext cx="30931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 q, y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u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8D7C-38D4-4285-8E12-DC03AB77D04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37720" y="-15264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l hogar </a:t>
            </a: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(precios exógenos)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71440" y="1295280"/>
                <a:ext cx="256248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⇒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3965400" y="1238760"/>
            <a:ext cx="495000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ndición de equilibrio individual condicional en 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,y,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;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18160" y="324828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y,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,u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80880" y="2362320"/>
            <a:ext cx="333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744480" y="267336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50960" y="5954760"/>
            <a:ext cx="58230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302160" y="588636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563840" y="600696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563840" y="5738760"/>
            <a:ext cx="32364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6800" y="607392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rot="60000">
            <a:off x="973080" y="651240"/>
            <a:ext cx="1065744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26720" y="51631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828800" y="4343400"/>
            <a:ext cx="0" cy="16002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677600" y="586620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1752480" y="2666880"/>
                <a:ext cx="17686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u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&gt;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4" name=""/>
          <p:cNvSpPr/>
          <p:nvPr/>
        </p:nvSpPr>
        <p:spPr>
          <a:xfrm flipH="1">
            <a:off x="1447560" y="3200400"/>
            <a:ext cx="533160" cy="609480"/>
          </a:xfrm>
          <a:prstGeom prst="line">
            <a:avLst/>
          </a:prstGeom>
          <a:ln w="1908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486760" y="4570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761760" y="4343400"/>
            <a:ext cx="106668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98080" y="401220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60000">
            <a:off x="1125720" y="38412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rot="60000">
            <a:off x="858960" y="993600"/>
            <a:ext cx="106585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2895480"/>
            <a:ext cx="4267080" cy="2133720"/>
          </a:xfrm>
          <a:custGeom>
            <a:avLst/>
            <a:gdLst/>
            <a:ahLst/>
            <a:rect l="l" t="t" r="r" b="b"/>
            <a:pathLst>
              <a:path w="2688" h="1344">
                <a:moveTo>
                  <a:pt x="0" y="0"/>
                </a:moveTo>
                <a:cubicBezTo>
                  <a:pt x="4" y="168"/>
                  <a:pt x="8" y="336"/>
                  <a:pt x="48" y="480"/>
                </a:cubicBezTo>
                <a:cubicBezTo>
                  <a:pt x="88" y="624"/>
                  <a:pt x="104" y="768"/>
                  <a:pt x="240" y="864"/>
                </a:cubicBezTo>
                <a:cubicBezTo>
                  <a:pt x="376" y="960"/>
                  <a:pt x="608" y="992"/>
                  <a:pt x="864" y="1056"/>
                </a:cubicBezTo>
                <a:cubicBezTo>
                  <a:pt x="1120" y="1120"/>
                  <a:pt x="1472" y="1200"/>
                  <a:pt x="1776" y="1248"/>
                </a:cubicBezTo>
                <a:cubicBezTo>
                  <a:pt x="2080" y="1296"/>
                  <a:pt x="2528" y="1328"/>
                  <a:pt x="2688" y="1344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79000" y="477432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426720" y="5536440"/>
            <a:ext cx="183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(t;q,y,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,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u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91EDB-6435-4597-9360-71709A798E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80800" y="38052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DP de la firma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2438280" y="4924440"/>
                <a:ext cx="469908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1600200" y="1752480"/>
                <a:ext cx="2425680" cy="242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G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−</m:t>
                        </m:r>
                        <m:r>
                          <m:t xml:space="preserve">C</m:t>
                        </m:r>
                        <m:r>
                          <m:t xml:space="preserve">−</m:t>
                        </m:r>
                        <m:r>
                          <m:t xml:space="preserve">R</m:t>
                        </m:r>
                      </m:e>
                      <m:e>
                        <m:r>
                          <m:t xml:space="preserve">V</m:t>
                        </m:r>
                        <m:r>
                          <m:t xml:space="preserve">=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C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V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788000" y="16754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fi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736160" y="2361240"/>
            <a:ext cx="280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Volumen de nego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725720" y="3047040"/>
            <a:ext cx="278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Costos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99520" y="3656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ecio del sue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D1D-78E7-4F9A-A191-C9647E0A90A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80800" y="-3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2286000" y="1066680"/>
                <a:ext cx="2743200" cy="61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2303640" y="1752480"/>
                <a:ext cx="4173480" cy="623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v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2286000" y="2503440"/>
                <a:ext cx="4038480" cy="54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4495680" y="304920"/>
                <a:ext cx="39625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V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C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R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"/>
          <p:cNvSpPr/>
          <p:nvPr/>
        </p:nvSpPr>
        <p:spPr>
          <a:xfrm>
            <a:off x="1106280" y="4129560"/>
            <a:ext cx="7520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Vt: Pérdida de ingreso por alejamiento del CB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v Vt: Cambio costo operación por cambio en volumen de negoci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Ct: Cambio por costos de operación por alejami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imes New Roman"/>
              </a:rPr>
              <a:t>q dP/dt: Disminución del precio del suel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7E972-5975-41D1-BB0B-68C9FFBBBA1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1152360" y="1371600"/>
                <a:ext cx="707724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t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q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  <m:r>
                              <m:t xml:space="preserve">(</m:t>
                            </m:r>
                            <m:r>
                              <m:t xml:space="preserve">t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q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v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80800" y="7596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2862360" y="2646360"/>
                <a:ext cx="41749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v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e>
                        </m:d>
                        <m:r>
                          <m:t xml:space="preserve">/</m:t>
                        </m:r>
                        <m:r>
                          <m:t xml:space="preserve">q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t xml:space="preserve">&lt;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609480" y="4267080"/>
            <a:ext cx="80010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tiene valor único condicional en (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, q, 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 G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urvas de nivel inferior representan MAYOR gana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ara una firma NO se intersect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Tienen pendiente negativ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7581-60F2-458E-813B-2915F720949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375480" y="1603440"/>
            <a:ext cx="3823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35120" y="1835280"/>
            <a:ext cx="0" cy="3274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41240" y="5116680"/>
            <a:ext cx="5824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292440" y="5048280"/>
            <a:ext cx="283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60000">
            <a:off x="849240" y="284400"/>
            <a:ext cx="10661400" cy="4809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54120" y="51688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554120" y="4900680"/>
            <a:ext cx="32400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67440" y="5235480"/>
            <a:ext cx="306360" cy="40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rot="60000">
            <a:off x="963360" y="-186480"/>
            <a:ext cx="10661400" cy="4812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60000">
            <a:off x="1127520" y="-529920"/>
            <a:ext cx="10660320" cy="48135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07280" y="403344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94600" y="4444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02360" y="4795560"/>
            <a:ext cx="4122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ffff"/>
                </a:solidFill>
                <a:latin typeface="Times New Roman"/>
              </a:rPr>
              <a:t>G</a:t>
            </a:r>
            <a:r>
              <a:rPr b="1" i="1" lang="es-ES_tradnl" sz="18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240680" y="4005720"/>
            <a:ext cx="1725120" cy="510120"/>
          </a:xfrm>
          <a:prstGeom prst="rect">
            <a:avLst/>
          </a:prstGeom>
          <a:solidFill>
            <a:srgbClr val="ff6633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ES_tradnl" sz="2400" spc="-1" strike="noStrike">
                <a:solidFill>
                  <a:srgbClr val="000000"/>
                </a:solidFill>
                <a:latin typeface="Times New Roman"/>
              </a:rPr>
              <a:t> &lt; G</a:t>
            </a:r>
            <a:r>
              <a:rPr b="1" i="1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847240" y="2343600"/>
            <a:ext cx="26953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( t ;q , 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, G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047600" y="-360"/>
            <a:ext cx="77155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8cf4ea"/>
                </a:solidFill>
                <a:latin typeface="Times New Roman"/>
              </a:rPr>
              <a:t>DP de la firma....</a:t>
            </a:r>
            <a:endParaRPr b="0" lang="en-US" sz="32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19520" y="5839200"/>
            <a:ext cx="3206520" cy="648720"/>
          </a:xfrm>
          <a:prstGeom prst="rect">
            <a:avLst/>
          </a:prstGeom>
          <a:solidFill>
            <a:srgbClr val="c9cfcd"/>
          </a:solidFill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t*(q, p</a:t>
            </a:r>
            <a:r>
              <a:rPr b="1" i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x,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G; P</a:t>
            </a:r>
            <a:r>
              <a:rPr b="1" i="1" lang="es-ES_tradnl" sz="2800" spc="-1" strike="noStrike">
                <a:solidFill>
                  <a:srgbClr val="000000"/>
                </a:solidFill>
                <a:latin typeface="Times New Roman"/>
              </a:rPr>
              <a:t>(t)</a:t>
            </a:r>
            <a:r>
              <a:rPr b="1" i="1" lang="es-ES_tradnl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982160" y="5028120"/>
            <a:ext cx="41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t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639040" y="3427920"/>
            <a:ext cx="65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(t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971800" y="4038480"/>
            <a:ext cx="0" cy="10670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62120" y="4038480"/>
            <a:ext cx="213336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2120" y="3707640"/>
            <a:ext cx="533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r>
              <a:rPr b="1" i="1" lang="es-CL" sz="2400" spc="-1" strike="noStrike">
                <a:solidFill>
                  <a:srgbClr val="ffffff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727280" y="1816200"/>
            <a:ext cx="4673520" cy="2679480"/>
          </a:xfrm>
          <a:custGeom>
            <a:avLst/>
            <a:gdLst/>
            <a:ahLst/>
            <a:rect l="l" t="t" r="r" b="b"/>
            <a:pathLst>
              <a:path w="2944" h="1688">
                <a:moveTo>
                  <a:pt x="16" y="0"/>
                </a:moveTo>
                <a:cubicBezTo>
                  <a:pt x="8" y="152"/>
                  <a:pt x="0" y="304"/>
                  <a:pt x="112" y="528"/>
                </a:cubicBezTo>
                <a:cubicBezTo>
                  <a:pt x="224" y="752"/>
                  <a:pt x="320" y="1160"/>
                  <a:pt x="688" y="1344"/>
                </a:cubicBezTo>
                <a:cubicBezTo>
                  <a:pt x="1056" y="1528"/>
                  <a:pt x="1944" y="1576"/>
                  <a:pt x="2320" y="1632"/>
                </a:cubicBezTo>
                <a:cubicBezTo>
                  <a:pt x="2696" y="1688"/>
                  <a:pt x="2820" y="1684"/>
                  <a:pt x="2944" y="1680"/>
                </a:cubicBezTo>
              </a:path>
            </a:pathLst>
          </a:custGeom>
          <a:noFill/>
          <a:ln w="5724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5486040" y="3809880"/>
            <a:ext cx="304920" cy="60984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9F1C-AA71-44F7-AC37-1FCDF7C287F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2057400" y="4038480"/>
            <a:ext cx="0" cy="9144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3581280" y="4114800"/>
            <a:ext cx="0" cy="838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447920" y="4038480"/>
            <a:ext cx="5486400" cy="228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06536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lugares residenciales y otros de agricultur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06C58-D895-4B38-8929-C3236F722A3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portes teorícos en localización residencial</a:t>
            </a:r>
            <a:br>
              <a:rPr sz="3600"/>
            </a:b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ntes de 1900 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1143000" y="137160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. Smith, D. Ricardo, J. S. Mill: suelo es un caso monopólic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Alfred Marshal (1890):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ite value = situation + agricultural valu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Bids: en base a ventajas de localización y asignación a uso más rent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M Hurd (1903): valor depende de rentabilidad, esta de localización y esta de  cercanía, valor depende de cercanía. Caso residencial el valor es social y no económico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2560-786A-4C43-ABE7-8072F535B6FD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1908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2057400" y="1828800"/>
            <a:ext cx="0" cy="31240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3581280" y="3200400"/>
            <a:ext cx="0" cy="175248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4648320" y="3809520"/>
            <a:ext cx="0" cy="11430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47920" y="4114800"/>
            <a:ext cx="5486400" cy="1522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126920" y="4012200"/>
            <a:ext cx="930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490480" y="126900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2133720" y="1752480"/>
            <a:ext cx="457200" cy="30492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76280" y="2031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3048120" y="2514600"/>
            <a:ext cx="304560" cy="38088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623840" y="3174120"/>
            <a:ext cx="77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u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4495680" y="3657600"/>
            <a:ext cx="152640" cy="22860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19C3A-85C9-46E6-904A-7D9E58AB49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1447920" y="2057400"/>
            <a:ext cx="1904760" cy="289548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600200" y="1295280"/>
            <a:ext cx="2362320" cy="3657600"/>
          </a:xfrm>
          <a:prstGeom prst="line">
            <a:avLst/>
          </a:prstGeom>
          <a:ln w="28440">
            <a:solidFill>
              <a:srgbClr val="ff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87956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42900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648320" y="48769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447920" y="2971800"/>
            <a:ext cx="4647960" cy="198108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447920" y="2590920"/>
            <a:ext cx="5486400" cy="2361960"/>
          </a:xfrm>
          <a:prstGeom prst="line">
            <a:avLst/>
          </a:prstGeom>
          <a:ln w="19080">
            <a:solidFill>
              <a:srgbClr val="cc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523880" y="2286000"/>
            <a:ext cx="3124440" cy="266688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523880" y="1752480"/>
            <a:ext cx="3810240" cy="3200400"/>
          </a:xfrm>
          <a:prstGeom prst="line">
            <a:avLst/>
          </a:prstGeom>
          <a:ln w="28440">
            <a:solidFill>
              <a:srgbClr val="5f5f5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7920" y="1523880"/>
            <a:ext cx="2209680" cy="34290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447920" y="2819520"/>
            <a:ext cx="4952880" cy="213336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447920" y="1981080"/>
            <a:ext cx="3581280" cy="297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057400" y="2437920"/>
            <a:ext cx="0" cy="25146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3581280" y="3733920"/>
            <a:ext cx="0" cy="121896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4800600" y="4266720"/>
            <a:ext cx="0" cy="685800"/>
          </a:xfrm>
          <a:prstGeom prst="line">
            <a:avLst/>
          </a:prstGeom>
          <a:ln w="1260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447920" y="4038480"/>
            <a:ext cx="5486400" cy="381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447920" y="129528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31600" y="1040400"/>
            <a:ext cx="381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684120" y="403740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gríco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095720" y="2117520"/>
            <a:ext cx="33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 residentes y agricultor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CE92-B3BA-4FFA-9F25-CD3B59CDE8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80800" y="-76680"/>
            <a:ext cx="771516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8cf4ea"/>
                </a:solidFill>
                <a:latin typeface="Times New Roman"/>
              </a:rPr>
              <a:t>Equilibrio de mercado</a:t>
            </a:r>
            <a:endParaRPr b="0" lang="en-US" sz="44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447920" y="1225440"/>
            <a:ext cx="0" cy="37213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454040" y="4952880"/>
            <a:ext cx="6388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3440" y="4703760"/>
            <a:ext cx="266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CL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90000" y="1219320"/>
            <a:ext cx="3096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60000">
            <a:off x="1574280" y="-76932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300000">
            <a:off x="2521800" y="-1445040"/>
            <a:ext cx="548352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3014928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3014928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rot="120000">
            <a:off x="1479240" y="2945160"/>
            <a:ext cx="12013560" cy="16336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122" y="20534"/>
                </a:moveTo>
                <a:arcTo wR="10800" hR="10800" stAng="6940080" swAng="3866601"/>
                <a:lnTo>
                  <a:pt x="10800" y="10800"/>
                </a:lnTo>
                <a:close/>
              </a:path>
              <a:path fill="none" w="21600" h="21600">
                <a:moveTo>
                  <a:pt x="6122" y="20534"/>
                </a:moveTo>
                <a:arcTo wR="10800" hR="10800" stAng="6940080" swAng="3866601"/>
              </a:path>
            </a:pathLst>
          </a:custGeom>
          <a:noFill/>
          <a:ln cap="rnd"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268360" y="106056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971800" y="3740040"/>
            <a:ext cx="0" cy="120672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105520" y="4502160"/>
            <a:ext cx="0" cy="4446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46480" y="5013360"/>
            <a:ext cx="33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98108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2346480" y="4708440"/>
            <a:ext cx="35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9828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93200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308640" y="5089680"/>
            <a:ext cx="33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379920" y="4703760"/>
            <a:ext cx="353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 flipV="1">
            <a:off x="6553080" y="4489200"/>
            <a:ext cx="0" cy="469800"/>
          </a:xfrm>
          <a:prstGeom prst="line">
            <a:avLst/>
          </a:prstGeom>
          <a:ln w="1260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 flipH="1">
            <a:off x="1441080" y="4572000"/>
            <a:ext cx="511812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rot="192000">
            <a:off x="2492640" y="-1492920"/>
            <a:ext cx="5482800" cy="6499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2358" y="17536"/>
                </a:moveTo>
                <a:arcTo wR="10800" hR="10800" stAng="8484575" swAng="2317105"/>
                <a:lnTo>
                  <a:pt x="10800" y="10800"/>
                </a:lnTo>
                <a:close/>
              </a:path>
              <a:path fill="none" w="21600" h="21600">
                <a:moveTo>
                  <a:pt x="2358" y="17536"/>
                </a:moveTo>
                <a:arcTo wR="10800" hR="10800" stAng="8484575" swAng="231710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rot="60000">
            <a:off x="1569240" y="-767160"/>
            <a:ext cx="11690640" cy="546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704" y="20793"/>
                </a:moveTo>
                <a:arcTo wR="10800" hR="10800" stAng="6737166" swAng="1612575"/>
                <a:lnTo>
                  <a:pt x="10800" y="10800"/>
                </a:lnTo>
                <a:close/>
              </a:path>
              <a:path fill="none" w="21600" h="21600">
                <a:moveTo>
                  <a:pt x="6704" y="20793"/>
                </a:moveTo>
                <a:arcTo wR="10800" hR="10800" stAng="6737166" swAng="1612575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20000">
            <a:off x="1461960" y="2957040"/>
            <a:ext cx="12009600" cy="1634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09" swAng="1368189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09" swAng="1368189"/>
              </a:path>
            </a:pathLst>
          </a:custGeom>
          <a:noFill/>
          <a:ln cap="rnd" w="7632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1603440" y="1523880"/>
            <a:ext cx="38412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447920" y="3124080"/>
            <a:ext cx="457200" cy="43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CL" sz="20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1" i="1" lang="es-CL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447920" y="5257800"/>
            <a:ext cx="152388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71800" y="5257800"/>
            <a:ext cx="213372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105520" y="5257800"/>
            <a:ext cx="1447560" cy="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708360" y="533700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689440" y="5334120"/>
            <a:ext cx="4064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 rot="60000">
            <a:off x="1395000" y="-616680"/>
            <a:ext cx="1169028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rot="60000">
            <a:off x="1874520" y="-851760"/>
            <a:ext cx="11689560" cy="5466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797" y="21600"/>
                </a:moveTo>
                <a:arcTo wR="10800" hR="10800" stAng="5400934" swAng="5401063"/>
                <a:lnTo>
                  <a:pt x="10800" y="10800"/>
                </a:lnTo>
                <a:close/>
              </a:path>
              <a:path fill="none" w="21600" h="21600">
                <a:moveTo>
                  <a:pt x="10797" y="21600"/>
                </a:moveTo>
                <a:arcTo wR="10800" hR="10800" stAng="5400934" swAng="5401063"/>
              </a:path>
            </a:pathLst>
          </a:custGeom>
          <a:noFill/>
          <a:ln w="324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641C-CA72-4ED8-8623-B804FD8DF01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/>
          </p:nvPr>
        </p:nvSpPr>
        <p:spPr>
          <a:xfrm>
            <a:off x="1047240" y="1143000"/>
            <a:ext cx="7791480" cy="2666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7000"/>
          </a:bodyPr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Área disponible a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t: S(t)=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ars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(t=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rdenar hogares y firnas de mayor a menor pendiente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y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Encontr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resolviendo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S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= </a:t>
            </a:r>
            <a:r>
              <a:rPr b="0" i="1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i="1" lang="es-ES_tradnl" sz="24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=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63880" indent="-263880">
              <a:lnSpc>
                <a:spcPct val="120000"/>
              </a:lnSpc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alcular 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=p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(t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2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q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,u</a:t>
            </a:r>
            <a:r>
              <a:rPr b="0" i="1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i="1" lang="es-ES_tradnl" sz="2400" spc="-1" strike="noStrike">
                <a:solidFill>
                  <a:srgbClr val="ffffff"/>
                </a:solidFill>
                <a:latin typeface="Times New Roman"/>
              </a:rPr>
              <a:t> 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title"/>
          </p:nvPr>
        </p:nvSpPr>
        <p:spPr>
          <a:xfrm>
            <a:off x="837720" y="-360"/>
            <a:ext cx="807732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3" name=""/>
              <p:cNvSpPr txBox="1"/>
              <p:nvPr/>
            </p:nvSpPr>
            <p:spPr>
              <a:xfrm>
                <a:off x="3733920" y="2714760"/>
                <a:ext cx="1969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bSup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q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AB4B-EED0-4B84-8112-EF9FD17D034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/>
          </p:nvPr>
        </p:nvSpPr>
        <p:spPr>
          <a:xfrm>
            <a:off x="761760" y="4343400"/>
            <a:ext cx="779148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Comparar el precio resultante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n+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n el margen de la ciudad con el valor agrícola, si coincide con la suposición entonces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era correcta, si no, hay que modificar P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. Se obtiene el límite urban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-312120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Alternativamente, partir del valor de suelo agrícola y un límite urbano, probar si cabe toda la pobla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title"/>
          </p:nvPr>
        </p:nvSpPr>
        <p:spPr>
          <a:xfrm>
            <a:off x="609480" y="75960"/>
            <a:ext cx="79632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8cf4ea"/>
                </a:solidFill>
                <a:latin typeface="Times New Roman"/>
              </a:rPr>
              <a:t>Método de asignación: teo. de juegos</a:t>
            </a:r>
            <a:endParaRPr b="0" lang="en-US" sz="4000" spc="-1" strike="noStrike">
              <a:solidFill>
                <a:srgbClr val="8cf4ea"/>
              </a:solidFill>
              <a:latin typeface="Times New Roman"/>
            </a:endParaRPr>
          </a:p>
        </p:txBody>
      </p:sp>
      <p:graphicFrame>
        <p:nvGraphicFramePr>
          <p:cNvPr id="336" name=""/>
          <p:cNvGraphicFramePr/>
          <p:nvPr/>
        </p:nvGraphicFramePr>
        <p:xfrm>
          <a:off x="380880" y="1371600"/>
          <a:ext cx="8763120" cy="2616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71600"/>
                    <a:ext cx="8763120" cy="261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A6DC-F482-459C-8D80-76143C47A51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38" name=""/>
          <p:cNvGraphicFramePr/>
          <p:nvPr/>
        </p:nvGraphicFramePr>
        <p:xfrm>
          <a:off x="4344840" y="2976480"/>
          <a:ext cx="1195560" cy="365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4840" y="2976480"/>
                    <a:ext cx="1195560" cy="365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"/>
          <p:cNvGraphicFramePr/>
          <p:nvPr/>
        </p:nvGraphicFramePr>
        <p:xfrm>
          <a:off x="0" y="3276720"/>
          <a:ext cx="2063880" cy="5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276720"/>
                    <a:ext cx="2063880" cy="5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2" name=""/>
          <p:cNvGraphicFramePr/>
          <p:nvPr/>
        </p:nvGraphicFramePr>
        <p:xfrm>
          <a:off x="264960" y="1523880"/>
          <a:ext cx="573120" cy="990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64960" y="1523880"/>
                    <a:ext cx="573120" cy="99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44" name=""/>
          <p:cNvGrpSpPr/>
          <p:nvPr/>
        </p:nvGrpSpPr>
        <p:grpSpPr>
          <a:xfrm>
            <a:off x="6095520" y="533520"/>
            <a:ext cx="2531880" cy="3164040"/>
            <a:chOff x="6095520" y="533520"/>
            <a:chExt cx="2531880" cy="3164040"/>
          </a:xfrm>
        </p:grpSpPr>
        <p:sp>
          <p:nvSpPr>
            <p:cNvPr id="345" name=""/>
            <p:cNvSpPr/>
            <p:nvPr/>
          </p:nvSpPr>
          <p:spPr>
            <a:xfrm flipH="1" flipV="1">
              <a:off x="6635520" y="3262320"/>
              <a:ext cx="27000" cy="39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635880" y="2719440"/>
              <a:ext cx="29880" cy="54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V="1">
              <a:off x="6173640" y="3079800"/>
              <a:ext cx="59040" cy="177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V="1">
              <a:off x="6232680" y="2155320"/>
              <a:ext cx="417240" cy="92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V="1">
              <a:off x="6716880" y="3092040"/>
              <a:ext cx="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V="1">
              <a:off x="6716880" y="2563920"/>
              <a:ext cx="230040" cy="52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V="1">
              <a:off x="6946920" y="2126880"/>
              <a:ext cx="6192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508880" y="3168720"/>
              <a:ext cx="22320" cy="415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V="1">
              <a:off x="7178760" y="3381480"/>
              <a:ext cx="25200" cy="241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7203960" y="3261960"/>
              <a:ext cx="0" cy="119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 flipV="1">
              <a:off x="7176600" y="2759040"/>
              <a:ext cx="27000" cy="503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 flipV="1">
              <a:off x="7148160" y="2541600"/>
              <a:ext cx="28440" cy="217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 flipV="1">
              <a:off x="7116840" y="2172960"/>
              <a:ext cx="31680" cy="36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480440" y="2862360"/>
              <a:ext cx="28440" cy="311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 flipV="1">
              <a:off x="7445160" y="2600280"/>
              <a:ext cx="36360" cy="27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 flipV="1">
              <a:off x="7236000" y="2544480"/>
              <a:ext cx="33120" cy="230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 flipV="1">
              <a:off x="7232400" y="2492280"/>
              <a:ext cx="32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 flipV="1">
              <a:off x="7209000" y="2422440"/>
              <a:ext cx="237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7209000" y="2343240"/>
              <a:ext cx="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 flipV="1">
              <a:off x="7191000" y="2169720"/>
              <a:ext cx="176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7661160" y="2600280"/>
              <a:ext cx="504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661160" y="2660760"/>
              <a:ext cx="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7653240" y="2746440"/>
              <a:ext cx="792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653240" y="2795760"/>
              <a:ext cx="180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 flipV="1">
              <a:off x="7612200" y="2692080"/>
              <a:ext cx="46080" cy="57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 flipV="1">
              <a:off x="7569000" y="2601720"/>
              <a:ext cx="4284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 flipV="1">
              <a:off x="7493040" y="2319120"/>
              <a:ext cx="69840" cy="28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 flipV="1">
              <a:off x="6360840" y="2230560"/>
              <a:ext cx="6120" cy="16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6357600" y="2104560"/>
              <a:ext cx="324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6357960" y="2044440"/>
              <a:ext cx="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57960" y="2018880"/>
              <a:ext cx="2376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381720" y="1798200"/>
              <a:ext cx="9684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6478560" y="1760400"/>
              <a:ext cx="334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512040" y="1653840"/>
              <a:ext cx="12852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6640560" y="1649160"/>
              <a:ext cx="396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6680160" y="1639440"/>
              <a:ext cx="13824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V="1">
              <a:off x="6410160" y="2314080"/>
              <a:ext cx="50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6415200" y="2235240"/>
              <a:ext cx="5868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473880" y="2066760"/>
              <a:ext cx="3636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6510240" y="1995480"/>
              <a:ext cx="6516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V="1">
              <a:off x="6575400" y="1878120"/>
              <a:ext cx="138240" cy="117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H="1" flipV="1">
              <a:off x="6585120" y="2062080"/>
              <a:ext cx="80640" cy="52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 flipV="1">
              <a:off x="6572160" y="2047680"/>
              <a:ext cx="1296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6572160" y="2001960"/>
              <a:ext cx="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 flipV="1">
              <a:off x="6565680" y="1927080"/>
              <a:ext cx="612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6566040" y="1798200"/>
              <a:ext cx="9360" cy="12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6575400" y="1712880"/>
              <a:ext cx="10476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 flipV="1">
              <a:off x="6680160" y="1701360"/>
              <a:ext cx="302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V="1">
              <a:off x="6710400" y="1641240"/>
              <a:ext cx="68400" cy="60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6778800" y="1611360"/>
              <a:ext cx="5076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 flipV="1">
              <a:off x="6829560" y="1596960"/>
              <a:ext cx="792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 flipV="1">
              <a:off x="6837480" y="1565280"/>
              <a:ext cx="144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 flipV="1">
              <a:off x="7356240" y="2007720"/>
              <a:ext cx="142920" cy="32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flipV="1">
              <a:off x="7106760" y="2044800"/>
              <a:ext cx="9720" cy="13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 flipV="1">
              <a:off x="7087680" y="1838160"/>
              <a:ext cx="19080" cy="20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V="1">
              <a:off x="6799320" y="1774800"/>
              <a:ext cx="52200" cy="168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flipV="1">
              <a:off x="6716880" y="1844280"/>
              <a:ext cx="838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V="1">
              <a:off x="6800760" y="1831680"/>
              <a:ext cx="986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6899400" y="1824120"/>
              <a:ext cx="10152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 flipV="1">
              <a:off x="7005600" y="1814400"/>
              <a:ext cx="648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V="1">
              <a:off x="7005600" y="1552320"/>
              <a:ext cx="74520" cy="261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850080" y="1639800"/>
              <a:ext cx="414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 flipV="1">
              <a:off x="6891480" y="1623600"/>
              <a:ext cx="9036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6095520" y="1511280"/>
              <a:ext cx="1270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 flipV="1">
              <a:off x="6572160" y="1491840"/>
              <a:ext cx="7920" cy="1112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 flipV="1">
              <a:off x="6675480" y="533520"/>
              <a:ext cx="30240" cy="10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 flipH="1">
              <a:off x="6776640" y="635040"/>
              <a:ext cx="180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777000" y="654120"/>
              <a:ext cx="972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786720" y="706320"/>
              <a:ext cx="27000" cy="6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813720" y="77472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15160" y="801720"/>
              <a:ext cx="3024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5400" y="860400"/>
              <a:ext cx="46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50080" y="903240"/>
              <a:ext cx="1584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65920" y="957240"/>
              <a:ext cx="14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67360" y="963720"/>
              <a:ext cx="493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16680" y="1085760"/>
              <a:ext cx="2052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37200" y="1155600"/>
              <a:ext cx="1296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881760" y="1246320"/>
              <a:ext cx="68400" cy="264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845400" y="863640"/>
              <a:ext cx="3492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880320" y="938160"/>
              <a:ext cx="331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913440" y="996840"/>
              <a:ext cx="47880" cy="76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961320" y="1073160"/>
              <a:ext cx="3312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994440" y="1233360"/>
              <a:ext cx="19080" cy="103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6885000" y="1239840"/>
              <a:ext cx="63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6948360" y="1231920"/>
              <a:ext cx="460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6994440" y="1231920"/>
              <a:ext cx="100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7098840" y="1015920"/>
              <a:ext cx="637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7097760" y="1163520"/>
              <a:ext cx="1440" cy="19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097760" y="118260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7095600" y="1200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7094520" y="1200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094520" y="12002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4520" y="120636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94520" y="1206360"/>
              <a:ext cx="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7093080" y="12114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093080" y="1211400"/>
              <a:ext cx="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089480" y="12207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089840" y="1220760"/>
              <a:ext cx="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089840" y="1238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093080" y="12384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093080" y="12412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094520" y="1241280"/>
              <a:ext cx="1440" cy="12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095960" y="1254240"/>
              <a:ext cx="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 flipH="1">
              <a:off x="6910200" y="1274760"/>
              <a:ext cx="185400" cy="23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 flipH="1">
              <a:off x="7094520" y="561960"/>
              <a:ext cx="54000" cy="25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72200" y="1055520"/>
              <a:ext cx="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7074000" y="1130400"/>
              <a:ext cx="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7059240" y="1182600"/>
              <a:ext cx="1116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7021440" y="1249200"/>
              <a:ext cx="38160" cy="220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7164360" y="1007640"/>
              <a:ext cx="6336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227720" y="1008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232760" y="10144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232760" y="1019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36000" y="101916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7440" y="1022400"/>
              <a:ext cx="28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7237440" y="10224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 flipV="1">
              <a:off x="7237440" y="10256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7237440" y="1025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7242120" y="102708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7242120" y="10317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7243920" y="10317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243920" y="10350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7245360" y="10368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7245360" y="103680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245360" y="10429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7246800" y="10429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 flipH="1">
              <a:off x="7245360" y="105876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245360" y="105876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7245360" y="10652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7243920" y="10666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7243920" y="1066680"/>
              <a:ext cx="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7241760" y="10731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7242120" y="107640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 flipH="1">
              <a:off x="7237080" y="10764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7237440" y="10764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7237440" y="1081080"/>
              <a:ext cx="12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7237440" y="10810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 flipH="1">
              <a:off x="7236000" y="108432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7236000" y="1084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32400" y="1087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232760" y="1087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7227720" y="1089000"/>
              <a:ext cx="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227720" y="109548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flipV="1">
              <a:off x="7221240" y="1091880"/>
              <a:ext cx="61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 flipV="1">
              <a:off x="7221600" y="10900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 flipV="1">
              <a:off x="722160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7215120" y="108900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7215120" y="10890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 flipH="1">
              <a:off x="7210080" y="10904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flipH="1">
              <a:off x="7209000" y="109044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7209000" y="10922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H="1">
              <a:off x="7205400" y="1095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205760" y="109548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 flipH="1">
              <a:off x="7203600" y="11016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7203960" y="110160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flipH="1">
              <a:off x="7202520" y="110160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7202520" y="110160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202520" y="1109520"/>
              <a:ext cx="20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202520" y="1109520"/>
              <a:ext cx="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236000" y="1179360"/>
              <a:ext cx="219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 flipH="1">
              <a:off x="7256160" y="1490760"/>
              <a:ext cx="98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H="1" flipV="1">
              <a:off x="7229160" y="1494000"/>
              <a:ext cx="2700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7097760" y="1494000"/>
              <a:ext cx="131760" cy="45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7180200" y="1387440"/>
              <a:ext cx="41400" cy="196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7221600" y="1576440"/>
              <a:ext cx="71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7155000" y="1401840"/>
              <a:ext cx="468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 flipH="1">
              <a:off x="7154640" y="1452600"/>
              <a:ext cx="46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155000" y="1460520"/>
              <a:ext cx="2520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7296120" y="1577880"/>
              <a:ext cx="2052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7316640" y="1584360"/>
              <a:ext cx="334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7350120" y="1593720"/>
              <a:ext cx="810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 flipV="1">
              <a:off x="7431120" y="1590480"/>
              <a:ext cx="381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 flipV="1">
              <a:off x="7469280" y="1584360"/>
              <a:ext cx="3636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V="1">
              <a:off x="7505640" y="1572840"/>
              <a:ext cx="648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7512120" y="1573200"/>
              <a:ext cx="23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>
              <a:off x="7535880" y="1561680"/>
              <a:ext cx="7308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>
              <a:off x="7608960" y="1541160"/>
              <a:ext cx="88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7697880" y="1541520"/>
              <a:ext cx="15552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54800" y="1486080"/>
              <a:ext cx="119160" cy="104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>
              <a:off x="7316640" y="934560"/>
              <a:ext cx="32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 flipH="1">
              <a:off x="7318440" y="93492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318440" y="9367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>
              <a:off x="7318440" y="93168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flipH="1">
              <a:off x="7318440" y="932040"/>
              <a:ext cx="14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7318440" y="93492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>
              <a:off x="7318440" y="932040"/>
              <a:ext cx="61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>
              <a:off x="7324560" y="928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7324560" y="925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7324560" y="9255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V="1">
              <a:off x="7327800" y="909720"/>
              <a:ext cx="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V="1">
              <a:off x="7327800" y="9075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27800" y="90792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V="1">
              <a:off x="7329600" y="9064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29600" y="906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7331040" y="9028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7331040" y="90324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 flipV="1">
              <a:off x="7332840" y="901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 flipV="1">
              <a:off x="7332840" y="8996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7332840" y="9000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 flipV="1">
              <a:off x="7332840" y="89964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7337520" y="898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7337520" y="894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>
              <a:off x="7337520" y="893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338960" y="89388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>
              <a:off x="7340760" y="891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7340760" y="8920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7342200" y="89064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 flipV="1">
              <a:off x="7346880" y="88560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46880" y="885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 flipV="1">
              <a:off x="7351560" y="880920"/>
              <a:ext cx="324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V="1">
              <a:off x="7354800" y="87948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H="1">
              <a:off x="7354440" y="87948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354800" y="873000"/>
              <a:ext cx="468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 flipV="1">
              <a:off x="7359480" y="8715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7359480" y="870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359480" y="870120"/>
              <a:ext cx="8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359480" y="8701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7364520" y="861480"/>
              <a:ext cx="0" cy="8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364520" y="8618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7364520" y="8614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7367760" y="8553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367760" y="85572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7367760" y="85356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7370640" y="851040"/>
              <a:ext cx="324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7373880" y="847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73880" y="8478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7378560" y="8442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7378560" y="844560"/>
              <a:ext cx="28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7378560" y="84456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378560" y="840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378560" y="84132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385040" y="83484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385040" y="831600"/>
              <a:ext cx="46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7389720" y="8298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389720" y="8301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7389720" y="8265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7389720" y="824040"/>
              <a:ext cx="1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7391520" y="82188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394400" y="820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394400" y="822240"/>
              <a:ext cx="176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 flipV="1">
              <a:off x="7394400" y="815760"/>
              <a:ext cx="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7394400" y="813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739764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7397280" y="812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flipV="1">
              <a:off x="7397640" y="809280"/>
              <a:ext cx="180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7399440" y="8082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7400880" y="808200"/>
              <a:ext cx="223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7400880" y="806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7400880" y="8064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 flipV="1">
              <a:off x="7404120" y="8028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7404120" y="80316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407360" y="801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 flipV="1">
              <a:off x="7407360" y="79812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407360" y="79704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V="1">
              <a:off x="7408800" y="794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7408800" y="795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7408800" y="79488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>
              <a:off x="7410600" y="79524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V="1">
              <a:off x="7410600" y="790200"/>
              <a:ext cx="14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7412040" y="7891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412040" y="78912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412040" y="78912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 flipV="1">
              <a:off x="7416720" y="7869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 flipV="1">
              <a:off x="7416720" y="785880"/>
              <a:ext cx="1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7418520" y="7858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 flipV="1">
              <a:off x="7419960" y="7837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7419960" y="7840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7419960" y="7840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 flipV="1">
              <a:off x="7423200" y="781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7423200" y="7812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 flipV="1">
              <a:off x="7426440" y="7790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 flipV="1">
              <a:off x="7426440" y="777960"/>
              <a:ext cx="46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7431120" y="77796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437600" y="779400"/>
              <a:ext cx="10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 flipV="1">
              <a:off x="7448400" y="777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448400" y="777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 flipV="1">
              <a:off x="7453440" y="774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453440" y="774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 flipV="1">
              <a:off x="7459560" y="771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7459560" y="7714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 flipV="1">
              <a:off x="7459560" y="77112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459560" y="771480"/>
              <a:ext cx="158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7459560" y="77148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7469280" y="77148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 flipV="1">
              <a:off x="7480440" y="770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 flipV="1">
              <a:off x="7480440" y="7664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 flipV="1">
              <a:off x="7481880" y="763200"/>
              <a:ext cx="2376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V="1">
              <a:off x="7505640" y="759960"/>
              <a:ext cx="180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V="1">
              <a:off x="750744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508880" y="75888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7508880" y="758880"/>
              <a:ext cx="32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7512120" y="756720"/>
              <a:ext cx="158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522920" y="757080"/>
              <a:ext cx="46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16800" y="758880"/>
              <a:ext cx="648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 flipH="1" flipV="1">
              <a:off x="7515360" y="75888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7515360" y="756720"/>
              <a:ext cx="288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7518240" y="754200"/>
              <a:ext cx="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7518240" y="75420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52328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527960" y="7542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7527960" y="754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V="1">
              <a:off x="7532640" y="750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7532640" y="750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7540560" y="750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7545240" y="750960"/>
              <a:ext cx="16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7545240" y="7509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V="1">
              <a:off x="7547040" y="7473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7547040" y="747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 flipV="1">
              <a:off x="7553160" y="7441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7553160" y="744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556400" y="74448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561440" y="744480"/>
              <a:ext cx="93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V="1">
              <a:off x="7570800" y="743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570800" y="743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V="1">
              <a:off x="7574040" y="7394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7574040" y="739800"/>
              <a:ext cx="190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7574040" y="73980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V="1">
              <a:off x="7577280" y="7383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577280" y="73836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 flipV="1">
              <a:off x="7580160" y="73620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580160" y="736560"/>
              <a:ext cx="64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 flipV="1">
              <a:off x="758664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7586640" y="73332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597800" y="73332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597800" y="73656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 flipV="1">
              <a:off x="7610400" y="736200"/>
              <a:ext cx="126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 flipV="1">
              <a:off x="7623000" y="73296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 flipV="1">
              <a:off x="7623000" y="73188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 flipV="1">
              <a:off x="7628040" y="72972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7631280" y="73008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 flipV="1">
              <a:off x="7637400" y="725040"/>
              <a:ext cx="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7637400" y="72540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 flipV="1">
              <a:off x="7639200" y="72396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 flipV="1">
              <a:off x="7640640" y="721800"/>
              <a:ext cx="14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642080" y="722160"/>
              <a:ext cx="1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 flipV="1">
              <a:off x="764388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4388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650000" y="72072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655040" y="71748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 flipV="1">
              <a:off x="765828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58280" y="716040"/>
              <a:ext cx="2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V="1">
              <a:off x="7661160" y="71388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661160" y="71424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 flipV="1">
              <a:off x="7666200" y="71280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 flipV="1">
              <a:off x="7666200" y="711360"/>
              <a:ext cx="61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672320" y="711360"/>
              <a:ext cx="9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7682040" y="711360"/>
              <a:ext cx="158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7697880" y="712800"/>
              <a:ext cx="1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7699320" y="71424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7699320" y="716040"/>
              <a:ext cx="3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702560" y="71604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7702560" y="717480"/>
              <a:ext cx="14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770400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7704000" y="715680"/>
              <a:ext cx="158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7719840" y="716040"/>
              <a:ext cx="111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7731000" y="716040"/>
              <a:ext cx="50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7736040" y="71748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736040" y="720720"/>
              <a:ext cx="61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742160" y="72072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42160" y="7221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746840" y="722160"/>
              <a:ext cx="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7746840" y="723960"/>
              <a:ext cx="5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775188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7751880" y="725400"/>
              <a:ext cx="172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 flipV="1">
              <a:off x="7769160" y="723960"/>
              <a:ext cx="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769160" y="723960"/>
              <a:ext cx="7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151760" y="157464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56440" y="157464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 flipV="1">
              <a:off x="7167600" y="1572840"/>
              <a:ext cx="324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170840" y="157320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7175520" y="1569600"/>
              <a:ext cx="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175520" y="1569960"/>
              <a:ext cx="4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180200" y="1569960"/>
              <a:ext cx="324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183440" y="1571760"/>
              <a:ext cx="792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191360" y="1574640"/>
              <a:ext cx="14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201080" y="1587600"/>
              <a:ext cx="21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639200" y="1782720"/>
              <a:ext cx="9360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6178680" y="1227240"/>
              <a:ext cx="252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 flipH="1" flipV="1">
              <a:off x="6195960" y="1079640"/>
              <a:ext cx="7920" cy="147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 flipV="1">
              <a:off x="6195960" y="723960"/>
              <a:ext cx="236520" cy="35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432480" y="723960"/>
              <a:ext cx="19548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 flipV="1">
              <a:off x="6627960" y="638280"/>
              <a:ext cx="77760" cy="100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705720" y="638280"/>
              <a:ext cx="1047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810480" y="638280"/>
              <a:ext cx="260280" cy="160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7070760" y="798480"/>
              <a:ext cx="17928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 flipV="1">
              <a:off x="7250040" y="969840"/>
              <a:ext cx="23760" cy="28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 flipV="1">
              <a:off x="7273800" y="931680"/>
              <a:ext cx="7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 flipV="1">
              <a:off x="7281720" y="891720"/>
              <a:ext cx="270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 flipV="1">
              <a:off x="7308720" y="882720"/>
              <a:ext cx="1908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7327800" y="882720"/>
              <a:ext cx="349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 flipH="1">
              <a:off x="7703640" y="843120"/>
              <a:ext cx="2556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 flipH="1">
              <a:off x="7676640" y="919080"/>
              <a:ext cx="2700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 flipH="1">
              <a:off x="7640280" y="933480"/>
              <a:ext cx="36360" cy="55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H="1">
              <a:off x="7624800" y="988920"/>
              <a:ext cx="1584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 flipH="1">
              <a:off x="7580160" y="1038240"/>
              <a:ext cx="4464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 flipH="1">
              <a:off x="7535520" y="1081080"/>
              <a:ext cx="4428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7512120" y="1343160"/>
              <a:ext cx="468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7516800" y="1409760"/>
              <a:ext cx="2700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543800" y="1446120"/>
              <a:ext cx="32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7547040" y="1463760"/>
              <a:ext cx="60120" cy="79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7607160" y="1542960"/>
              <a:ext cx="59040" cy="1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7666200" y="1687680"/>
              <a:ext cx="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 flipH="1">
              <a:off x="7640280" y="1720800"/>
              <a:ext cx="25560" cy="7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 flipH="1">
              <a:off x="7622640" y="1792440"/>
              <a:ext cx="17640" cy="52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 flipH="1">
              <a:off x="7615080" y="1844640"/>
              <a:ext cx="7920" cy="35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7615080" y="219708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7642080" y="2320920"/>
              <a:ext cx="5040" cy="142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7647120" y="2463840"/>
              <a:ext cx="2196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 flipV="1">
              <a:off x="7391520" y="2203200"/>
              <a:ext cx="31680" cy="75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 flipV="1">
              <a:off x="7423200" y="2157480"/>
              <a:ext cx="79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 flipV="1">
              <a:off x="7431120" y="2091960"/>
              <a:ext cx="648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 flipV="1">
              <a:off x="7437600" y="1954080"/>
              <a:ext cx="44280" cy="138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 flipV="1">
              <a:off x="7481880" y="1743120"/>
              <a:ext cx="17640" cy="210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 flipV="1">
              <a:off x="7499520" y="1584000"/>
              <a:ext cx="33120" cy="158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 flipH="1" flipV="1">
              <a:off x="7516800" y="1410840"/>
              <a:ext cx="15840" cy="17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 flipH="1" flipV="1">
              <a:off x="7486560" y="138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 flipH="1" flipV="1">
              <a:off x="7462800" y="1377720"/>
              <a:ext cx="2376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 flipH="1" flipV="1">
              <a:off x="7446960" y="1339920"/>
              <a:ext cx="158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7367760" y="895320"/>
              <a:ext cx="442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7412040" y="938160"/>
              <a:ext cx="144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7426440" y="976320"/>
              <a:ext cx="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7232760" y="1165320"/>
              <a:ext cx="3168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 flipV="1">
              <a:off x="7264440" y="1170000"/>
              <a:ext cx="396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7304040" y="1170000"/>
              <a:ext cx="34920" cy="30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7338960" y="1200240"/>
              <a:ext cx="619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7400880" y="1289160"/>
              <a:ext cx="4608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 flipH="1" flipV="1">
              <a:off x="7505640" y="1293480"/>
              <a:ext cx="648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 flipH="1" flipV="1">
              <a:off x="7451640" y="1200240"/>
              <a:ext cx="540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 flipV="1">
              <a:off x="7451640" y="1179360"/>
              <a:ext cx="0" cy="20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 flipH="1" flipV="1">
              <a:off x="7426440" y="1072800"/>
              <a:ext cx="25200" cy="10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>
              <a:off x="7426440" y="1039320"/>
              <a:ext cx="468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>
              <a:off x="7499160" y="1089000"/>
              <a:ext cx="442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H="1">
              <a:off x="7478640" y="1120680"/>
              <a:ext cx="20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 flipH="1">
              <a:off x="7435440" y="1120680"/>
              <a:ext cx="428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flipH="1">
              <a:off x="7338600" y="1154160"/>
              <a:ext cx="96840" cy="44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 flipH="1">
              <a:off x="7311600" y="1198440"/>
              <a:ext cx="27000" cy="190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7257960" y="1285920"/>
              <a:ext cx="42840" cy="125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7300800" y="1411200"/>
              <a:ext cx="15840" cy="189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7216920" y="1663560"/>
              <a:ext cx="9504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7311960" y="1670040"/>
              <a:ext cx="3492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7346880" y="1698480"/>
              <a:ext cx="1000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7446960" y="1708200"/>
              <a:ext cx="525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7499520" y="1744560"/>
              <a:ext cx="13968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>
              <a:off x="7457760" y="1744560"/>
              <a:ext cx="4140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flipH="1" flipV="1">
              <a:off x="7430760" y="1782360"/>
              <a:ext cx="2700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7423200" y="1782720"/>
              <a:ext cx="792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flipH="1">
              <a:off x="7203600" y="1792440"/>
              <a:ext cx="2192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7075440" y="1452600"/>
              <a:ext cx="85680" cy="43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7161120" y="1889280"/>
              <a:ext cx="1764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178760" y="1905120"/>
              <a:ext cx="48960" cy="2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7227720" y="1928880"/>
              <a:ext cx="17640" cy="11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7423200" y="2176560"/>
              <a:ext cx="7632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7499520" y="2189160"/>
              <a:ext cx="69840" cy="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 flipV="1">
              <a:off x="7569360" y="2198520"/>
              <a:ext cx="45720" cy="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 flipV="1">
              <a:off x="7367760" y="2281320"/>
              <a:ext cx="266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 flipH="1">
              <a:off x="7338960" y="2317680"/>
              <a:ext cx="288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 flipH="1">
              <a:off x="7292880" y="2387520"/>
              <a:ext cx="46080" cy="135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>
              <a:off x="7175520" y="2522520"/>
              <a:ext cx="1173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6960960" y="2495160"/>
              <a:ext cx="21420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H="1" flipV="1">
              <a:off x="6849720" y="2430000"/>
              <a:ext cx="111240" cy="65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 flipV="1">
              <a:off x="6850080" y="1825560"/>
              <a:ext cx="150840" cy="604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000920" y="1825560"/>
              <a:ext cx="39600" cy="6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040520" y="1832040"/>
              <a:ext cx="5400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 flipV="1">
              <a:off x="7094520" y="1831680"/>
              <a:ext cx="57240" cy="6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 flipV="1">
              <a:off x="7151760" y="1809720"/>
              <a:ext cx="522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6934320" y="2085840"/>
              <a:ext cx="182520" cy="79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7116840" y="2165400"/>
              <a:ext cx="1648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 flipH="1" flipV="1">
              <a:off x="7227360" y="1925280"/>
              <a:ext cx="8280" cy="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7162920" y="1893960"/>
              <a:ext cx="288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7165800" y="1952640"/>
              <a:ext cx="3240" cy="87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7169040" y="2039760"/>
              <a:ext cx="22320" cy="125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7273800" y="2173320"/>
              <a:ext cx="1573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7308720" y="1604880"/>
              <a:ext cx="6480" cy="73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7308720" y="1677960"/>
              <a:ext cx="0" cy="122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08720" y="1800360"/>
              <a:ext cx="32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7311960" y="1962000"/>
              <a:ext cx="6480" cy="25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7314840" y="1987560"/>
              <a:ext cx="3240" cy="144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>
              <a:off x="7284960" y="2131920"/>
              <a:ext cx="30240" cy="41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 flipV="1">
              <a:off x="7013520" y="1852560"/>
              <a:ext cx="27000" cy="160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7094520" y="1844280"/>
              <a:ext cx="61920" cy="58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6703920" y="641520"/>
              <a:ext cx="66600" cy="220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6770520" y="861840"/>
              <a:ext cx="14400" cy="74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6784920" y="936720"/>
              <a:ext cx="47520" cy="122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832440" y="1058760"/>
              <a:ext cx="17640" cy="14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6850080" y="1204920"/>
              <a:ext cx="39600" cy="82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6889680" y="1287360"/>
              <a:ext cx="73080" cy="42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>
              <a:off x="6705720" y="803160"/>
              <a:ext cx="46080" cy="149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705720" y="952560"/>
              <a:ext cx="41040" cy="136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746760" y="1089000"/>
              <a:ext cx="223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 flipH="1">
              <a:off x="6754680" y="1212840"/>
              <a:ext cx="14400" cy="150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6754680" y="1363680"/>
              <a:ext cx="324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 flipH="1">
              <a:off x="6751440" y="1434960"/>
              <a:ext cx="6120" cy="82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6751800" y="1517760"/>
              <a:ext cx="1260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6764400" y="1589040"/>
              <a:ext cx="22320" cy="90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786720" y="1679400"/>
              <a:ext cx="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6786720" y="1727280"/>
              <a:ext cx="9360" cy="92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 flipH="1">
              <a:off x="7160760" y="939960"/>
              <a:ext cx="3348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 flipH="1" flipV="1">
              <a:off x="7013520" y="966960"/>
              <a:ext cx="14760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 flipH="1">
              <a:off x="6919920" y="966960"/>
              <a:ext cx="93600" cy="18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 flipH="1">
              <a:off x="6876720" y="985680"/>
              <a:ext cx="4284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 flipH="1">
              <a:off x="6821640" y="1025640"/>
              <a:ext cx="55440" cy="7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 flipH="1" flipV="1">
              <a:off x="6770520" y="1031400"/>
              <a:ext cx="5400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 flipH="1" flipV="1">
              <a:off x="6757560" y="1022400"/>
              <a:ext cx="126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 flipH="1">
              <a:off x="6729120" y="1022400"/>
              <a:ext cx="2844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 flipH="1">
              <a:off x="6699240" y="1023840"/>
              <a:ext cx="30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 flipH="1">
              <a:off x="6676920" y="1050840"/>
              <a:ext cx="223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 flipH="1">
              <a:off x="6673320" y="1096920"/>
              <a:ext cx="3240" cy="19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 flipH="1">
              <a:off x="6664320" y="1289160"/>
              <a:ext cx="9360" cy="18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6664320" y="1474920"/>
              <a:ext cx="3240" cy="68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667560" y="1542960"/>
              <a:ext cx="12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680160" y="1636560"/>
              <a:ext cx="7920" cy="133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688080" y="1770120"/>
              <a:ext cx="3240" cy="6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691320" y="1836720"/>
              <a:ext cx="27000" cy="49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718320" y="1886040"/>
              <a:ext cx="3636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754680" y="1922400"/>
              <a:ext cx="30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784920" y="1922400"/>
              <a:ext cx="6660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851520" y="2008080"/>
              <a:ext cx="5076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902280" y="2071800"/>
              <a:ext cx="3492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770520" y="1227240"/>
              <a:ext cx="3996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810480" y="1265400"/>
              <a:ext cx="26964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 flipV="1">
              <a:off x="7124760" y="1379160"/>
              <a:ext cx="39600" cy="2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 flipV="1">
              <a:off x="7164360" y="1332000"/>
              <a:ext cx="22320" cy="47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 flipV="1">
              <a:off x="7186680" y="1262160"/>
              <a:ext cx="14400" cy="6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 flipV="1">
              <a:off x="7201080" y="1200240"/>
              <a:ext cx="792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 flipV="1">
              <a:off x="7209000" y="1168560"/>
              <a:ext cx="2376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 flipV="1">
              <a:off x="7232760" y="1128240"/>
              <a:ext cx="39600" cy="3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 flipV="1">
              <a:off x="7272360" y="1101240"/>
              <a:ext cx="172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 flipH="1">
              <a:off x="7197480" y="1238400"/>
              <a:ext cx="68040" cy="633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 flipH="1">
              <a:off x="7178400" y="1346040"/>
              <a:ext cx="19080" cy="4932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 flipH="1">
              <a:off x="7054920" y="1389240"/>
              <a:ext cx="131760" cy="838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 flipV="1">
              <a:off x="6718320" y="1808280"/>
              <a:ext cx="76320" cy="71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 flipV="1">
              <a:off x="6794640" y="1774440"/>
              <a:ext cx="55440" cy="33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 flipV="1">
              <a:off x="6850080" y="1565280"/>
              <a:ext cx="1440" cy="209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 flipH="1" flipV="1">
              <a:off x="6843600" y="153792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 flipH="1" flipV="1">
              <a:off x="6832080" y="1333080"/>
              <a:ext cx="11160" cy="204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 flipV="1">
              <a:off x="6832440" y="1306080"/>
              <a:ext cx="79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 flipV="1">
              <a:off x="6840360" y="1297080"/>
              <a:ext cx="16200" cy="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6988320" y="1617840"/>
              <a:ext cx="4680" cy="10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993000" y="1727280"/>
              <a:ext cx="4680" cy="31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6997680" y="1758960"/>
              <a:ext cx="11160" cy="61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 flipV="1">
              <a:off x="6851520" y="1757520"/>
              <a:ext cx="146160" cy="1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96080" y="1812960"/>
              <a:ext cx="1260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 flipH="1">
              <a:off x="6771960" y="1851120"/>
              <a:ext cx="36360" cy="169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 flipH="1">
              <a:off x="6698880" y="2021040"/>
              <a:ext cx="73080" cy="279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6699240" y="2300400"/>
              <a:ext cx="69840" cy="83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6769080" y="2384280"/>
              <a:ext cx="795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 flipH="1">
              <a:off x="6821280" y="2430360"/>
              <a:ext cx="2700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 flipV="1">
              <a:off x="6432480" y="2252520"/>
              <a:ext cx="95400" cy="90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 flipV="1">
              <a:off x="6527880" y="2151000"/>
              <a:ext cx="123840" cy="101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 flipV="1">
              <a:off x="6651720" y="2117880"/>
              <a:ext cx="1404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 flipV="1">
              <a:off x="6665760" y="1878120"/>
              <a:ext cx="52560" cy="239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 flipH="1">
              <a:off x="6683400" y="2300400"/>
              <a:ext cx="158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683400" y="2386080"/>
              <a:ext cx="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 flipH="1">
              <a:off x="6673320" y="2424240"/>
              <a:ext cx="972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 flipH="1">
              <a:off x="6665760" y="2470320"/>
              <a:ext cx="7920" cy="247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 flipV="1">
              <a:off x="6665760" y="2554200"/>
              <a:ext cx="150840" cy="163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 flipH="1">
              <a:off x="6365520" y="2340000"/>
              <a:ext cx="65160" cy="60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 flipH="1">
              <a:off x="6113160" y="2400480"/>
              <a:ext cx="252360" cy="33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 flipH="1" flipV="1">
              <a:off x="6676920" y="2281320"/>
              <a:ext cx="23760" cy="17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 flipH="1" flipV="1">
              <a:off x="6595560" y="2259000"/>
              <a:ext cx="81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 flipH="1" flipV="1">
              <a:off x="6572160" y="2212920"/>
              <a:ext cx="23760" cy="4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 flipH="1" flipV="1">
              <a:off x="6557760" y="2174760"/>
              <a:ext cx="14040" cy="38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 flipH="1" flipV="1">
              <a:off x="6462360" y="2123640"/>
              <a:ext cx="954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 flipH="1" flipV="1">
              <a:off x="6399360" y="1968480"/>
              <a:ext cx="63360" cy="155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 flipH="1" flipV="1">
              <a:off x="6378480" y="1884240"/>
              <a:ext cx="20880" cy="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 flipH="1" flipV="1">
              <a:off x="6335280" y="1792080"/>
              <a:ext cx="42840" cy="9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 flipH="1" flipV="1">
              <a:off x="6310440" y="1682280"/>
              <a:ext cx="25200" cy="10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 flipH="1" flipV="1">
              <a:off x="6306840" y="1647360"/>
              <a:ext cx="324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 flipH="1" flipV="1">
              <a:off x="6232320" y="1558440"/>
              <a:ext cx="74520" cy="88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 flipH="1" flipV="1">
              <a:off x="6219720" y="1525680"/>
              <a:ext cx="12960" cy="33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219720" y="1525680"/>
              <a:ext cx="425520" cy="123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 flipV="1">
              <a:off x="6620040" y="1593720"/>
              <a:ext cx="152280" cy="5904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H="1" flipV="1">
              <a:off x="6180120" y="1428840"/>
              <a:ext cx="39600" cy="93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 flipH="1" flipV="1">
              <a:off x="6178680" y="1343160"/>
              <a:ext cx="1440" cy="85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 flipV="1">
              <a:off x="7724880" y="812520"/>
              <a:ext cx="61920" cy="3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7786800" y="764640"/>
              <a:ext cx="17280" cy="47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4" name=""/>
            <p:cNvSpPr/>
            <p:nvPr/>
          </p:nvSpPr>
          <p:spPr>
            <a:xfrm flipH="1">
              <a:off x="7245000" y="1217520"/>
              <a:ext cx="66600" cy="3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 flipH="1">
              <a:off x="7191000" y="1285920"/>
              <a:ext cx="17640" cy="777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 flipH="1" flipV="1">
              <a:off x="6571800" y="1590840"/>
              <a:ext cx="55800" cy="7128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 flipH="1">
              <a:off x="6764400" y="1467000"/>
              <a:ext cx="304560" cy="12996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969240" y="1236600"/>
              <a:ext cx="104040" cy="234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" y="10657"/>
                  </a:moveTo>
                  <a:arcTo wR="10800" hR="10800" stAng="-10754537" swAng="5252631"/>
                  <a:lnTo>
                    <a:pt x="10800" y="10800"/>
                  </a:lnTo>
                  <a:close/>
                </a:path>
                <a:path fill="none" w="21600" h="21600">
                  <a:moveTo>
                    <a:pt x="1" y="10657"/>
                  </a:moveTo>
                  <a:arcTo wR="10800" hR="10800" stAng="-10754537" swAng="5252631"/>
                </a:path>
              </a:pathLst>
            </a:custGeom>
            <a:noFill/>
            <a:ln cap="rnd"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 flipH="1">
              <a:off x="6959160" y="2247840"/>
              <a:ext cx="33480" cy="252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 flipH="1">
              <a:off x="7080120" y="819000"/>
              <a:ext cx="14400" cy="54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 flipH="1">
              <a:off x="7071840" y="863640"/>
              <a:ext cx="9720" cy="200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2" name=""/>
            <p:cNvSpPr/>
            <p:nvPr/>
          </p:nvSpPr>
          <p:spPr>
            <a:xfrm flipH="1" flipV="1">
              <a:off x="6973560" y="1342800"/>
              <a:ext cx="66600" cy="5094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 flipV="1">
              <a:off x="6991200" y="1848960"/>
              <a:ext cx="51120" cy="405000"/>
            </a:xfrm>
            <a:prstGeom prst="line">
              <a:avLst/>
            </a:prstGeom>
            <a:ln w="50760">
              <a:solidFill>
                <a:srgbClr val="7b00e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 flipH="1" flipV="1">
              <a:off x="7365600" y="2306520"/>
              <a:ext cx="79560" cy="293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 flipV="1">
              <a:off x="7292880" y="939600"/>
              <a:ext cx="25560" cy="161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7203960" y="1090800"/>
              <a:ext cx="63720" cy="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21600"/>
                  </a:moveTo>
                  <a:arcTo wR="10800" hR="10800" stAng="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21600"/>
                  </a:moveTo>
                  <a:arcTo wR="10800" hR="10800" stAng="5400000" swAng="5400000"/>
                </a:path>
              </a:pathLst>
            </a:custGeom>
            <a:noFill/>
            <a:ln cap="rnd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7202520" y="1112760"/>
              <a:ext cx="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 flipH="1">
              <a:off x="6856200" y="1276200"/>
              <a:ext cx="27000" cy="22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 flipH="1" flipV="1">
              <a:off x="7175160" y="1617840"/>
              <a:ext cx="34920" cy="48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6172920" y="2197080"/>
              <a:ext cx="584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IPÚ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6204240" y="1393920"/>
              <a:ext cx="8722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UDAHUE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467400" y="1422360"/>
              <a:ext cx="40968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PRAD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68040" y="100008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RENC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411600" y="731880"/>
              <a:ext cx="8737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QUILI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358320" y="1209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O NAV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7036200" y="717480"/>
              <a:ext cx="10688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HUECHURAB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7460280" y="647640"/>
              <a:ext cx="823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VITACUR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7628400" y="1015920"/>
              <a:ext cx="9990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S CONDE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643880" y="1374840"/>
              <a:ext cx="75960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REI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7309080" y="1608120"/>
              <a:ext cx="642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ÑUÑO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7293600" y="1878120"/>
              <a:ext cx="627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MACU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7062840" y="1916280"/>
              <a:ext cx="74880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SA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JOAQUÍN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 flipH="1" flipV="1">
              <a:off x="7319880" y="1999800"/>
              <a:ext cx="31680" cy="9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7459560" y="2359080"/>
              <a:ext cx="92268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FLORID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7193160" y="132408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ROVIDENCI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7381800" y="3300480"/>
              <a:ext cx="56844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TE .ALT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7061760" y="3121200"/>
              <a:ext cx="9212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A PINTANA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787800" y="2922480"/>
              <a:ext cx="91512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L BOSQUE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819120" y="1906560"/>
              <a:ext cx="5493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P.A.C.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678720" y="2227320"/>
              <a:ext cx="49032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LO ESPEJO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438240" y="2085840"/>
              <a:ext cx="90144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CERRILLOS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6569280" y="1668600"/>
              <a:ext cx="1055160" cy="24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000" spc="-1" strike="noStrike">
                  <a:solidFill>
                    <a:srgbClr val="ff6633"/>
                  </a:solidFill>
                  <a:latin typeface="Arial"/>
                </a:rPr>
                <a:t>EST.CENTRAL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277040" y="2174760"/>
              <a:ext cx="90720" cy="1447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237440" y="1941480"/>
              <a:ext cx="39600" cy="2304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205760" y="1812960"/>
              <a:ext cx="31680" cy="12852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7182000" y="1744560"/>
              <a:ext cx="23760" cy="6984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7124760" y="1407960"/>
              <a:ext cx="55440" cy="336600"/>
            </a:xfrm>
            <a:prstGeom prst="line">
              <a:avLst/>
            </a:prstGeom>
            <a:ln w="50760">
              <a:solidFill>
                <a:srgbClr val="7b00e4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7488360" y="914400"/>
            <a:ext cx="666720" cy="1144440"/>
            <a:chOff x="7488360" y="914400"/>
            <a:chExt cx="666720" cy="1144440"/>
          </a:xfrm>
        </p:grpSpPr>
        <p:grpSp>
          <p:nvGrpSpPr>
            <p:cNvPr id="969" name=""/>
            <p:cNvGrpSpPr/>
            <p:nvPr/>
          </p:nvGrpSpPr>
          <p:grpSpPr>
            <a:xfrm>
              <a:off x="7812000" y="920880"/>
              <a:ext cx="284400" cy="965160"/>
              <a:chOff x="7812000" y="920880"/>
              <a:chExt cx="284400" cy="965160"/>
            </a:xfrm>
          </p:grpSpPr>
          <p:sp>
            <p:nvSpPr>
              <p:cNvPr id="970" name=""/>
              <p:cNvSpPr/>
              <p:nvPr/>
            </p:nvSpPr>
            <p:spPr>
              <a:xfrm>
                <a:off x="7823160" y="1297080"/>
                <a:ext cx="176400" cy="585720"/>
              </a:xfrm>
              <a:custGeom>
                <a:avLst/>
                <a:gdLst/>
                <a:ahLst/>
                <a:rect l="l" t="t" r="r" b="b"/>
                <a:pathLst>
                  <a:path w="111" h="369">
                    <a:moveTo>
                      <a:pt x="1" y="368"/>
                    </a:moveTo>
                    <a:lnTo>
                      <a:pt x="11" y="365"/>
                    </a:lnTo>
                    <a:lnTo>
                      <a:pt x="12" y="340"/>
                    </a:lnTo>
                    <a:lnTo>
                      <a:pt x="13" y="318"/>
                    </a:lnTo>
                    <a:lnTo>
                      <a:pt x="15" y="296"/>
                    </a:lnTo>
                    <a:lnTo>
                      <a:pt x="17" y="274"/>
                    </a:lnTo>
                    <a:lnTo>
                      <a:pt x="20" y="256"/>
                    </a:lnTo>
                    <a:lnTo>
                      <a:pt x="23" y="241"/>
                    </a:lnTo>
                    <a:lnTo>
                      <a:pt x="25" y="226"/>
                    </a:lnTo>
                    <a:lnTo>
                      <a:pt x="28" y="209"/>
                    </a:lnTo>
                    <a:lnTo>
                      <a:pt x="32" y="194"/>
                    </a:lnTo>
                    <a:lnTo>
                      <a:pt x="38" y="177"/>
                    </a:lnTo>
                    <a:lnTo>
                      <a:pt x="43" y="162"/>
                    </a:lnTo>
                    <a:lnTo>
                      <a:pt x="47" y="148"/>
                    </a:lnTo>
                    <a:lnTo>
                      <a:pt x="53" y="135"/>
                    </a:lnTo>
                    <a:lnTo>
                      <a:pt x="59" y="118"/>
                    </a:lnTo>
                    <a:lnTo>
                      <a:pt x="67" y="99"/>
                    </a:lnTo>
                    <a:lnTo>
                      <a:pt x="73" y="88"/>
                    </a:lnTo>
                    <a:lnTo>
                      <a:pt x="79" y="77"/>
                    </a:lnTo>
                    <a:lnTo>
                      <a:pt x="85" y="65"/>
                    </a:lnTo>
                    <a:lnTo>
                      <a:pt x="92" y="56"/>
                    </a:lnTo>
                    <a:lnTo>
                      <a:pt x="101" y="41"/>
                    </a:lnTo>
                    <a:lnTo>
                      <a:pt x="110" y="34"/>
                    </a:lnTo>
                    <a:lnTo>
                      <a:pt x="103" y="0"/>
                    </a:lnTo>
                    <a:lnTo>
                      <a:pt x="90" y="16"/>
                    </a:lnTo>
                    <a:lnTo>
                      <a:pt x="76" y="37"/>
                    </a:lnTo>
                    <a:lnTo>
                      <a:pt x="64" y="58"/>
                    </a:lnTo>
                    <a:lnTo>
                      <a:pt x="53" y="84"/>
                    </a:lnTo>
                    <a:lnTo>
                      <a:pt x="35" y="122"/>
                    </a:lnTo>
                    <a:lnTo>
                      <a:pt x="21" y="161"/>
                    </a:lnTo>
                    <a:lnTo>
                      <a:pt x="10" y="201"/>
                    </a:lnTo>
                    <a:lnTo>
                      <a:pt x="5" y="237"/>
                    </a:lnTo>
                    <a:lnTo>
                      <a:pt x="0" y="279"/>
                    </a:lnTo>
                    <a:lnTo>
                      <a:pt x="0" y="313"/>
                    </a:lnTo>
                    <a:lnTo>
                      <a:pt x="1" y="36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>
                <a:off x="7915320" y="920880"/>
                <a:ext cx="181080" cy="250560"/>
              </a:xfrm>
              <a:custGeom>
                <a:avLst/>
                <a:gdLst/>
                <a:ahLst/>
                <a:rect l="l" t="t" r="r" b="b"/>
                <a:pathLst>
                  <a:path w="114" h="158">
                    <a:moveTo>
                      <a:pt x="89" y="155"/>
                    </a:moveTo>
                    <a:lnTo>
                      <a:pt x="113" y="149"/>
                    </a:lnTo>
                    <a:lnTo>
                      <a:pt x="106" y="143"/>
                    </a:lnTo>
                    <a:lnTo>
                      <a:pt x="99" y="137"/>
                    </a:lnTo>
                    <a:lnTo>
                      <a:pt x="92" y="128"/>
                    </a:lnTo>
                    <a:lnTo>
                      <a:pt x="84" y="118"/>
                    </a:lnTo>
                    <a:lnTo>
                      <a:pt x="76" y="107"/>
                    </a:lnTo>
                    <a:lnTo>
                      <a:pt x="68" y="98"/>
                    </a:lnTo>
                    <a:lnTo>
                      <a:pt x="61" y="88"/>
                    </a:lnTo>
                    <a:lnTo>
                      <a:pt x="53" y="79"/>
                    </a:lnTo>
                    <a:lnTo>
                      <a:pt x="48" y="69"/>
                    </a:lnTo>
                    <a:lnTo>
                      <a:pt x="42" y="58"/>
                    </a:lnTo>
                    <a:lnTo>
                      <a:pt x="36" y="46"/>
                    </a:lnTo>
                    <a:lnTo>
                      <a:pt x="31" y="34"/>
                    </a:lnTo>
                    <a:lnTo>
                      <a:pt x="26" y="22"/>
                    </a:lnTo>
                    <a:lnTo>
                      <a:pt x="21" y="9"/>
                    </a:lnTo>
                    <a:lnTo>
                      <a:pt x="17" y="0"/>
                    </a:lnTo>
                    <a:lnTo>
                      <a:pt x="0" y="4"/>
                    </a:lnTo>
                    <a:lnTo>
                      <a:pt x="5" y="23"/>
                    </a:lnTo>
                    <a:lnTo>
                      <a:pt x="15" y="46"/>
                    </a:lnTo>
                    <a:lnTo>
                      <a:pt x="27" y="79"/>
                    </a:lnTo>
                    <a:lnTo>
                      <a:pt x="40" y="102"/>
                    </a:lnTo>
                    <a:lnTo>
                      <a:pt x="57" y="122"/>
                    </a:lnTo>
                    <a:lnTo>
                      <a:pt x="71" y="142"/>
                    </a:lnTo>
                    <a:lnTo>
                      <a:pt x="85" y="157"/>
                    </a:lnTo>
                    <a:lnTo>
                      <a:pt x="112" y="149"/>
                    </a:lnTo>
                    <a:lnTo>
                      <a:pt x="89" y="155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8023320" y="1155600"/>
                <a:ext cx="73080" cy="355680"/>
              </a:xfrm>
              <a:custGeom>
                <a:avLst/>
                <a:gdLst/>
                <a:ahLst/>
                <a:rect l="l" t="t" r="r" b="b"/>
                <a:pathLst>
                  <a:path w="46" h="224">
                    <a:moveTo>
                      <a:pt x="1" y="223"/>
                    </a:moveTo>
                    <a:lnTo>
                      <a:pt x="20" y="217"/>
                    </a:lnTo>
                    <a:lnTo>
                      <a:pt x="21" y="203"/>
                    </a:lnTo>
                    <a:lnTo>
                      <a:pt x="21" y="189"/>
                    </a:lnTo>
                    <a:lnTo>
                      <a:pt x="22" y="176"/>
                    </a:lnTo>
                    <a:lnTo>
                      <a:pt x="23" y="162"/>
                    </a:lnTo>
                    <a:lnTo>
                      <a:pt x="25" y="146"/>
                    </a:lnTo>
                    <a:lnTo>
                      <a:pt x="25" y="128"/>
                    </a:lnTo>
                    <a:lnTo>
                      <a:pt x="28" y="106"/>
                    </a:lnTo>
                    <a:lnTo>
                      <a:pt x="29" y="85"/>
                    </a:lnTo>
                    <a:lnTo>
                      <a:pt x="32" y="72"/>
                    </a:lnTo>
                    <a:lnTo>
                      <a:pt x="34" y="54"/>
                    </a:lnTo>
                    <a:lnTo>
                      <a:pt x="36" y="36"/>
                    </a:lnTo>
                    <a:lnTo>
                      <a:pt x="39" y="18"/>
                    </a:lnTo>
                    <a:lnTo>
                      <a:pt x="43" y="6"/>
                    </a:lnTo>
                    <a:lnTo>
                      <a:pt x="45" y="0"/>
                    </a:lnTo>
                    <a:lnTo>
                      <a:pt x="21" y="5"/>
                    </a:lnTo>
                    <a:lnTo>
                      <a:pt x="16" y="20"/>
                    </a:lnTo>
                    <a:lnTo>
                      <a:pt x="11" y="48"/>
                    </a:lnTo>
                    <a:lnTo>
                      <a:pt x="6" y="81"/>
                    </a:lnTo>
                    <a:lnTo>
                      <a:pt x="3" y="110"/>
                    </a:lnTo>
                    <a:lnTo>
                      <a:pt x="0" y="142"/>
                    </a:lnTo>
                    <a:lnTo>
                      <a:pt x="0" y="173"/>
                    </a:lnTo>
                    <a:lnTo>
                      <a:pt x="0" y="196"/>
                    </a:lnTo>
                    <a:lnTo>
                      <a:pt x="1" y="2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>
                <a:off x="7812000" y="928800"/>
                <a:ext cx="249480" cy="957240"/>
              </a:xfrm>
              <a:custGeom>
                <a:avLst/>
                <a:gdLst/>
                <a:ahLst/>
                <a:rect l="l" t="t" r="r" b="b"/>
                <a:pathLst>
                  <a:path w="157" h="603">
                    <a:moveTo>
                      <a:pt x="9" y="602"/>
                    </a:moveTo>
                    <a:lnTo>
                      <a:pt x="5" y="571"/>
                    </a:lnTo>
                    <a:lnTo>
                      <a:pt x="3" y="554"/>
                    </a:lnTo>
                    <a:lnTo>
                      <a:pt x="1" y="535"/>
                    </a:lnTo>
                    <a:lnTo>
                      <a:pt x="1" y="517"/>
                    </a:lnTo>
                    <a:lnTo>
                      <a:pt x="0" y="500"/>
                    </a:lnTo>
                    <a:lnTo>
                      <a:pt x="0" y="482"/>
                    </a:lnTo>
                    <a:lnTo>
                      <a:pt x="0" y="466"/>
                    </a:lnTo>
                    <a:lnTo>
                      <a:pt x="1" y="447"/>
                    </a:lnTo>
                    <a:lnTo>
                      <a:pt x="2" y="427"/>
                    </a:lnTo>
                    <a:lnTo>
                      <a:pt x="5" y="405"/>
                    </a:lnTo>
                    <a:lnTo>
                      <a:pt x="7" y="387"/>
                    </a:lnTo>
                    <a:lnTo>
                      <a:pt x="9" y="365"/>
                    </a:lnTo>
                    <a:lnTo>
                      <a:pt x="13" y="345"/>
                    </a:lnTo>
                    <a:lnTo>
                      <a:pt x="17" y="325"/>
                    </a:lnTo>
                    <a:lnTo>
                      <a:pt x="21" y="308"/>
                    </a:lnTo>
                    <a:lnTo>
                      <a:pt x="24" y="289"/>
                    </a:lnTo>
                    <a:lnTo>
                      <a:pt x="27" y="273"/>
                    </a:lnTo>
                    <a:lnTo>
                      <a:pt x="33" y="255"/>
                    </a:lnTo>
                    <a:lnTo>
                      <a:pt x="37" y="237"/>
                    </a:lnTo>
                    <a:lnTo>
                      <a:pt x="43" y="217"/>
                    </a:lnTo>
                    <a:lnTo>
                      <a:pt x="48" y="202"/>
                    </a:lnTo>
                    <a:lnTo>
                      <a:pt x="54" y="183"/>
                    </a:lnTo>
                    <a:lnTo>
                      <a:pt x="60" y="168"/>
                    </a:lnTo>
                    <a:lnTo>
                      <a:pt x="66" y="151"/>
                    </a:lnTo>
                    <a:lnTo>
                      <a:pt x="73" y="138"/>
                    </a:lnTo>
                    <a:lnTo>
                      <a:pt x="80" y="128"/>
                    </a:lnTo>
                    <a:lnTo>
                      <a:pt x="86" y="117"/>
                    </a:lnTo>
                    <a:lnTo>
                      <a:pt x="65" y="0"/>
                    </a:lnTo>
                    <a:lnTo>
                      <a:pt x="72" y="14"/>
                    </a:lnTo>
                    <a:lnTo>
                      <a:pt x="79" y="33"/>
                    </a:lnTo>
                    <a:lnTo>
                      <a:pt x="85" y="47"/>
                    </a:lnTo>
                    <a:lnTo>
                      <a:pt x="90" y="59"/>
                    </a:lnTo>
                    <a:lnTo>
                      <a:pt x="95" y="70"/>
                    </a:lnTo>
                    <a:lnTo>
                      <a:pt x="100" y="79"/>
                    </a:lnTo>
                    <a:lnTo>
                      <a:pt x="106" y="87"/>
                    </a:lnTo>
                    <a:lnTo>
                      <a:pt x="111" y="97"/>
                    </a:lnTo>
                    <a:lnTo>
                      <a:pt x="117" y="105"/>
                    </a:lnTo>
                    <a:lnTo>
                      <a:pt x="125" y="116"/>
                    </a:lnTo>
                    <a:lnTo>
                      <a:pt x="133" y="124"/>
                    </a:lnTo>
                    <a:lnTo>
                      <a:pt x="140" y="134"/>
                    </a:lnTo>
                    <a:lnTo>
                      <a:pt x="148" y="143"/>
                    </a:lnTo>
                    <a:lnTo>
                      <a:pt x="156" y="150"/>
                    </a:lnTo>
                    <a:lnTo>
                      <a:pt x="153" y="161"/>
                    </a:lnTo>
                    <a:lnTo>
                      <a:pt x="150" y="170"/>
                    </a:lnTo>
                    <a:lnTo>
                      <a:pt x="149" y="182"/>
                    </a:lnTo>
                    <a:lnTo>
                      <a:pt x="147" y="195"/>
                    </a:lnTo>
                    <a:lnTo>
                      <a:pt x="145" y="206"/>
                    </a:lnTo>
                    <a:lnTo>
                      <a:pt x="143" y="219"/>
                    </a:lnTo>
                    <a:lnTo>
                      <a:pt x="142" y="230"/>
                    </a:lnTo>
                    <a:lnTo>
                      <a:pt x="141" y="244"/>
                    </a:lnTo>
                    <a:lnTo>
                      <a:pt x="140" y="257"/>
                    </a:lnTo>
                    <a:lnTo>
                      <a:pt x="139" y="270"/>
                    </a:lnTo>
                    <a:lnTo>
                      <a:pt x="138" y="283"/>
                    </a:lnTo>
                    <a:lnTo>
                      <a:pt x="137" y="296"/>
                    </a:lnTo>
                    <a:lnTo>
                      <a:pt x="137" y="309"/>
                    </a:lnTo>
                    <a:lnTo>
                      <a:pt x="137" y="320"/>
                    </a:lnTo>
                    <a:lnTo>
                      <a:pt x="136" y="334"/>
                    </a:lnTo>
                    <a:lnTo>
                      <a:pt x="135" y="348"/>
                    </a:lnTo>
                    <a:lnTo>
                      <a:pt x="135" y="365"/>
                    </a:lnTo>
                    <a:lnTo>
                      <a:pt x="110" y="246"/>
                    </a:lnTo>
                    <a:lnTo>
                      <a:pt x="100" y="256"/>
                    </a:lnTo>
                    <a:lnTo>
                      <a:pt x="94" y="268"/>
                    </a:lnTo>
                    <a:lnTo>
                      <a:pt x="80" y="290"/>
                    </a:lnTo>
                    <a:lnTo>
                      <a:pt x="74" y="303"/>
                    </a:lnTo>
                    <a:lnTo>
                      <a:pt x="68" y="315"/>
                    </a:lnTo>
                    <a:lnTo>
                      <a:pt x="59" y="338"/>
                    </a:lnTo>
                    <a:lnTo>
                      <a:pt x="53" y="350"/>
                    </a:lnTo>
                    <a:lnTo>
                      <a:pt x="47" y="365"/>
                    </a:lnTo>
                    <a:lnTo>
                      <a:pt x="42" y="380"/>
                    </a:lnTo>
                    <a:lnTo>
                      <a:pt x="37" y="392"/>
                    </a:lnTo>
                    <a:lnTo>
                      <a:pt x="33" y="403"/>
                    </a:lnTo>
                    <a:lnTo>
                      <a:pt x="29" y="417"/>
                    </a:lnTo>
                    <a:lnTo>
                      <a:pt x="25" y="432"/>
                    </a:lnTo>
                    <a:lnTo>
                      <a:pt x="22" y="447"/>
                    </a:lnTo>
                    <a:lnTo>
                      <a:pt x="19" y="461"/>
                    </a:lnTo>
                    <a:lnTo>
                      <a:pt x="16" y="480"/>
                    </a:lnTo>
                    <a:lnTo>
                      <a:pt x="14" y="497"/>
                    </a:lnTo>
                    <a:lnTo>
                      <a:pt x="13" y="514"/>
                    </a:lnTo>
                    <a:lnTo>
                      <a:pt x="12" y="532"/>
                    </a:lnTo>
                    <a:lnTo>
                      <a:pt x="10" y="550"/>
                    </a:lnTo>
                    <a:lnTo>
                      <a:pt x="10" y="569"/>
                    </a:lnTo>
                    <a:lnTo>
                      <a:pt x="9" y="602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"/>
            <p:cNvGrpSpPr/>
            <p:nvPr/>
          </p:nvGrpSpPr>
          <p:grpSpPr>
            <a:xfrm>
              <a:off x="7601040" y="914400"/>
              <a:ext cx="245880" cy="981000"/>
              <a:chOff x="7601040" y="914400"/>
              <a:chExt cx="245880" cy="981000"/>
            </a:xfrm>
          </p:grpSpPr>
          <p:sp>
            <p:nvSpPr>
              <p:cNvPr id="975" name=""/>
              <p:cNvSpPr/>
              <p:nvPr/>
            </p:nvSpPr>
            <p:spPr>
              <a:xfrm>
                <a:off x="7631280" y="928800"/>
                <a:ext cx="215640" cy="966600"/>
              </a:xfrm>
              <a:custGeom>
                <a:avLst/>
                <a:gdLst/>
                <a:ahLst/>
                <a:rect l="l" t="t" r="r" b="b"/>
                <a:pathLst>
                  <a:path w="136" h="609">
                    <a:moveTo>
                      <a:pt x="115" y="608"/>
                    </a:moveTo>
                    <a:lnTo>
                      <a:pt x="121" y="577"/>
                    </a:lnTo>
                    <a:lnTo>
                      <a:pt x="124" y="561"/>
                    </a:lnTo>
                    <a:lnTo>
                      <a:pt x="127" y="543"/>
                    </a:lnTo>
                    <a:lnTo>
                      <a:pt x="129" y="526"/>
                    </a:lnTo>
                    <a:lnTo>
                      <a:pt x="131" y="510"/>
                    </a:lnTo>
                    <a:lnTo>
                      <a:pt x="132" y="492"/>
                    </a:lnTo>
                    <a:lnTo>
                      <a:pt x="133" y="474"/>
                    </a:lnTo>
                    <a:lnTo>
                      <a:pt x="135" y="456"/>
                    </a:lnTo>
                    <a:lnTo>
                      <a:pt x="135" y="436"/>
                    </a:lnTo>
                    <a:lnTo>
                      <a:pt x="133" y="414"/>
                    </a:lnTo>
                    <a:lnTo>
                      <a:pt x="132" y="396"/>
                    </a:lnTo>
                    <a:lnTo>
                      <a:pt x="131" y="374"/>
                    </a:lnTo>
                    <a:lnTo>
                      <a:pt x="129" y="354"/>
                    </a:lnTo>
                    <a:lnTo>
                      <a:pt x="126" y="333"/>
                    </a:lnTo>
                    <a:lnTo>
                      <a:pt x="124" y="315"/>
                    </a:lnTo>
                    <a:lnTo>
                      <a:pt x="121" y="295"/>
                    </a:lnTo>
                    <a:lnTo>
                      <a:pt x="119" y="278"/>
                    </a:lnTo>
                    <a:lnTo>
                      <a:pt x="116" y="259"/>
                    </a:lnTo>
                    <a:lnTo>
                      <a:pt x="111" y="240"/>
                    </a:lnTo>
                    <a:lnTo>
                      <a:pt x="108" y="219"/>
                    </a:lnTo>
                    <a:lnTo>
                      <a:pt x="103" y="203"/>
                    </a:lnTo>
                    <a:lnTo>
                      <a:pt x="98" y="183"/>
                    </a:lnTo>
                    <a:lnTo>
                      <a:pt x="93" y="166"/>
                    </a:lnTo>
                    <a:lnTo>
                      <a:pt x="88" y="148"/>
                    </a:lnTo>
                    <a:lnTo>
                      <a:pt x="82" y="134"/>
                    </a:lnTo>
                    <a:lnTo>
                      <a:pt x="76" y="123"/>
                    </a:lnTo>
                    <a:lnTo>
                      <a:pt x="71" y="111"/>
                    </a:lnTo>
                    <a:lnTo>
                      <a:pt x="99" y="0"/>
                    </a:lnTo>
                    <a:lnTo>
                      <a:pt x="91" y="14"/>
                    </a:lnTo>
                    <a:lnTo>
                      <a:pt x="84" y="26"/>
                    </a:lnTo>
                    <a:lnTo>
                      <a:pt x="77" y="42"/>
                    </a:lnTo>
                    <a:lnTo>
                      <a:pt x="70" y="52"/>
                    </a:lnTo>
                    <a:lnTo>
                      <a:pt x="64" y="60"/>
                    </a:lnTo>
                    <a:lnTo>
                      <a:pt x="58" y="69"/>
                    </a:lnTo>
                    <a:lnTo>
                      <a:pt x="52" y="76"/>
                    </a:lnTo>
                    <a:lnTo>
                      <a:pt x="46" y="84"/>
                    </a:lnTo>
                    <a:lnTo>
                      <a:pt x="39" y="91"/>
                    </a:lnTo>
                    <a:lnTo>
                      <a:pt x="31" y="99"/>
                    </a:lnTo>
                    <a:lnTo>
                      <a:pt x="23" y="109"/>
                    </a:lnTo>
                    <a:lnTo>
                      <a:pt x="15" y="116"/>
                    </a:lnTo>
                    <a:lnTo>
                      <a:pt x="7" y="123"/>
                    </a:lnTo>
                    <a:lnTo>
                      <a:pt x="0" y="129"/>
                    </a:lnTo>
                    <a:lnTo>
                      <a:pt x="0" y="139"/>
                    </a:lnTo>
                    <a:lnTo>
                      <a:pt x="1" y="150"/>
                    </a:lnTo>
                    <a:lnTo>
                      <a:pt x="2" y="161"/>
                    </a:lnTo>
                    <a:lnTo>
                      <a:pt x="4" y="173"/>
                    </a:lnTo>
                    <a:lnTo>
                      <a:pt x="5" y="186"/>
                    </a:lnTo>
                    <a:lnTo>
                      <a:pt x="6" y="199"/>
                    </a:lnTo>
                    <a:lnTo>
                      <a:pt x="6" y="210"/>
                    </a:lnTo>
                    <a:lnTo>
                      <a:pt x="7" y="224"/>
                    </a:lnTo>
                    <a:lnTo>
                      <a:pt x="6" y="237"/>
                    </a:lnTo>
                    <a:lnTo>
                      <a:pt x="7" y="251"/>
                    </a:lnTo>
                    <a:lnTo>
                      <a:pt x="7" y="264"/>
                    </a:lnTo>
                    <a:lnTo>
                      <a:pt x="7" y="275"/>
                    </a:lnTo>
                    <a:lnTo>
                      <a:pt x="6" y="290"/>
                    </a:lnTo>
                    <a:lnTo>
                      <a:pt x="6" y="302"/>
                    </a:lnTo>
                    <a:lnTo>
                      <a:pt x="5" y="315"/>
                    </a:lnTo>
                    <a:lnTo>
                      <a:pt x="5" y="327"/>
                    </a:lnTo>
                    <a:lnTo>
                      <a:pt x="3" y="346"/>
                    </a:lnTo>
                    <a:lnTo>
                      <a:pt x="38" y="232"/>
                    </a:lnTo>
                    <a:lnTo>
                      <a:pt x="46" y="245"/>
                    </a:lnTo>
                    <a:lnTo>
                      <a:pt x="53" y="258"/>
                    </a:lnTo>
                    <a:lnTo>
                      <a:pt x="64" y="284"/>
                    </a:lnTo>
                    <a:lnTo>
                      <a:pt x="69" y="297"/>
                    </a:lnTo>
                    <a:lnTo>
                      <a:pt x="75" y="310"/>
                    </a:lnTo>
                    <a:lnTo>
                      <a:pt x="83" y="335"/>
                    </a:lnTo>
                    <a:lnTo>
                      <a:pt x="88" y="349"/>
                    </a:lnTo>
                    <a:lnTo>
                      <a:pt x="92" y="365"/>
                    </a:lnTo>
                    <a:lnTo>
                      <a:pt x="95" y="380"/>
                    </a:lnTo>
                    <a:lnTo>
                      <a:pt x="98" y="392"/>
                    </a:lnTo>
                    <a:lnTo>
                      <a:pt x="101" y="404"/>
                    </a:lnTo>
                    <a:lnTo>
                      <a:pt x="103" y="419"/>
                    </a:lnTo>
                    <a:lnTo>
                      <a:pt x="107" y="436"/>
                    </a:lnTo>
                    <a:lnTo>
                      <a:pt x="109" y="449"/>
                    </a:lnTo>
                    <a:lnTo>
                      <a:pt x="110" y="461"/>
                    </a:lnTo>
                    <a:lnTo>
                      <a:pt x="111" y="481"/>
                    </a:lnTo>
                    <a:lnTo>
                      <a:pt x="111" y="496"/>
                    </a:lnTo>
                    <a:lnTo>
                      <a:pt x="110" y="516"/>
                    </a:lnTo>
                    <a:lnTo>
                      <a:pt x="110" y="533"/>
                    </a:lnTo>
                    <a:lnTo>
                      <a:pt x="109" y="552"/>
                    </a:lnTo>
                    <a:lnTo>
                      <a:pt x="102" y="601"/>
                    </a:lnTo>
                    <a:lnTo>
                      <a:pt x="115" y="60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7608960" y="1282680"/>
                <a:ext cx="79200" cy="196920"/>
              </a:xfrm>
              <a:custGeom>
                <a:avLst/>
                <a:gdLst/>
                <a:ahLst/>
                <a:rect l="l" t="t" r="r" b="b"/>
                <a:pathLst>
                  <a:path w="50" h="124">
                    <a:moveTo>
                      <a:pt x="17" y="123"/>
                    </a:moveTo>
                    <a:lnTo>
                      <a:pt x="0" y="114"/>
                    </a:lnTo>
                    <a:lnTo>
                      <a:pt x="33" y="0"/>
                    </a:lnTo>
                    <a:lnTo>
                      <a:pt x="42" y="6"/>
                    </a:lnTo>
                    <a:lnTo>
                      <a:pt x="49" y="18"/>
                    </a:lnTo>
                    <a:lnTo>
                      <a:pt x="17" y="1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7711920" y="914400"/>
                <a:ext cx="78120" cy="190440"/>
              </a:xfrm>
              <a:custGeom>
                <a:avLst/>
                <a:gdLst/>
                <a:ahLst/>
                <a:rect l="l" t="t" r="r" b="b"/>
                <a:pathLst>
                  <a:path w="49" h="120">
                    <a:moveTo>
                      <a:pt x="48" y="7"/>
                    </a:moveTo>
                    <a:lnTo>
                      <a:pt x="31" y="0"/>
                    </a:lnTo>
                    <a:lnTo>
                      <a:pt x="0" y="108"/>
                    </a:lnTo>
                    <a:lnTo>
                      <a:pt x="19" y="119"/>
                    </a:lnTo>
                    <a:lnTo>
                      <a:pt x="48" y="7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7601040" y="914400"/>
                <a:ext cx="223920" cy="971640"/>
              </a:xfrm>
              <a:custGeom>
                <a:avLst/>
                <a:gdLst/>
                <a:ahLst/>
                <a:rect l="l" t="t" r="r" b="b"/>
                <a:pathLst>
                  <a:path w="141" h="612">
                    <a:moveTo>
                      <a:pt x="120" y="611"/>
                    </a:moveTo>
                    <a:lnTo>
                      <a:pt x="126" y="580"/>
                    </a:lnTo>
                    <a:lnTo>
                      <a:pt x="129" y="566"/>
                    </a:lnTo>
                    <a:lnTo>
                      <a:pt x="133" y="546"/>
                    </a:lnTo>
                    <a:lnTo>
                      <a:pt x="134" y="529"/>
                    </a:lnTo>
                    <a:lnTo>
                      <a:pt x="137" y="512"/>
                    </a:lnTo>
                    <a:lnTo>
                      <a:pt x="138" y="494"/>
                    </a:lnTo>
                    <a:lnTo>
                      <a:pt x="139" y="478"/>
                    </a:lnTo>
                    <a:lnTo>
                      <a:pt x="140" y="460"/>
                    </a:lnTo>
                    <a:lnTo>
                      <a:pt x="140" y="438"/>
                    </a:lnTo>
                    <a:lnTo>
                      <a:pt x="138" y="417"/>
                    </a:lnTo>
                    <a:lnTo>
                      <a:pt x="138" y="398"/>
                    </a:lnTo>
                    <a:lnTo>
                      <a:pt x="136" y="376"/>
                    </a:lnTo>
                    <a:lnTo>
                      <a:pt x="133" y="356"/>
                    </a:lnTo>
                    <a:lnTo>
                      <a:pt x="131" y="335"/>
                    </a:lnTo>
                    <a:lnTo>
                      <a:pt x="129" y="317"/>
                    </a:lnTo>
                    <a:lnTo>
                      <a:pt x="126" y="296"/>
                    </a:lnTo>
                    <a:lnTo>
                      <a:pt x="123" y="281"/>
                    </a:lnTo>
                    <a:lnTo>
                      <a:pt x="120" y="261"/>
                    </a:lnTo>
                    <a:lnTo>
                      <a:pt x="116" y="242"/>
                    </a:lnTo>
                    <a:lnTo>
                      <a:pt x="110" y="222"/>
                    </a:lnTo>
                    <a:lnTo>
                      <a:pt x="107" y="204"/>
                    </a:lnTo>
                    <a:lnTo>
                      <a:pt x="101" y="185"/>
                    </a:lnTo>
                    <a:lnTo>
                      <a:pt x="96" y="166"/>
                    </a:lnTo>
                    <a:lnTo>
                      <a:pt x="91" y="148"/>
                    </a:lnTo>
                    <a:lnTo>
                      <a:pt x="84" y="135"/>
                    </a:lnTo>
                    <a:lnTo>
                      <a:pt x="79" y="123"/>
                    </a:lnTo>
                    <a:lnTo>
                      <a:pt x="73" y="112"/>
                    </a:lnTo>
                    <a:lnTo>
                      <a:pt x="101" y="0"/>
                    </a:lnTo>
                    <a:lnTo>
                      <a:pt x="93" y="14"/>
                    </a:lnTo>
                    <a:lnTo>
                      <a:pt x="87" y="27"/>
                    </a:lnTo>
                    <a:lnTo>
                      <a:pt x="79" y="42"/>
                    </a:lnTo>
                    <a:lnTo>
                      <a:pt x="72" y="51"/>
                    </a:lnTo>
                    <a:lnTo>
                      <a:pt x="66" y="60"/>
                    </a:lnTo>
                    <a:lnTo>
                      <a:pt x="60" y="69"/>
                    </a:lnTo>
                    <a:lnTo>
                      <a:pt x="54" y="77"/>
                    </a:lnTo>
                    <a:lnTo>
                      <a:pt x="48" y="84"/>
                    </a:lnTo>
                    <a:lnTo>
                      <a:pt x="41" y="92"/>
                    </a:lnTo>
                    <a:lnTo>
                      <a:pt x="32" y="101"/>
                    </a:lnTo>
                    <a:lnTo>
                      <a:pt x="24" y="108"/>
                    </a:lnTo>
                    <a:lnTo>
                      <a:pt x="16" y="116"/>
                    </a:lnTo>
                    <a:lnTo>
                      <a:pt x="8" y="123"/>
                    </a:lnTo>
                    <a:lnTo>
                      <a:pt x="0" y="128"/>
                    </a:lnTo>
                    <a:lnTo>
                      <a:pt x="0" y="138"/>
                    </a:lnTo>
                    <a:lnTo>
                      <a:pt x="2" y="148"/>
                    </a:lnTo>
                    <a:lnTo>
                      <a:pt x="3" y="160"/>
                    </a:lnTo>
                    <a:lnTo>
                      <a:pt x="5" y="173"/>
                    </a:lnTo>
                    <a:lnTo>
                      <a:pt x="5" y="188"/>
                    </a:lnTo>
                    <a:lnTo>
                      <a:pt x="7" y="198"/>
                    </a:lnTo>
                    <a:lnTo>
                      <a:pt x="7" y="210"/>
                    </a:lnTo>
                    <a:lnTo>
                      <a:pt x="8" y="224"/>
                    </a:lnTo>
                    <a:lnTo>
                      <a:pt x="8" y="237"/>
                    </a:lnTo>
                    <a:lnTo>
                      <a:pt x="8" y="251"/>
                    </a:lnTo>
                    <a:lnTo>
                      <a:pt x="8" y="264"/>
                    </a:lnTo>
                    <a:lnTo>
                      <a:pt x="8" y="276"/>
                    </a:lnTo>
                    <a:lnTo>
                      <a:pt x="8" y="290"/>
                    </a:lnTo>
                    <a:lnTo>
                      <a:pt x="8" y="301"/>
                    </a:lnTo>
                    <a:lnTo>
                      <a:pt x="7" y="314"/>
                    </a:lnTo>
                    <a:lnTo>
                      <a:pt x="6" y="329"/>
                    </a:lnTo>
                    <a:lnTo>
                      <a:pt x="5" y="346"/>
                    </a:lnTo>
                    <a:lnTo>
                      <a:pt x="39" y="232"/>
                    </a:lnTo>
                    <a:lnTo>
                      <a:pt x="49" y="245"/>
                    </a:lnTo>
                    <a:lnTo>
                      <a:pt x="54" y="259"/>
                    </a:lnTo>
                    <a:lnTo>
                      <a:pt x="67" y="284"/>
                    </a:lnTo>
                    <a:lnTo>
                      <a:pt x="73" y="298"/>
                    </a:lnTo>
                    <a:lnTo>
                      <a:pt x="77" y="311"/>
                    </a:lnTo>
                    <a:lnTo>
                      <a:pt x="86" y="336"/>
                    </a:lnTo>
                    <a:lnTo>
                      <a:pt x="91" y="350"/>
                    </a:lnTo>
                    <a:lnTo>
                      <a:pt x="98" y="366"/>
                    </a:lnTo>
                    <a:lnTo>
                      <a:pt x="101" y="382"/>
                    </a:lnTo>
                    <a:lnTo>
                      <a:pt x="105" y="395"/>
                    </a:lnTo>
                    <a:lnTo>
                      <a:pt x="109" y="408"/>
                    </a:lnTo>
                    <a:lnTo>
                      <a:pt x="112" y="423"/>
                    </a:lnTo>
                    <a:lnTo>
                      <a:pt x="116" y="438"/>
                    </a:lnTo>
                    <a:lnTo>
                      <a:pt x="117" y="454"/>
                    </a:lnTo>
                    <a:lnTo>
                      <a:pt x="120" y="469"/>
                    </a:lnTo>
                    <a:lnTo>
                      <a:pt x="122" y="488"/>
                    </a:lnTo>
                    <a:lnTo>
                      <a:pt x="123" y="504"/>
                    </a:lnTo>
                    <a:lnTo>
                      <a:pt x="123" y="522"/>
                    </a:lnTo>
                    <a:lnTo>
                      <a:pt x="123" y="539"/>
                    </a:lnTo>
                    <a:lnTo>
                      <a:pt x="123" y="559"/>
                    </a:lnTo>
                    <a:lnTo>
                      <a:pt x="122" y="578"/>
                    </a:lnTo>
                    <a:lnTo>
                      <a:pt x="120" y="61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79" name=""/>
            <p:cNvGrpSpPr/>
            <p:nvPr/>
          </p:nvGrpSpPr>
          <p:grpSpPr>
            <a:xfrm>
              <a:off x="7812000" y="1139760"/>
              <a:ext cx="343080" cy="911160"/>
              <a:chOff x="7812000" y="1139760"/>
              <a:chExt cx="343080" cy="911160"/>
            </a:xfrm>
          </p:grpSpPr>
          <p:sp>
            <p:nvSpPr>
              <p:cNvPr id="980" name=""/>
              <p:cNvSpPr/>
              <p:nvPr/>
            </p:nvSpPr>
            <p:spPr>
              <a:xfrm>
                <a:off x="7812000" y="1533600"/>
                <a:ext cx="227160" cy="517320"/>
              </a:xfrm>
              <a:custGeom>
                <a:avLst/>
                <a:gdLst/>
                <a:ahLst/>
                <a:rect l="l" t="t" r="r" b="b"/>
                <a:pathLst>
                  <a:path w="143" h="326">
                    <a:moveTo>
                      <a:pt x="0" y="323"/>
                    </a:moveTo>
                    <a:lnTo>
                      <a:pt x="9" y="325"/>
                    </a:lnTo>
                    <a:lnTo>
                      <a:pt x="12" y="300"/>
                    </a:lnTo>
                    <a:lnTo>
                      <a:pt x="16" y="277"/>
                    </a:lnTo>
                    <a:lnTo>
                      <a:pt x="20" y="259"/>
                    </a:lnTo>
                    <a:lnTo>
                      <a:pt x="25" y="239"/>
                    </a:lnTo>
                    <a:lnTo>
                      <a:pt x="29" y="221"/>
                    </a:lnTo>
                    <a:lnTo>
                      <a:pt x="34" y="206"/>
                    </a:lnTo>
                    <a:lnTo>
                      <a:pt x="37" y="193"/>
                    </a:lnTo>
                    <a:lnTo>
                      <a:pt x="43" y="178"/>
                    </a:lnTo>
                    <a:lnTo>
                      <a:pt x="48" y="165"/>
                    </a:lnTo>
                    <a:lnTo>
                      <a:pt x="56" y="148"/>
                    </a:lnTo>
                    <a:lnTo>
                      <a:pt x="61" y="136"/>
                    </a:lnTo>
                    <a:lnTo>
                      <a:pt x="68" y="124"/>
                    </a:lnTo>
                    <a:lnTo>
                      <a:pt x="75" y="113"/>
                    </a:lnTo>
                    <a:lnTo>
                      <a:pt x="83" y="99"/>
                    </a:lnTo>
                    <a:lnTo>
                      <a:pt x="93" y="84"/>
                    </a:lnTo>
                    <a:lnTo>
                      <a:pt x="101" y="75"/>
                    </a:lnTo>
                    <a:lnTo>
                      <a:pt x="107" y="66"/>
                    </a:lnTo>
                    <a:lnTo>
                      <a:pt x="115" y="57"/>
                    </a:lnTo>
                    <a:lnTo>
                      <a:pt x="122" y="50"/>
                    </a:lnTo>
                    <a:lnTo>
                      <a:pt x="133" y="39"/>
                    </a:lnTo>
                    <a:lnTo>
                      <a:pt x="142" y="33"/>
                    </a:lnTo>
                    <a:lnTo>
                      <a:pt x="139" y="0"/>
                    </a:lnTo>
                    <a:lnTo>
                      <a:pt x="125" y="9"/>
                    </a:lnTo>
                    <a:lnTo>
                      <a:pt x="108" y="25"/>
                    </a:lnTo>
                    <a:lnTo>
                      <a:pt x="94" y="41"/>
                    </a:lnTo>
                    <a:lnTo>
                      <a:pt x="80" y="65"/>
                    </a:lnTo>
                    <a:lnTo>
                      <a:pt x="59" y="94"/>
                    </a:lnTo>
                    <a:lnTo>
                      <a:pt x="42" y="128"/>
                    </a:lnTo>
                    <a:lnTo>
                      <a:pt x="26" y="163"/>
                    </a:lnTo>
                    <a:lnTo>
                      <a:pt x="17" y="195"/>
                    </a:lnTo>
                    <a:lnTo>
                      <a:pt x="8" y="236"/>
                    </a:lnTo>
                    <a:lnTo>
                      <a:pt x="3" y="269"/>
                    </a:lnTo>
                    <a:lnTo>
                      <a:pt x="0" y="323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8004240" y="1139760"/>
                <a:ext cx="150840" cy="287280"/>
              </a:xfrm>
              <a:custGeom>
                <a:avLst/>
                <a:gdLst/>
                <a:ahLst/>
                <a:rect l="l" t="t" r="r" b="b"/>
                <a:pathLst>
                  <a:path w="95" h="181">
                    <a:moveTo>
                      <a:pt x="71" y="178"/>
                    </a:moveTo>
                    <a:lnTo>
                      <a:pt x="94" y="180"/>
                    </a:lnTo>
                    <a:lnTo>
                      <a:pt x="88" y="172"/>
                    </a:lnTo>
                    <a:lnTo>
                      <a:pt x="83" y="165"/>
                    </a:lnTo>
                    <a:lnTo>
                      <a:pt x="77" y="154"/>
                    </a:lnTo>
                    <a:lnTo>
                      <a:pt x="69" y="140"/>
                    </a:lnTo>
                    <a:lnTo>
                      <a:pt x="62" y="128"/>
                    </a:lnTo>
                    <a:lnTo>
                      <a:pt x="55" y="114"/>
                    </a:lnTo>
                    <a:lnTo>
                      <a:pt x="50" y="102"/>
                    </a:lnTo>
                    <a:lnTo>
                      <a:pt x="45" y="91"/>
                    </a:lnTo>
                    <a:lnTo>
                      <a:pt x="39" y="80"/>
                    </a:lnTo>
                    <a:lnTo>
                      <a:pt x="35" y="67"/>
                    </a:lnTo>
                    <a:lnTo>
                      <a:pt x="30" y="53"/>
                    </a:lnTo>
                    <a:lnTo>
                      <a:pt x="26" y="40"/>
                    </a:lnTo>
                    <a:lnTo>
                      <a:pt x="23" y="26"/>
                    </a:lnTo>
                    <a:lnTo>
                      <a:pt x="19" y="12"/>
                    </a:lnTo>
                    <a:lnTo>
                      <a:pt x="17" y="0"/>
                    </a:lnTo>
                    <a:lnTo>
                      <a:pt x="0" y="0"/>
                    </a:lnTo>
                    <a:lnTo>
                      <a:pt x="2" y="20"/>
                    </a:lnTo>
                    <a:lnTo>
                      <a:pt x="9" y="48"/>
                    </a:lnTo>
                    <a:lnTo>
                      <a:pt x="19" y="84"/>
                    </a:lnTo>
                    <a:lnTo>
                      <a:pt x="28" y="111"/>
                    </a:lnTo>
                    <a:lnTo>
                      <a:pt x="43" y="135"/>
                    </a:lnTo>
                    <a:lnTo>
                      <a:pt x="54" y="159"/>
                    </a:lnTo>
                    <a:lnTo>
                      <a:pt x="66" y="178"/>
                    </a:lnTo>
                    <a:lnTo>
                      <a:pt x="94" y="180"/>
                    </a:lnTo>
                    <a:lnTo>
                      <a:pt x="93" y="180"/>
                    </a:lnTo>
                    <a:lnTo>
                      <a:pt x="71" y="178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8050320" y="1427040"/>
                <a:ext cx="104760" cy="328680"/>
              </a:xfrm>
              <a:custGeom>
                <a:avLst/>
                <a:gdLst/>
                <a:ahLst/>
                <a:rect l="l" t="t" r="r" b="b"/>
                <a:pathLst>
                  <a:path w="66" h="207">
                    <a:moveTo>
                      <a:pt x="0" y="204"/>
                    </a:moveTo>
                    <a:lnTo>
                      <a:pt x="18" y="206"/>
                    </a:lnTo>
                    <a:lnTo>
                      <a:pt x="20" y="191"/>
                    </a:lnTo>
                    <a:lnTo>
                      <a:pt x="21" y="178"/>
                    </a:lnTo>
                    <a:lnTo>
                      <a:pt x="24" y="165"/>
                    </a:lnTo>
                    <a:lnTo>
                      <a:pt x="26" y="152"/>
                    </a:lnTo>
                    <a:lnTo>
                      <a:pt x="29" y="137"/>
                    </a:lnTo>
                    <a:lnTo>
                      <a:pt x="32" y="120"/>
                    </a:lnTo>
                    <a:lnTo>
                      <a:pt x="36" y="99"/>
                    </a:lnTo>
                    <a:lnTo>
                      <a:pt x="41" y="79"/>
                    </a:lnTo>
                    <a:lnTo>
                      <a:pt x="43" y="65"/>
                    </a:lnTo>
                    <a:lnTo>
                      <a:pt x="48" y="51"/>
                    </a:lnTo>
                    <a:lnTo>
                      <a:pt x="53" y="34"/>
                    </a:lnTo>
                    <a:lnTo>
                      <a:pt x="58" y="18"/>
                    </a:lnTo>
                    <a:lnTo>
                      <a:pt x="62" y="6"/>
                    </a:lnTo>
                    <a:lnTo>
                      <a:pt x="65" y="0"/>
                    </a:lnTo>
                    <a:lnTo>
                      <a:pt x="41" y="0"/>
                    </a:lnTo>
                    <a:lnTo>
                      <a:pt x="35" y="12"/>
                    </a:lnTo>
                    <a:lnTo>
                      <a:pt x="26" y="37"/>
                    </a:lnTo>
                    <a:lnTo>
                      <a:pt x="17" y="68"/>
                    </a:lnTo>
                    <a:lnTo>
                      <a:pt x="12" y="95"/>
                    </a:lnTo>
                    <a:lnTo>
                      <a:pt x="7" y="125"/>
                    </a:lnTo>
                    <a:lnTo>
                      <a:pt x="2" y="156"/>
                    </a:lnTo>
                    <a:lnTo>
                      <a:pt x="0" y="178"/>
                    </a:lnTo>
                    <a:lnTo>
                      <a:pt x="0" y="20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>
                <a:off x="7812000" y="1143000"/>
                <a:ext cx="306360" cy="907920"/>
              </a:xfrm>
              <a:custGeom>
                <a:avLst/>
                <a:gdLst/>
                <a:ahLst/>
                <a:rect l="l" t="t" r="r" b="b"/>
                <a:pathLst>
                  <a:path w="193" h="572">
                    <a:moveTo>
                      <a:pt x="1" y="571"/>
                    </a:moveTo>
                    <a:lnTo>
                      <a:pt x="0" y="538"/>
                    </a:lnTo>
                    <a:lnTo>
                      <a:pt x="0" y="523"/>
                    </a:lnTo>
                    <a:lnTo>
                      <a:pt x="0" y="504"/>
                    </a:lnTo>
                    <a:lnTo>
                      <a:pt x="1" y="485"/>
                    </a:lnTo>
                    <a:lnTo>
                      <a:pt x="2" y="469"/>
                    </a:lnTo>
                    <a:lnTo>
                      <a:pt x="4" y="451"/>
                    </a:lnTo>
                    <a:lnTo>
                      <a:pt x="7" y="436"/>
                    </a:lnTo>
                    <a:lnTo>
                      <a:pt x="9" y="418"/>
                    </a:lnTo>
                    <a:lnTo>
                      <a:pt x="12" y="397"/>
                    </a:lnTo>
                    <a:lnTo>
                      <a:pt x="17" y="378"/>
                    </a:lnTo>
                    <a:lnTo>
                      <a:pt x="20" y="360"/>
                    </a:lnTo>
                    <a:lnTo>
                      <a:pt x="25" y="342"/>
                    </a:lnTo>
                    <a:lnTo>
                      <a:pt x="31" y="323"/>
                    </a:lnTo>
                    <a:lnTo>
                      <a:pt x="37" y="303"/>
                    </a:lnTo>
                    <a:lnTo>
                      <a:pt x="43" y="289"/>
                    </a:lnTo>
                    <a:lnTo>
                      <a:pt x="48" y="271"/>
                    </a:lnTo>
                    <a:lnTo>
                      <a:pt x="54" y="256"/>
                    </a:lnTo>
                    <a:lnTo>
                      <a:pt x="60" y="239"/>
                    </a:lnTo>
                    <a:lnTo>
                      <a:pt x="67" y="223"/>
                    </a:lnTo>
                    <a:lnTo>
                      <a:pt x="74" y="207"/>
                    </a:lnTo>
                    <a:lnTo>
                      <a:pt x="81" y="191"/>
                    </a:lnTo>
                    <a:lnTo>
                      <a:pt x="89" y="177"/>
                    </a:lnTo>
                    <a:lnTo>
                      <a:pt x="97" y="162"/>
                    </a:lnTo>
                    <a:lnTo>
                      <a:pt x="105" y="150"/>
                    </a:lnTo>
                    <a:lnTo>
                      <a:pt x="113" y="138"/>
                    </a:lnTo>
                    <a:lnTo>
                      <a:pt x="120" y="130"/>
                    </a:lnTo>
                    <a:lnTo>
                      <a:pt x="127" y="123"/>
                    </a:lnTo>
                    <a:lnTo>
                      <a:pt x="120" y="0"/>
                    </a:lnTo>
                    <a:lnTo>
                      <a:pt x="124" y="18"/>
                    </a:lnTo>
                    <a:lnTo>
                      <a:pt x="129" y="38"/>
                    </a:lnTo>
                    <a:lnTo>
                      <a:pt x="134" y="54"/>
                    </a:lnTo>
                    <a:lnTo>
                      <a:pt x="138" y="65"/>
                    </a:lnTo>
                    <a:lnTo>
                      <a:pt x="141" y="79"/>
                    </a:lnTo>
                    <a:lnTo>
                      <a:pt x="145" y="90"/>
                    </a:lnTo>
                    <a:lnTo>
                      <a:pt x="150" y="101"/>
                    </a:lnTo>
                    <a:lnTo>
                      <a:pt x="155" y="110"/>
                    </a:lnTo>
                    <a:lnTo>
                      <a:pt x="159" y="121"/>
                    </a:lnTo>
                    <a:lnTo>
                      <a:pt x="166" y="133"/>
                    </a:lnTo>
                    <a:lnTo>
                      <a:pt x="173" y="145"/>
                    </a:lnTo>
                    <a:lnTo>
                      <a:pt x="178" y="157"/>
                    </a:lnTo>
                    <a:lnTo>
                      <a:pt x="185" y="169"/>
                    </a:lnTo>
                    <a:lnTo>
                      <a:pt x="192" y="177"/>
                    </a:lnTo>
                    <a:lnTo>
                      <a:pt x="189" y="187"/>
                    </a:lnTo>
                    <a:lnTo>
                      <a:pt x="185" y="197"/>
                    </a:lnTo>
                    <a:lnTo>
                      <a:pt x="181" y="207"/>
                    </a:lnTo>
                    <a:lnTo>
                      <a:pt x="179" y="218"/>
                    </a:lnTo>
                    <a:lnTo>
                      <a:pt x="175" y="230"/>
                    </a:lnTo>
                    <a:lnTo>
                      <a:pt x="172" y="240"/>
                    </a:lnTo>
                    <a:lnTo>
                      <a:pt x="170" y="252"/>
                    </a:lnTo>
                    <a:lnTo>
                      <a:pt x="168" y="264"/>
                    </a:lnTo>
                    <a:lnTo>
                      <a:pt x="165" y="277"/>
                    </a:lnTo>
                    <a:lnTo>
                      <a:pt x="163" y="290"/>
                    </a:lnTo>
                    <a:lnTo>
                      <a:pt x="160" y="303"/>
                    </a:lnTo>
                    <a:lnTo>
                      <a:pt x="158" y="315"/>
                    </a:lnTo>
                    <a:lnTo>
                      <a:pt x="157" y="328"/>
                    </a:lnTo>
                    <a:lnTo>
                      <a:pt x="154" y="339"/>
                    </a:lnTo>
                    <a:lnTo>
                      <a:pt x="153" y="350"/>
                    </a:lnTo>
                    <a:lnTo>
                      <a:pt x="150" y="364"/>
                    </a:lnTo>
                    <a:lnTo>
                      <a:pt x="149" y="383"/>
                    </a:lnTo>
                    <a:lnTo>
                      <a:pt x="137" y="254"/>
                    </a:lnTo>
                    <a:lnTo>
                      <a:pt x="127" y="264"/>
                    </a:lnTo>
                    <a:lnTo>
                      <a:pt x="118" y="272"/>
                    </a:lnTo>
                    <a:lnTo>
                      <a:pt x="103" y="290"/>
                    </a:lnTo>
                    <a:lnTo>
                      <a:pt x="96" y="299"/>
                    </a:lnTo>
                    <a:lnTo>
                      <a:pt x="89" y="310"/>
                    </a:lnTo>
                    <a:lnTo>
                      <a:pt x="77" y="328"/>
                    </a:lnTo>
                    <a:lnTo>
                      <a:pt x="70" y="339"/>
                    </a:lnTo>
                    <a:lnTo>
                      <a:pt x="62" y="353"/>
                    </a:lnTo>
                    <a:lnTo>
                      <a:pt x="56" y="364"/>
                    </a:lnTo>
                    <a:lnTo>
                      <a:pt x="50" y="375"/>
                    </a:lnTo>
                    <a:lnTo>
                      <a:pt x="45" y="385"/>
                    </a:lnTo>
                    <a:lnTo>
                      <a:pt x="39" y="397"/>
                    </a:lnTo>
                    <a:lnTo>
                      <a:pt x="33" y="411"/>
                    </a:lnTo>
                    <a:lnTo>
                      <a:pt x="29" y="424"/>
                    </a:lnTo>
                    <a:lnTo>
                      <a:pt x="24" y="438"/>
                    </a:lnTo>
                    <a:lnTo>
                      <a:pt x="20" y="454"/>
                    </a:lnTo>
                    <a:lnTo>
                      <a:pt x="17" y="469"/>
                    </a:lnTo>
                    <a:lnTo>
                      <a:pt x="13" y="486"/>
                    </a:lnTo>
                    <a:lnTo>
                      <a:pt x="10" y="504"/>
                    </a:lnTo>
                    <a:lnTo>
                      <a:pt x="7" y="522"/>
                    </a:lnTo>
                    <a:lnTo>
                      <a:pt x="5" y="541"/>
                    </a:lnTo>
                    <a:lnTo>
                      <a:pt x="1" y="571"/>
                    </a:lnTo>
                  </a:path>
                </a:pathLst>
              </a:cu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984" name=""/>
            <p:cNvGrpSpPr/>
            <p:nvPr/>
          </p:nvGrpSpPr>
          <p:grpSpPr>
            <a:xfrm>
              <a:off x="7488360" y="1138320"/>
              <a:ext cx="328320" cy="920520"/>
              <a:chOff x="7488360" y="1138320"/>
              <a:chExt cx="328320" cy="920520"/>
            </a:xfrm>
          </p:grpSpPr>
          <p:sp>
            <p:nvSpPr>
              <p:cNvPr id="985" name=""/>
              <p:cNvSpPr/>
              <p:nvPr/>
            </p:nvSpPr>
            <p:spPr>
              <a:xfrm>
                <a:off x="7551720" y="1544760"/>
                <a:ext cx="52560" cy="198360"/>
              </a:xfrm>
              <a:custGeom>
                <a:avLst/>
                <a:gdLst/>
                <a:ahLst/>
                <a:rect l="l" t="t" r="r" b="b"/>
                <a:pathLst>
                  <a:path w="33" h="125">
                    <a:moveTo>
                      <a:pt x="18" y="124"/>
                    </a:moveTo>
                    <a:lnTo>
                      <a:pt x="0" y="124"/>
                    </a:lnTo>
                    <a:lnTo>
                      <a:pt x="14" y="0"/>
                    </a:lnTo>
                    <a:lnTo>
                      <a:pt x="23" y="2"/>
                    </a:lnTo>
                    <a:lnTo>
                      <a:pt x="32" y="9"/>
                    </a:lnTo>
                    <a:lnTo>
                      <a:pt x="18" y="124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>
                <a:off x="7589880" y="1139760"/>
                <a:ext cx="49320" cy="193680"/>
              </a:xfrm>
              <a:custGeom>
                <a:avLst/>
                <a:gdLst/>
                <a:ahLst/>
                <a:rect l="l" t="t" r="r" b="b"/>
                <a:pathLst>
                  <a:path w="31" h="122">
                    <a:moveTo>
                      <a:pt x="30" y="0"/>
                    </a:moveTo>
                    <a:lnTo>
                      <a:pt x="13" y="0"/>
                    </a:lnTo>
                    <a:lnTo>
                      <a:pt x="0" y="121"/>
                    </a:lnTo>
                    <a:lnTo>
                      <a:pt x="21" y="121"/>
                    </a:lnTo>
                    <a:lnTo>
                      <a:pt x="30" y="0"/>
                    </a:lnTo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987" name=""/>
              <p:cNvGrpSpPr/>
              <p:nvPr/>
            </p:nvGrpSpPr>
            <p:grpSpPr>
              <a:xfrm>
                <a:off x="7488360" y="1138320"/>
                <a:ext cx="328320" cy="920520"/>
                <a:chOff x="7488360" y="1138320"/>
                <a:chExt cx="328320" cy="920520"/>
              </a:xfrm>
            </p:grpSpPr>
            <p:sp>
              <p:nvSpPr>
                <p:cNvPr id="988" name=""/>
                <p:cNvSpPr/>
                <p:nvPr/>
              </p:nvSpPr>
              <p:spPr>
                <a:xfrm>
                  <a:off x="7520040" y="1138320"/>
                  <a:ext cx="296640" cy="920520"/>
                </a:xfrm>
                <a:custGeom>
                  <a:avLst/>
                  <a:gdLst/>
                  <a:ahLst/>
                  <a:rect l="l" t="t" r="r" b="b"/>
                  <a:pathLst>
                    <a:path w="187" h="580">
                      <a:moveTo>
                        <a:pt x="185" y="577"/>
                      </a:moveTo>
                      <a:lnTo>
                        <a:pt x="186" y="545"/>
                      </a:lnTo>
                      <a:lnTo>
                        <a:pt x="186" y="530"/>
                      </a:lnTo>
                      <a:lnTo>
                        <a:pt x="186" y="510"/>
                      </a:lnTo>
                      <a:lnTo>
                        <a:pt x="186" y="492"/>
                      </a:lnTo>
                      <a:lnTo>
                        <a:pt x="185" y="475"/>
                      </a:lnTo>
                      <a:lnTo>
                        <a:pt x="183" y="457"/>
                      </a:lnTo>
                      <a:lnTo>
                        <a:pt x="181" y="442"/>
                      </a:lnTo>
                      <a:lnTo>
                        <a:pt x="179" y="424"/>
                      </a:lnTo>
                      <a:lnTo>
                        <a:pt x="176" y="403"/>
                      </a:lnTo>
                      <a:lnTo>
                        <a:pt x="171" y="384"/>
                      </a:lnTo>
                      <a:lnTo>
                        <a:pt x="168" y="365"/>
                      </a:lnTo>
                      <a:lnTo>
                        <a:pt x="163" y="345"/>
                      </a:lnTo>
                      <a:lnTo>
                        <a:pt x="158" y="326"/>
                      </a:lnTo>
                      <a:lnTo>
                        <a:pt x="153" y="307"/>
                      </a:lnTo>
                      <a:lnTo>
                        <a:pt x="147" y="292"/>
                      </a:lnTo>
                      <a:lnTo>
                        <a:pt x="142" y="273"/>
                      </a:lnTo>
                      <a:lnTo>
                        <a:pt x="136" y="259"/>
                      </a:lnTo>
                      <a:lnTo>
                        <a:pt x="131" y="241"/>
                      </a:lnTo>
                      <a:lnTo>
                        <a:pt x="124" y="225"/>
                      </a:lnTo>
                      <a:lnTo>
                        <a:pt x="117" y="209"/>
                      </a:lnTo>
                      <a:lnTo>
                        <a:pt x="111" y="193"/>
                      </a:lnTo>
                      <a:lnTo>
                        <a:pt x="102" y="178"/>
                      </a:lnTo>
                      <a:lnTo>
                        <a:pt x="95" y="162"/>
                      </a:lnTo>
                      <a:lnTo>
                        <a:pt x="87" y="150"/>
                      </a:lnTo>
                      <a:lnTo>
                        <a:pt x="79" y="138"/>
                      </a:lnTo>
                      <a:lnTo>
                        <a:pt x="72" y="128"/>
                      </a:lnTo>
                      <a:lnTo>
                        <a:pt x="64" y="122"/>
                      </a:lnTo>
                      <a:lnTo>
                        <a:pt x="74" y="0"/>
                      </a:lnTo>
                      <a:lnTo>
                        <a:pt x="69" y="18"/>
                      </a:lnTo>
                      <a:lnTo>
                        <a:pt x="64" y="33"/>
                      </a:lnTo>
                      <a:lnTo>
                        <a:pt x="60" y="51"/>
                      </a:lnTo>
                      <a:lnTo>
                        <a:pt x="55" y="64"/>
                      </a:lnTo>
                      <a:lnTo>
                        <a:pt x="51" y="76"/>
                      </a:lnTo>
                      <a:lnTo>
                        <a:pt x="46" y="86"/>
                      </a:lnTo>
                      <a:lnTo>
                        <a:pt x="42" y="97"/>
                      </a:lnTo>
                      <a:lnTo>
                        <a:pt x="37" y="106"/>
                      </a:lnTo>
                      <a:lnTo>
                        <a:pt x="32" y="118"/>
                      </a:lnTo>
                      <a:lnTo>
                        <a:pt x="25" y="130"/>
                      </a:lnTo>
                      <a:lnTo>
                        <a:pt x="19" y="142"/>
                      </a:lnTo>
                      <a:lnTo>
                        <a:pt x="12" y="152"/>
                      </a:lnTo>
                      <a:lnTo>
                        <a:pt x="5" y="164"/>
                      </a:lnTo>
                      <a:lnTo>
                        <a:pt x="0" y="172"/>
                      </a:lnTo>
                      <a:lnTo>
                        <a:pt x="1" y="182"/>
                      </a:lnTo>
                      <a:lnTo>
                        <a:pt x="5" y="191"/>
                      </a:lnTo>
                      <a:lnTo>
                        <a:pt x="7" y="202"/>
                      </a:lnTo>
                      <a:lnTo>
                        <a:pt x="11" y="214"/>
                      </a:lnTo>
                      <a:lnTo>
                        <a:pt x="14" y="226"/>
                      </a:lnTo>
                      <a:lnTo>
                        <a:pt x="17" y="237"/>
                      </a:lnTo>
                      <a:lnTo>
                        <a:pt x="19" y="248"/>
                      </a:lnTo>
                      <a:lnTo>
                        <a:pt x="21" y="261"/>
                      </a:lnTo>
                      <a:lnTo>
                        <a:pt x="23" y="273"/>
                      </a:lnTo>
                      <a:lnTo>
                        <a:pt x="25" y="286"/>
                      </a:lnTo>
                      <a:lnTo>
                        <a:pt x="27" y="299"/>
                      </a:lnTo>
                      <a:lnTo>
                        <a:pt x="29" y="311"/>
                      </a:lnTo>
                      <a:lnTo>
                        <a:pt x="31" y="324"/>
                      </a:lnTo>
                      <a:lnTo>
                        <a:pt x="33" y="336"/>
                      </a:lnTo>
                      <a:lnTo>
                        <a:pt x="34" y="347"/>
                      </a:lnTo>
                      <a:lnTo>
                        <a:pt x="36" y="362"/>
                      </a:lnTo>
                      <a:lnTo>
                        <a:pt x="37" y="381"/>
                      </a:lnTo>
                      <a:lnTo>
                        <a:pt x="52" y="253"/>
                      </a:lnTo>
                      <a:lnTo>
                        <a:pt x="63" y="261"/>
                      </a:lnTo>
                      <a:lnTo>
                        <a:pt x="71" y="271"/>
                      </a:lnTo>
                      <a:lnTo>
                        <a:pt x="86" y="290"/>
                      </a:lnTo>
                      <a:lnTo>
                        <a:pt x="93" y="300"/>
                      </a:lnTo>
                      <a:lnTo>
                        <a:pt x="100" y="311"/>
                      </a:lnTo>
                      <a:lnTo>
                        <a:pt x="108" y="325"/>
                      </a:lnTo>
                      <a:lnTo>
                        <a:pt x="118" y="342"/>
                      </a:lnTo>
                      <a:lnTo>
                        <a:pt x="125" y="357"/>
                      </a:lnTo>
                      <a:lnTo>
                        <a:pt x="134" y="378"/>
                      </a:lnTo>
                      <a:lnTo>
                        <a:pt x="140" y="396"/>
                      </a:lnTo>
                      <a:lnTo>
                        <a:pt x="146" y="413"/>
                      </a:lnTo>
                      <a:lnTo>
                        <a:pt x="151" y="428"/>
                      </a:lnTo>
                      <a:lnTo>
                        <a:pt x="153" y="438"/>
                      </a:lnTo>
                      <a:lnTo>
                        <a:pt x="157" y="457"/>
                      </a:lnTo>
                      <a:lnTo>
                        <a:pt x="161" y="473"/>
                      </a:lnTo>
                      <a:lnTo>
                        <a:pt x="165" y="492"/>
                      </a:lnTo>
                      <a:lnTo>
                        <a:pt x="167" y="519"/>
                      </a:lnTo>
                      <a:lnTo>
                        <a:pt x="169" y="539"/>
                      </a:lnTo>
                      <a:lnTo>
                        <a:pt x="170" y="579"/>
                      </a:lnTo>
                      <a:lnTo>
                        <a:pt x="185" y="577"/>
                      </a:lnTo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989" name=""/>
                <p:cNvSpPr/>
                <p:nvPr/>
              </p:nvSpPr>
              <p:spPr>
                <a:xfrm>
                  <a:off x="7488360" y="1139760"/>
                  <a:ext cx="307800" cy="919080"/>
                </a:xfrm>
                <a:custGeom>
                  <a:avLst/>
                  <a:gdLst/>
                  <a:ahLst/>
                  <a:rect l="l" t="t" r="r" b="b"/>
                  <a:pathLst>
                    <a:path w="194" h="579">
                      <a:moveTo>
                        <a:pt x="191" y="578"/>
                      </a:moveTo>
                      <a:lnTo>
                        <a:pt x="193" y="545"/>
                      </a:lnTo>
                      <a:lnTo>
                        <a:pt x="193" y="530"/>
                      </a:lnTo>
                      <a:lnTo>
                        <a:pt x="193" y="511"/>
                      </a:lnTo>
                      <a:lnTo>
                        <a:pt x="192" y="493"/>
                      </a:lnTo>
                      <a:lnTo>
                        <a:pt x="191" y="476"/>
                      </a:lnTo>
                      <a:lnTo>
                        <a:pt x="190" y="457"/>
                      </a:lnTo>
                      <a:lnTo>
                        <a:pt x="187" y="442"/>
                      </a:lnTo>
                      <a:lnTo>
                        <a:pt x="186" y="424"/>
                      </a:lnTo>
                      <a:lnTo>
                        <a:pt x="182" y="403"/>
                      </a:lnTo>
                      <a:lnTo>
                        <a:pt x="178" y="384"/>
                      </a:lnTo>
                      <a:lnTo>
                        <a:pt x="174" y="367"/>
                      </a:lnTo>
                      <a:lnTo>
                        <a:pt x="169" y="347"/>
                      </a:lnTo>
                      <a:lnTo>
                        <a:pt x="163" y="327"/>
                      </a:lnTo>
                      <a:lnTo>
                        <a:pt x="158" y="307"/>
                      </a:lnTo>
                      <a:lnTo>
                        <a:pt x="152" y="292"/>
                      </a:lnTo>
                      <a:lnTo>
                        <a:pt x="147" y="273"/>
                      </a:lnTo>
                      <a:lnTo>
                        <a:pt x="142" y="260"/>
                      </a:lnTo>
                      <a:lnTo>
                        <a:pt x="135" y="243"/>
                      </a:lnTo>
                      <a:lnTo>
                        <a:pt x="128" y="225"/>
                      </a:lnTo>
                      <a:lnTo>
                        <a:pt x="120" y="209"/>
                      </a:lnTo>
                      <a:lnTo>
                        <a:pt x="115" y="193"/>
                      </a:lnTo>
                      <a:lnTo>
                        <a:pt x="106" y="178"/>
                      </a:lnTo>
                      <a:lnTo>
                        <a:pt x="99" y="163"/>
                      </a:lnTo>
                      <a:lnTo>
                        <a:pt x="91" y="150"/>
                      </a:lnTo>
                      <a:lnTo>
                        <a:pt x="82" y="138"/>
                      </a:lnTo>
                      <a:lnTo>
                        <a:pt x="75" y="128"/>
                      </a:lnTo>
                      <a:lnTo>
                        <a:pt x="67" y="121"/>
                      </a:lnTo>
                      <a:lnTo>
                        <a:pt x="77" y="0"/>
                      </a:lnTo>
                      <a:lnTo>
                        <a:pt x="72" y="18"/>
                      </a:lnTo>
                      <a:lnTo>
                        <a:pt x="67" y="33"/>
                      </a:lnTo>
                      <a:lnTo>
                        <a:pt x="61" y="51"/>
                      </a:lnTo>
                      <a:lnTo>
                        <a:pt x="57" y="65"/>
                      </a:lnTo>
                      <a:lnTo>
                        <a:pt x="52" y="76"/>
                      </a:lnTo>
                      <a:lnTo>
                        <a:pt x="49" y="86"/>
                      </a:lnTo>
                      <a:lnTo>
                        <a:pt x="43" y="97"/>
                      </a:lnTo>
                      <a:lnTo>
                        <a:pt x="39" y="107"/>
                      </a:lnTo>
                      <a:lnTo>
                        <a:pt x="34" y="118"/>
                      </a:lnTo>
                      <a:lnTo>
                        <a:pt x="27" y="130"/>
                      </a:lnTo>
                      <a:lnTo>
                        <a:pt x="20" y="143"/>
                      </a:lnTo>
                      <a:lnTo>
                        <a:pt x="13" y="152"/>
                      </a:lnTo>
                      <a:lnTo>
                        <a:pt x="6" y="164"/>
                      </a:lnTo>
                      <a:lnTo>
                        <a:pt x="0" y="173"/>
                      </a:lnTo>
                      <a:lnTo>
                        <a:pt x="1" y="183"/>
                      </a:lnTo>
                      <a:lnTo>
                        <a:pt x="5" y="192"/>
                      </a:lnTo>
                      <a:lnTo>
                        <a:pt x="8" y="202"/>
                      </a:lnTo>
                      <a:lnTo>
                        <a:pt x="11" y="213"/>
                      </a:lnTo>
                      <a:lnTo>
                        <a:pt x="15" y="226"/>
                      </a:lnTo>
                      <a:lnTo>
                        <a:pt x="17" y="237"/>
                      </a:lnTo>
                      <a:lnTo>
                        <a:pt x="19" y="249"/>
                      </a:lnTo>
                      <a:lnTo>
                        <a:pt x="22" y="260"/>
                      </a:lnTo>
                      <a:lnTo>
                        <a:pt x="24" y="273"/>
                      </a:lnTo>
                      <a:lnTo>
                        <a:pt x="27" y="287"/>
                      </a:lnTo>
                      <a:lnTo>
                        <a:pt x="29" y="300"/>
                      </a:lnTo>
                      <a:lnTo>
                        <a:pt x="31" y="311"/>
                      </a:lnTo>
                      <a:lnTo>
                        <a:pt x="32" y="324"/>
                      </a:lnTo>
                      <a:lnTo>
                        <a:pt x="34" y="337"/>
                      </a:lnTo>
                      <a:lnTo>
                        <a:pt x="35" y="347"/>
                      </a:lnTo>
                      <a:lnTo>
                        <a:pt x="37" y="362"/>
                      </a:lnTo>
                      <a:lnTo>
                        <a:pt x="39" y="379"/>
                      </a:lnTo>
                      <a:lnTo>
                        <a:pt x="53" y="253"/>
                      </a:lnTo>
                      <a:lnTo>
                        <a:pt x="65" y="262"/>
                      </a:lnTo>
                      <a:lnTo>
                        <a:pt x="73" y="272"/>
                      </a:lnTo>
                      <a:lnTo>
                        <a:pt x="88" y="290"/>
                      </a:lnTo>
                      <a:lnTo>
                        <a:pt x="96" y="300"/>
                      </a:lnTo>
                      <a:lnTo>
                        <a:pt x="103" y="311"/>
                      </a:lnTo>
                      <a:lnTo>
                        <a:pt x="115" y="330"/>
                      </a:lnTo>
                      <a:lnTo>
                        <a:pt x="122" y="342"/>
                      </a:lnTo>
                      <a:lnTo>
                        <a:pt x="131" y="356"/>
                      </a:lnTo>
                      <a:lnTo>
                        <a:pt x="137" y="369"/>
                      </a:lnTo>
                      <a:lnTo>
                        <a:pt x="143" y="378"/>
                      </a:lnTo>
                      <a:lnTo>
                        <a:pt x="148" y="389"/>
                      </a:lnTo>
                      <a:lnTo>
                        <a:pt x="153" y="401"/>
                      </a:lnTo>
                      <a:lnTo>
                        <a:pt x="160" y="416"/>
                      </a:lnTo>
                      <a:lnTo>
                        <a:pt x="163" y="429"/>
                      </a:lnTo>
                      <a:lnTo>
                        <a:pt x="169" y="443"/>
                      </a:lnTo>
                      <a:lnTo>
                        <a:pt x="173" y="459"/>
                      </a:lnTo>
                      <a:lnTo>
                        <a:pt x="176" y="476"/>
                      </a:lnTo>
                      <a:lnTo>
                        <a:pt x="179" y="493"/>
                      </a:lnTo>
                      <a:lnTo>
                        <a:pt x="182" y="510"/>
                      </a:lnTo>
                      <a:lnTo>
                        <a:pt x="185" y="528"/>
                      </a:lnTo>
                      <a:lnTo>
                        <a:pt x="187" y="548"/>
                      </a:lnTo>
                      <a:lnTo>
                        <a:pt x="191" y="578"/>
                      </a:lnTo>
                    </a:path>
                  </a:pathLst>
                </a:custGeom>
                <a:solidFill>
                  <a:srgbClr val="00f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graphicFrame>
        <p:nvGraphicFramePr>
          <p:cNvPr id="990" name=""/>
          <p:cNvGraphicFramePr/>
          <p:nvPr/>
        </p:nvGraphicFramePr>
        <p:xfrm>
          <a:off x="933480" y="220680"/>
          <a:ext cx="2951280" cy="3652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33480" y="220680"/>
                    <a:ext cx="2951280" cy="36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C616-C351-440A-8375-2B5C5710ED5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ubTitle"/>
          </p:nvPr>
        </p:nvSpPr>
        <p:spPr>
          <a:xfrm>
            <a:off x="533160" y="380520"/>
            <a:ext cx="8305560" cy="6172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Robert Haig (1926): renta producto del ahorro de costos de transporte; asignación vía remat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Min (Renta + costo tpte) = costo de fricc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Ecologistas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ark &amp; Burques:Valor renta determina el us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ig: ¿Uso determina valor o a la inversa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Hawley: Hogares se distribuyen por renta, costo de transporte y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localización de otros hogares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. Estos factores generan la renta residencia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Walter Firey: Minimizar costo total de obtener máxima satisfacción sea mínimo. Costo incluye elementos sentiment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F9FA9-F963-45AF-911B-5ECD29AF4CB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Teoría de localización residencial</a:t>
            </a:r>
            <a:br>
              <a:rPr sz="3600"/>
            </a:br>
            <a:r>
              <a:rPr b="1" lang="es-CL" sz="3600" spc="-1" strike="noStrike">
                <a:solidFill>
                  <a:srgbClr val="8cf4ea"/>
                </a:solidFill>
                <a:latin typeface="Times New Roman"/>
              </a:rPr>
              <a:t>Alonso (1961-64)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533520" y="1295280"/>
            <a:ext cx="8076960" cy="5181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Supuesto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Explanada homogénea: idéntica calidad, lista para usar, compra y venta libre, se aceptan hoyo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Información perfecta, no hay restricciones legales ni social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Compradores maximizan utilidad, vendedores maximizan ganancia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Precio: </a:t>
            </a:r>
            <a:r>
              <a:rPr b="0" lang="es-ES_tradnl" sz="2800" spc="-1" strike="noStrike">
                <a:solidFill>
                  <a:srgbClr val="ff6633"/>
                </a:solidFill>
                <a:latin typeface="Times New Roman"/>
              </a:rPr>
              <a:t>Arriendo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, venta y costo de propieda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imes New Roman"/>
              </a:rPr>
              <a:t>Tamaño terreno: trivial para un solo ocupante, una fracción para múltiples ocupant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F65A4-7224-49A6-B031-6948BF43042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533520" y="13712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ecisió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amaño del terren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700"/>
              </a:spcBef>
              <a:buClr>
                <a:srgbClr val="618ff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Distancia del centro CB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601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Unidad de Decisión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</a:t>
            </a: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"hombre económico" Individuo puede representar un hogar (opinantes o no)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Transporte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idéntico en todas direccion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Monocentr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 empleo y servicios concentrada en CBD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buClr>
                <a:srgbClr val="8cf4ea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Equilibrio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CL" sz="2800" spc="-1" strike="noStrike">
                <a:solidFill>
                  <a:srgbClr val="ffffff"/>
                </a:solidFill>
                <a:latin typeface="Times New Roman"/>
              </a:rPr>
              <a:t>Consiste en definir la cantidad de terreno y localización que el individuo comprará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9FC5-F706-4EFA-B663-1B17324F8022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Alonso...Equilibrio del hogar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219320" y="3124080"/>
            <a:ext cx="7315200" cy="335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x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bienes de consumo a precio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</a:t>
            </a:r>
            <a:r>
              <a:rPr b="0" i="1" lang="es-ES_tradnl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: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distancia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q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tamaño de terreno a precio en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P(t):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recio suelo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localizado en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por m</a:t>
            </a:r>
            <a:r>
              <a:rPr b="0" lang="es-ES_tradnl" sz="3200" spc="-1" strike="noStrike" baseline="30000">
                <a:solidFill>
                  <a:srgbClr val="ffffff"/>
                </a:solidFill>
                <a:latin typeface="Times New Roman"/>
              </a:rPr>
              <a:t>2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k(t)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costo de transporte desde </a:t>
            </a: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 al CB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s-ES_tradnl" sz="3200" spc="-1" strike="noStrike">
                <a:solidFill>
                  <a:srgbClr val="ffffff"/>
                </a:solidFill>
                <a:latin typeface="Times New Roman"/>
              </a:rPr>
              <a:t>: ingreso del hog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2741760" y="1447920"/>
                <a:ext cx="41176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s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a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q</m:t>
                        </m:r>
                        <m:r>
                          <m:t xml:space="preserve">+</m:t>
                        </m:r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y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614880" y="1416240"/>
            <a:ext cx="15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roblem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del hog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0698-E60C-4F7D-95F8-3E6FBDE22E3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8cf4ea"/>
                </a:solidFill>
                <a:latin typeface="Times New Roman"/>
              </a:rPr>
              <a:t>Supuestos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829800" y="1474920"/>
            <a:ext cx="6495120" cy="4492800"/>
            <a:chOff x="829800" y="1474920"/>
            <a:chExt cx="6495120" cy="4492800"/>
          </a:xfrm>
        </p:grpSpPr>
        <p:sp>
          <p:nvSpPr>
            <p:cNvPr id="91" name=""/>
            <p:cNvSpPr/>
            <p:nvPr/>
          </p:nvSpPr>
          <p:spPr>
            <a:xfrm>
              <a:off x="1238760" y="1508760"/>
              <a:ext cx="0" cy="3901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238760" y="5410440"/>
              <a:ext cx="5886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635480" y="1703880"/>
              <a:ext cx="4431240" cy="3381120"/>
            </a:xfrm>
            <a:custGeom>
              <a:avLst/>
              <a:gdLst/>
              <a:ahLst/>
              <a:rect l="l" t="t" r="r" b="b"/>
              <a:pathLst>
                <a:path w="3216" h="2496">
                  <a:moveTo>
                    <a:pt x="0" y="0"/>
                  </a:moveTo>
                  <a:cubicBezTo>
                    <a:pt x="44" y="296"/>
                    <a:pt x="88" y="592"/>
                    <a:pt x="240" y="864"/>
                  </a:cubicBezTo>
                  <a:cubicBezTo>
                    <a:pt x="392" y="1136"/>
                    <a:pt x="624" y="1416"/>
                    <a:pt x="912" y="1632"/>
                  </a:cubicBezTo>
                  <a:cubicBezTo>
                    <a:pt x="1200" y="1848"/>
                    <a:pt x="1584" y="2016"/>
                    <a:pt x="1968" y="2160"/>
                  </a:cubicBezTo>
                  <a:cubicBezTo>
                    <a:pt x="2352" y="2304"/>
                    <a:pt x="2992" y="2432"/>
                    <a:pt x="3216" y="2496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900080" y="1833840"/>
              <a:ext cx="3703680" cy="3251160"/>
            </a:xfrm>
            <a:custGeom>
              <a:avLst/>
              <a:gdLst/>
              <a:ahLst/>
              <a:rect l="l" t="t" r="r" b="b"/>
              <a:pathLst>
                <a:path w="2688" h="2400">
                  <a:moveTo>
                    <a:pt x="0" y="2400"/>
                  </a:moveTo>
                  <a:cubicBezTo>
                    <a:pt x="280" y="2360"/>
                    <a:pt x="560" y="2320"/>
                    <a:pt x="816" y="2208"/>
                  </a:cubicBezTo>
                  <a:cubicBezTo>
                    <a:pt x="1072" y="2096"/>
                    <a:pt x="1280" y="2000"/>
                    <a:pt x="1536" y="1728"/>
                  </a:cubicBezTo>
                  <a:cubicBezTo>
                    <a:pt x="1792" y="1456"/>
                    <a:pt x="2160" y="864"/>
                    <a:pt x="2352" y="576"/>
                  </a:cubicBezTo>
                  <a:cubicBezTo>
                    <a:pt x="2544" y="288"/>
                    <a:pt x="2624" y="104"/>
                    <a:pt x="2688" y="0"/>
                  </a:cubicBezTo>
                </a:path>
              </a:pathLst>
            </a:custGeom>
            <a:noFill/>
            <a:ln w="5724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002640" y="4856760"/>
              <a:ext cx="6562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P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64520" y="1735200"/>
              <a:ext cx="62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k(t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58880" y="5441760"/>
              <a:ext cx="26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29800" y="5508000"/>
              <a:ext cx="82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CBD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72280" y="14749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ff"/>
                  </a:solidFill>
                  <a:latin typeface="Times New Roman"/>
                </a:rPr>
                <a:t>$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6477120" y="1752480"/>
                <a:ext cx="76176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k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g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6858000" y="4572000"/>
                <a:ext cx="76212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6096960" y="3656880"/>
            <a:ext cx="27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recios exógeno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0159-DC9B-47B4-AA69-BF01D2B7E69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143000" y="1295280"/>
            <a:ext cx="7772400" cy="510552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restricción de ingreso...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286000" y="1447920"/>
                <a:ext cx="5105520" cy="608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2971800" y="2133720"/>
                <a:ext cx="426708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362320" y="2738520"/>
                <a:ext cx="45720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dP</m:t>
                    </m:r>
                    <m:r>
                      <m:t xml:space="preserve">+</m:t>
                    </m:r>
                    <m:r>
                      <m:rPr>
                        <m:lit/>
                        <m:nor/>
                      </m:rPr>
                      <m:t xml:space="preserve">dk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2057400" y="3429000"/>
                <a:ext cx="6400800" cy="121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r>
                      <m:t xml:space="preserve">P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t</m:t>
                        </m:r>
                      </m:e>
                    </m:d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q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P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k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47920" y="4898880"/>
                <a:ext cx="2590560" cy="104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 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4984920" y="4919760"/>
                <a:ext cx="3473280" cy="102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  <m:r>
                          <m:rPr>
                            <m:lit/>
                            <m:nor/>
                          </m:rPr>
                          <m:t xml:space="preserve">dP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dk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D9DA-5AD8-4F66-91E3-85CC32EA06C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61f64"/>
            </a:gs>
            <a:gs pos="100000">
              <a:srgbClr val="114f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1219320"/>
            <a:ext cx="7696080" cy="5105160"/>
          </a:xfrm>
          <a:prstGeom prst="rect">
            <a:avLst/>
          </a:prstGeom>
          <a:solidFill>
            <a:srgbClr val="c9cfc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822320" y="1447920"/>
                <a:ext cx="275760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ax</m:t>
                    </m:r>
                    <m:r>
                      <m:t xml:space="preserve"> </m:t>
                    </m:r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x</m:t>
                        </m:r>
                        <m:r>
                          <m:t xml:space="preserve">,</m:t>
                        </m:r>
                        <m:r>
                          <m:t xml:space="preserve">q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8cf4ea"/>
                </a:solidFill>
                <a:latin typeface="Times New Roman"/>
              </a:rPr>
              <a:t>La función de utilidad</a:t>
            </a:r>
            <a:endParaRPr b="0" lang="en-US" sz="3600" spc="-1" strike="noStrike">
              <a:solidFill>
                <a:srgbClr val="8cf4ea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057400" y="2057400"/>
                <a:ext cx="4629240" cy="652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x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5603760" y="2971800"/>
                <a:ext cx="2549520" cy="83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q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6432480" y="5018040"/>
                <a:ext cx="1263600" cy="84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t</m:t>
                            </m:r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987560" y="2881440"/>
                <a:ext cx="2637000" cy="928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te</m:t>
                    </m:r>
                    <m:r>
                      <m:t xml:space="preserve">→</m:t>
                    </m:r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2133720" y="4849920"/>
                <a:ext cx="220968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q</m:t>
                            </m:r>
                            <m:r>
                              <m:t xml:space="preserve">⋅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P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rPr>
                                    <m:lit/>
                                    <m:nor/>
                                  </m:rPr>
                                  <m:t xml:space="preserve">dk</m:t>
                                </m:r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t</m:t>
                                </m:r>
                              </m:den>
                            </m:f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x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2338560" y="3809160"/>
            <a:ext cx="20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nillo concéntr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617080" y="3809160"/>
            <a:ext cx="148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fecto radi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01240" y="4266000"/>
            <a:ext cx="430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asas marginales de sustitu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0C246-9EBF-4CB4-99E5-9CB99CA3B82B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7-03T13:57:26Z</dcterms:created>
  <dc:creator/>
  <dc:description/>
  <dc:language>en-US</dc:language>
  <cp:lastModifiedBy>F M</cp:lastModifiedBy>
  <dcterms:modified xsi:type="dcterms:W3CDTF">2004-08-09T14:20:47Z</dcterms:modified>
  <cp:revision>113</cp:revision>
  <dc:subject/>
  <dc:title>General</dc:title>
</cp:coreProperties>
</file>