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383B-B6CD-42A9-896C-900B2B04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7511-E705-4FCF-A475-BA447B57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31F-A460-4A07-9254-F5F43979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CA1-4368-4C32-8E59-5F3D6E12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A0B4-5E47-41AC-9063-9F605A25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4A7A-821D-409A-90D5-8B4E5831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19DA-E786-4A67-BA0D-CF5E8206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CDBF-D766-41F9-B6C0-07FD07D7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BD01-A02D-4BAC-A430-272C0F62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57C-26D8-49BE-B189-95F825D3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DE7-911D-4AD8-BBF9-10A54B4D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2966-897D-4E04-90E9-51372B78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5E3292-097F-43DA-ACE0-E8C5C33C9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52578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CAD-B570-4EE6-AEF9-2B468A182363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ál es la localización de OPTIM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, 2 o 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029200"/>
            <a:ext cx="3810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2360" y="4951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4800600"/>
            <a:ext cx="38102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4800600"/>
            <a:ext cx="3733560" cy="0"/>
          </a:xfrm>
          <a:prstGeom prst="line">
            <a:avLst/>
          </a:prstGeom>
          <a:ln w="5724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61048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038480"/>
            <a:ext cx="0" cy="68580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845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051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579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865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4688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6000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F318-2D01-4826-86F8-F2B401381C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0800" y="1218960"/>
            <a:ext cx="771516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OMPETENCIA POR 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ÁREAS DE MERCADO</a:t>
            </a:r>
            <a:br>
              <a:rPr sz="4800"/>
            </a:b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aso bidimensional: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hristaller y Losch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AAA-49E7-4076-8DFC-2013A04EE8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0800" y="20570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Múltiples áreas de mercado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hristaller y Losch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344-AF8C-4DC3-BC7D-FF7FB1D309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44160" y="1278360"/>
            <a:ext cx="362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cost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: demanda del bien en la fáb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447920" y="2057400"/>
            <a:ext cx="7010280" cy="3505320"/>
            <a:chOff x="1447920" y="2057400"/>
            <a:chExt cx="7010280" cy="3505320"/>
          </a:xfrm>
        </p:grpSpPr>
        <p:grpSp>
          <p:nvGrpSpPr>
            <p:cNvPr id="232" name=""/>
            <p:cNvGrpSpPr/>
            <p:nvPr/>
          </p:nvGrpSpPr>
          <p:grpSpPr>
            <a:xfrm>
              <a:off x="1447920" y="2057400"/>
              <a:ext cx="7010280" cy="3505320"/>
              <a:chOff x="1447920" y="2057400"/>
              <a:chExt cx="7010280" cy="3505320"/>
            </a:xfrm>
          </p:grpSpPr>
          <p:sp>
            <p:nvSpPr>
              <p:cNvPr id="233" name=""/>
              <p:cNvSpPr/>
              <p:nvPr/>
            </p:nvSpPr>
            <p:spPr>
              <a:xfrm>
                <a:off x="1447920" y="2057400"/>
                <a:ext cx="7010280" cy="3505320"/>
              </a:xfrm>
              <a:prstGeom prst="rect">
                <a:avLst/>
              </a:prstGeom>
              <a:solidFill>
                <a:srgbClr val="c9cfc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69200" y="3316320"/>
                <a:ext cx="1509840" cy="1733760"/>
              </a:xfrm>
              <a:prstGeom prst="rtTriangl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2192400" y="2209680"/>
                <a:ext cx="2516400" cy="2887920"/>
                <a:chOff x="2192400" y="2209680"/>
                <a:chExt cx="2516400" cy="2887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192400" y="5097600"/>
                  <a:ext cx="251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2192400" y="2209680"/>
                  <a:ext cx="0" cy="288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2192400" y="2760840"/>
                <a:ext cx="2013120" cy="231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95680" y="3316320"/>
                <a:ext cx="1509840" cy="17337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68600" y="5051520"/>
                <a:ext cx="37944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7988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 rot="10800000">
                <a:off x="4957920" y="3316320"/>
                <a:ext cx="1511280" cy="173376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469200" y="290700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46920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5340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57920" y="4699080"/>
                <a:ext cx="3021120" cy="57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2744640" y="3001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8560" y="2894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84440" y="2361240"/>
              <a:ext cx="23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ono de demand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504960" y="2819520"/>
              <a:ext cx="1066680" cy="838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280" y="2819520"/>
              <a:ext cx="1371600" cy="762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ercado monopól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876400" y="5715000"/>
                <a:ext cx="308628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b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493880" y="5134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8316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E22-3249-4997-B889-5E00BF495F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900400" y="1980000"/>
            <a:ext cx="2715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cost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: demanda individ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: densidad pobl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-p=máximo costo fle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cio en fáb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costo de transpo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emanda tot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238480" y="1828800"/>
                <a:ext cx="30859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b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371600" y="2743200"/>
            <a:ext cx="0" cy="281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5562720"/>
            <a:ext cx="380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3048120"/>
            <a:ext cx="3276720" cy="251460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4952880"/>
            <a:ext cx="14479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40240" y="472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3040" y="2894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54960" y="5561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7160" y="2437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396-CA5D-443A-BFA3-6C14A42822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emanda con competenci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271600" y="1447920"/>
            <a:ext cx="14400" cy="403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71600" y="5478480"/>
            <a:ext cx="6415200" cy="7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124080"/>
            <a:ext cx="3505320" cy="236232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91920" y="28184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31400" y="548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21120" y="16754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2232000"/>
            <a:ext cx="4800600" cy="317808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048120" y="388620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428640" y="426708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114440" y="46483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A3D-9465-4823-9BFF-8B5F0456E7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últiples productores cercanos: competencia espa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0" y="2590920"/>
            <a:ext cx="5638680" cy="37335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16480" y="5369040"/>
            <a:ext cx="361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516480" y="2913120"/>
            <a:ext cx="0" cy="245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92320" y="4446720"/>
            <a:ext cx="777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92320" y="3976560"/>
            <a:ext cx="5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4200" y="5349960"/>
            <a:ext cx="647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564080" y="4266720"/>
            <a:ext cx="7920" cy="10494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16480" y="5105520"/>
            <a:ext cx="27320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16480" y="4681440"/>
            <a:ext cx="1569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59200" y="5349960"/>
            <a:ext cx="816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48240" y="3200400"/>
            <a:ext cx="2484360" cy="171936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78200" y="3270240"/>
            <a:ext cx="2354400" cy="147312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10000" y="3592440"/>
            <a:ext cx="390600" cy="370080"/>
          </a:xfrm>
          <a:custGeom>
            <a:avLst/>
            <a:gdLst/>
            <a:ahLst/>
            <a:rect l="l" t="t" r="r" b="b"/>
            <a:pathLst>
              <a:path w="426" h="426">
                <a:moveTo>
                  <a:pt x="426" y="0"/>
                </a:moveTo>
                <a:cubicBezTo>
                  <a:pt x="319" y="35"/>
                  <a:pt x="213" y="71"/>
                  <a:pt x="142" y="142"/>
                </a:cubicBezTo>
                <a:cubicBezTo>
                  <a:pt x="71" y="213"/>
                  <a:pt x="24" y="379"/>
                  <a:pt x="0" y="4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27440" y="3363840"/>
            <a:ext cx="2001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osto largo plaz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46760" y="3892680"/>
            <a:ext cx="1386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64080" y="397656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56200" y="4565520"/>
            <a:ext cx="52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49760" y="49356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14960" y="4653000"/>
            <a:ext cx="52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14960" y="482904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56200" y="467532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83200" y="4675320"/>
            <a:ext cx="98280" cy="856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49760" y="4154400"/>
            <a:ext cx="392400" cy="368280"/>
          </a:xfrm>
          <a:custGeom>
            <a:avLst/>
            <a:gdLst/>
            <a:ahLst/>
            <a:rect l="l" t="t" r="r" b="b"/>
            <a:pathLst>
              <a:path w="426" h="426">
                <a:moveTo>
                  <a:pt x="426" y="0"/>
                </a:moveTo>
                <a:cubicBezTo>
                  <a:pt x="319" y="35"/>
                  <a:pt x="213" y="71"/>
                  <a:pt x="142" y="142"/>
                </a:cubicBezTo>
                <a:cubicBezTo>
                  <a:pt x="71" y="213"/>
                  <a:pt x="24" y="379"/>
                  <a:pt x="0" y="4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571560" y="4240080"/>
            <a:ext cx="988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3657600"/>
            <a:ext cx="2438280" cy="1523880"/>
          </a:xfrm>
          <a:custGeom>
            <a:avLst/>
            <a:gdLst/>
            <a:ahLst/>
            <a:rect l="l" t="t" r="r" b="b"/>
            <a:pathLst>
              <a:path w="1160" h="1016">
                <a:moveTo>
                  <a:pt x="8" y="0"/>
                </a:moveTo>
                <a:cubicBezTo>
                  <a:pt x="4" y="88"/>
                  <a:pt x="0" y="176"/>
                  <a:pt x="56" y="288"/>
                </a:cubicBezTo>
                <a:cubicBezTo>
                  <a:pt x="112" y="400"/>
                  <a:pt x="208" y="560"/>
                  <a:pt x="344" y="672"/>
                </a:cubicBezTo>
                <a:cubicBezTo>
                  <a:pt x="480" y="784"/>
                  <a:pt x="736" y="904"/>
                  <a:pt x="872" y="960"/>
                </a:cubicBezTo>
                <a:cubicBezTo>
                  <a:pt x="1008" y="1016"/>
                  <a:pt x="1112" y="1000"/>
                  <a:pt x="1160" y="100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3429000"/>
            <a:ext cx="3353040" cy="182880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38880" y="2895480"/>
            <a:ext cx="1828800" cy="914400"/>
          </a:xfrm>
          <a:prstGeom prst="wedgeRoundRectCallout">
            <a:avLst>
              <a:gd name="adj1" fmla="val -102342"/>
              <a:gd name="adj2" fmla="val 162152"/>
              <a:gd name="adj3" fmla="val 16667"/>
            </a:avLst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emanda ca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 compet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4921200"/>
            <a:ext cx="777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min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80040" y="548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41880" y="5410080"/>
            <a:ext cx="8161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m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919-8DF2-4402-90CB-4D3B4A5317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Areas de mercado en competenci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105520" y="2133720"/>
            <a:ext cx="3960360" cy="2133360"/>
            <a:chOff x="5105520" y="2133720"/>
            <a:chExt cx="3960360" cy="2133360"/>
          </a:xfrm>
        </p:grpSpPr>
        <p:grpSp>
          <p:nvGrpSpPr>
            <p:cNvPr id="312" name=""/>
            <p:cNvGrpSpPr/>
            <p:nvPr/>
          </p:nvGrpSpPr>
          <p:grpSpPr>
            <a:xfrm>
              <a:off x="5105520" y="2362320"/>
              <a:ext cx="3960360" cy="1904760"/>
              <a:chOff x="5105520" y="2362320"/>
              <a:chExt cx="3960360" cy="190476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6858000" y="2437200"/>
                <a:ext cx="2207880" cy="1829880"/>
                <a:chOff x="6858000" y="2437200"/>
                <a:chExt cx="2207880" cy="18298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858000" y="2438280"/>
                  <a:ext cx="1981080" cy="1828800"/>
                </a:xfrm>
                <a:prstGeom prst="ellipse">
                  <a:avLst/>
                </a:prstGeom>
                <a:solidFill>
                  <a:srgbClr val="c9cfcd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7848720" y="2742840"/>
                  <a:ext cx="76176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613720" y="2437200"/>
                  <a:ext cx="45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648920" y="32756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7740720" y="26668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105520" y="2438280"/>
                <a:ext cx="1981080" cy="182880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6095880" y="2742840"/>
                <a:ext cx="76212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842160" y="23623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896440" y="3275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21400" y="26668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6858000" y="2438280"/>
                <a:ext cx="2073240" cy="1828800"/>
                <a:chOff x="6858000" y="2438280"/>
                <a:chExt cx="2073240" cy="18288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6858000" y="2438280"/>
                  <a:ext cx="19810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7848720" y="2742840"/>
                  <a:ext cx="76176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8747280" y="243828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648920" y="32756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 flipH="1">
                <a:off x="6857640" y="3048120"/>
                <a:ext cx="152280" cy="22860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6857640" y="3200400"/>
                <a:ext cx="228600" cy="30492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6933960" y="3429000"/>
                <a:ext cx="152280" cy="22860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934320" y="3124080"/>
                <a:ext cx="152280" cy="152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8000" y="3352680"/>
                <a:ext cx="228600" cy="152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858000" y="3581280"/>
                <a:ext cx="152280" cy="763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flipH="1">
              <a:off x="7238880" y="2133720"/>
              <a:ext cx="1066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638680" y="2133720"/>
              <a:ext cx="1066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62120" y="2408400"/>
            <a:ext cx="3612240" cy="3229560"/>
            <a:chOff x="762120" y="2408400"/>
            <a:chExt cx="3612240" cy="3229560"/>
          </a:xfrm>
        </p:grpSpPr>
        <p:grpSp>
          <p:nvGrpSpPr>
            <p:cNvPr id="338" name=""/>
            <p:cNvGrpSpPr/>
            <p:nvPr/>
          </p:nvGrpSpPr>
          <p:grpSpPr>
            <a:xfrm>
              <a:off x="2454480" y="2408400"/>
              <a:ext cx="1919880" cy="1629720"/>
              <a:chOff x="2454480" y="2408400"/>
              <a:chExt cx="1919880" cy="1629720"/>
            </a:xfrm>
          </p:grpSpPr>
          <p:sp>
            <p:nvSpPr>
              <p:cNvPr id="339" name=""/>
              <p:cNvSpPr/>
              <p:nvPr/>
            </p:nvSpPr>
            <p:spPr>
              <a:xfrm>
                <a:off x="2454480" y="2438640"/>
                <a:ext cx="169236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3300840" y="270540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22200" y="24084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104640" y="3141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2454480" y="4008240"/>
              <a:ext cx="1919880" cy="1629720"/>
              <a:chOff x="2454480" y="4008240"/>
              <a:chExt cx="1919880" cy="1629720"/>
            </a:xfrm>
          </p:grpSpPr>
          <p:sp>
            <p:nvSpPr>
              <p:cNvPr id="344" name=""/>
              <p:cNvSpPr/>
              <p:nvPr/>
            </p:nvSpPr>
            <p:spPr>
              <a:xfrm>
                <a:off x="2454480" y="4038480"/>
                <a:ext cx="169236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3300840" y="430524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922200" y="400824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104640" y="474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62120" y="2408400"/>
              <a:ext cx="1919520" cy="1629720"/>
              <a:chOff x="762120" y="2408400"/>
              <a:chExt cx="1919520" cy="1629720"/>
            </a:xfrm>
          </p:grpSpPr>
          <p:sp>
            <p:nvSpPr>
              <p:cNvPr id="349" name=""/>
              <p:cNvSpPr/>
              <p:nvPr/>
            </p:nvSpPr>
            <p:spPr>
              <a:xfrm>
                <a:off x="762120" y="2438640"/>
                <a:ext cx="169200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08120" y="270540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229480" y="24084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413360" y="3142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762120" y="4008240"/>
              <a:ext cx="1919520" cy="1629720"/>
              <a:chOff x="762120" y="4008240"/>
              <a:chExt cx="1919520" cy="1629720"/>
            </a:xfrm>
          </p:grpSpPr>
          <p:sp>
            <p:nvSpPr>
              <p:cNvPr id="354" name=""/>
              <p:cNvSpPr/>
              <p:nvPr/>
            </p:nvSpPr>
            <p:spPr>
              <a:xfrm>
                <a:off x="762120" y="4038480"/>
                <a:ext cx="169200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1608120" y="430524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29480" y="400824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413360" y="474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6858000" y="4113720"/>
            <a:ext cx="2207880" cy="1829880"/>
            <a:chOff x="6858000" y="4113720"/>
            <a:chExt cx="2207880" cy="1829880"/>
          </a:xfrm>
        </p:grpSpPr>
        <p:sp>
          <p:nvSpPr>
            <p:cNvPr id="359" name=""/>
            <p:cNvSpPr/>
            <p:nvPr/>
          </p:nvSpPr>
          <p:spPr>
            <a:xfrm>
              <a:off x="6858000" y="4114800"/>
              <a:ext cx="1981080" cy="1828800"/>
            </a:xfrm>
            <a:prstGeom prst="ellipse">
              <a:avLst/>
            </a:prstGeom>
            <a:solidFill>
              <a:srgbClr val="c9cfc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7848720" y="4419360"/>
              <a:ext cx="7617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13720" y="411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48920" y="4952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7740720" y="434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5520" y="4114800"/>
            <a:ext cx="1981080" cy="1828800"/>
          </a:xfrm>
          <a:prstGeom prst="ellipse">
            <a:avLst/>
          </a:prstGeom>
          <a:solidFill>
            <a:srgbClr val="c9cfc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095880" y="4419360"/>
            <a:ext cx="7621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4216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96440" y="495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52140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858000" y="4113720"/>
            <a:ext cx="2207880" cy="1829880"/>
            <a:chOff x="6858000" y="4113720"/>
            <a:chExt cx="2207880" cy="1829880"/>
          </a:xfrm>
        </p:grpSpPr>
        <p:sp>
          <p:nvSpPr>
            <p:cNvPr id="370" name=""/>
            <p:cNvSpPr/>
            <p:nvPr/>
          </p:nvSpPr>
          <p:spPr>
            <a:xfrm>
              <a:off x="6858000" y="4114800"/>
              <a:ext cx="19810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848720" y="4419360"/>
              <a:ext cx="7617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613720" y="411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48920" y="4952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>
            <a:off x="6857640" y="4724280"/>
            <a:ext cx="15228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857640" y="4876920"/>
            <a:ext cx="228600" cy="30456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933960" y="5105520"/>
            <a:ext cx="15228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4320" y="4800600"/>
            <a:ext cx="152280" cy="152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0" y="5029200"/>
            <a:ext cx="228600" cy="152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0" y="5257800"/>
            <a:ext cx="152280" cy="76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876920" y="4343040"/>
            <a:ext cx="0" cy="1219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2743200"/>
            <a:ext cx="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34F-E60E-4BAA-A3BB-84A332E3F2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833760" y="1065240"/>
            <a:ext cx="5380560" cy="5838480"/>
            <a:chOff x="833760" y="1065240"/>
            <a:chExt cx="5380560" cy="5838480"/>
          </a:xfrm>
        </p:grpSpPr>
        <p:grpSp>
          <p:nvGrpSpPr>
            <p:cNvPr id="383" name=""/>
            <p:cNvGrpSpPr/>
            <p:nvPr/>
          </p:nvGrpSpPr>
          <p:grpSpPr>
            <a:xfrm>
              <a:off x="833760" y="1065240"/>
              <a:ext cx="5380560" cy="5838480"/>
              <a:chOff x="833760" y="1065240"/>
              <a:chExt cx="5380560" cy="5838480"/>
            </a:xfrm>
          </p:grpSpPr>
          <p:sp>
            <p:nvSpPr>
              <p:cNvPr id="384" name=""/>
              <p:cNvSpPr/>
              <p:nvPr/>
            </p:nvSpPr>
            <p:spPr>
              <a:xfrm rot="20128800">
                <a:off x="2419200" y="47462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20128800">
                <a:off x="3790800" y="40604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20128800">
                <a:off x="3942720" y="2384280"/>
                <a:ext cx="198108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128800">
                <a:off x="2724120" y="139356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128800">
                <a:off x="1276200" y="207936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128800">
                <a:off x="1123920" y="38318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47600" y="47019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1123200" y="3880440"/>
                <a:ext cx="1904040" cy="1666440"/>
                <a:chOff x="1123200" y="3880440"/>
                <a:chExt cx="1904040" cy="1666440"/>
              </a:xfrm>
            </p:grpSpPr>
            <p:sp>
              <p:nvSpPr>
                <p:cNvPr id="392" name=""/>
                <p:cNvSpPr/>
                <p:nvPr/>
              </p:nvSpPr>
              <p:spPr>
                <a:xfrm flipV="1">
                  <a:off x="1123200" y="3881520"/>
                  <a:ext cx="573120" cy="763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123200" y="46447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1533240" y="5545800"/>
                  <a:ext cx="920880" cy="1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" name=""/>
                <p:cNvGrpSpPr/>
                <p:nvPr/>
              </p:nvGrpSpPr>
              <p:grpSpPr>
                <a:xfrm>
                  <a:off x="1697760" y="3880440"/>
                  <a:ext cx="1329480" cy="1665360"/>
                  <a:chOff x="1697760" y="3880440"/>
                  <a:chExt cx="1329480" cy="166536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>
                    <a:off x="2453040" y="4783320"/>
                    <a:ext cx="574200" cy="7624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flipV="1">
                    <a:off x="2617920" y="3881520"/>
                    <a:ext cx="407880" cy="9025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flipV="1">
                    <a:off x="1697760" y="3880440"/>
                    <a:ext cx="92016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9" name=""/>
              <p:cNvSpPr/>
              <p:nvPr/>
            </p:nvSpPr>
            <p:spPr>
              <a:xfrm rot="20128800">
                <a:off x="2495520" y="307008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495520" y="40161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2532600" y="3151440"/>
                <a:ext cx="572760" cy="76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32600" y="3914640"/>
                <a:ext cx="411120" cy="90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2943000" y="4815720"/>
                <a:ext cx="9205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3107520" y="3150360"/>
                <a:ext cx="1329480" cy="1665360"/>
                <a:chOff x="3107520" y="3150360"/>
                <a:chExt cx="1329480" cy="1665360"/>
              </a:xfrm>
            </p:grpSpPr>
            <p:sp>
              <p:nvSpPr>
                <p:cNvPr id="405" name=""/>
                <p:cNvSpPr/>
                <p:nvPr/>
              </p:nvSpPr>
              <p:spPr>
                <a:xfrm flipH="1">
                  <a:off x="3862800" y="4053240"/>
                  <a:ext cx="574200" cy="76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4027680" y="3151440"/>
                  <a:ext cx="407880" cy="90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flipV="1">
                  <a:off x="3107520" y="3150360"/>
                  <a:ext cx="9201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4324320" y="569268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1256400" y="2181960"/>
                <a:ext cx="1903680" cy="1666440"/>
                <a:chOff x="1256400" y="2181960"/>
                <a:chExt cx="1903680" cy="16664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299240" y="29401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1256400" y="2181960"/>
                  <a:ext cx="1903680" cy="1666440"/>
                  <a:chOff x="1256400" y="2181960"/>
                  <a:chExt cx="1903680" cy="166644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flipV="1">
                    <a:off x="1256400" y="218340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V="1">
                    <a:off x="1666440" y="384732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1830600" y="2181960"/>
                    <a:ext cx="1329480" cy="1665360"/>
                    <a:chOff x="1830600" y="2181960"/>
                    <a:chExt cx="1329480" cy="166536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 flipH="1">
                      <a:off x="2585880" y="308484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 flipH="1" flipV="1">
                      <a:off x="2750760" y="218304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 flipV="1">
                      <a:off x="1830600" y="218196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2723040" y="1496160"/>
                <a:ext cx="1904040" cy="1666440"/>
                <a:chOff x="2723040" y="1496160"/>
                <a:chExt cx="1904040" cy="16664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2765880" y="22543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2723040" y="1496160"/>
                  <a:ext cx="1904040" cy="1666440"/>
                  <a:chOff x="2723040" y="1496160"/>
                  <a:chExt cx="1904040" cy="166644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V="1">
                    <a:off x="2723040" y="149760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V="1">
                    <a:off x="3133080" y="316152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3297600" y="1496160"/>
                    <a:ext cx="1329480" cy="1665360"/>
                    <a:chOff x="3297600" y="1496160"/>
                    <a:chExt cx="1329480" cy="166536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 flipH="1">
                      <a:off x="4052880" y="239904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flipH="1" flipV="1">
                      <a:off x="4217760" y="149724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flipV="1">
                      <a:off x="3297600" y="149616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999600" y="2432520"/>
                <a:ext cx="1903680" cy="1666440"/>
                <a:chOff x="3999600" y="2432520"/>
                <a:chExt cx="1903680" cy="1666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042440" y="319068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999600" y="2432520"/>
                  <a:ext cx="1903680" cy="1666440"/>
                  <a:chOff x="3999600" y="2432520"/>
                  <a:chExt cx="1903680" cy="166644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3999600" y="243396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>
                    <a:off x="4409640" y="409788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4573800" y="2432520"/>
                    <a:ext cx="1329480" cy="1665360"/>
                    <a:chOff x="4573800" y="2432520"/>
                    <a:chExt cx="1329480" cy="166536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flipH="1">
                      <a:off x="5329080" y="333540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flipH="1" flipV="1">
                      <a:off x="5493960" y="243360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flipV="1">
                      <a:off x="4573800" y="243252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2418480" y="4848840"/>
                <a:ext cx="1903680" cy="1666440"/>
                <a:chOff x="2418480" y="4848840"/>
                <a:chExt cx="1903680" cy="166644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461320" y="560700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2418480" y="4848840"/>
                  <a:ext cx="1903680" cy="1666440"/>
                  <a:chOff x="2418480" y="4848840"/>
                  <a:chExt cx="1903680" cy="166644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418480" y="485028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V="1">
                    <a:off x="2828520" y="651420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2992680" y="4848840"/>
                    <a:ext cx="1329480" cy="1665360"/>
                    <a:chOff x="2992680" y="4848840"/>
                    <a:chExt cx="1329480" cy="166536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 flipH="1">
                      <a:off x="3747960" y="575172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flipH="1" flipV="1">
                      <a:off x="3912840" y="484992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flipV="1">
                      <a:off x="2992680" y="484884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3866040" y="4109040"/>
                <a:ext cx="1904040" cy="1666440"/>
                <a:chOff x="3866040" y="4109040"/>
                <a:chExt cx="1904040" cy="16664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908880" y="486720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3866040" y="4109040"/>
                  <a:ext cx="1904040" cy="1666440"/>
                  <a:chOff x="3866040" y="4109040"/>
                  <a:chExt cx="1904040" cy="166644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flipV="1">
                    <a:off x="3866040" y="411048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V="1">
                    <a:off x="4276080" y="577440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4440600" y="4109040"/>
                    <a:ext cx="1329480" cy="1665360"/>
                    <a:chOff x="4440600" y="4109040"/>
                    <a:chExt cx="1329480" cy="166536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 flipH="1">
                      <a:off x="5195880" y="501192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 flipH="1" flipV="1">
                      <a:off x="5360760" y="411012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flipV="1">
                      <a:off x="4440600" y="410904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454" name=""/>
            <p:cNvSpPr/>
            <p:nvPr/>
          </p:nvSpPr>
          <p:spPr>
            <a:xfrm>
              <a:off x="2190600" y="2917440"/>
              <a:ext cx="0" cy="17528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90600" y="4670280"/>
              <a:ext cx="1218960" cy="10666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3409920" y="4898880"/>
              <a:ext cx="1447200" cy="8380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4857480" y="3222000"/>
              <a:ext cx="0" cy="167652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3714480" y="2384280"/>
              <a:ext cx="1142640" cy="8380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2190600" y="2384280"/>
              <a:ext cx="1523520" cy="5331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14280" y="2841480"/>
              <a:ext cx="15228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14280" y="4593960"/>
              <a:ext cx="15228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33600" y="5660640"/>
              <a:ext cx="151920" cy="1526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81520" y="48225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81520" y="32223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638520" y="23079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09920" y="39081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34320" y="4043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56800" y="1926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28400" y="306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28400" y="4729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58360" y="5796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6760" y="4592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03960" y="2764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55520" y="90720"/>
            <a:ext cx="906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ESTRUCTURA ESPACIAL DE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CON IDENTICOS COMPET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327360" y="2675880"/>
            <a:ext cx="2651400" cy="2833920"/>
            <a:chOff x="6327360" y="2675880"/>
            <a:chExt cx="2651400" cy="2833920"/>
          </a:xfrm>
        </p:grpSpPr>
        <p:grpSp>
          <p:nvGrpSpPr>
            <p:cNvPr id="476" name=""/>
            <p:cNvGrpSpPr/>
            <p:nvPr/>
          </p:nvGrpSpPr>
          <p:grpSpPr>
            <a:xfrm>
              <a:off x="6327360" y="2675880"/>
              <a:ext cx="2651400" cy="2833920"/>
              <a:chOff x="6327360" y="2675880"/>
              <a:chExt cx="2651400" cy="2833920"/>
            </a:xfrm>
          </p:grpSpPr>
          <p:sp>
            <p:nvSpPr>
              <p:cNvPr id="477" name=""/>
              <p:cNvSpPr/>
              <p:nvPr/>
            </p:nvSpPr>
            <p:spPr>
              <a:xfrm rot="20128800">
                <a:off x="7106760" y="446148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20128800">
                <a:off x="7784640" y="412956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20128800">
                <a:off x="7859880" y="3318120"/>
                <a:ext cx="97920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0128800">
                <a:off x="7257600" y="283860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0128800">
                <a:off x="6541920" y="317052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20128800">
                <a:off x="6466680" y="401904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428880" y="444024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6465240" y="4041360"/>
                <a:ext cx="940320" cy="809280"/>
                <a:chOff x="6465240" y="4041360"/>
                <a:chExt cx="940320" cy="809280"/>
              </a:xfrm>
            </p:grpSpPr>
            <p:sp>
              <p:nvSpPr>
                <p:cNvPr id="485" name=""/>
                <p:cNvSpPr/>
                <p:nvPr/>
              </p:nvSpPr>
              <p:spPr>
                <a:xfrm flipV="1">
                  <a:off x="6465240" y="4041360"/>
                  <a:ext cx="285480" cy="372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468480" y="441252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>
                  <a:off x="6670080" y="4846320"/>
                  <a:ext cx="453240" cy="4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6754320" y="4041360"/>
                  <a:ext cx="651240" cy="808920"/>
                  <a:chOff x="6754320" y="4041360"/>
                  <a:chExt cx="651240" cy="80892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flipH="1">
                    <a:off x="7119720" y="4478040"/>
                    <a:ext cx="285840" cy="3722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H="1" flipV="1">
                    <a:off x="7207560" y="4041360"/>
                    <a:ext cx="197280" cy="4366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>
                    <a:off x="6754320" y="4041360"/>
                    <a:ext cx="452880" cy="28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2" name=""/>
              <p:cNvSpPr/>
              <p:nvPr/>
            </p:nvSpPr>
            <p:spPr>
              <a:xfrm rot="20128800">
                <a:off x="7144560" y="365004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44560" y="41083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7161840" y="3688200"/>
                <a:ext cx="28512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165080" y="4059360"/>
                <a:ext cx="198720" cy="436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7366680" y="4493520"/>
                <a:ext cx="45288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7450920" y="3688200"/>
                <a:ext cx="651240" cy="808920"/>
                <a:chOff x="7450920" y="3688200"/>
                <a:chExt cx="651240" cy="808920"/>
              </a:xfrm>
            </p:grpSpPr>
            <p:sp>
              <p:nvSpPr>
                <p:cNvPr id="498" name=""/>
                <p:cNvSpPr/>
                <p:nvPr/>
              </p:nvSpPr>
              <p:spPr>
                <a:xfrm flipH="1">
                  <a:off x="7816320" y="4124880"/>
                  <a:ext cx="285840" cy="37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7904160" y="3688200"/>
                  <a:ext cx="197280" cy="43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7450920" y="3688200"/>
                  <a:ext cx="45288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8048160" y="49197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531120" y="3219480"/>
                <a:ext cx="940320" cy="809640"/>
                <a:chOff x="6531120" y="3219480"/>
                <a:chExt cx="940320" cy="809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555600" y="358740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4" name=""/>
                <p:cNvGrpSpPr/>
                <p:nvPr/>
              </p:nvGrpSpPr>
              <p:grpSpPr>
                <a:xfrm>
                  <a:off x="6531120" y="3219480"/>
                  <a:ext cx="940320" cy="809640"/>
                  <a:chOff x="6531120" y="3219480"/>
                  <a:chExt cx="940320" cy="80964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 flipV="1">
                    <a:off x="6531120" y="321948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flipV="1">
                    <a:off x="6735600" y="402480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6820200" y="3219480"/>
                    <a:ext cx="651240" cy="808920"/>
                    <a:chOff x="6820200" y="3219480"/>
                    <a:chExt cx="651240" cy="80892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flipH="1">
                      <a:off x="7185600" y="365616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H="1" flipV="1">
                      <a:off x="7273440" y="321948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flipH="1">
                      <a:off x="6820200" y="321948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7255800" y="2887560"/>
                <a:ext cx="940320" cy="809640"/>
                <a:chOff x="7255800" y="2887560"/>
                <a:chExt cx="940320" cy="80964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7280280" y="325548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7255800" y="2887560"/>
                  <a:ext cx="940320" cy="809640"/>
                  <a:chOff x="7255800" y="2887560"/>
                  <a:chExt cx="940320" cy="80964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flipV="1">
                    <a:off x="7255800" y="288756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V="1">
                    <a:off x="7460640" y="369288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7544880" y="2887560"/>
                    <a:ext cx="651240" cy="808920"/>
                    <a:chOff x="7544880" y="2887560"/>
                    <a:chExt cx="651240" cy="80892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flipH="1">
                      <a:off x="7910280" y="332424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H="1" flipV="1">
                      <a:off x="7998120" y="288756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H="1">
                      <a:off x="7544880" y="288756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7886880" y="3340440"/>
                <a:ext cx="940320" cy="809640"/>
                <a:chOff x="7886880" y="3340440"/>
                <a:chExt cx="940320" cy="8096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7911360" y="370836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2" name=""/>
                <p:cNvGrpSpPr/>
                <p:nvPr/>
              </p:nvGrpSpPr>
              <p:grpSpPr>
                <a:xfrm>
                  <a:off x="7886880" y="3340440"/>
                  <a:ext cx="940320" cy="809640"/>
                  <a:chOff x="7886880" y="3340440"/>
                  <a:chExt cx="940320" cy="80964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V="1">
                    <a:off x="7886880" y="334044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>
                    <a:off x="8091360" y="414576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8175960" y="3340440"/>
                    <a:ext cx="651240" cy="808920"/>
                    <a:chOff x="8175960" y="3340440"/>
                    <a:chExt cx="651240" cy="80892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flipH="1">
                      <a:off x="8541360" y="377712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H="1" flipV="1">
                      <a:off x="8629200" y="334044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flipH="1">
                      <a:off x="8175960" y="334044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29" name=""/>
              <p:cNvGrpSpPr/>
              <p:nvPr/>
            </p:nvGrpSpPr>
            <p:grpSpPr>
              <a:xfrm>
                <a:off x="7105320" y="4510080"/>
                <a:ext cx="940320" cy="809640"/>
                <a:chOff x="7105320" y="4510080"/>
                <a:chExt cx="940320" cy="8096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7129800" y="487800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1" name=""/>
                <p:cNvGrpSpPr/>
                <p:nvPr/>
              </p:nvGrpSpPr>
              <p:grpSpPr>
                <a:xfrm>
                  <a:off x="7105320" y="4510080"/>
                  <a:ext cx="940320" cy="809640"/>
                  <a:chOff x="7105320" y="4510080"/>
                  <a:chExt cx="940320" cy="80964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flipV="1">
                    <a:off x="7105320" y="451008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V="1">
                    <a:off x="7309800" y="531540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7394400" y="4510080"/>
                    <a:ext cx="651240" cy="808920"/>
                    <a:chOff x="7394400" y="4510080"/>
                    <a:chExt cx="651240" cy="80892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flipH="1">
                      <a:off x="7759800" y="494676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 flipV="1">
                      <a:off x="7847640" y="451008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H="1">
                      <a:off x="7394400" y="451008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38" name=""/>
              <p:cNvGrpSpPr/>
              <p:nvPr/>
            </p:nvGrpSpPr>
            <p:grpSpPr>
              <a:xfrm>
                <a:off x="7820640" y="4152240"/>
                <a:ext cx="940320" cy="809640"/>
                <a:chOff x="7820640" y="4152240"/>
                <a:chExt cx="940320" cy="80964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7845120" y="452016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0" name=""/>
                <p:cNvGrpSpPr/>
                <p:nvPr/>
              </p:nvGrpSpPr>
              <p:grpSpPr>
                <a:xfrm>
                  <a:off x="7820640" y="4152240"/>
                  <a:ext cx="940320" cy="809640"/>
                  <a:chOff x="7820640" y="4152240"/>
                  <a:chExt cx="940320" cy="80964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V="1">
                    <a:off x="7820640" y="415224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V="1">
                    <a:off x="8025480" y="495756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8109720" y="4152240"/>
                    <a:ext cx="651240" cy="808920"/>
                    <a:chOff x="8109720" y="4152240"/>
                    <a:chExt cx="651240" cy="80892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H="1">
                      <a:off x="8475120" y="458892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 flipV="1">
                      <a:off x="8562960" y="415224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H="1">
                      <a:off x="8109720" y="415224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547" name=""/>
            <p:cNvSpPr/>
            <p:nvPr/>
          </p:nvSpPr>
          <p:spPr>
            <a:xfrm>
              <a:off x="6993720" y="3576600"/>
              <a:ext cx="0" cy="8481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93720" y="4425120"/>
              <a:ext cx="602280" cy="5162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7596360" y="4535640"/>
              <a:ext cx="715320" cy="4053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8311680" y="3724200"/>
              <a:ext cx="0" cy="8114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7746480" y="3318480"/>
              <a:ext cx="564840" cy="4053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993360" y="3318480"/>
              <a:ext cx="752760" cy="2577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955920" y="353988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955920" y="438804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558560" y="4904280"/>
              <a:ext cx="75240" cy="7380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274240" y="449892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74240" y="372420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709400" y="328176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596360" y="405612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81160" y="4020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90600" y="2994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268480" y="3547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268480" y="4352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43000" y="4867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66560" y="428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25160" y="3399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4876920" y="3276720"/>
            <a:ext cx="2895480" cy="7596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876920" y="4876920"/>
            <a:ext cx="2666880" cy="7596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9FD-96CD-4F81-A7AC-E38AD760AB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ódulo 3</a:t>
            </a:r>
            <a:br>
              <a:rPr sz="4400"/>
            </a:b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nfoques de modelación</a:t>
            </a:r>
            <a:br>
              <a:rPr sz="4400"/>
            </a:b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icroeconomía clásica de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sid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w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ilson &amp; Harr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BE8-177B-4C31-9425-9CCED7F1B6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El modelo de la renta agrícola: monocultivo</a:t>
            </a:r>
            <a:br>
              <a:rPr sz="32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n Thunen (1863)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2163600"/>
            <a:ext cx="0" cy="2995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5135400"/>
            <a:ext cx="4419360" cy="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46880" y="2376360"/>
            <a:ext cx="329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89480" y="199548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2697120"/>
            <a:ext cx="3814560" cy="2444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46880" y="5241960"/>
            <a:ext cx="258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38680" y="3611160"/>
            <a:ext cx="0" cy="1498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191120" y="361152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84680" y="3367080"/>
            <a:ext cx="63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9920" y="2773440"/>
            <a:ext cx="388800" cy="9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49520" y="5821200"/>
            <a:ext cx="621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le plano, con información perfecta y plena compet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32880" y="5165640"/>
            <a:ext cx="36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97880" y="52419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36640" y="6278400"/>
            <a:ext cx="69501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=renta en i   entonces  cualquier lote es indife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96200" y="2467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1040" y="2589480"/>
            <a:ext cx="3353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: cantidad producida por m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cio unitario de venta en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: costo unitari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: costo unitario d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: distancia de 0 a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la renta agrícola: monocultivo</a:t>
            </a:r>
            <a:br>
              <a:rPr sz="32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n Thunen (1863)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1752480"/>
            <a:ext cx="0" cy="29955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4724280"/>
            <a:ext cx="4952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41960" y="1965240"/>
            <a:ext cx="3292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o de mer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84560" y="158436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286000"/>
            <a:ext cx="3814920" cy="2444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41960" y="4830840"/>
            <a:ext cx="258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334120" y="3200040"/>
            <a:ext cx="0" cy="1498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86200" y="320040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60880" y="2955960"/>
            <a:ext cx="63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15000" y="2362320"/>
            <a:ext cx="388800" cy="9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49520" y="5821200"/>
            <a:ext cx="621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le plano, con información perfecta y plena compet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27960" y="4754520"/>
            <a:ext cx="36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93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7360" y="3968640"/>
            <a:ext cx="7302600" cy="17398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7640" y="1554120"/>
            <a:ext cx="2202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xcedente o 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36640" y="6278400"/>
            <a:ext cx="580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Smj=renta j   entonces  cualquier lote es indife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80880" y="2285640"/>
            <a:ext cx="3505320" cy="2438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renta agrícola: multicultivo</a:t>
            </a:r>
            <a:br>
              <a:rPr sz="3200"/>
            </a:b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2286000"/>
            <a:ext cx="0" cy="2895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5181480"/>
            <a:ext cx="571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29760" y="5241960"/>
            <a:ext cx="40428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32080" y="211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60880" y="5135400"/>
            <a:ext cx="25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971800"/>
            <a:ext cx="175248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3733920"/>
            <a:ext cx="3124080" cy="1447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419720"/>
            <a:ext cx="502920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22440" y="325296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401472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65640" y="454824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41911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47242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50680" y="5234040"/>
            <a:ext cx="4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2640" y="523404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13560" y="523404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579132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579132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57913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54864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46680" y="3535200"/>
            <a:ext cx="3825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971800"/>
            <a:ext cx="175248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2971800"/>
            <a:ext cx="990360" cy="12193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4191120"/>
            <a:ext cx="1219320" cy="5331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4724280"/>
            <a:ext cx="2819520" cy="4572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95480" y="38098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809520" y="38862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962520"/>
            <a:ext cx="30492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2376360"/>
            <a:ext cx="3886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8cf4ea"/>
                </a:solidFill>
                <a:latin typeface="Times New Roman"/>
              </a:rPr>
              <a:t>Cultivo monocéntrico: conos de mercado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1276200"/>
            <a:ext cx="0" cy="2171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14640" y="3429000"/>
            <a:ext cx="4286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72440" y="3354480"/>
            <a:ext cx="30960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79680" y="1098720"/>
            <a:ext cx="266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11520" y="3432240"/>
            <a:ext cx="19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0480" y="2314440"/>
            <a:ext cx="2343240" cy="108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28960" y="2762280"/>
            <a:ext cx="3772080" cy="57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714760"/>
            <a:ext cx="0" cy="742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3105000"/>
            <a:ext cx="0" cy="343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25080" y="3571920"/>
            <a:ext cx="3492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75160" y="3525840"/>
            <a:ext cx="357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75360" y="3602160"/>
            <a:ext cx="357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29120" y="1571760"/>
            <a:ext cx="1314360" cy="16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1752480"/>
            <a:ext cx="743040" cy="914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2657520"/>
            <a:ext cx="914400" cy="399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62520" y="3029040"/>
            <a:ext cx="2114640" cy="3427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2840" y="2743200"/>
            <a:ext cx="21337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057400"/>
            <a:ext cx="380988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20960" y="2743200"/>
            <a:ext cx="19810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8840" y="2057400"/>
            <a:ext cx="36572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3429000"/>
            <a:ext cx="0" cy="32767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76320" y="457200"/>
            <a:ext cx="7924680" cy="594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60" y="304560"/>
            <a:ext cx="7619400" cy="609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80800" y="2057400"/>
            <a:ext cx="771516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OMPETENCIA POR 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ÁREAS DE MERCADO</a:t>
            </a:r>
            <a:br>
              <a:rPr sz="4800"/>
            </a:b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aso lineal: La playa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2891-6033-48B8-B491-0C0CA95614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al ea la localización de </a:t>
            </a:r>
            <a:r>
              <a:rPr b="0" lang="es-CL" sz="3200" spc="-1" strike="noStrike">
                <a:solidFill>
                  <a:srgbClr val="cc0000"/>
                </a:solidFill>
                <a:latin typeface="Times New Roman"/>
              </a:rPr>
              <a:t>do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heladeros en la playa larg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61F8-7E8D-433A-80EE-BAFE0BED01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ál es la localización de EQUILIBRI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, 2 o 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5029200"/>
            <a:ext cx="3810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2360" y="4951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4800600"/>
            <a:ext cx="38102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4800600"/>
            <a:ext cx="3733560" cy="0"/>
          </a:xfrm>
          <a:prstGeom prst="line">
            <a:avLst/>
          </a:prstGeom>
          <a:ln w="5724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61048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038480"/>
            <a:ext cx="0" cy="68580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5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051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79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865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4688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46000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9A0-07B7-4C03-8C87-D0B3F5CCE9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09T15:48:51Z</dcterms:modified>
  <cp:revision>88</cp:revision>
  <dc:subject/>
  <dc:title>General</dc:title>
</cp:coreProperties>
</file>