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08ED-5315-44AC-A08F-A0EC2074E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73A7-8541-4E87-83EC-21B034A4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BF17-8F00-4671-B0FF-DF74EE3F2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FDBF-71C3-4056-9CF9-4CB77FDEC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C446-7B11-478B-BBE5-D416E4F6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CCC5-2FCA-4BF0-A7DD-8D6917A5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3D24-AA28-4AE2-9061-1A633083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B336-DF35-434A-BBDA-5CF2754A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09C5-C79B-4CFF-9A56-43C7FBB9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DEF6-F0D3-4675-A503-BF58B19C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ED01-E14E-46E6-AF58-E70EE508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CF2C-A133-4A97-8D92-3FEF5A90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6360-97F7-413F-ABF8-F8E0475EAE56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I61Q/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INCIPIOS DE REMEDIACION Y RESTAU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STEMA DE REMEDIACION PARA SUELO CONTAMINADO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nética de reaccio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uede ser definida como el estudio del efecto de la temperatura, presión, y concentración sobre la tasa a la cual se desarrolla una reacción quími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sa de reac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s un término usado para describir la tasa de formación o desaparición de una sustancia (o especies químicas)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reacciones generalmente resultan en la pérdida de un reactante y la ganancia o formación de un producto. En forma esquemática se puede escribir lo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tasa a la cual ocurre esta reacción, r, tiene unidades de concentración por tiempo, es decir, M/L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505320" y="4114800"/>
                <a:ext cx="21412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actante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product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23:16:03Z</dcterms:created>
  <dc:creator>Compaq</dc:creator>
  <dc:description/>
  <dc:language>en-US</dc:language>
  <cp:lastModifiedBy>Carlos Espinoza</cp:lastModifiedBy>
  <cp:lastPrinted>2002-03-07T00:28:35Z</cp:lastPrinted>
  <dcterms:modified xsi:type="dcterms:W3CDTF">2005-07-29T20:54:28Z</dcterms:modified>
  <cp:revision>49</cp:revision>
  <dc:subject/>
  <dc:title>Sin título de diapositiva</dc:title>
</cp:coreProperties>
</file>