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2F7F-9277-4153-943F-99A6895AB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0E2E-D18B-4051-B713-306C2C6AD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676A-4B03-4DDD-9310-B003240D9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3274-898F-46FD-9133-E971EB392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6395-9091-4E91-9966-4933D22F8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BC47-E62F-49C8-8DCB-E6669AE04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E66B-AFC0-4E8C-BA29-D5CED8D4E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5D5F-D06B-41A1-83FB-D2BB6E657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C108-92CA-44C1-89A2-6C6524AE6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5D18-3B92-4C08-A979-260872E9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7148-1024-4745-A234-EBB0AD5E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8924-583A-45AA-B3A5-B35A9009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77953-A253-42D1-AFAC-3F83865D8708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468520" y="5530680"/>
            <a:ext cx="719280" cy="885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00800" y="5776920"/>
            <a:ext cx="519120" cy="603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00400" y="5867280"/>
            <a:ext cx="301788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FACULTAD DE CIENCIAS FÍSICAS Y MATEMÁT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EPARTAMENTO DE INGENIERIA CIV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6553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I61Q/CI71M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RINCIPIOS DE REMEDIACION Y RESTAUR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304812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STEMA DE REMEDIACION PARA SUELO CONTAMINADO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6720" y="30492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61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2362320"/>
            <a:ext cx="7467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0000"/>
                </a:solidFill>
                <a:latin typeface="Arial"/>
              </a:rPr>
              <a:t>INTRODUCC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REACCIONES DE PRIMER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DE SEGUNDO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SIMPLES EN SER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BIOCHLOR DECISION SUPPORT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nética de reaccion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puede ser definida como el estudio del efecto de la temperatura, presión, y concentración sobre la tasa a la cual se desarrolla una reacción químic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asa de reac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es un término usado para describir la tasa de formación o desaparición de una sustancia (o especies químicas).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reacciones generalmente resultan en la pérdida de un reactante y la ganancia o formación de un producto. En forma esquemática se puede escribir lo siguie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tasa a la cual ocurre esta reacción, r, tiene unidades de concentración por tiempo, es decir, M/L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3505320" y="4114800"/>
                <a:ext cx="214128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actante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product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23:16:03Z</dcterms:created>
  <dc:creator>Compaq</dc:creator>
  <dc:description/>
  <dc:language>en-US</dc:language>
  <cp:lastModifiedBy>Carlos Espinoza</cp:lastModifiedBy>
  <cp:lastPrinted>2002-03-07T00:28:35Z</cp:lastPrinted>
  <dcterms:modified xsi:type="dcterms:W3CDTF">2005-07-29T20:54:28Z</dcterms:modified>
  <cp:revision>49</cp:revision>
  <dc:subject/>
  <dc:title>Sin título de diapositiva</dc:title>
</cp:coreProperties>
</file>