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495-16B6-483D-B6E5-4DD3A76E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4120-B193-48CD-9FDF-5CE157B3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7330-AB37-4345-98E2-E591BCAD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AB3B-D723-4312-8EC0-E7238F9C9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6E63-0065-45FA-B6C0-0EEF1AAB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3A00-7ABD-4CFC-8452-90A7145E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6AC8-32EF-4296-8183-2FCB5F79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51E9-F791-4877-9220-D3A8B4CD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EDEB-0B4A-4A95-8275-CA9D81BE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CB92-444A-4468-9F42-DC7A7F4D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8B30-B98A-4B7F-9C95-B884B6C2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5342-4A8D-4A53-9BF1-862A0AF1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6D11-3FA3-4C16-9440-64FF145E32FE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DE REMEDIACION PARA SUELO CONTAMINAD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5-07-29T20:54:28Z</dcterms:modified>
  <cp:revision>49</cp:revision>
  <dc:subject/>
  <dc:title>Sin título de diapositiva</dc:title>
</cp:coreProperties>
</file>