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2C3F-76E4-4B20-BD99-D170DDF2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F5E-F8DA-4934-8E15-CCACBA5B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F7C-5D0E-4A63-914A-C8C66C24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B2E3-1D64-474F-A3EF-265BFCC5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BD2A-0E51-4AD6-A9B3-F2724283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5B73-0FF0-4747-87C4-8DC35562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A9FE-73CD-4586-999C-B5555910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655B-4FCA-4C15-8A0F-E91A143E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42E3-76FF-4562-B6C7-20C15722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E51F-DFFD-454F-8D49-91B53D79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BB11-8AC1-436E-9924-7FD15A22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A462-DBB9-4F40-8F1D-32446E18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90B0-8290-4C68-8990-FA82A091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3705-800E-4B24-92C9-254500AD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5499-6AC7-4454-B160-9E9E764D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36E6-6CE7-4E24-B585-9B54EAC4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618A-2383-4FED-832C-C22F0FC7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CE9B-CF6F-4B8C-A876-4FB1F980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6E37-3F1D-465E-AFA0-9AF1F360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AC1-AA0A-40ED-AC7D-4C8E3866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D270-9444-438F-8BC4-C0DA0BC9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94CD-E343-4143-ABC8-85CA9A0B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7613-17EA-426A-A3E6-1F256F70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6AD4-E269-44FF-8FDF-540E5E50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b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632C-7BDF-4F8E-8EED-103D405D159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uchile" descr=""/>
          <p:cNvPicPr/>
          <p:nvPr/>
        </p:nvPicPr>
        <p:blipFill>
          <a:blip r:embed="rId2"/>
          <a:stretch/>
        </p:blipFill>
        <p:spPr>
          <a:xfrm>
            <a:off x="8305920" y="5562720"/>
            <a:ext cx="663480" cy="105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b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BAB6-97EC-4999-B071-7F72039CF10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ouchile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914400" cy="1447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b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Vinculación con el medio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Ramón Verdug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arlos Espinoz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Marcela Munizag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b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Laboratorios de investigación y prestación de servicio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Times New Roman"/>
              </a:rPr>
              <a:t>IDIEM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: Grande y con mucha historia. A pesar de no depender del DIC, tiene impacto en nuestra docencia (profesores part-time, memorias, ensayes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Times New Roman"/>
              </a:rPr>
              <a:t>LABTUS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: Metodologías en el estado del arte, grandes bases de dato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Times New Roman"/>
              </a:rPr>
              <a:t>RENADIC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: Fuente de información única y muy valiosa. Tiene impacto en nuestra docenci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Times New Roman"/>
              </a:rPr>
              <a:t>Laboratorio experimental de estructuras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: Docencia experimental, memoria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Times New Roman"/>
              </a:rPr>
              <a:t>Laboratorio de hidráulica Francisco Javier Domínguez y Laboratorio de calidad de aguas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: Docencia que combina teoría y aspectos experimentale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b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Actividades profesional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Peritaj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¿ejemplo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Asesorí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¿ejemplo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Sociedades científic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SOCHITRAN, SOCHID, ALHSUD, AIDIS, SOCHIGE, ACHISIN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b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Actividades académica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Cursos de extensión y diplomad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Diplomado en contaminación ambiental (A.M. Sancha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Diplomado en Seguridad Vial (R. Fernández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Diplomado en Construcción (R. Saragon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Organización de congres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XI Congreso Chileno de Ingeniería de Transporte, 200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V Congreso Chileno de Ingeniería Geotécnica, 200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Sextas jornadas Francisco Javier Domínguez, 20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Proyectos de transferencia tecnológi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FONDEF, FDI, FIT(MOP) Completar comisión Investiga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6:40:40Z</dcterms:created>
  <dc:creator>mm</dc:creator>
  <dc:description/>
  <dc:language>en-US</dc:language>
  <cp:lastModifiedBy>mm</cp:lastModifiedBy>
  <dcterms:modified xsi:type="dcterms:W3CDTF">2005-10-12T16:58:20Z</dcterms:modified>
  <cp:revision>1</cp:revision>
  <dc:subject/>
  <dc:title>Vinculación con el medio</dc:title>
</cp:coreProperties>
</file>