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382-107B-4634-86C5-1A9BB3AF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B1B-0950-42A3-B1C3-8ED583AF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449-02A9-4D30-A7BE-3237B52A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EB6-E522-4481-8FA7-0C8E4BFE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9BD-2E48-48B6-B911-ACCBC9B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0F6-34E9-42F1-9C63-4196CF9F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866-4572-44D3-BB4D-EAC4BD38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B5B-5135-44E6-99A1-B10A24C6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AEB-6F3F-4D7D-97F1-D7C0E1C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053-B227-46A3-8440-CC741E94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ED8-931B-45C1-A725-C334A31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766-2381-4DB8-8878-25BC9FF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4E3E-C785-4A14-8DF8-3BDF1C5C81E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Times New Roman"/>
              </a:rPr>
              <a:t>Comportamiento de usuarios del sistema de 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Profesora 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Departamento de Ingeniería Civil, 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28 octubr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alles o líneas usa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do que decidimos caminar,               podríamos caminar hasta Alameda                 por Almirante Latorre, o por                  Ejército, o por Vergara. Luego podemos entrar al centro por Morandé o por Ahumada o por esta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9966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553080" y="1676520"/>
          <a:ext cx="21351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676520"/>
                    <a:ext cx="21351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qué dependen estas decisio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uma de las decisiones individuales de todos los habitantes de la ciudad, define el estado del sistema de transporte desde el punto de vista de la dema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s en r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en calidad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400800" y="4191120"/>
          <a:ext cx="179244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17924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soy capaz d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nten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manda de transporte, podré predecir lo que va a pasar a fut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Planificar la ciu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Evaluar proy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Anticipar situ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477120" y="2362320"/>
          <a:ext cx="171288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362320"/>
                    <a:ext cx="17128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ómeno an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bración” del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r lo que la gente h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untar lo que haría en una determinada sit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os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 la var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dad de predec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ear un e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r las condicionantes para ese e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r 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dad de predec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5400" y="1981080"/>
          <a:ext cx="76932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981080"/>
                    <a:ext cx="7693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971800" y="312408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724280" y="4266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3336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mpacto de Tran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uarios toman deci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386080"/>
          <a:ext cx="38098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38098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quier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los entende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De qué nos sirve entende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quieren las person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19920" y="2743200"/>
          <a:ext cx="1455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43200"/>
                    <a:ext cx="1455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los entendem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oría de la utilidad ale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usuarios buscan la máxima felicidad posible, para lo cual cuentan con tiempo y dinero limi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6520" y="1984320"/>
          <a:ext cx="3810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984320"/>
                    <a:ext cx="381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638680" y="1905120"/>
          <a:ext cx="2791080" cy="34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905120"/>
                    <a:ext cx="27910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se obtiene la máxima felicidad posi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943600" y="1676520"/>
          <a:ext cx="2814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814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realizar esas actividades, primero necesito llegar al lugar en que puedo realizarlas..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o medio y no como f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2529000"/>
          <a:ext cx="38098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29000"/>
                    <a:ext cx="38098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ero realizar una actividad (que no puedo realizar aquí y ahora) ==&gt; necesito via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visitar a un ami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estud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traba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a actividad me reporta tanta utilidad (felicidad) que soy capaz de tolerar la molestia que significa viajar.</a:t>
            </a: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     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Hacia donde viaj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 amigo y yo decidimos ir al cine, pero...      ¿a qué cine v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Hoyts de La Reina dan un montón de películas, pero queda le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del Plaza Vespucio es bueno, pero tomar la línea 5 del metro es complicado desde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vamos a los del cent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799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66"/>
                </a:solidFill>
                <a:latin typeface="Times New Roman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nos va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amin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nos sale grat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un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c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re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el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et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xi colec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ríamos tomar u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x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02:55:55Z</dcterms:created>
  <dc:creator>Marcela Munizaga</dc:creator>
  <dc:description/>
  <dc:language>en-US</dc:language>
  <cp:lastModifiedBy>mm</cp:lastModifiedBy>
  <cp:lastPrinted>2004-04-23T04:14:07Z</cp:lastPrinted>
  <dcterms:modified xsi:type="dcterms:W3CDTF">2005-10-27T17:47:03Z</dcterms:modified>
  <cp:revision>11</cp:revision>
  <dc:subject/>
  <dc:title>Comportamiento de usuarios del sistema de transporte</dc:title>
</cp:coreProperties>
</file>