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4725-981B-4EC4-AAB4-33832468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6AF-83AC-4600-A9C1-2FB31EBB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893-BEC3-451E-B320-3C7E8AE2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045-C062-4BB3-A594-03CD6212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A76-6E9F-44D9-8F2D-D56ED9BF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E68-56CA-4B16-8A87-B8EB247F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747-5F06-437D-B6AF-8BB88D7E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566F-753B-4B3B-8D35-8514B55E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CD12-9050-4E3A-8839-BE17984E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157-3D04-4A72-A81A-65C00F3D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FAD-7AFF-4040-AA95-B10551ED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987-7EA5-43D6-8296-6103CDC7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D6D8-2CA2-46F7-BDC3-238DCCC9ACB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Times New Roman"/>
              </a:rPr>
              <a:t>Comportamiento de usuarios del sistema de trans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mand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Profesora 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Departamento de Ingeniería Civil, Universidad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28 octubre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Qué decisiones tom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alles o líneas usare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do que decidimos caminar,               podríamos caminar hasta Alameda                 por Almirante Latorre, o por                  Ejército, o por Vergara. Luego podemos entrar al centro por Morandé o por Ahumada o por estad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>
              <a:spcBef>
                <a:spcPts val="700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9966"/>
                </a:solidFill>
                <a:latin typeface="Times New Roman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553080" y="1676520"/>
          <a:ext cx="21351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676520"/>
                    <a:ext cx="21351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De qué dependen estas decision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Para qué me sirve entender es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suma de las decisiones individuales de todos los habitantes de la ciudad, define el estado del sistema de transporte desde el punto de vista de la deman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lib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s en re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cia en calidad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400800" y="4191120"/>
          <a:ext cx="179244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179244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Para qué me sirve entender es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soy capaz d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ntend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manda de transporte, podré predecir lo que va a pasar a futu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Planificar la ciu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Evaluar proyec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Anticipar situ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477120" y="2362320"/>
          <a:ext cx="171288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2362320"/>
                    <a:ext cx="171288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Para qué me sirve entender es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nómeno ana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bración” del mod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lección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r lo que la gente h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untar lo que haría en una determinada sit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lección de 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ue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os de fl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ia de la var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acidad de predec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tear un e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r las condicionantes para ese e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car el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acidad de predec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25400" y="1981080"/>
          <a:ext cx="76932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981080"/>
                    <a:ext cx="7693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971800" y="3124080"/>
            <a:ext cx="25909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724280" y="4266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133360" y="4191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mpacto de Tran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tición mod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ig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uarios toman deci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2386080"/>
          <a:ext cx="380988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380988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é quier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Cómo los entende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é decisiones tom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De qué nos sirve entenderl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Qué quieren las persona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19920" y="2743200"/>
          <a:ext cx="1455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43200"/>
                    <a:ext cx="1455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Cómo los entendem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oría de la utilidad ale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usuarios buscan la máxima felicidad posible, para lo cual cuentan con tiempo y dinero limi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46520" y="1984320"/>
          <a:ext cx="3810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6520" y="1984320"/>
                    <a:ext cx="3810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638680" y="1905120"/>
          <a:ext cx="2791080" cy="346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1905120"/>
                    <a:ext cx="279108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Cómo se obtiene la máxima felicidad posi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943600" y="1676520"/>
          <a:ext cx="28144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76520"/>
                    <a:ext cx="28144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o 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realizar esas actividades, primero necesito llegar al lugar en que puedo realizarlas..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mo medio y no como f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48320" y="2529000"/>
          <a:ext cx="380988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29000"/>
                    <a:ext cx="38098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Qué decisiones tom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ero realizar una actividad (que no puedo realizar aquí y ahora) ==&gt; necesito viaj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visitar a un ami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estud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trabaj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comp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a actividad me reporta tanta utilidad (felicidad) que soy capaz de tolerar la molestia que significa viajar.</a:t>
            </a: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     Gen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Qué decisiones tom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Hacia donde viaj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 amigo y yo decidimos ir al cine, pero...      ¿a qué cine v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Hoyts de La Reina dan un montón de películas, pero queda le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del Plaza Vespucio es bueno, pero tomar la línea 5 del metro es complicado desde aqu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 vamos a los del centr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799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9966"/>
                </a:solidFill>
                <a:latin typeface="Times New Roman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Qué decisiones tom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Cómo nos va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mo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amin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nos sale grat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mos tomar una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ic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 re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mos tomar el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et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mos toma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axi colectiv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ríamos tomar u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ax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700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Partición 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3T02:55:55Z</dcterms:created>
  <dc:creator>Marcela Munizaga</dc:creator>
  <dc:description/>
  <dc:language>en-US</dc:language>
  <cp:lastModifiedBy>mm</cp:lastModifiedBy>
  <cp:lastPrinted>2004-04-23T04:14:07Z</cp:lastPrinted>
  <dcterms:modified xsi:type="dcterms:W3CDTF">2005-10-27T17:47:03Z</dcterms:modified>
  <cp:revision>11</cp:revision>
  <dc:subject/>
  <dc:title>Comportamiento de usuarios del sistema de transporte</dc:title>
</cp:coreProperties>
</file>