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431-13FF-43EC-8FB8-ED031DD2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9FA-63F7-40A2-8E4E-D006A9B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A64-E5F8-4008-A79C-64CB7DDD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53B-9452-488E-9537-4E6103D6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F46-A128-4EF2-86D9-519DA03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601-A881-4282-B18F-A3105EF3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B8F-A001-4272-80DB-8F30DA8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6E2-BD0C-4ACD-B527-3F7A083D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E3C-0E4B-43CB-98E2-D2316E6E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93E-23BE-4263-A796-E4BCD05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A38-15BE-49C8-ACB2-7346F60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810-3126-4FD4-88E6-1C859CD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B37-5E40-457F-801D-F0C1DBC706F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Times New Roman"/>
              </a:rPr>
              <a:t>Comportamiento de usuarios del sistema de 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rofesora 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Departamento de Ingeniería Civil, 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28 octubr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alles o líneas usa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do que decidimos caminar,               podríamos caminar hasta Alameda                 por Almirante Latorre, o por                  Ejército, o por Vergara. Luego podemos entrar al centro por Morandé o por Ahumada o por esta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9966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553080" y="1676520"/>
          <a:ext cx="21351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676520"/>
                    <a:ext cx="21351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qué dependen estas decisio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uma de las decisiones individuales de todos los habitantes de la ciudad, define el estado del sistema de transporte desde el punto de vista de la dema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s en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en calidad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400800" y="4191120"/>
          <a:ext cx="17924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17924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soy capaz d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nten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manda de transporte, podré predecir lo que va a pasar a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Planificar la ciu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Evaluar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Anticipar situ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477120" y="2362320"/>
          <a:ext cx="171288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362320"/>
                    <a:ext cx="1712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ara qué me sirve entender es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ómeno an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bración” d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r lo que la gente h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untar lo que haría en una determinada sit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os de fl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 la var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ear un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r las condicionantes para ese e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r 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dad de predec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5400" y="1981080"/>
          <a:ext cx="76932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81080"/>
                    <a:ext cx="7693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971800" y="312408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7242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3336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mpacto de Tran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uarios toman deci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386080"/>
          <a:ext cx="380988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38098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quier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De qué nos sirve entende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quieren las person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19920" y="2743200"/>
          <a:ext cx="1455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43200"/>
                    <a:ext cx="1455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los entendem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oría de la utilidad ale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usuarios buscan la máxima felicidad posible, para lo cual cuentan con tiempo y dinero limi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6520" y="198432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98432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638680" y="1905120"/>
          <a:ext cx="2791080" cy="34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905120"/>
                    <a:ext cx="27910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se obtiene la máxima felicidad po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1676520"/>
          <a:ext cx="2814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814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realizar esas actividades, primero necesito llegar al lugar en que puedo realizarlas..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o medio y no como f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2529000"/>
          <a:ext cx="38098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29000"/>
                    <a:ext cx="38098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ro realizar una actividad (que no puedo realizar aquí y ahora) ==&gt; necesito via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visitar a un ami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estud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a actividad me reporta tanta utilidad (felicidad) que soy capaz de tolerar la molestia que significa viajar.</a:t>
            </a:r>
            <a:r>
              <a:rPr b="0" lang="en-US" sz="3200" spc="-1" strike="noStrike">
                <a:solidFill>
                  <a:srgbClr val="339966"/>
                </a:solidFill>
                <a:latin typeface="Times New Roman"/>
              </a:rPr>
              <a:t>     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Hacia donde viaj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 amigo y yo decidimos ir al cine, pero...      ¿a qué cine v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Hoyts de La Reina dan un montón de películas, pero queda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del Plaza Vespucio es bueno, pero tomar la línea 5 del metro es complicado desde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vamos a los del cent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799"/>
              </a:spcBef>
              <a:buClr>
                <a:srgbClr val="33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66"/>
                </a:solidFill>
                <a:latin typeface="Times New Roman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decisiones tom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nos v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amin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nos sale grat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un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c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re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el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et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mos toma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 colec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ríamos tomar u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a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700"/>
              </a:spcBef>
              <a:buClr>
                <a:srgbClr val="33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02:55:55Z</dcterms:created>
  <dc:creator>Marcela Munizaga</dc:creator>
  <dc:description/>
  <dc:language>en-US</dc:language>
  <cp:lastModifiedBy>mm</cp:lastModifiedBy>
  <cp:lastPrinted>2004-04-23T04:14:07Z</cp:lastPrinted>
  <dcterms:modified xsi:type="dcterms:W3CDTF">2005-10-27T17:47:03Z</dcterms:modified>
  <cp:revision>11</cp:revision>
  <dc:subject/>
  <dc:title>Comportamiento de usuarios del sistema de transporte</dc:title>
</cp:coreProperties>
</file>