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D1B4-22DD-47E6-8C1C-538D8B88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09AE-28D1-470C-B412-7CFD95F3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825A-ADCC-4B44-9C1A-089A7896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84B5-D835-4D40-AEA9-783D9466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3A66-2F6B-4D4B-A702-6210B94F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8994-167A-439A-A3CB-7F648E4C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658C-8F41-4333-AC8E-EDACFB05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B668-E98B-486E-8ECC-0F7B316F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A137-400E-486C-81AD-F7C92844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1BD5-64A6-490D-B806-BEECBE76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4E9C-73FD-4168-8526-D0D6D842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F760-E017-4442-B87C-0D96E77D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F287-F29F-4093-A837-BDEF5FE3B523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DE REMEDIACION PARA SUELO CONTAMINAD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5-07-29T20:54:28Z</dcterms:modified>
  <cp:revision>49</cp:revision>
  <dc:subject/>
  <dc:title>Sin título de diapositiva</dc:title>
</cp:coreProperties>
</file>