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224-38D2-407F-8908-D3180DC3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879-0269-4EA4-93BA-63E69064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BDF-6C4E-42D0-93E4-301D12DF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106-9C8C-4262-AED0-322F3690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084-B9FC-4C18-969D-29D3FC4E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C75-4691-4608-AAB1-C12CB76D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CCF-FF84-4EF8-ABD5-ED94610A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C4A-84B4-4776-BE3E-DA85348F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AB2-3D91-499C-A12B-3CB6B5D5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682-FE20-48E4-B76F-1E026E01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493-B634-402E-85FC-E4D5506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292-6DB9-4E6B-AEF3-6F5A7836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1FEF-A39C-49F3-95A2-632EDCE8EED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DE REMEDIACION PARA SUELO CONTAMINADO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5-07-29T20:54:28Z</dcterms:modified>
  <cp:revision>49</cp:revision>
  <dc:subject/>
  <dc:title>Sin título de diapositiva</dc:title>
</cp:coreProperties>
</file>