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546-0C5C-430E-9809-08F16B9B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931-7952-4008-B1C3-E6EF2260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0B4-5CFF-47F8-A3EB-C49E36B7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E98-C397-4947-8024-4D9F6687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7A48-88BA-4498-A43D-5560124F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C1A2-5E92-4EA4-8D2C-A7EDD903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4391-40C2-4390-9080-70B3702F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0DC9-258F-4139-9371-80CEDCC8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C869-166A-400A-B4B5-C6CC3C82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A69E-5C27-4754-B6A8-F3DC3EFB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409D-7512-45D2-AC47-55F57B2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0FC2-42E5-48F4-B87B-AD1D8FB8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1004-C6CB-4F40-B8A8-9F1C191D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65E2-89D9-4D09-88DA-C10F39D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38BD-F2C9-415C-A35D-1A6EEE57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AC39-D6F9-4A3B-8265-47179358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2422-CE68-4C2B-ACD9-28426260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A73-8EE8-436D-BFE0-0ACC2031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65A-1859-4E16-8CF1-A4EE8DA9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710-370D-4D6F-BE7F-02FA6E85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910-D370-49EA-A27B-1FE3E769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135-4B43-4DCA-B11B-3E898B49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92F-91BF-4BB4-B92B-23A6A562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B01-6E63-4A5B-A882-9B8FD31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979D-9F5F-4EBE-9399-6AB8CE3AFDBB}" type="slidenum">
              <a:rPr b="0" lang="es-C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C35B-0F14-4219-976B-2CEA7F3B6A81}" type="slidenum">
              <a:rPr b="0" lang="es-C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Arial"/>
              </a:rPr>
              <a:t>CI 56B SEMINARIO</a:t>
            </a:r>
            <a:br>
              <a:rPr sz="3200"/>
            </a:br>
            <a:r>
              <a:rPr b="1" lang="es-ES_tradnl" sz="3200" spc="-1" strike="noStrike">
                <a:solidFill>
                  <a:srgbClr val="ccecff"/>
                </a:solidFill>
                <a:latin typeface="Arial"/>
              </a:rPr>
              <a:t>RESIDUOS INDUSTRIALES LIQUID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Remoción de dureza, metales, cloruros, sulfatos, radioactiv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requieren aproximadamente 3 mg de NaCl para desplazar cada mg de dureza removida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609480"/>
          <a:ext cx="7772400" cy="17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772400" cy="17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371600" y="2590920"/>
          <a:ext cx="662940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6629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Arial"/>
              </a:rPr>
              <a:t>Presencias de metales en aguas residua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00200" y="1600200"/>
          <a:ext cx="5613480" cy="4518000"/>
        </p:xfrm>
        <a:graphic>
          <a:graphicData uri="http://schemas.openxmlformats.org/drawingml/2006/table">
            <a:tbl>
              <a:tblPr/>
              <a:tblGrid>
                <a:gridCol w="1654200"/>
                <a:gridCol w="395928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  </a:t>
                      </a: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Me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Uso en la industr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sén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itivo en aleación de metales Pb-Cu especialmente,en sondas, mallas, recubrimiento de cabl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le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lectrónica, cámaras de televisión, células fotoeléctricas, placas solares, cerámicas, et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1905120"/>
          <a:ext cx="8001000" cy="3422520"/>
        </p:xfrm>
        <a:graphic>
          <a:graphicData uri="http://schemas.openxmlformats.org/drawingml/2006/table">
            <a:tbl>
              <a:tblPr/>
              <a:tblGrid>
                <a:gridCol w="2357280"/>
                <a:gridCol w="564372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  </a:t>
                      </a: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Me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Uso en la industr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r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eaciones de tuberías de aspiración, desoxidante del cobre, aleaciones para bují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dm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eaciones maleables, sistema protección contra incendios, cables de transmisión de potencia, fosforescencia en televisión, etc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ecff"/>
                </a:solidFill>
                <a:latin typeface="Arial"/>
              </a:rPr>
              <a:t>Presencias de metales en aguas residu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76280" y="1808280"/>
          <a:ext cx="8077320" cy="4348080"/>
        </p:xfrm>
        <a:graphic>
          <a:graphicData uri="http://schemas.openxmlformats.org/drawingml/2006/table">
            <a:tbl>
              <a:tblPr/>
              <a:tblGrid>
                <a:gridCol w="2379600"/>
                <a:gridCol w="56977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Me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  </a:t>
                      </a: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Uso en la industr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om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eaciones y recubrimientos de superficies metálicas y plásticos para aumentar resistencia a corrosión, aceros inoxidables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om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las, aditivo de gasolinas, revestimiento de cables, municiones, conducciones, aleaciones para soldaduras y fusiones, chap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Arial"/>
              </a:rPr>
              <a:t>Presencias de metales en aguas residu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31640" y="1673280"/>
          <a:ext cx="8001000" cy="4141800"/>
        </p:xfrm>
        <a:graphic>
          <a:graphicData uri="http://schemas.openxmlformats.org/drawingml/2006/table">
            <a:tbl>
              <a:tblPr/>
              <a:tblGrid>
                <a:gridCol w="2357640"/>
                <a:gridCol w="5643360"/>
              </a:tblGrid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Me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Uso en la industr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algamas, aparatos eléctricos de catálisis, recubrimiento de espejos, lámparas de arc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bricación de nitrato de plata, productos fotoquímicos,  espejos, conductores de electricidad, purificación de agua, joyería, equipos médicos, amalgamas dentales, etc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Arial"/>
              </a:rPr>
              <a:t>Presencias de metales en aguas residu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PRESENCIA DE METALES PESADOS Y FLUOR  EN  AGUAS RESIDUALES DE CIERTAS INDUSTRIA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200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Precipitación química: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formación de sales insolubles por variación de pH.</a:t>
            </a: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Oxido-reducción: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los metales se transforman en especies insolubles. Ej:  Fe, Mn, Cr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Coagulación: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la coagulación con sulfato de aluminio elimina muy bien Ag, Pb, As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Verdana"/>
              </a:rPr>
              <a:t>(+5)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, Cr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Verdana"/>
              </a:rPr>
              <a:t>(+3)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y Cd y en mucho menor grado Hg y 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Adsorción en alúmina activada: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se obtienen buenas remociones de As y Se. En menor proporción para Ba, Ra y C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moción de met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Verdana"/>
              </a:rPr>
              <a:t>Adsorción en carbón activado en polvo: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dosis normalmente usadas (20gr/m3) son poco eficaces para la eliminación de metales pesados. Sería necesario usar dosis mucho mayores de carbón activad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Verdana"/>
              </a:rPr>
              <a:t>Adsorción en  carbón activado en grano: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se obtienen buenas remociones de algunos metales. Hg se remueve por completo. Cd, Ag, Ba, Ra y Cr en muy baja proporc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Verdana"/>
              </a:rPr>
              <a:t>Resinas de intercambio iónico: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se obtienen buenas remociones de Ba, Rd, Cd, Pb y Cr(+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Verdana"/>
              </a:rPr>
              <a:t>Osmosis inversa y electrodiálisis: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se obtienen buenas remociones de As, Ba, Cr, Pb, Cd, Se, Ag, Ra, H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701640" y="32364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moción de met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279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REMOCION DE METALES POR PRECIPITAC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nivel de remoción de  metales está limitado por su solubilidad en agua y por lo tanto si se tiene una mezcla de metales, en el agua residual a tratar, es probable que el grado de remoción requerido no sea posible que se alcance a un  valor de pH único y en tal caso se requerirá  ajustes de pH y tratamiento en etapas. Posteriormente el  sólido precipitado se remueve por sedimentación gravitacional y/o filtr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a remoción de metales por precipitación,en general, requiere ajuste de pH a un valor apropiado para la precipitación del metal (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</a:rPr>
              <a:t>pH alcalino para la precipitación en forma de hidróxido y pH ácido para la precipitación en forma de sulfuro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lgunas materias orgánicas se combinan con los metales inhibiendo sus características de sedimentabil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914400"/>
          <a:ext cx="8305920" cy="55753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68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ivos mas usados en precipitación de metal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Cal, Ca(OH)</a:t>
                      </a:r>
                      <a:r>
                        <a:rPr b="1" lang="es-ES_tradnl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Cáustico, NaO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Sulfuro, NaHS y F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ctivo de bajo cost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nera mayor volumen de lodo. La calidad  del lodo generado lo hacen poco utiliz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ás caro que cal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nera volúmenes de lodo menores. Lodo adecuado para reutiliza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tamiento efectivo a concentraciones reducidas. Lodo adecuado para su reutiliza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Arial"/>
              </a:rPr>
              <a:t>REMOCION DE CONTAMINANTES ESPECIFICO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moción de dure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moción de metal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moción de cloru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moción de sulfa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moción de elementos radioactiv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ecff"/>
                </a:solidFill>
                <a:latin typeface="Arial"/>
              </a:rPr>
              <a:t>Remoción de Alumin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l Aluminio comienza a ser altamente soluble si el pH se eleva much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l Aluminio forma un precipitado insoluble cuando el pH está entre 6 y 8, pero el precipitado se redisuelve sobre pH 8, haciendo imposible removerlo a ese pH por métodos físic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MOCION DE Fe y M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Oxidación y filtra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Tratamientos Biológic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iltración a través de medios especi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Intercambio ióni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dsorción en carbón Activa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ecff"/>
                </a:solidFill>
                <a:latin typeface="Arial"/>
              </a:rPr>
              <a:t>Remoción de Fe y M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Tratamiento por oxidación y filtra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3520" y="2933640"/>
          <a:ext cx="861048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33640"/>
                    <a:ext cx="861048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22360" y="18900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REMOCION DE Fe y M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Verdana"/>
              </a:rPr>
              <a:t>Tratamientos biológicos: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el metabolismo de algunos microorganismos autótrofos se basa en la oxidación del hierro y manganeso. En condiciones favorables las reacciones son muy rápidas y la eliminación de estos metales es comple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Verdana"/>
              </a:rPr>
              <a:t>Filtración a través de materiales especiales: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materiales recubiertos con Mn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(arenas verdes) que funcionan como intercambiadores de electrones: el Mn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oxida el Fe y Mn bivalentes que precipitan y son retenidos por la masa filtrante. Cuando el agua cruda se ha sometido previamente a una aeración, los metales recubiertos de Mn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actúan como catalizadores en la oxidación del Fe y M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cc"/>
                </a:solidFill>
                <a:latin typeface="Verdana"/>
              </a:rPr>
              <a:t>REMOCION DE Fe y M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Verdana"/>
              </a:rPr>
              <a:t>Intercambio iónico: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aplicable solo a concentraciones bajas de  Fe y M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Verdana"/>
              </a:rPr>
              <a:t>Carbón activado: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requiere previamente la aplicación de un oxidante fuerte como el ozono o el permanganato. El método se justifica cuando además se desea eliminar sab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57360" y="323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REMOCION DE CROM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09160" indent="-209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Cr se remueve en dos etapas: reducción del Cr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Verdana"/>
              </a:rPr>
              <a:t>(+6)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a Cr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Verdana"/>
              </a:rPr>
              <a:t>(+3)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bajo condiciones ácidas (pH=3) seguida de una precipitación del Cr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Verdana"/>
              </a:rPr>
              <a:t>(+3)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bajo condiciones alcalinas (pH 8 a 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0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97000" y="2573280"/>
          <a:ext cx="8534160" cy="17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2573280"/>
                    <a:ext cx="85341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11280" y="4824360"/>
          <a:ext cx="777240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824360"/>
                    <a:ext cx="7772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Esquema de tratamiento de aguas industriales contaminadas por Cr (VI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1752480"/>
          <a:ext cx="7772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MOCION DE ARSEN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Oxidación-Coagulación-Filtración (microfiltració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dsorción en medios adsorbentes (en base a óxidos de Fe y Mn principalmen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dsorción en alúmina activa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Osmosis inver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Intercambio ióni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Arial"/>
              </a:rPr>
              <a:t>LIMITES MAXIMOS DE CONCENTRACION DE METALES EN DESCARGAS DE RESIDUOS LIQUIDOS A AGUAS MARINAS Y CONTINENTALES SUPERFICIALE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421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moción de Cloruros (Cl-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 intercambio iónico es el único proceso químico capaz de eliminar los cloruros del agu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ocesos físicos como la evaporación y osmosis inversa pueden separar el agua en dos corrientes, una de ellas con un contenido reducido de cloruros y la otra con un contenido may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Arial"/>
              </a:rPr>
              <a:t>REQUERIMIENTOS DE REMOCION DE DUREZA EN AGUAS DE PROCESOS INDUSTRIA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alder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Industria de bebidas de fantas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Industria farmacéut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Tintorerí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Lavanderí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Textiles y curtiemb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Arial"/>
              </a:rPr>
              <a:t>REMOCION DE SULFATOS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Precipitación con cal o cal-aluminato o con carbonato de bari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Intercambio ióni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-3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Arial"/>
              </a:rPr>
              <a:t>Eliminación de residuos radioactivo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1133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os residuos radioactivos se generan en aplicaciones  de los isótopos radioactivos en la industria, la medicina ( yodo 131 para estudio de tiroides,  cobalto 60 y cesio 137 en terapia de cáncer) y la investigación y están constituidos por cualquier material de desecho que esté contaminado por dichos radioisótop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el caso de yodo 131 como éste es de vida media corta basta con almacenarlo para su decaimiento ,un par de meses, para que pueda eliminarse como residuo convencion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el caso de cobalto 60 y cesio 137 que se ocupan como fuentes encapsuladas para radiación, no se producen residuos de forma continuada pero, al cabo de cierto tiempo, cuando las fuentes van perdiendo su actividad y dejen de ser útiles, hay que gestionarlos como residuos radioactivos siguiendo las directrices  emanadas de los organismos responsables (CCHE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5790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lta 80%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edia 20-80%     Baja 20%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04920" y="457200"/>
          <a:ext cx="8458200" cy="4229280"/>
        </p:xfrm>
        <a:graphic>
          <a:graphicData uri="http://schemas.openxmlformats.org/drawingml/2006/table">
            <a:tbl>
              <a:tblPr/>
              <a:tblGrid>
                <a:gridCol w="1409760"/>
                <a:gridCol w="2247840"/>
                <a:gridCol w="1066680"/>
                <a:gridCol w="1143000"/>
                <a:gridCol w="1066680"/>
                <a:gridCol w="152424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oces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incipales aplicaciones en tratamiento de agu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Efectividad del proc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so mas prob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l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Ba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agulac/Flocula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ficación de agua superfi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de algunos met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 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 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 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g(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g (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 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de SS de agua superfi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04920" y="228600"/>
          <a:ext cx="8458200" cy="5783400"/>
        </p:xfrm>
        <a:graphic>
          <a:graphicData uri="http://schemas.openxmlformats.org/drawingml/2006/table">
            <a:tbl>
              <a:tblPr/>
              <a:tblGrid>
                <a:gridCol w="1611360"/>
                <a:gridCol w="2046240"/>
                <a:gridCol w="1066680"/>
                <a:gridCol w="1143000"/>
                <a:gridCol w="990720"/>
                <a:gridCol w="160020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oces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incipales aplicaciones en tratamiento de agu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Efectividad del proc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so más prob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l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Ba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ca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tión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dureza y algunos metales en aguas subterrán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 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de Ba y Ra en agua subterrán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ca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ión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de nitrato de aguas subterrán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 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de NO3 en aguas subterrán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06280" y="228600"/>
          <a:ext cx="8937720" cy="6146640"/>
        </p:xfrm>
        <a:graphic>
          <a:graphicData uri="http://schemas.openxmlformats.org/drawingml/2006/table">
            <a:tbl>
              <a:tblPr/>
              <a:tblGrid>
                <a:gridCol w="1489320"/>
                <a:gridCol w="2376360"/>
                <a:gridCol w="1127160"/>
                <a:gridCol w="1206360"/>
                <a:gridCol w="866880"/>
                <a:gridCol w="187164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oces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incipales aplicaciones en tratamiento de agu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Efectividad del proc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so más prob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l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Ba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úmina activ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de flúor de aguas subterrán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 F, As y Se en agua subterrán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bón activado granular (GA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de sabor, olores y orgánic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g (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g(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de Hg de agua superficial y subterrán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15920" y="68400"/>
          <a:ext cx="8786880" cy="6424560"/>
        </p:xfrm>
        <a:graphic>
          <a:graphicData uri="http://schemas.openxmlformats.org/drawingml/2006/table">
            <a:tbl>
              <a:tblPr/>
              <a:tblGrid>
                <a:gridCol w="1576440"/>
                <a:gridCol w="2475000"/>
                <a:gridCol w="898200"/>
                <a:gridCol w="1143000"/>
                <a:gridCol w="838440"/>
                <a:gridCol w="185580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oces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Principales aplicaciones en tratamiento de agu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Efectividad del proc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Uso más prob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Al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ecff"/>
                          </a:solidFill>
                          <a:latin typeface="Verdana"/>
                        </a:rPr>
                        <a:t>Ba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smosis inversa y electro diáli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alinización de agua de mar o de aguas subterráneas salob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 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 I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oción de todos los inorgánico de aguas subterrá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ccecff"/>
                </a:solidFill>
                <a:latin typeface="Arial"/>
              </a:rPr>
              <a:t>Remoción de Dureza o Ablandamient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a dureza es producida, básicamente, por la presencia de Calcio y Magnesi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os métodos principales para remover dureza o  ablandar aguas son: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ecipitación con cal  soda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Intercambio  Iónico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Arial"/>
              </a:rPr>
              <a:t>Ablandamiento por precipitación con cal y so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a adición de cal y soda produce la precipitación del  Ca  como CaC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aumentando la concentración de carbonato en el agua; el Mn también se precipita al aumentar la concentración de iones OH. La precipitación es factible gracias a la baja solubilidad del CaC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Verdana"/>
              </a:rPr>
              <a:t>3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y del Mg (OH)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Un proceso posterior de recarbonatación (adición de C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) elimina el exceso de cal y la precipitación del carbonato de calc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os compuestos insolubles del proceso forman flóculos sedimentables que pueden ser removidos como lodo en estanques de sedimentación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Reacciones básicas del proceso de ablandamiento con cal-so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Dureza carbonata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a (H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Ca(OH)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=2Ca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+2H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Mg(H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Ca(OH)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=Ca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3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Mg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2H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  </a:t>
            </a: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Dureza de magnes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Mg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Ca(OH)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=Ca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3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Mg(OH)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MgS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Ca(OH)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=Mg(OH)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CaS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Dureza no carbonata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aS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Na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=Ca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3 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NaS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cc"/>
                </a:solidFill>
                <a:latin typeface="Verdana"/>
              </a:rPr>
              <a:t>Dióxido de carbo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Ca(OH)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=CaCO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3 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+H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5943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cccc"/>
                </a:solidFill>
                <a:latin typeface="Verdana"/>
              </a:rPr>
              <a:t>OBJETIVOS DEL PROCESO DE RECARBONATAC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i) Convertir el exceso de Ca(OH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agregado al agua en Ca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para permitir así su precipitación y emoción y convertir el Mg(OH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que no se precipitó en Mg(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a(OH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+ 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pH&gt;9.5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Ca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 + 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g(OH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+ 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pH&gt;9.5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Mg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+ 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ii) Eliminar la tendencia del agua, ablandada con cal-soda, a depositar Ca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sobre la arena de los filtros. El CO2 convierte el Ca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en Ca(H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solu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+ Ca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+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         Ca(H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032360" y="5950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7720" y="324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7720" y="4014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7000" y="302436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Arial"/>
              </a:rPr>
              <a:t>Esquema de una planta de ablandamien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42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R=mezcla rápida    ML=mezcla lenta o flocul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SED=sedimentación   REC = recarbonatación   FIL=filtr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76520" y="3384720"/>
          <a:ext cx="579096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384720"/>
                    <a:ext cx="579096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Arial"/>
              </a:rPr>
              <a:t>Ablandamiento con resinas de intercambio iónic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n el  ablandamiento con resinas de intercambio iónico, el Ca y el Mg, en solución en el agua, son desplazados por un ión intercambiable del material sólido insoluble que constituye la resin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uando la capacidad de intercambio de iones de la resina se agota, se bombea a través del lecho una solución regenerante con alta concentración de los iones agotados y de esta manera se recupera la capacidad del intercambiad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02:43:00Z</dcterms:created>
  <dc:creator>Felipa Parga</dc:creator>
  <dc:description/>
  <dc:language>en-US</dc:language>
  <cp:lastModifiedBy>Ana Maria Sancha</cp:lastModifiedBy>
  <dcterms:modified xsi:type="dcterms:W3CDTF">2005-10-03T21:59:19Z</dcterms:modified>
  <cp:revision>106</cp:revision>
  <dc:subject/>
  <dc:title>Tratamiento de contaminantes específicos</dc:title>
</cp:coreProperties>
</file>