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C3CD-9BFA-489F-BADA-B09E07CB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B08-9BE6-4CB5-85F3-F271A292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AFF-772A-4BF1-81F7-C4A3D761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B19-04CA-4603-90A9-9BA26F11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497D-7B12-4F2C-9838-902AB020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A874-F246-419D-9C49-120F93C5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071B-1351-4B93-9714-9333C163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0EAD-078E-40D5-91EA-6F175D85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8D2B-CCA2-427C-A3E7-7B3C4736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E780-7634-444B-A620-B2EB2616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F6AD-227E-4214-BE83-32A4F8F1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2F52-09C1-46ED-AC08-024C4FF7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32AC-7EAD-4BF1-A4E7-157A7072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D2B8-064C-480E-9314-64FAC647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9000-1D70-4BF8-837B-E0A5E566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5D30-D125-4D06-A4EF-4D699909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50EF-B1FC-49FB-838C-984CCEC0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396-07D3-43CF-BAB7-061DD913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B11-F051-4883-8396-89B90428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034-0948-43C2-B3FE-42A91D3F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EE4-E792-4E62-9529-DCE0D879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158-0502-4DEC-B0B0-DE408D54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09A-E24C-4716-AA12-572807A0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F901-9A37-4651-8C91-D2862B47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1400-DD33-4BBB-B505-8D0AE485AB3B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64EF-8302-4D06-8E43-0B27D97AD0EA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I 56B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EMINARIO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SIDUOS INDUSTRIALES LIQUIDOS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eneración de Lodos en Tratamiento de Aguas Residua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VOLUMEN LODOS O BIOSOLIDOS GENERADOS EN REGION METROPOLITANA</a:t>
            </a:r>
            <a:br>
              <a:rPr sz="2600"/>
            </a:b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(Toneladas/año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547280" y="2421000"/>
            <a:ext cx="6624720" cy="2727360"/>
            <a:chOff x="1547280" y="2421000"/>
            <a:chExt cx="6624720" cy="2727360"/>
          </a:xfrm>
        </p:grpSpPr>
        <p:sp>
          <p:nvSpPr>
            <p:cNvPr id="278" name=""/>
            <p:cNvSpPr/>
            <p:nvPr/>
          </p:nvSpPr>
          <p:spPr>
            <a:xfrm>
              <a:off x="1547280" y="242100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05600" y="2421000"/>
              <a:ext cx="146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NTAS 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03720" y="2728440"/>
              <a:ext cx="166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35160" y="2421000"/>
              <a:ext cx="243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OLUMEN DE 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13720" y="2728440"/>
              <a:ext cx="20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65% SEGURIDAD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47640" y="3348000"/>
              <a:ext cx="509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66240" y="3348000"/>
              <a:ext cx="1384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ta. El Treb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84760" y="334800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8000" y="39578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66240" y="3957840"/>
              <a:ext cx="273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ta. El Trebol y La Farfan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84760" y="395784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.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48000" y="45676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8760" y="4567680"/>
              <a:ext cx="176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% del plan 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67680" y="4873680"/>
              <a:ext cx="130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ane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20680" y="45676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2.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ARCO LEG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DS 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º148 de 2003 del MINSAL Reglamento Sanitario sobre Manejo de Residuos Peligros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S xxxxxxxxx                    Reglamento  para el Manejo de Lodos Generados en Plantas de Tratamiento de Aguas Servid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DEFINICIONES ADOPTADAS EN CHI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od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:Cualquier residuo semisólido que ha sido generado en plantas de tratamiento de aguas servid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odo crud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:lodo proveniente de la etapa de decantación primaria que ha sido sometido o no a procesos de espesado y/o deshidratación.Es un lodo no estabilizado.No es apto para uso agrícol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odo estabilizad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: aquel sometido a procesos de tratamiento para reducir el potencial de atracción de vectores sanit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Vectores:organismos capaces de transportar y transmitir agentes infecciosos, tales como roedores, moscas y mosquit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ecff"/>
                </a:solidFill>
                <a:latin typeface="Arial"/>
              </a:rPr>
              <a:t>DEFINICIONES ADOPTADAS EN CHILE</a:t>
            </a: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do Clase A:lodo sin restricciones sanitarias para aplicación al sue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odo Clase B:lodo apto para aplicación al suelo con restricciones sanitarias de aplicación según tipo y localización de los suelos y cultiv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DEFINICION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Lodo no peligroso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aquel que no presenta características de:toxicidad, toxicidad por lixiviación, reactividad, inflamabilidad y corrosivida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Lodo peligroso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i)aquel que sí presenta alguna o todas estas características:toxicidad,toxicidad por lixiviación, reactividad, inflamabilidad,y corrosividad.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Ii)aquel que aparece en list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GENERACION DE LODOS NO PELIGROS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tas tratamiento de agua potab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tas tratamiento de aguas servidas doméstic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tas tratamiento de residuos industriales líquido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1 Matanza de ganado y conservación de carn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2 Fabricación de productos lácte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3 Envasado y conservación de frutas y legumb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14 Elaboración de pescado y otros productos marin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1 Destilación y mezcla bebidas de fantasí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2 Industrias vinícol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3 Bebidas malteadas y malt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34 Industria de bebidas no alcohólic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14 Fabricación de papel y producción de pape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IIU 3692 Fabricación de cemento, cal y yes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CARACTERISTICAS GENERALES  DE LODOS NO PELIGROS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ísic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humedad, densidad, olor, textura, fluidez, plasticidad, poder caloríf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ímic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contenido orgánico, sólidos totales y volátiles, nitrógeno total, fósforo, potasio, grasas, metales pesados y compuestos orgánicos clorad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icrobiológic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virus, bacterias, protozoos, hongos, vectores sanit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Los lodos crudos producidos en el tratamiento de aguas residuales contienen los mismos microorganismos (bacterias, virus, protozoos, parásitos, etc) que el agua cruda, pero en concentraciones significativamente mayo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EFECTOS DEL TRATAMIENTO DE LODOS EN SUS CARACTERISTICAS MICROBIOLOG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s tratamientos de acondicionamiento (espesamiento y deshidratación) para reducir el contenido de agua y así concentrar los sólidos, concentra también los microorganismos por lo que se requiere un proceso de estabilización de los lodos para reducir su númer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ESHIDRATACION DE LOD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deshidratación es un proceso físico con el cual se reduce el contenido de humedad de los lodos (aumenta el contenido de sólidos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a deshidratar los lodos se pueden usan  lechos de secado centrifugación y deshidratación mecánica( filtros a presión de banda, centrífugas, filtros a presión de plac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ESTABILIZACION DE LOD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liminar olores desagradab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Reducir o inhibir la putrefacción poten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Reducir el contenido de  patógen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as formas de tratamiento para estabilizar incluyen:reducción del contenido de sólidos volátiles por digestión aeróbica ó anaeróbica, adición de cal,cloro,tratamiento térmico para desinfectar o esterilizar,almacenamiento prolongado, incineración, radiación gamm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a disposición de lodos sin estabilizar implica serios riesg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¿DONDE SE GENERAN LODOS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moción de sólidos grues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moción de fracción sedimentable de sólidos suspendi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moción de biosólido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eparación de sólidos y líquidos por medio de clarificador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eparación de acei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recipitación de metales pes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secación de hidróxidos metálicos con filtros prens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ducción de cromo hexavalen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Oxidación de cianuro a ciana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PROCESOS DE HIGIENIZACION DE LODOS NO PELIGROSO</a:t>
            </a:r>
            <a:r>
              <a:rPr b="1" lang="en-US" sz="2600" spc="-1" strike="noStrike" baseline="30000">
                <a:solidFill>
                  <a:srgbClr val="ccecff"/>
                </a:solidFill>
                <a:latin typeface="Arial"/>
              </a:rPr>
              <a:t>*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Compostaj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Secado al so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Secado térmic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Tratamiento con calor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Digestión aeróbica termofílic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Digestión anaeróbic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Irradiación con haces de electron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Irradiación con rayos gamm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Pasteurización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Tratamiento alcalino mediante acondicionamiento con ca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Tratamientos térmicos según determinadas combinaciones de tiempo y temperatur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* Higienización: eliminación de gérmenes patógen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ALTERNATIVAS DE DISPOSICION FINAL DE LODOS NO PELIGROS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plicación a suelos de uso agrícola, forestal o jardine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-disposición en rellenos sanitarios domicili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ono-disposición con impermeabiliz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Otros tipos de disposición en tierra, sin impermeabiliz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Inciner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mercialización y reutiliz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5335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CRITERIOS DE APLICACION DE LODOS NO PELIGROSOS EN LA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iterios sanitari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contenido de patógenos (coliformes fecales, salmonella Sp, huevos de helmintos, virus y potencial de atracción de vector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ontenido total de metales pesad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As, Cd, Cr, Cu, Hg, Mo, Ni, Pb, Se, Z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iterios ecotoxicológic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: germinación de semillas, lixiviación para ensayos con microcrustáceos, ensayos con microorganismos del suelo, ensayos con lombrices del suel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riterios agronómico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 : formas de N disponibles, P y K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SITIOS DE APLICACION DE LODOS NO PELIGROSOS EN LA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s de uso agrícol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 de uso forest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s de uso jardinero (áreas verdes, recreacionales, parques, jardines, cementerio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elos degradados y erosion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RESTRICCIONES A LA APLICACION DE LODOS NO PELIGROSOS EN LA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de uso agrícola con pH inferior a 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de textura arenosa (10% arcill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saturados con agua en algún período del añ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cuya napa freática se encuentra a menos de 1 metro de profundid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con riesgo de inundació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 cubiertos de nie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Zonas de protección de fuentes de captación de agua pot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Franjas de protección de ríos y aguas lacust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con pendientes  superiores a 15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Suelos del Sistema Nacional de Areas Silvestres Protegidas del Est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FACTORES A CONSIDERAR EN UTILIZACION DE LODOS EN AGRICULTUR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400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Respecto a la aplicación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Tasas y períodos de aplicación (t materia seca/ha/año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Higenización del  lod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just">
              <a:spcBef>
                <a:spcPts val="400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Respecto al lodo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Contenido de P,N, Ca, metales pesado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Orgánicos tóxicos (AOX,PCBs ,dioxina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Presencia de microorganismos (Bacterias, virus, huevos, quistes, hong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 algn="just">
              <a:spcBef>
                <a:spcPts val="400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Respecto a los contaminant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Fracción disponible (metale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Movilidad en suelos (metale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Sobrevivencia en suelos (microorganism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Persistencia en suelos (orgánicos tóxic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OTENCIALES RIESGOS PARA LA POBLACION DERIVADOS DEL USO AGRICOLA DEL COMPOS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Riesgo Quím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Metales: As, Cd, Cr, Hg, Ni, P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ompuestos orgánicos: hidrocarburos aromáticos policíclicos, pesticidas, hidrocarburos clorados, dióxinas y furanos, bifelinos policlorados (PCB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Verdana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Riesgo Biológ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Organismos asociados con el tracto digestivo, salmonella, E. Coli, Streptococus feca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Organismos asociados con el tracto respiratorio: hongos, bacterias negativas, en dotoxin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Arial"/>
              </a:rPr>
              <a:t>Fiscalización de proyectos de manejo y planes de aplicación de Lodos no Peligroso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autoridad competente para la aprobación y fiscalización de los proyectos de Manejo de Lodos será la Autoridad Sanitaria correspondiente a la región donde se encuentre el generad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a autoridad competente para la aprobación y fiscalización de los planes de aplicación de lodos será el Servicio Agricola Ganadero correspondiente a la región donde se localice el ¿generador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CONTENIDOS  DE  NUTRIENTES EN LODOS PROVENIENTES DE 7 PLANTAS DE LODOS ACTIVADOS, MODALIDAD AIREACION EXTENDIDA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454040" y="1397160"/>
          <a:ext cx="6235920" cy="40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397160"/>
                    <a:ext cx="62359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04920" y="819000"/>
          <a:ext cx="8839080" cy="6039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819000"/>
                    <a:ext cx="883908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Arial"/>
              </a:rPr>
              <a:t>CONTENIDOS  DE  METALES (mg/kg)  EN LODOS PROVENIENTES DE 7 PLANTAS DE LODOS ACTIVADOS, MODALIDAD AIREACION EXTENDIDA</a:t>
            </a:r>
            <a:r>
              <a:rPr b="0" lang="es-ES_tradnl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838080" y="914400"/>
          <a:ext cx="77724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7724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GENERACION DE LODOS EN EL TRATAMIENTO DE RESIDUOS LIQUID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l tipo de lodo generado depende del tipo de procesos de tratamiento, los cuales son función  de las características del agua residu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La separación, tratamiento y disposición de lodos representa un importante costo de capital y oper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Los costos de deshidratación y disposición pueden llegar a representar tanto como un 50% del capital inicial y el 65% de los costos de oper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La composición del lodo puede restringir sus opciones de disposición final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Valores límites de metales en lodos de plantas depuradoras - Normas/Reglament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04920" y="1386000"/>
          <a:ext cx="8839080" cy="53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86000"/>
                    <a:ext cx="88390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VALORES TIPICOS DE METALES EN BIOSOLIDO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57200" y="1754280"/>
            <a:ext cx="82296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¿QUE ES UN RESIDUO PELIGROSO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Residuo peligroso es un residuo o mezcla de residuos que presenta riesgo para la salud pública y/o efectos adversos al medio ambiente, ya sea directamente o debido a su manejo actual o previsto, como consecuencia de presentar algunas de estas características:toxicidad aguda, toxicidad crónica, toxicidad extrínseca, inflamabilidad,reactividad y corrosivid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Bastará la presencia de una de estas características en un residuo para que sea calificado como residuo peligros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ecff"/>
                </a:solidFill>
                <a:latin typeface="Arial"/>
              </a:rPr>
              <a:t>¿TOXICIDAD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Capacidad de una sustancia de ser letal en baja concentración o de producir efectos tóxicos acumulativos, carcinogénicos, mutagénicos o teratogénic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Toxicidad extrínseca:cuando la eliminación del residuo puede dar origen a una o mas sustancias tóxicas agudas o tóxicas crónicas en concentraciones que ponen en riesgo la salud de la pobl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ecff"/>
                </a:solidFill>
                <a:latin typeface="Arial"/>
              </a:rPr>
              <a:t>¿CANCERIGENO/MUTAGENO/TERATOGENO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Cancerígeno o carcinogénic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sustancia capaz de inducir cánc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Mutágeno:sustancia que induce  alteración hereditaria en el material gené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Teratógeno:sustancia que produce malformaciones en el embrión o fe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Arial"/>
              </a:rPr>
              <a:t>¿INFLAMABILIDAD/REACTIVIDAD/CORROSIVIDAD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lamabilidad:capacidad para iniciar la combustión provocada por la elevación local de la temperatu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actividad:potencial de los residuos para reaccionar químicamente liberando en forma violenta energia y/o compuestos nocivos ya sea por descomposición o por combinación con otras sustanci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rrosividad:proceso de carácter químico causado por determinadas sustancias que desgastan a los sólidos o que pueden producir lesiones más o menos graves a los tejidos viv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DEFINICION DE RESIDUO PELIGROSO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Verdana"/>
              </a:rPr>
              <a:t>i)Determinación analítica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de alguna característica que defina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eligrosidad (corrosividad, reactividad, inflamabilidad y 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toxicidad por lixiviación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Verdana"/>
              </a:rPr>
              <a:t>ii)Inclusión en listados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a menos que su generador pueda demostrar ante la Autoridad Sanitaria que no presentan ninguna característica de peligros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ecff"/>
                </a:solidFill>
                <a:latin typeface="Book Antiqua"/>
              </a:rPr>
              <a:t>EVALUACION DE TOXICIDAD MEDIANTE TEST DE LIXIVIAC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l diseño de los diferentes test de lixiviación trata de determinar la movilidad de  los contaminantes, tanto orgánicos como inorgánicos, contenidos en los residuos puestos en tier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Book Antiqua"/>
              </a:rPr>
              <a:t>Toxicity Characteristic Leaching Procedure (TCLP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Book Antiqua"/>
              </a:rPr>
              <a:t>Synthetic Precipitation Leaching Procedure (SPLP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¿TEST DE LIXIVIAC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Para seleccionar el método a aplicar en la determinación del potencial de lixiviación de un residuo sólido se debe considerar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                  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Escenario de trabaj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Eficiencia según tipo de 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contamina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Tamaño del residu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1258920" y="39337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58920" y="4508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58920" y="551664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VALUACION DE TOXICIDAD MEDIANTE TEST TCLP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test  TCLP (Toxicity Characteristic Leaching Procedure) simula la acción, sobre los residuos sólidos, de los ácidos orgánicos generados en un sitio de co-disposición sin impermeabilización de fond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 el test TCLP se emplea fluidos que simulan los ácidos orgánicos (buffer de acetato) que deberían formarse por la descomposición de residuos domésticos en rellenos sanita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or su diseño solo predice emisiones por una sola ruta de contaminación, el agua subterráne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or su diseño no simula la emisión de contaminantes orgánicos volátiles al aire en forma directa o a través del polvo, ni la emisión a través de escorrentía superfici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763640" y="5373720"/>
            <a:ext cx="19447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rocesos Biológ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8000" y="2781360"/>
            <a:ext cx="1524240" cy="1447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rib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ag-Fl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Sedi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Neu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lo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iltr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67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Esquema de Procesos más utilizados en el Tratamiento de Rile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57200" y="1600200"/>
            <a:ext cx="8229600" cy="4853160"/>
            <a:chOff x="457200" y="1600200"/>
            <a:chExt cx="8229600" cy="4853160"/>
          </a:xfrm>
        </p:grpSpPr>
        <p:sp>
          <p:nvSpPr>
            <p:cNvPr id="166" name=""/>
            <p:cNvSpPr/>
            <p:nvPr/>
          </p:nvSpPr>
          <p:spPr>
            <a:xfrm>
              <a:off x="6669000" y="2103480"/>
              <a:ext cx="2017800" cy="43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Se eliminan 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Metales pesad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Aceites y gras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Acidos y bas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Se elimina materia orgánica biodegra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ahoma"/>
                </a:rPr>
                <a:t>dabl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94200" y="2103480"/>
              <a:ext cx="1774800" cy="43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Primar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Secundari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103480"/>
              <a:ext cx="4437000" cy="434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Ril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Eflu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clarificad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 parcialm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Ril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amin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69000" y="1600200"/>
              <a:ext cx="20178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bjetiv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94200" y="1600200"/>
              <a:ext cx="17748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1600200"/>
              <a:ext cx="4437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peración o 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210348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645336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1600200"/>
              <a:ext cx="0" cy="4853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4200" y="1600200"/>
              <a:ext cx="0" cy="485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69000" y="1600200"/>
              <a:ext cx="0" cy="485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86800" y="1600200"/>
              <a:ext cx="0" cy="48531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838080" y="3048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34290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68360" y="4221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4437000"/>
            <a:ext cx="57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5589720"/>
            <a:ext cx="93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80000" y="558972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587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6093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PRINCIPALES SUPUESTOS DEL TEST TCLP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 el test TCLP se asumen los siguientes escenarios para el sitio de disposición y manejos de residuo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Ubicación de sitio sin impermeabilización de fondo sobre zona no saturada y acuífe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-disposición de residuos: disposición de residuos industriales y domésticos en el mismo sit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xplotación de pozo para agua potable 500 pies aguas abajo del sit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ecff"/>
                </a:solidFill>
                <a:latin typeface="Book Antiqua"/>
              </a:rPr>
              <a:t>Toxicity Characteristic Leaching Procedure (TCLP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ff"/>
                </a:solidFill>
                <a:latin typeface="Book Antiqua"/>
              </a:rPr>
              <a:t>Escenari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4038480" cy="20876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500720" y="4149720"/>
            <a:ext cx="4464000" cy="2097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5292720" y="2781360"/>
            <a:ext cx="280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9640" y="4797360"/>
            <a:ext cx="3168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Procedimiento TC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24000" y="1628640"/>
          <a:ext cx="3809880" cy="44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380988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1619280" y="2205000"/>
            <a:ext cx="3097080" cy="144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859280" y="1700280"/>
          <a:ext cx="1657440" cy="14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700280"/>
                    <a:ext cx="165744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588000" y="1700280"/>
            <a:ext cx="2340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Trituración, partículas menores 9.5 mm. </a:t>
            </a:r>
            <a:br>
              <a:rPr sz="2000"/>
            </a:b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Muestra 5 g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79640" y="3645000"/>
            <a:ext cx="3097080" cy="5760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76720" y="3860640"/>
            <a:ext cx="2374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Análisis de 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763640" y="4581000"/>
            <a:ext cx="3888000" cy="107964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19640" y="508464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Fluido 1: pH 4.93 </a:t>
            </a:r>
            <a:r>
              <a:rPr b="0" lang="es-CL" sz="2400" spc="-1" strike="noStrike" u="sng">
                <a:solidFill>
                  <a:srgbClr val="ccecff"/>
                </a:solidFill>
                <a:uFillTx/>
                <a:latin typeface="Book Antiqua"/>
              </a:rPr>
              <a:t>+</a:t>
            </a: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 0.02</a:t>
            </a:r>
            <a:br>
              <a:rPr sz="2400"/>
            </a:b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Fluido 2: pH 2.88 </a:t>
            </a:r>
            <a:r>
              <a:rPr b="0" lang="es-CL" sz="2400" spc="-1" strike="noStrike" u="sng">
                <a:solidFill>
                  <a:srgbClr val="ccecff"/>
                </a:solidFill>
                <a:uFillTx/>
                <a:latin typeface="Book Antiqua"/>
              </a:rPr>
              <a:t>+</a:t>
            </a:r>
            <a:r>
              <a:rPr b="0" lang="es-CL" sz="2400" spc="-1" strike="noStrike">
                <a:solidFill>
                  <a:srgbClr val="ccecff"/>
                </a:solidFill>
                <a:latin typeface="Book Antiqua"/>
              </a:rPr>
              <a:t> 0.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Procedimiento TC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539640" y="1628640"/>
          <a:ext cx="3810240" cy="44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381024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4859280" y="2852640"/>
            <a:ext cx="1247760" cy="16527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732720" y="4869000"/>
            <a:ext cx="2038320" cy="1293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 flipV="1">
            <a:off x="4140360" y="1988640"/>
            <a:ext cx="1295280" cy="576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80000" y="1413000"/>
            <a:ext cx="32400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A 100 g de muestra triturada  se  agrega el fluido seleccionado, en una relación en peso 20/1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51280" y="3141720"/>
            <a:ext cx="936720" cy="2160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04000" y="2852640"/>
            <a:ext cx="3240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300720" y="3141720"/>
            <a:ext cx="198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Agitación durante 18 hr. a 30rpm y 22°C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3789360"/>
            <a:ext cx="2592360" cy="1584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00720" y="5229360"/>
            <a:ext cx="198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Separación líquido/sólido por medio filtro fibra de vidrio de 0.6-0.8 </a:t>
            </a:r>
            <a:r>
              <a:rPr b="0" lang="es-CL" sz="2000" spc="-1" strike="noStrike">
                <a:solidFill>
                  <a:srgbClr val="ccecff"/>
                </a:solidFill>
                <a:latin typeface="Symbol"/>
                <a:ea typeface="Symbol"/>
              </a:rPr>
              <a:t></a:t>
            </a:r>
            <a:r>
              <a:rPr b="0" lang="es-CL" sz="2000" spc="-1" strike="noStrike">
                <a:solidFill>
                  <a:srgbClr val="ccecff"/>
                </a:solidFill>
                <a:latin typeface="Book Antiqua"/>
              </a:rPr>
              <a:t> 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Book Antiqua"/>
              </a:rPr>
              <a:t>Análisis y Aplicabilidad TC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El análisis del extracto TCLP permite identificar elementos contaminantes como compuestos orgánicos volátiles y semi-volátiles, metales y plagici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VALUACION DE TOXICIDAD MEDIANTE TEST SPLP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test SPLP (Synthetic acid Precipitation Leaching Procedure) simula el efecto de lluvia ácida o nieve sobre los residuos sólidos dispuestos en tierra y reducidos a un tamaño inferior a 9.5 m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ara el test se usan fluidos de extracción que simulan lluvia ácida (buffer de mezcla de ac. nítrico con ac-sulfúrico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l test de lixiviación por precipitación sintética se usa para la caracterización de la toxicidad extrínseca de los residuos miner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TOXICIDAD DE RESIDUOS DE HIDROCARBUROS EN UNION EUROPE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TEST DE LIXIVIACION + ENSAYO 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ECOTOXICID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Lixiviación durante 24 h con control de pH del lixiviado seguido de un ensayo de bioluminiscencia utilizando Photobacterium Phosphoru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e considera peligroso un EC50 (concentración del lixiviado que disminuye la emisión de luz de las bacterias en m 50%) igual o inferior a 3000 mg/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Ref: RESIDUOS, N65,Marzo-Abril 2002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SIDUOS INDUSTRIALES PELIGROSO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groindustr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tiemb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ndicio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dere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intu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16000" y="134136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lordano,heptacloro, toxafeno,metoxiclor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rom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Plomo, Arsén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Hexaclorobenceno,Cr,As,pentaclorofen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Hg, Se,Ba, dinitrotolueno,tetracloruro de  carbo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PRACTICAS SOBRE MANEJO DE LODOS GENERADOS EN TRATAMIENTO DE AGUAS RESIDUAL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dos inorgánicos peligrosos:deshidratados se transportan a un confinamiento seguro externo ó se estabilizan/solidifican con agentes a base de cemento o cal (formación de silicatos o hidróxidos inert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dos no peligrosos estabilizados e higienizados pueden ser usados en agricultu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dos orgánicos y residuos aceitosos se inciner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03280" y="2276640"/>
            <a:ext cx="216072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rocesos de Oxid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Esquema de Procesos más utilizados en el Tratamiento de Riles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7200" y="1600200"/>
            <a:ext cx="8229600" cy="4753080"/>
            <a:chOff x="457200" y="1600200"/>
            <a:chExt cx="8229600" cy="4753080"/>
          </a:xfrm>
        </p:grpSpPr>
        <p:sp>
          <p:nvSpPr>
            <p:cNvPr id="190" name=""/>
            <p:cNvSpPr/>
            <p:nvPr/>
          </p:nvSpPr>
          <p:spPr>
            <a:xfrm>
              <a:off x="6588000" y="1600200"/>
              <a:ext cx="20988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bjetiv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8000" y="1600200"/>
              <a:ext cx="18000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200" y="1600200"/>
              <a:ext cx="433080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peración o 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8000" y="2060640"/>
              <a:ext cx="2098800" cy="42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Destruye materia orgánica y oxida compuestos orgánico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VO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dife-rentes compuestos en función del peso molecular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000" y="2060640"/>
              <a:ext cx="1800000" cy="42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2060640"/>
              <a:ext cx="4330800" cy="42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 s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VO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VO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Líquido concentr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200" y="635328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1600200"/>
              <a:ext cx="0" cy="4753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88000" y="1600200"/>
              <a:ext cx="0" cy="475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88000" y="1600200"/>
              <a:ext cx="0" cy="475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686800" y="1600200"/>
              <a:ext cx="0" cy="475308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" y="206064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84360" y="2637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270828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278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4000" y="299736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3933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2000" y="3716280"/>
            <a:ext cx="223200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rrastre con vapor o ai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429264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2360" y="4149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4149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92360" y="450864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515772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5013360"/>
            <a:ext cx="230508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rocesos con membra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64000" y="5157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8000" y="5445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5661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Esquema de Procesos más utilizados en el Tratamiento de Riles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7200" y="1600200"/>
            <a:ext cx="8229600" cy="4924440"/>
            <a:chOff x="457200" y="1600200"/>
            <a:chExt cx="8229600" cy="4924440"/>
          </a:xfrm>
        </p:grpSpPr>
        <p:sp>
          <p:nvSpPr>
            <p:cNvPr id="220" name=""/>
            <p:cNvSpPr/>
            <p:nvPr/>
          </p:nvSpPr>
          <p:spPr>
            <a:xfrm>
              <a:off x="6227640" y="1600200"/>
              <a:ext cx="245916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bjetiv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00720" y="1600200"/>
              <a:ext cx="1726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Trata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1600200"/>
              <a:ext cx="40435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Operación o Proce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27640" y="2060640"/>
              <a:ext cx="245916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aniones y cationes y compuesto orgánicos polare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eliminan compuestos orgánic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Se destruye materia orgánica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00720" y="2060640"/>
              <a:ext cx="172692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erciar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7200" y="2060640"/>
              <a:ext cx="404352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Efluen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Líquido concentra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   Eflu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Descont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                       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Ril                                  Ceniz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                         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Lod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200" y="160020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6524640"/>
              <a:ext cx="822960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" y="1600200"/>
              <a:ext cx="0" cy="4924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00720" y="1600200"/>
              <a:ext cx="0" cy="492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27640" y="1600200"/>
              <a:ext cx="0" cy="4924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86800" y="1600200"/>
              <a:ext cx="0" cy="49244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" y="206064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11280" y="2708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58920" y="2565360"/>
            <a:ext cx="201780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Intercambio Ión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2997360"/>
            <a:ext cx="93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3068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19280" y="335772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414972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4005360"/>
            <a:ext cx="2016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dsorción c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Carbón Act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458136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19280" y="4797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19280" y="4941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57340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5516640"/>
            <a:ext cx="1584360" cy="433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Incin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16360" y="5805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9280" y="59500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9280" y="6165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¿QUE SON LOS LODOS O BIOSOLIDOS?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os lodos ó biosólidos son el producto semi-sólido final del tratamiento de aguas tanto domésticas como industriales si su origen, principal, es orgánic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os lodos químicos no entran en esta definición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a cantidad de biosólidos producidos no solo depende de la población servida sino también del grado de tratamiento a que se somete el agua residual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¿CUANTO BIOSOLIDO SE FORMA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El volumen de biosólidos formados aumenta en un factor de 2 al pasar de tratamiento primario a secundari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Con remoción de nutrientes y más específicamente precipitación de fósforo, el volumen de lodos producidos es unas 3 veces el producido  sólo con tratamiento primario 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ff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ffffff"/>
                </a:solidFill>
                <a:latin typeface="Verdana"/>
              </a:rPr>
              <a:t>Los biosólidos producidos en el tratamiento primario tienen, aproximadamente, 5% de sólidos secos y los del tratamiento secundario, 2%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PLANTAS DE TRATAMIENTO DE AGUAS SERVIDAS EN REGION METROPOLITANA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71640" y="2924280"/>
            <a:ext cx="7304760" cy="2052360"/>
            <a:chOff x="971640" y="2924280"/>
            <a:chExt cx="7304760" cy="2052360"/>
          </a:xfrm>
        </p:grpSpPr>
        <p:sp>
          <p:nvSpPr>
            <p:cNvPr id="254" name=""/>
            <p:cNvSpPr/>
            <p:nvPr/>
          </p:nvSpPr>
          <p:spPr>
            <a:xfrm>
              <a:off x="971640" y="2924280"/>
              <a:ext cx="92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LAN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2240" y="2924280"/>
              <a:ext cx="149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ÑO PUES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22960" y="3187440"/>
              <a:ext cx="139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 MARCH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80280" y="2924280"/>
              <a:ext cx="13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BLAC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81360" y="3187440"/>
              <a:ext cx="139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ANEADA 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40120" y="2924280"/>
              <a:ext cx="1369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PAC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38680" y="3187440"/>
              <a:ext cx="1334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MINAL 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44760" y="3155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26120" y="318744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39960" y="31554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72000" y="3717360"/>
              <a:ext cx="91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l Treb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22600" y="37173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81360" y="37173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38680" y="37173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72000" y="417996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 Farfan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22600" y="41799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81360" y="41799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1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38680" y="41799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73080" y="4701960"/>
              <a:ext cx="126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os Noga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22600" y="47019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1360" y="47019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%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38680" y="47019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3:42:21Z</dcterms:created>
  <dc:creator>secrehid</dc:creator>
  <dc:description/>
  <dc:language>en-US</dc:language>
  <cp:lastModifiedBy>Ana Maria Sancha</cp:lastModifiedBy>
  <cp:lastPrinted>2004-04-13T15:52:32Z</cp:lastPrinted>
  <dcterms:modified xsi:type="dcterms:W3CDTF">2005-09-26T15:28:35Z</dcterms:modified>
  <cp:revision>781</cp:revision>
  <dc:subject/>
  <dc:title> GENERALIDADES </dc:title>
</cp:coreProperties>
</file>