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8FD7-1421-4937-B5B2-0409AE175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F443-36AB-449D-801C-E41E5ADF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6338-741F-49C1-A9F9-8634C6BBF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2FE5-C86A-407E-9200-242C49876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5F0F-35B1-484D-A60B-9ECCD6CC1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A397-A8AF-48A4-B51F-ED143899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CB77-67BC-401E-A169-A6F7C760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0F1D-DB25-42CF-A070-192F15F4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5CD2-36E5-433E-8DDE-E65B1479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017D-5C59-479D-9575-CD5800F9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D5C0-022A-4389-B32D-4F341008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F40A-AE6F-4D6F-B7CE-C53D9E76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2657-446B-401A-A17D-6D891272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563D-0A6F-49B3-80C1-AB8B9275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6C69D-8268-4641-9596-E016FFF6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330E-47C5-448E-892D-84F9AE18F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A0EA-04BA-45CD-BDDB-F65789A66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E538-BF9D-4421-8CBD-103CE7F9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4E7F-5BDD-4D88-B6A0-833FE6B1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64A5-702B-4545-BFC6-2FF86CF6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CDBF-0B83-4938-BC49-76AC74D6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BE6E-8EFC-4C26-8C5C-1B18BF89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C4D9-D030-46B5-A0B5-D8EB9068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638D-F772-44AF-9CBE-1BC8B613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0165-7FF8-4444-8B5E-BDF82129ED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D983-FF56-4B68-A05A-E4C7E6A02B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otonivelad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ERMIN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Operaciones necesarias para dar la forma final a la superfici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parcimiento de ba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erfilado (Longitudinal y transversal de caminos), curvas verticales, pendientes y bombe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servación de camin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quipo clásico: motoniveladora (grad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3816360" cy="2399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24000" y="4149720"/>
            <a:ext cx="3816360" cy="2387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284720" y="765000"/>
            <a:ext cx="45925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403280" y="1484280"/>
            <a:ext cx="676908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8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on adecuadas para excavar y empujar material blando y en pequeñas cantidades debido a la debilidad estructural de la pala (en comparación a una topador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demás de la pala o cuchilla (moldboard) suelen estar equipadas con escarificadores pequeños (rastrillo) o ripp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ovimientos de la pa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ariar su ángulo respecto del avance de la máquina, incluso puede ponerse paralela al eje de la máqui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ubir/bajar e inclinarse respecto del plano de trabajo de la máqui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uede variar el “ángulo de ataque” ( -&gt;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\ para cortar, pero puede material pasa sobre hoj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/ para mezclar y pasadas rápidas. La hoja tiende a levantars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 el material es muy duro hay que escarificar. Incluso pueden removerse dientes del escarificador si es necesari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Motoniveladora - Pal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3095640" cy="2452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564000" y="1557360"/>
            <a:ext cx="5184720" cy="2436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2556000" y="4221000"/>
            <a:ext cx="38163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stimación del esparcimiento de material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Yardas cúbicas en banco = 3.0 x H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(1 yd3 = 0,7646 m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Operar a la máxima velocidad que el cambio permit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3880" y="4005360"/>
          <a:ext cx="6096240" cy="2587680"/>
        </p:xfrm>
        <a:graphic>
          <a:graphicData uri="http://schemas.openxmlformats.org/drawingml/2006/table">
            <a:tbl>
              <a:tblPr/>
              <a:tblGrid>
                <a:gridCol w="4343400"/>
                <a:gridCol w="1752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ntención camin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ª - 3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sparcimiento mater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ª - 4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zcla de mater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ª - 6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r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fil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ª - 4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ara recorridos &lt;300m es más rápido y seguro retroceder en lugar de dar vuel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eficiencia está en relación al Nº de pasadas. Habilidad del operador + planific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iempo = (Nº pasadas x Dist) / (V x Ef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f = 6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01:45:01Z</dcterms:created>
  <dc:creator>William Wragg L.</dc:creator>
  <dc:description/>
  <dc:language>en-US</dc:language>
  <cp:lastModifiedBy>William Wragg L.</cp:lastModifiedBy>
  <dcterms:modified xsi:type="dcterms:W3CDTF">2005-04-18T02:39:07Z</dcterms:modified>
  <cp:revision>30</cp:revision>
  <dc:subject/>
  <dc:title>CI 52A Métodos Constructivos</dc:title>
</cp:coreProperties>
</file>