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AA1-EA3A-496B-B077-455DCED9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59D-8052-4E32-8DBB-DCE278DF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16A-EB03-4992-BC7C-44368D11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B06-464E-433A-9431-A7EC5D15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F39-4E7C-421B-9CC8-0A4215A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166-0EA9-4F1D-9380-DCAB4E3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16D-7424-45F4-A350-DEDEB7CC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5EE-6CFA-4FCA-BAB5-03B38D87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FEA-77D0-4F8B-BFF5-114215AC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795-819F-489B-BC0B-B713EDC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02C-283E-48E2-A00B-1E5B2B83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771-0B18-4CFA-A0BF-4B1737F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230-6593-4704-909C-FFE624739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a mode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Elaboración Información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Hidrología, Calidad de aguas, datos hidrodiná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elaboración de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cluir 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de modelo de simulación basado en Flujo Pist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Histórica” (19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royección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predictivo: situación histórica (1980), actual (2005) y futura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umplimiento de Norma de Calidad Secundaria en parámetros de interés (DBO, C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5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5-08-24T22:39:02Z</dcterms:modified>
  <cp:revision>19</cp:revision>
  <dc:subject/>
  <dc:title>Sin título de diapositiva</dc:title>
</cp:coreProperties>
</file>